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0"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D1DD-288F-4ED1-9265-B03AA22F4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umn Dawn Galbreath’s slides for the presentation “Stretching Scarce Resources: State Strategies to Design Effective, Affordable Benefit Pack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umn Dawn Galbreath is the Director of the University of Texas Disease Management Cent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iggest barriers to implementing a disease management program is our healthcare system itself. The United States healthcare system is structured as an acute model of care where the most acute patients get the most attention and in between acute episodes they can slip through the cracks. That system is what works against managing chronic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huge barrier is information systems. Every doctor’s office, every hospital, and every public health clinic has its own information system, which makes it difficult to work together as a multi-disciplinary team within a healthcare setting because our information systems don’t work together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rriers are lack of physician support and the danger of fragmentation of c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lessons learned from implementing the South Texas CHF Disease Management Program include the necessities of provider support, the realization that start-up costs may have to be high in order to realize savings down the line, and programs should not promise what they can’t deliver to providers, patients, legislatures, or the communit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dditional information contac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tumn Dawn Galbreath, M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rec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iversity of Texas Disease Management Cen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243 Piedras Drive East #240</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n Antonio, Texas  78228</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0)567-9700 (off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0)756-8184 (pag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albreath@uthscsa.edu</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finitely Medicaid programs that are implementing disease management and there are definitely success stories - it is just that they are not far enough along yet to have a lot of data to stu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of Florida began a disease management program about four years ago, and now manages six or eight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rginia Health Outcomes Partnership also has disease management-type programs for their asthmatic patients, which focuses mostly on provider education.</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sy Breathing Program in Hartford, Connecticut is an example of a successful asthma management program, and there are several pilots using the National Jewish and Medical Research Center Asthma Protocol in Medicaid population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t is too early for definitive data from these studies, they provide a lot of positive anecdotal evidence for disease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ncise definition of disease management is managing a disease - the ongoing management of one particular disease in a given pat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management is a systematic approach that focuses not just on an individual patient but also on a population of patients who have that disease. It identifies the people who have the disease, then intervenes to care for the disease in an ongoing fashion, and then it measures outcomes. An integral part or one of the basic principles of disease management is that it is constantly looking at its own effective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6960"/>
            <a:ext cx="4648320" cy="3486240"/>
          </a:xfrm>
          <a:prstGeom prst="rect">
            <a:avLst/>
          </a:prstGeom>
          <a:ln w="0">
            <a:noFill/>
          </a:ln>
        </p:spPr>
      </p:sp>
      <p:sp>
        <p:nvSpPr>
          <p:cNvPr id="12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management employs best practices of medical care so that it is always using published clinical guidelines or the consensus of expert opinion in a region or in a locality so that it can reduce costs and improve qual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 many terms that all have the word “management” in them and they are frequently used and misused or substituted inappropriately for each other. Case management is a generic term for giving attention to an individual patient for whatever reason a patient needs a little attention from the healthcare system. This is typically an allied health professional, a nurse, or another provider working individually with a patient in a long-term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cost case management is a subset of case management. It is the management of individual patients who are high utilizers of the system. They may have multiple diseases and multiple reasons for being high utilizers so they have a manager or case manager who works with them to try to put all those pieces together and manage the whole picture of their health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management is the management of a population with a given disease. A person might have congestive heart failure and diabetes, emphysema and several other diagnoses, but their disease management program would focus only on their congestive heart failure or only on their diabetes. Disease management is distinct in that it focuses on a specific disease or a specific diagnosis within the patient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terature is now replete with titles in DM, quality improvement, and clinical practice improvement, but…there is not much evidence that {these}…improve efficiency in the care process for the diseas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ing disease management literature has flaws which make it difficult to answer many questions about disease managemen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orough review of the disease management (DM) literature leaves many unanswered questions about the effectiveness of such programs. It is unknown whether DM is truly cost-effective, whether it improves clinical outcomes, if it improves quality of life, and the best way to administer a disease management program is still undetermin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 Texas Congestive Heart Failure Demonstration Project at the University of Texas Disease Management Center is a large-scale, randomized clinical trial involving publicly insured patients with congestive heart failure. The aim of the trial is to methodically answer some of the unanswered questions about disease management so that States and academic health centers will have more information from a scientific standpoint when they make decisions based on implementation of disease management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6960"/>
            <a:ext cx="4648320" cy="3486240"/>
          </a:xfrm>
          <a:prstGeom prst="rect">
            <a:avLst/>
          </a:prstGeom>
          <a:ln w="0">
            <a:noFill/>
          </a:ln>
        </p:spPr>
      </p:sp>
      <p:sp>
        <p:nvSpPr>
          <p:cNvPr id="13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ptimal disease for a disease management program has a high volume of patients and a significant impact on the economics of a healthcare system. It also needs to be a disease that is routinely managed in different ways by different providers in order to figure out the best method of managing the disea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9"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7"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endParaRPr b="0" lang="en-US" sz="3200" spc="-1" strike="noStrike">
              <a:solidFill>
                <a:srgbClr val="ffffcc"/>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endParaRPr b="0" lang="en-US" sz="3200" spc="-1" strike="noStrike">
              <a:solidFill>
                <a:srgbClr val="ffff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 name=""/>
          <p:cNvGrpSpPr/>
          <p:nvPr/>
        </p:nvGrpSpPr>
        <p:grpSpPr>
          <a:xfrm>
            <a:off x="533520" y="1828800"/>
            <a:ext cx="8152920" cy="1599840"/>
            <a:chOff x="533520" y="1828800"/>
            <a:chExt cx="8152920" cy="1599840"/>
          </a:xfrm>
        </p:grpSpPr>
        <p:sp>
          <p:nvSpPr>
            <p:cNvPr id="44" name=""/>
            <p:cNvSpPr/>
            <p:nvPr/>
          </p:nvSpPr>
          <p:spPr>
            <a:xfrm>
              <a:off x="2962800" y="182880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a:off x="2888280" y="199404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
            <p:cNvSpPr/>
            <p:nvPr/>
          </p:nvSpPr>
          <p:spPr>
            <a:xfrm>
              <a:off x="2847600" y="221472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a:off x="533520" y="254484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4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91404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Stretching Scarce Resources: State Strategies to Design Effective, Affordable Benefit Packages</a:t>
            </a:r>
            <a:endParaRPr b="0" i="1" lang="en-US" sz="4000" spc="-1" strike="noStrike">
              <a:solidFill>
                <a:srgbClr val="ffcc66"/>
              </a:solidFill>
              <a:latin typeface="Times New Roman"/>
            </a:endParaRPr>
          </a:p>
        </p:txBody>
      </p:sp>
      <p:sp>
        <p:nvSpPr>
          <p:cNvPr id="94" name="PlaceHolder 2"/>
          <p:cNvSpPr>
            <a:spLocks noGrp="1"/>
          </p:cNvSpPr>
          <p:nvPr>
            <p:ph type="subTitle"/>
          </p:nvPr>
        </p:nvSpPr>
        <p:spPr>
          <a:xfrm>
            <a:off x="228240" y="3352320"/>
            <a:ext cx="5638680" cy="175284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utumn Dawn Galbreath, M.D.</a:t>
            </a:r>
            <a:endParaRPr b="0" lang="en-US" sz="2800" spc="-1" strike="noStrike">
              <a:solidFill>
                <a:srgbClr val="ffffcc"/>
              </a:solidFill>
              <a:latin typeface="Times New Roman"/>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irector</a:t>
            </a:r>
            <a:endParaRPr b="0" lang="en-US" sz="2000" spc="-1" strike="noStrike">
              <a:solidFill>
                <a:srgbClr val="ffffcc"/>
              </a:solidFill>
              <a:latin typeface="Times New Roman"/>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University of Texas Disease Management Center</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95" name="Autumn%20Dawn%20Galbreath" descr=""/>
          <p:cNvPicPr/>
          <p:nvPr/>
        </p:nvPicPr>
        <p:blipFill>
          <a:blip r:embed="rId1"/>
          <a:srcRect l="9259" t="14596" r="12996" b="23143"/>
          <a:stretch/>
        </p:blipFill>
        <p:spPr>
          <a:xfrm>
            <a:off x="5562720" y="2590920"/>
            <a:ext cx="3124080" cy="373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arriers to DM</a:t>
            </a: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cute care model of the current health care system</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ck of integrated information syste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ck of provider suppor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imited resourc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anger of fragmentation of care</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essons Learned</a:t>
            </a:r>
            <a:endParaRPr b="0" i="1" lang="en-US"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vider Buy-In</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tart-Up Costs and Savings Realization</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Don’t promise what you can’t deliv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or additional information, contact:</a:t>
            </a:r>
            <a:endParaRPr b="0" i="1" lang="en-US" sz="44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umn Dawn Galbreath, MD</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rector</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iversity of Texas Disease Management Center</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243 Piedras Drive East #240</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an Antonio, Texas  78228</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10)567-9700 (office)</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10)756-8184 (pager)</a:t>
            </a:r>
            <a:endParaRPr b="0" lang="en-US" sz="2800" spc="-1" strike="noStrike">
              <a:solidFill>
                <a:srgbClr val="ffffcc"/>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albreath@uthscsa.edu</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isease Management in Uninsured Populations</a:t>
            </a:r>
            <a:endParaRPr b="0" i="1" lang="en-US" sz="4400" spc="-1" strike="noStrike">
              <a:solidFill>
                <a:srgbClr val="ffcc66"/>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lorida Medicaid Disease Management Initiativ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irginia Health Outcomes Partnership</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imes New Roman"/>
              </a:rPr>
              <a:t>Easy Breathing</a:t>
            </a:r>
            <a:r>
              <a:rPr b="0" lang="en-US" sz="3200" spc="-1" strike="noStrike">
                <a:solidFill>
                  <a:srgbClr val="ffffcc"/>
                </a:solidFill>
                <a:latin typeface="Times New Roman"/>
              </a:rPr>
              <a:t> (Hartford, C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tional Jewish Asthma Disease Management Pilots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2200"/>
            <a:ext cx="8534520" cy="1431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Introduction to Disease Management (DM)</a:t>
            </a:r>
            <a:endParaRPr b="0" i="1" lang="en-US" sz="40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ystematic, population-based approach</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dentifies people at risk </a:t>
            </a:r>
            <a:endParaRPr b="0" lang="en-US" sz="3200" spc="-1" strike="noStrike">
              <a:solidFill>
                <a:srgbClr val="ffffcc"/>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venes </a:t>
            </a:r>
            <a:endParaRPr b="0" lang="en-US" sz="3200" spc="-1" strike="noStrike">
              <a:solidFill>
                <a:srgbClr val="ffffcc"/>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asures outcom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mportant Characteristics</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st practices throughout the entire continuum of car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nical guidelin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duced cos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mprovement of measurable outcomes in the quality of car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
            </a:r>
            <a:r>
              <a:rPr b="0" i="1" lang="en-US" sz="4400" spc="-1" strike="noStrike">
                <a:solidFill>
                  <a:srgbClr val="ffcc66"/>
                </a:solidFill>
                <a:latin typeface="Times New Roman"/>
              </a:rPr>
              <a:t>Management Soup”</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se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Cost Case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sease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pulation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aged Ca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oes It Work?</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literature is now replete with titles in DM, quality improvement, and clinical practice improvement, but…there is not much evidence that {these}…improve efficiency in the care process for the disease.”</a:t>
            </a:r>
            <a:r>
              <a:rPr b="0" lang="en-US" sz="3200" spc="-1" strike="noStrike" baseline="30000">
                <a:solidFill>
                  <a:srgbClr val="ffffcc"/>
                </a:solidFill>
                <a:latin typeface="Times New Roman"/>
              </a:rPr>
              <a:t>9</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9 – Curtiss F. Lessons learned from projects in disease management in ambulatory care. Am J Health-Syst Pharm 1997;54:2217-29.</a:t>
            </a:r>
            <a:endParaRPr b="0" lang="en-US" sz="9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ummary of the Literature</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4 trials previously published, only 8 of which are randomized and controlled</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F: 8 trial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abetes: 3 trial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thma: 1 trial</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ronary artery disease: 1 trial</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neral primary care/postdischarge care: 5 trial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maining Questions</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s DM truly cost-effective in a heterogeneous patient population with a forthcoming and straightforward analysis of the economic data?</a:t>
            </a:r>
            <a:endParaRPr b="0" lang="en-US" sz="2800" spc="-1" strike="noStrike">
              <a:solidFill>
                <a:srgbClr val="ffffcc"/>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DM improve clinical outcomes?</a:t>
            </a:r>
            <a:endParaRPr b="0" lang="en-US" sz="2800" spc="-1" strike="noStrike">
              <a:solidFill>
                <a:srgbClr val="ffffcc"/>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DM improve subjective outcomes such as quality of life and patient satisfaction?</a:t>
            </a:r>
            <a:endParaRPr b="0" lang="en-US" sz="2800" spc="-1" strike="noStrike">
              <a:solidFill>
                <a:srgbClr val="ffffcc"/>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DM improve provider satisfaction with the care they are able to provide?</a:t>
            </a:r>
            <a:endParaRPr b="0" lang="en-US" sz="2800" spc="-1" strike="noStrike">
              <a:solidFill>
                <a:srgbClr val="ffffcc"/>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s DM better administered in a face-to-face clinic setting or telephonicall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7160" y="52200"/>
            <a:ext cx="8637480" cy="1431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outh Texas CHF Demonstration Project</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rget enrollment: 1200 patien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rget population: Veterans,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Military, Medicare, Medicaid,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nd indigent patien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ime of Enrollment: 18 month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10" name="BD05200_" descr=""/>
          <p:cNvPicPr/>
          <p:nvPr/>
        </p:nvPicPr>
        <p:blipFill>
          <a:blip r:embed="rId1"/>
          <a:stretch/>
        </p:blipFill>
        <p:spPr>
          <a:xfrm>
            <a:off x="6705720" y="2743200"/>
            <a:ext cx="2280960" cy="34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isease Selection</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 volum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gh cos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ariation in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pensity for acute decompensa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9:54:32Z</dcterms:created>
  <dc:creator>User UT Austin</dc:creator>
  <dc:description/>
  <dc:language>en-US</dc:language>
  <cp:lastModifiedBy>Emily Saslow</cp:lastModifiedBy>
  <cp:lastPrinted>2002-03-04T22:04:17Z</cp:lastPrinted>
  <dcterms:modified xsi:type="dcterms:W3CDTF">2002-05-15T18:59:37Z</dcterms:modified>
  <cp:revision>33</cp:revision>
  <dc:subject/>
  <dc:title>A Demonstration to Evaluate an Integrated System of Disease Management among a Population of Veteran, Military, Medicare, and Medicaid Patients</dc:title>
</cp:coreProperties>
</file>