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Click to move the slide</a:t>
            </a:r>
            <a:endParaRPr b="0" lang="en-US" sz="4400" spc="-1" strike="noStrike">
              <a:solidFill>
                <a:srgbClr val="e6fd09"/>
              </a:solidFill>
              <a:latin typeface="Times New Roman"/>
            </a:endParaRPr>
          </a:p>
        </p:txBody>
      </p:sp>
      <p:sp>
        <p:nvSpPr>
          <p:cNvPr id="1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5722-4998-49BD-88CF-0BE037143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a Sachs’ slides for the presentation “State and Local Efforts to Close the Gaps Between Public and Private Insurance Cover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a Sachs is a Technical Director with the Centers for Medicare and Medicaid Servic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just recently approved a Section 1115 demonstration for Utah which is not a HIFA demonstration but bears a lot of relevance to the issue of covering the uninsured and the general CMS waiver policy. Utah made some slight modifications to the benefit package for a small sub-set of their mandatory Medicaid population. Instead of eliminating benefits, the State put more limits on certain benefits and made some modifications to some of their optional medically needy. They then used the savings from that to expand to a population of uninsured parents and childless adults up to 150% of poverty with a primary care benefit package. While it is not a comprehensive package that is being offered, it is primary care and they also have an arrangement with hospitals to provide charity care in the event that inpatient care is nee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the Utah demonstration non-HIFA is the fact that the program did  make some adjustments in benefits to mandatory eligibles, which is not permitted under the HIFA initiative. It is also a straight Medicaid, non-employer sponsored insurance expa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flexibility offered, HIFA is also appealing to States because of the expedited review process, application template, and clear guidance the initiative offer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can cover more of their low-income uninsured by expanding public programs such as Medicaid and SCHIP. The limitations of these programs are that they only apply to individuals who fit into certain eligibility categories, and that States need to come up with matching funds in order to be able to pull down Federal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can also increase coverage through house reform demonstrations, which allow States to obtain waivers of requirements of both the Medicaid and SCHIP programs to cover additional populations, including those who might not fit into one of the standard eligibility categories, such as childless adults, for example.</a:t>
            </a: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lth Insurance Flexibility and Accountability ( HIFA) initiative is a new Section 1115 approach that has recently been announced by CMS to give States more flexibility.  Under HIFA there is the possibility to combine Medicaid and SCHIP funding and statutory waivers in order to implement coverage expansio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features of the flexibility HIFA offers are that States can make adjustments in benefits to some of their covered populations. States can also make adjustments in cost-sharing and there is a more flexible approach to using employer-sponsored insur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t is true that States can make adjustments in benefits and cost-sharing under the HIFA initiative, it is not just about cutting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still have some of the same tools available at their disposal that they have traditionally used in Section 1115 demonstrations to pull more people into programs, including “pass-through expansions.” Through the HIFA initiative States can also, as they can with other Section 1115 demonstrations, redirect disproportionate share hospital or DSH funds to cover more of the uninsured.  They can also still accrue managed care savings through these demonstrations and also there is the possibility of using SCHIP funding in new ways to cover more people.</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HIFA initiative, States will be able to cover some non-traditional populations using their unspent SCHIP allocation, such as parents and pregnant women. Also, one of the new features under HIFA is that States will be allowed to use unspent SCHIP money for childless adults. Children are always protected and children will continue to be covered first even if States do these demonst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has been hearing from States for years that it is difficult to implement premium assistance under Medicaid and SCHIP using the traditional policy because of the need to provide wraparound benefits, which means that everyone gets exactly the same benefit package to do kind of the same thing with cost-sharing to make sure that no one is liable for more than the ordinary amount of cost-sh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effort to make it easier for States, HIFA allows the flexibility to do premium assistance for the expansion populations and for some of the optional populations without the requirement to monitor every benefit package so closely. CMS has also made the cost-effectiveness test under HIFA much more simpl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re now finding themselves in circumstances that CMS could not have foreseen when they initially introduced the HIFA initiative. But given the amount of activity that CMS is nonetheless seeing on HIFA, States do still have some segments of their low-income population that they are interested in reaching out to if they can do so in a way that helps them in their fiscal situation. HIFA gives States very good tools to rearrange or redesign some of their programs, within limits, that will allow them to perhaps redesign benefit packages so that they do free up some funding to cover additional populations.</a:t>
            </a: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has approved HIFA proposals for California and Arizona, neither one of which involves a benefit reduction to any population. The State of Arizona will be covering a population of childless adults up to 100% of poverty and parents of Medicaid and SCHIP kids between 100-200% of poverty using unspent SCHIP funding and Medicaid funding if the SCHIP runs out. California will be covering parents of Medicaid and SCHIP kids up to 200% of poverty also using some of the State’s unspent SCHIP allocation.</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3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4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8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9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10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fd09"/>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Click to edit the title text format</a:t>
            </a:r>
            <a:endParaRPr b="0" lang="en-US" sz="4400" spc="-1" strike="noStrike">
              <a:solidFill>
                <a:srgbClr val="e6fd09"/>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3" name=""/>
          <p:cNvSpPr/>
          <p:nvPr/>
        </p:nvSpPr>
        <p:spPr>
          <a:xfrm>
            <a:off x="685800" y="6531120"/>
            <a:ext cx="3505320" cy="32688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87240" y="8380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880920" y="119160"/>
            <a:ext cx="66960" cy="6660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6" name=""/>
          <p:cNvSpPr/>
          <p:nvPr/>
        </p:nvSpPr>
        <p:spPr>
          <a:xfrm>
            <a:off x="880920" y="34920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7" name=""/>
          <p:cNvSpPr/>
          <p:nvPr/>
        </p:nvSpPr>
        <p:spPr>
          <a:xfrm>
            <a:off x="880920" y="57636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8" name=""/>
          <p:cNvSpPr/>
          <p:nvPr/>
        </p:nvSpPr>
        <p:spPr>
          <a:xfrm>
            <a:off x="880920" y="103500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9" name=""/>
          <p:cNvSpPr/>
          <p:nvPr/>
        </p:nvSpPr>
        <p:spPr>
          <a:xfrm>
            <a:off x="880920" y="1262160"/>
            <a:ext cx="66960" cy="6660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0" name=""/>
          <p:cNvSpPr/>
          <p:nvPr/>
        </p:nvSpPr>
        <p:spPr>
          <a:xfrm>
            <a:off x="880920" y="149220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171936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949400"/>
            <a:ext cx="66960" cy="63720"/>
          </a:xfrm>
          <a:prstGeom prst="ellipse">
            <a:avLst/>
          </a:prstGeom>
          <a:solidFill>
            <a:srgbClr val="e6fd09"/>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3" name=""/>
          <p:cNvSpPr/>
          <p:nvPr/>
        </p:nvSpPr>
        <p:spPr>
          <a:xfrm>
            <a:off x="880920" y="2178000"/>
            <a:ext cx="66960" cy="65160"/>
          </a:xfrm>
          <a:prstGeom prst="ellipse">
            <a:avLst/>
          </a:prstGeom>
          <a:solidFill>
            <a:srgbClr val="e6fd09"/>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4" name=""/>
          <p:cNvGrpSpPr/>
          <p:nvPr/>
        </p:nvGrpSpPr>
        <p:grpSpPr>
          <a:xfrm>
            <a:off x="4538520" y="6672240"/>
            <a:ext cx="4332600" cy="64800"/>
            <a:chOff x="4538520" y="6672240"/>
            <a:chExt cx="4332600" cy="64800"/>
          </a:xfrm>
        </p:grpSpPr>
        <p:sp>
          <p:nvSpPr>
            <p:cNvPr id="65" name=""/>
            <p:cNvSpPr/>
            <p:nvPr/>
          </p:nvSpPr>
          <p:spPr>
            <a:xfrm>
              <a:off x="4538520" y="6672240"/>
              <a:ext cx="6696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6" name=""/>
            <p:cNvSpPr/>
            <p:nvPr/>
          </p:nvSpPr>
          <p:spPr>
            <a:xfrm>
              <a:off x="5148360" y="6672240"/>
              <a:ext cx="6660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 name=""/>
            <p:cNvSpPr/>
            <p:nvPr/>
          </p:nvSpPr>
          <p:spPr>
            <a:xfrm>
              <a:off x="5757840" y="6672240"/>
              <a:ext cx="6516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8" name=""/>
            <p:cNvSpPr/>
            <p:nvPr/>
          </p:nvSpPr>
          <p:spPr>
            <a:xfrm>
              <a:off x="6367320" y="6672240"/>
              <a:ext cx="6516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9" name=""/>
            <p:cNvSpPr/>
            <p:nvPr/>
          </p:nvSpPr>
          <p:spPr>
            <a:xfrm>
              <a:off x="6977160" y="6672240"/>
              <a:ext cx="6660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7586640" y="6672240"/>
              <a:ext cx="6660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8196120" y="6672240"/>
              <a:ext cx="6696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8805960" y="6672240"/>
              <a:ext cx="65160" cy="64800"/>
            </a:xfrm>
            <a:prstGeom prst="ellipse">
              <a:avLst/>
            </a:prstGeom>
            <a:solidFill>
              <a:srgbClr val="e6fd0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3" name=""/>
          <p:cNvSpPr/>
          <p:nvPr/>
        </p:nvSpPr>
        <p:spPr>
          <a:xfrm>
            <a:off x="880920" y="806400"/>
            <a:ext cx="66960" cy="63720"/>
          </a:xfrm>
          <a:prstGeom prst="ellipse">
            <a:avLst/>
          </a:prstGeom>
          <a:solidFill>
            <a:srgbClr val="e6fd09"/>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4" name="PlaceHolder 1"/>
          <p:cNvSpPr>
            <a:spLocks noGrp="1"/>
          </p:cNvSpPr>
          <p:nvPr>
            <p:ph type="title"/>
          </p:nvPr>
        </p:nvSpPr>
        <p:spPr>
          <a:xfrm>
            <a:off x="83808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Click to edit the title text format</a:t>
            </a:r>
            <a:endParaRPr b="0" lang="en-US" sz="4400" spc="-1" strike="noStrike">
              <a:solidFill>
                <a:srgbClr val="e6fd09"/>
              </a:solidFill>
              <a:latin typeface="Times New Roman"/>
            </a:endParaRPr>
          </a:p>
        </p:txBody>
      </p:sp>
      <p:sp>
        <p:nvSpPr>
          <p:cNvPr id="7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6fd09"/>
                </a:solidFill>
                <a:latin typeface="Times New Roman"/>
              </a:rPr>
              <a:t>State and Local Efforts to Close the Gaps Between Public and Private Insurance Coverage</a:t>
            </a:r>
            <a:endParaRPr b="0" lang="en-US" sz="3700" spc="-1" strike="noStrike">
              <a:solidFill>
                <a:srgbClr val="e6fd09"/>
              </a:solidFill>
              <a:latin typeface="Times New Roman"/>
            </a:endParaRPr>
          </a:p>
        </p:txBody>
      </p:sp>
      <p:sp>
        <p:nvSpPr>
          <p:cNvPr id="120" name="PlaceHolder 2"/>
          <p:cNvSpPr>
            <a:spLocks noGrp="1"/>
          </p:cNvSpPr>
          <p:nvPr>
            <p:ph type="subTitle"/>
          </p:nvPr>
        </p:nvSpPr>
        <p:spPr>
          <a:xfrm>
            <a:off x="228240" y="3123720"/>
            <a:ext cx="4876920" cy="251460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resa Sachs</a:t>
            </a:r>
            <a:endParaRPr b="0" lang="en-US" sz="36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chnical Director</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ers for Medicare and Medicaid Services</a:t>
            </a:r>
            <a:endParaRPr b="0" lang="en-US" sz="24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21" name="Theresa%20Sachs" descr=""/>
          <p:cNvPicPr/>
          <p:nvPr/>
        </p:nvPicPr>
        <p:blipFill>
          <a:blip r:embed="rId1"/>
          <a:stretch/>
        </p:blipFill>
        <p:spPr>
          <a:xfrm>
            <a:off x="5410080" y="2438280"/>
            <a:ext cx="302904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Utah Demonstration</a:t>
            </a:r>
            <a:endParaRPr b="0" lang="en-US" sz="4400" spc="-1" strike="noStrike">
              <a:solidFill>
                <a:srgbClr val="e6fd09"/>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HIFA</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nefit package modifications</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rollment fee</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sion - primary ca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HIFA Advantages</a:t>
            </a:r>
            <a:endParaRPr b="0" lang="en-US" sz="4400" spc="-1" strike="noStrike">
              <a:solidFill>
                <a:srgbClr val="e6fd09"/>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idance</a:t>
            </a:r>
            <a:endParaRPr b="0" lang="en-US" sz="3200" spc="-1" strike="noStrike">
              <a:solidFill>
                <a:srgbClr val="ffffff"/>
              </a:solidFill>
              <a:latin typeface="Times New Roman"/>
            </a:endParaRPr>
          </a:p>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 template</a:t>
            </a:r>
            <a:endParaRPr b="0" lang="en-US" sz="3200" spc="-1" strike="noStrike">
              <a:solidFill>
                <a:srgbClr val="ffffff"/>
              </a:solidFill>
              <a:latin typeface="Times New Roman"/>
            </a:endParaRPr>
          </a:p>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dited revie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Public Programs and the Uninsured</a:t>
            </a:r>
            <a:endParaRPr b="0" lang="en-US" sz="4400" spc="-1" strike="noStrike">
              <a:solidFill>
                <a:srgbClr val="e6fd09"/>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id State Plan</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P Program</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lth Reform Demonstr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Health Insurance Flexibility and Accountability (HIFA)</a:t>
            </a:r>
            <a:endParaRPr b="0" lang="en-US" sz="4400" spc="-1" strike="noStrike">
              <a:solidFill>
                <a:srgbClr val="e6fd09"/>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tion 1115 approach</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id/SCHIP</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verage expan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HIFA Flexibility</a:t>
            </a:r>
            <a:endParaRPr b="0" lang="en-US" sz="4400" spc="-1" strike="noStrike">
              <a:solidFill>
                <a:srgbClr val="e6fd09"/>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nefits</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sharing</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loyer-sponsored insura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Funding for Expansions</a:t>
            </a:r>
            <a:endParaRPr b="0" lang="en-US" sz="4400" spc="-1" strike="noStrike">
              <a:solidFill>
                <a:srgbClr val="e6fd09"/>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Pass-through” expansions</a:t>
            </a:r>
            <a:endParaRPr b="0" lang="en-US" sz="3200" spc="-1" strike="noStrike">
              <a:solidFill>
                <a:srgbClr val="ffffff"/>
              </a:solidFill>
              <a:latin typeface="Times New Roman"/>
            </a:endParaRPr>
          </a:p>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irect DSH</a:t>
            </a:r>
            <a:endParaRPr b="0" lang="en-US" sz="3200" spc="-1" strike="noStrike">
              <a:solidFill>
                <a:srgbClr val="ffffff"/>
              </a:solidFill>
              <a:latin typeface="Times New Roman"/>
            </a:endParaRPr>
          </a:p>
          <a:p>
            <a:pPr marL="343080" indent="-343080">
              <a:lnSpc>
                <a:spcPct val="2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aged care savin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SCHIP Funding in HIFA</a:t>
            </a:r>
            <a:endParaRPr b="0" lang="en-US" sz="4400" spc="-1" strike="noStrike">
              <a:solidFill>
                <a:srgbClr val="e6fd0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ents</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gnant women</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less adults</a:t>
            </a:r>
            <a:endParaRPr b="0" lang="en-US" sz="3200" spc="-1" strike="noStrike">
              <a:solidFill>
                <a:srgbClr val="ffffff"/>
              </a:solidFill>
              <a:latin typeface="Times New Roman"/>
            </a:endParaRPr>
          </a:p>
          <a:p>
            <a:pPr marL="343080" indent="-343080">
              <a:lnSpc>
                <a:spcPct val="17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protec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HIFA Employer-Sponsored Insurance Flexibility</a:t>
            </a:r>
            <a:endParaRPr b="0" lang="en-US" sz="4400" spc="-1" strike="noStrike">
              <a:solidFill>
                <a:srgbClr val="e6fd09"/>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ap-around</a:t>
            </a:r>
            <a:endParaRPr b="0" lang="en-US" sz="3200" spc="-1" strike="noStrike">
              <a:solidFill>
                <a:srgbClr val="ffffff"/>
              </a:solidFill>
              <a:latin typeface="Times New Roman"/>
            </a:endParaRPr>
          </a:p>
          <a:p>
            <a:pPr marL="343080" indent="-343080">
              <a:lnSpc>
                <a:spcPct val="2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 sharing</a:t>
            </a:r>
            <a:endParaRPr b="0" lang="en-US" sz="3200" spc="-1" strike="noStrike">
              <a:solidFill>
                <a:srgbClr val="ffffff"/>
              </a:solidFill>
              <a:latin typeface="Times New Roman"/>
            </a:endParaRPr>
          </a:p>
          <a:p>
            <a:pPr marL="343080" indent="-343080">
              <a:lnSpc>
                <a:spcPct val="2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 effectiven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HIFA in Present Environment</a:t>
            </a:r>
            <a:endParaRPr b="0" lang="en-US" sz="4400" spc="-1" strike="noStrike">
              <a:solidFill>
                <a:srgbClr val="e6fd09"/>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foreseeable circumstances</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sing numbers of uninsured</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at deal of activ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fd09"/>
                </a:solidFill>
                <a:latin typeface="Times New Roman"/>
              </a:rPr>
              <a:t>Approved HIFA Demonstrations</a:t>
            </a:r>
            <a:endParaRPr b="0" lang="en-US" sz="4400" spc="-1" strike="noStrike">
              <a:solidFill>
                <a:srgbClr val="e6fd09"/>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 childless adults and parents</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 - parents</a:t>
            </a:r>
            <a:endParaRPr b="0" lang="en-US" sz="3200" spc="-1" strike="noStrike">
              <a:solidFill>
                <a:srgbClr val="ffffff"/>
              </a:solidFill>
              <a:latin typeface="Times New Roman"/>
            </a:endParaRPr>
          </a:p>
          <a:p>
            <a:pPr marL="343080" indent="-343080">
              <a:lnSpc>
                <a:spcPct val="2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P fund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0:12:02Z</dcterms:created>
  <dc:creator>Instructions</dc:creator>
  <dc:description/>
  <dc:language>en-US</dc:language>
  <cp:lastModifiedBy>Emily Saslow</cp:lastModifiedBy>
  <cp:lastPrinted>2002-03-01T22:26:26Z</cp:lastPrinted>
  <dcterms:modified xsi:type="dcterms:W3CDTF">2002-05-15T18:38:10Z</dcterms:modified>
  <cp:revision>19</cp:revision>
  <dc:subject/>
  <dc:title>Public Programs and the Uninsured</dc:title>
</cp:coreProperties>
</file>