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69640" y="4095720"/>
            <a:ext cx="721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6964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86540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08280" y="194616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46560" y="194616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69640" y="409572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08280" y="409572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46560" y="409572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6964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6540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69640" y="4095720"/>
            <a:ext cx="721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69640" y="4095720"/>
            <a:ext cx="721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6964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6540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08280" y="194616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6560" y="194616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69640" y="409572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08280" y="409572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6560" y="4095720"/>
            <a:ext cx="2322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6964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865400" y="409572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65400" y="1946160"/>
            <a:ext cx="3519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69640" y="4095720"/>
            <a:ext cx="721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rsa.gov/bioterrorism.ht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ational Bioterrorism Hospital Preparedness Program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3200040"/>
            <a:ext cx="46483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rad Austin, M.P.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ander, U.S. Public Health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spital Bioterrorism Preparedness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uman Resources and Services Administ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 Department of Health and Huma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53080" y="6019920"/>
            <a:ext cx="2210040" cy="606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19920" y="3200400"/>
            <a:ext cx="217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gionalization Approach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hospital alone not su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SA lets grantees define this to best facilitate their own geography and circum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urge Capacity and Regionaliz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health clinics, IHS facilities, VA hospitals, military medical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strengths of individual facilities and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by assessing your current local and regional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Program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hrsa.gov/bioterrorism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R Brad Aust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01) 443-18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ustin@hrsa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o ready hospitals and supporting health care systems to deliver coordinated and effective care to victims of terrorism and other public health emergenci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operative Agreements with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Health Depar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C, New York, Chicago, Los Ang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rto Rico, Virgin Islands, American Samoa, Guam, Northern Maria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shall Islands, Micronesia and Palau just added in FY 200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spital Preparedness Progra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135 M for hospital preparedness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514 M appropriated 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uidance just published M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pital preparedness and infrastruct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rge Capac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bed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0 acutely ill patients / million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ntamination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0 acutely ill patients / million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least one per gran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ort 10 patients at a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rge Capac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um patient 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epare for an overwhelming number of patients either for an acute period or over an extended period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rge Capac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S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rge Capac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care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0 additional / million in urban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5 additional / million in rur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protective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cient to protect these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rge Capac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maceutical ca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pharma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ll Strategic National Stockpile is deliv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s and information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e and redund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s health care system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6:52:55Z</dcterms:created>
  <dc:creator>rniska</dc:creator>
  <dc:description/>
  <dc:language>en-US</dc:language>
  <cp:lastModifiedBy>Network Administrator</cp:lastModifiedBy>
  <cp:lastPrinted>2003-06-10T14:01:30Z</cp:lastPrinted>
  <dcterms:modified xsi:type="dcterms:W3CDTF">2003-06-30T18:32:18Z</dcterms:modified>
  <cp:revision>63</cp:revision>
  <dc:subject/>
  <dc:title>Hospital Preparedness for Biological and Chemical Terror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485645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urge capacity Web-assisted audioconference</vt:lpwstr>
  </property>
  <property fmtid="{D5CDD505-2E9C-101B-9397-08002B2CF9AE}" pid="6" name="_PreviousAdHocReviewCycleID">
    <vt:r8>1315086340</vt:r8>
  </property>
</Properties>
</file>