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BFA-410F-40D1-AF4E-60DF36B5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9F5-93B5-46EB-9276-85F843C7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3E1-5D86-4099-A5F3-30DE5853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1C8-8976-4C38-9537-8B383DA1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C8A-8FE8-4B6F-9877-94A72AF5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DFA-8DB3-4E6E-BF85-7B0F06B2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217-05AC-4549-98FA-9FF84C58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C49E-4B5F-4318-A9C2-9E18F120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B88-3940-4BD1-8656-36C54F39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4BA9-5332-4014-A218-B42D568A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C52-F9A1-46BA-B249-6DB85D96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408-2D95-47A5-84F7-3B35765A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2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D036-259D-42F2-A908-449EF307CC4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oterrorism Workbook and Decision Support: The Pittsburgh Matrix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504960" y="3492000"/>
            <a:ext cx="528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ichael Allswede, D.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33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ection Chief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633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Special Emergency Medical Respons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633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University of Pittsburgh Medical Center Health System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3505320"/>
            <a:ext cx="2219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ource Valu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Key Resources (capabilities) within each matrix box are accounted using UPMC Health System dat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urvivorship estimates yield value in dollars/lives saved for each matrix Key Resource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tsburgh Matrix: Work to d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mplete methodological workbook for other medical facilities to follo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stimation of probability of a given attack occurre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X: World events change the threshold and likelihood of each given attack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imation of detection capability of a given atta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X: Syndromic detection is better for larger scale eve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HRQ-sponsored Workbook for Regional Bioterrorism Preparednes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 collaborative effort between Research Triangle Institute,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PMC Health Systems, and Intermountain Health Car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vailable:  September 30, 2003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ontact:  Lucy Savitz at savitz@rti.or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tsburgh Matrix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vide a decision support tool for hospitals and hospital systems preparing for or responding to bioterrorism ev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rovide a method of determining value for bioterrorism capabil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Guide funding for hospital capability develop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2608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tsburgh Matrix: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atification of Tas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8680" y="1941480"/>
          <a:ext cx="8208720" cy="4151520"/>
        </p:xfrm>
        <a:graphic>
          <a:graphicData uri="http://schemas.openxmlformats.org/drawingml/2006/table">
            <a:tbl>
              <a:tblPr/>
              <a:tblGrid>
                <a:gridCol w="2052720"/>
                <a:gridCol w="2052360"/>
                <a:gridCol w="2051280"/>
                <a:gridCol w="2052360"/>
              </a:tblGrid>
              <a:tr h="102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High Prior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Moderat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Low Priority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Immediat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thrax Protocol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ducation Program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mmand Center Developmen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Short Ter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ab capac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Quarantine Protocol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al Lab Capability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ew Research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ff66"/>
                          </a:solidFill>
                          <a:latin typeface="Arial"/>
                        </a:rPr>
                        <a:t>Long Term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mprove Mass Decon</a:t>
                      </a:r>
                      <a:r>
                        <a:rPr b="0" i="1" lang="en-US" sz="20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andardization of Training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edical School Curriculum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ittsburgh Matrix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dical Decision-Mak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30280" y="1828800"/>
          <a:ext cx="7980480" cy="390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0280" y="1828800"/>
                    <a:ext cx="798048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648320" y="5638680"/>
            <a:ext cx="3886200" cy="52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athogen Rat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752480"/>
            <a:ext cx="6477120" cy="59162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cc00"/>
                </a:solidFill>
                <a:latin typeface="Times New Roman"/>
              </a:rPr>
              <a:t>Communicability/Quarantine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0: Non-communicable/No Quarantine  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Example: Bot Tox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1: Blood and Body Fluid/Universal Precautions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Example: HIV Vir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2: Close Contact/Universal Precautions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ffcc00"/>
                </a:solidFill>
                <a:latin typeface="Times New Roman"/>
              </a:rPr>
              <a:t>Example: Ebola Vir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: Airborne/HEPA Filtration</a:t>
            </a:r>
            <a:r>
              <a:rPr b="1" i="1" lang="en-US" sz="20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	</a:t>
            </a:r>
            <a:r>
              <a:rPr b="1" i="1" lang="en-US" sz="20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	</a:t>
            </a:r>
            <a:r>
              <a:rPr b="1" i="1" lang="en-US" sz="20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Example: Variola Vir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66ffcc"/>
                </a:solidFill>
                <a:latin typeface="Times New Roman"/>
              </a:rPr>
              <a:t>Effectiveness of Medical Treat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0: Comfort Measures Only Needed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Example: Salmonell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1: Highly Effective-Survival Probable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Example: Skin Anthra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2: Improved Survival-Survival Improved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	</a:t>
            </a:r>
            <a:r>
              <a:rPr b="0" lang="en-US" sz="2000" spc="-1" strike="noStrike" baseline="30000">
                <a:solidFill>
                  <a:srgbClr val="66ffcc"/>
                </a:solidFill>
                <a:latin typeface="Times New Roman"/>
              </a:rPr>
              <a:t>Example: Yersinia Pest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 baseline="30000">
                <a:solidFill>
                  <a:srgbClr val="66ffcc"/>
                </a:solidFill>
                <a:uFillTx/>
                <a:latin typeface="Times New Roman"/>
              </a:rPr>
              <a:t>3. Ineffective-Survival Not Improved</a:t>
            </a:r>
            <a:r>
              <a:rPr b="1" i="1" lang="en-US" sz="2000" spc="-1" strike="noStrike" u="sng" baseline="30000">
                <a:solidFill>
                  <a:srgbClr val="66ffcc"/>
                </a:solidFill>
                <a:uFillTx/>
                <a:latin typeface="Times New Roman"/>
              </a:rPr>
              <a:t>	</a:t>
            </a:r>
            <a:r>
              <a:rPr b="1" i="1" lang="en-US" sz="2000" spc="-1" strike="noStrike" u="sng" baseline="30000">
                <a:solidFill>
                  <a:srgbClr val="66ffcc"/>
                </a:solidFill>
                <a:uFillTx/>
                <a:latin typeface="Times New Roman"/>
              </a:rPr>
              <a:t>Example: Variola Vir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cc00"/>
                </a:solidFill>
                <a:latin typeface="Times New Roman"/>
              </a:rPr>
              <a:t>Availability of Medical Treat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0: Non-Pharmaceutical Treatment 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Example: Clear Liquid Die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1: Multiple Available Pharmaceuticals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Example: Ames Strain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2: Insufficient Local Supply Pharmaceutical 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imes New Roman"/>
              </a:rPr>
              <a:t>Example: Bot Antitoxi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3: Obscure or Experimental Pharmaceuticals</a:t>
            </a:r>
            <a:r>
              <a:rPr b="1" i="1" lang="en-US" sz="18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	</a:t>
            </a:r>
            <a:r>
              <a:rPr b="1" i="1" lang="en-US" sz="1800" spc="-1" strike="noStrike" u="sng" baseline="30000">
                <a:solidFill>
                  <a:srgbClr val="ffcc00"/>
                </a:solidFill>
                <a:uFillTx/>
                <a:latin typeface="Times New Roman"/>
              </a:rPr>
              <a:t>Example: Variola Vaccin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5638680"/>
            <a:ext cx="2743200" cy="52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ects of Preparednes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11240" y="3048120"/>
          <a:ext cx="7424640" cy="2195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1240" y="3048120"/>
                    <a:ext cx="742464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495680" y="5410080"/>
            <a:ext cx="3886200" cy="520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1676520"/>
            <a:ext cx="7315200" cy="1218960"/>
          </a:xfrm>
          <a:prstGeom prst="leftArrow">
            <a:avLst>
              <a:gd name="adj1" fmla="val 50000"/>
              <a:gd name="adj2" fmla="val 150030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133720"/>
            <a:ext cx="2667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Better Technolog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2971800"/>
            <a:ext cx="2667240" cy="2971800"/>
          </a:xfrm>
          <a:prstGeom prst="downArrow">
            <a:avLst>
              <a:gd name="adj1" fmla="val 50000"/>
              <a:gd name="adj2" fmla="val 27855"/>
            </a:avLst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3124080"/>
            <a:ext cx="12956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System Preparedn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thrax Aerosol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5105520"/>
            <a:ext cx="2590560" cy="733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2057400"/>
          <a:ext cx="8724960" cy="3116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057400"/>
                    <a:ext cx="872496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5105520"/>
            <a:ext cx="3429000" cy="1118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Numbers represent pathogen sco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(Percentages) represent estimated mortality ra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5105520"/>
            <a:ext cx="2590560" cy="733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5421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Variola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952880"/>
            <a:ext cx="2590560" cy="7333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Allswede, MP, Watson SJ., </a:t>
            </a:r>
            <a:r>
              <a:rPr b="0" i="1" lang="en-US" sz="1400" spc="-1" strike="noStrike">
                <a:solidFill>
                  <a:srgbClr val="ffcc00"/>
                </a:solidFill>
                <a:latin typeface="Times New Roman"/>
              </a:rPr>
              <a:t>AHRQ Partnership for Quality, 2002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1905120"/>
          <a:ext cx="8840880" cy="307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905120"/>
                    <a:ext cx="8840880" cy="30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48400" y="4952880"/>
            <a:ext cx="4132440" cy="8751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Numbers represent pathogen scor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imes New Roman"/>
              </a:rPr>
              <a:t>(Percentages) represent estimated mortality rat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sion Support Tool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ach Medical Asset can determine capacity levels based on daily census, surge disaster planning, and community outreac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imeline will be evident so a given box can be access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ach box has Key Decisions and Key Resources enumerated in a logical response hierarch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2T15:37:31Z</dcterms:created>
  <dc:creator>allswedemp</dc:creator>
  <dc:description/>
  <dc:language>en-US</dc:language>
  <cp:lastModifiedBy>Network Administrator</cp:lastModifiedBy>
  <cp:lastPrinted>2003-06-13T20:46:26Z</cp:lastPrinted>
  <dcterms:modified xsi:type="dcterms:W3CDTF">2003-06-16T15:35:34Z</dcterms:modified>
  <cp:revision>14</cp:revision>
  <dc:subject/>
  <dc:title>Bioterrorism Workbook and Decision Support: The Pittsburgh Matri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909497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Surge capacity Web-assisted audioconference</vt:lpwstr>
  </property>
  <property fmtid="{D5CDD505-2E9C-101B-9397-08002B2CF9AE}" pid="6" name="_PreviousAdHocReviewCycleID">
    <vt:r8>-1046993803</vt:r8>
  </property>
</Properties>
</file>