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41F-A870-43F4-8173-A70BF464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7C7-1DBD-4183-87D7-920102A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1B3-5C46-4ADA-A489-AAECAD1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AF9-0D60-4A98-95F2-684A3ED1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2C8-4B14-44D6-B420-72607F73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65B-1D5F-4011-8CE5-76D2C67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09B-F1AA-4990-9664-A674A13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897-433D-431D-A1FE-D217EFC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D10-E65C-4E78-9162-93983B1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DA0-9942-4C6B-AEB7-5A649575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8F1-E10C-4B5A-AF05-8BAC95AA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BEE-6C10-4582-A169-70221DE6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89A-F8DF-4108-BC67-49F37B7993C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oterrorism Workbook and Decision Support: The Pittsburgh Matrix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04960" y="3492000"/>
            <a:ext cx="528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Allswede, D.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ction Chief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pecial Emergency Medical Respons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University of Pittsburgh Medical Center Health Syste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2219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 Valu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ey Resources (capabilities) within each matrix box are accounted using UPMC Health System dat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urvivorship estimates yield value in dollars/lives saved for each matrix Key Resource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: Work to 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methodological workbook for other medical facilities to follo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stimation of probability of a given attack occurr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X: World events change the threshold and likelihood of each given atta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imation of detection capability of a given atta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X: Syndromic detection is better for larger scale ev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HRQ-sponsored Workbook for Regional Bioterrorism Preparedn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collaborative effort between Research Triangle Institute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MC Health Systems, and Intermountain Health Ca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ailable:  September 30, 2003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ntact:  Lucy Savitz at savitz@rti.or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vide a decision support tool for hospitals and hospital systems preparing for or responding to bioterrorism ev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vide a method of determining value for bioterrorism cap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uide funding for hospital capability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atification of Tas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8680" y="1941480"/>
          <a:ext cx="8208720" cy="4151520"/>
        </p:xfrm>
        <a:graphic>
          <a:graphicData uri="http://schemas.openxmlformats.org/drawingml/2006/table">
            <a:tbl>
              <a:tblPr/>
              <a:tblGrid>
                <a:gridCol w="2052720"/>
                <a:gridCol w="2052360"/>
                <a:gridCol w="2051280"/>
                <a:gridCol w="2052360"/>
              </a:tblGrid>
              <a:tr h="102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High Prior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der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ow Prior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thrax Protocol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ducation Program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mmand Center Develop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Short Ter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b capa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Quarantine Protocol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Lab Capabil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ew Researc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ong Ter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mprove Mass Decon</a:t>
                      </a:r>
                      <a:r>
                        <a:rPr b="0" i="1" lang="en-US" sz="20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ndardization of Training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edical School Curriculu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ittsburgh Matrix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al Decision-Mak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0280" y="1828800"/>
          <a:ext cx="7980480" cy="39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1828800"/>
                    <a:ext cx="79804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648320" y="5638680"/>
            <a:ext cx="3886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hogen Ra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752480"/>
            <a:ext cx="6477120" cy="5916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Communicability/Quarantine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0: Non-communicable/No Quarantine  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Bot Tox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1: Blood and Body Fluid/Universal Precautions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HIV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2: Close Contact/Universal Precautions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Eb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: Airborne/HEPA Filtration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Example: Vari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66ffcc"/>
                </a:solidFill>
                <a:latin typeface="Times New Roman"/>
              </a:rPr>
              <a:t>Effectiveness of Medical Treat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0: Comfort Measures Only Needed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Salmonell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1: Highly Effective-Survival Probable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Skin Anthra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2: Improved Survival-Survival Improved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Yersinia Pest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3. Ineffective-Survival Not Improved</a:t>
            </a: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Example: Vari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Availability of Medical Treat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0: Non-Pharmaceutical Treatment 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Clear Liquid Di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1: Multiple Available Pharmaceuticals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Ames Strai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2: Insufficient Local Supply Pharmaceutical 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Bot Antitox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: Obscure or Experimental Pharmaceuticals</a:t>
            </a: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Example: Variola Vacc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638680"/>
            <a:ext cx="2743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ects of Preparednes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11240" y="3048120"/>
          <a:ext cx="7424640" cy="21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1240" y="3048120"/>
                    <a:ext cx="7424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95680" y="5410080"/>
            <a:ext cx="3886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676520"/>
            <a:ext cx="7315200" cy="1218960"/>
          </a:xfrm>
          <a:prstGeom prst="leftArrow">
            <a:avLst>
              <a:gd name="adj1" fmla="val 50000"/>
              <a:gd name="adj2" fmla="val 15003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133720"/>
            <a:ext cx="266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Better Techn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971800"/>
            <a:ext cx="2667240" cy="2971800"/>
          </a:xfrm>
          <a:prstGeom prst="downArrow">
            <a:avLst>
              <a:gd name="adj1" fmla="val 50000"/>
              <a:gd name="adj2" fmla="val 27855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124080"/>
            <a:ext cx="12956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ystem Prepared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thrax Aeroso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10552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057400"/>
          <a:ext cx="8724960" cy="3116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872496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5105520"/>
            <a:ext cx="3429000" cy="1118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umbers represent pathogen sc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Percentages) represent estimated mortality r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10552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Variola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95288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1905120"/>
          <a:ext cx="8840880" cy="307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884088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48400" y="4952880"/>
            <a:ext cx="4132440" cy="875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umbers represent pathogen sc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Percentages) represent estimated mortality r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sion Support Too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ach Medical Asset can determine capacity levels based on daily census, surge disaster planning, and community outreac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eline will be evident so a given box can be acces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ach box has Key Decisions and Key Resources enumerated in a logical response hierarch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5:37:31Z</dcterms:created>
  <dc:creator>allswedemp</dc:creator>
  <dc:description/>
  <dc:language>en-US</dc:language>
  <cp:lastModifiedBy>Network Administrator</cp:lastModifiedBy>
  <cp:lastPrinted>2003-06-13T20:46:26Z</cp:lastPrinted>
  <dcterms:modified xsi:type="dcterms:W3CDTF">2003-06-16T15:35:34Z</dcterms:modified>
  <cp:revision>14</cp:revision>
  <dc:subject/>
  <dc:title>Bioterrorism Workbook and Decision Support: The Pittsburgh Matr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09497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urge capacity Web-assisted audioconference</vt:lpwstr>
  </property>
  <property fmtid="{D5CDD505-2E9C-101B-9397-08002B2CF9AE}" pid="6" name="_PreviousAdHocReviewCycleID">
    <vt:r8>-1046993803</vt:r8>
  </property>
</Properties>
</file>