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559A53-A605-4C0E-9373-5A839F4EC1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revisions look great!!! (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9976-F281-418B-98F1-AF485CF9C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7A85-2328-44EC-9768-AEC0BA81F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7E90-51F5-43B8-9100-70C150D99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8F7F-4211-4010-BDAD-E28DA0251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455840" y="349200"/>
            <a:ext cx="714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3F8E-5E1D-48EB-834E-73D892641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4C98-A9B1-49A4-A910-7EA8AC526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2327-1DC6-462B-8C21-4E4C06BAF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58CF-E406-4AB4-AE05-DD377A2CB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455840" y="349200"/>
            <a:ext cx="714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9524-CDB4-4895-A5EB-4301AF8EF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AB6F-2EF3-4A79-8187-EB18C6AA2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9BB5-9113-4DB9-978B-38F25C483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A849-DABD-4A14-A22A-C1DF55EB3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8037360" y="5791320"/>
          <a:ext cx="1071720" cy="105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7360" y="5791320"/>
                    <a:ext cx="10717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" name=""/>
          <p:cNvGrpSpPr/>
          <p:nvPr/>
        </p:nvGrpSpPr>
        <p:grpSpPr>
          <a:xfrm>
            <a:off x="12600" y="19080"/>
            <a:ext cx="1252800" cy="1362960"/>
            <a:chOff x="12600" y="19080"/>
            <a:chExt cx="1252800" cy="1362960"/>
          </a:xfrm>
        </p:grpSpPr>
        <p:sp>
          <p:nvSpPr>
            <p:cNvPr id="5" name=""/>
            <p:cNvSpPr/>
            <p:nvPr/>
          </p:nvSpPr>
          <p:spPr>
            <a:xfrm>
              <a:off x="12600" y="19080"/>
              <a:ext cx="1252800" cy="12952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43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1440" y="704880"/>
              <a:ext cx="10760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3640" y="704880"/>
              <a:ext cx="981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9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" name=""/>
          <p:cNvGraphicFramePr/>
          <p:nvPr/>
        </p:nvGraphicFramePr>
        <p:xfrm>
          <a:off x="-22320" y="76320"/>
          <a:ext cx="1333440" cy="73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320" y="76320"/>
                    <a:ext cx="13334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5866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s # </a:t>
            </a:r>
            <a:fld id="{E9E1E4D7-51A2-4ECD-8905-D71064A307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685800" y="6305400"/>
            <a:ext cx="7315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14400" y="152280"/>
            <a:ext cx="7315200" cy="2360880"/>
            <a:chOff x="914400" y="152280"/>
            <a:chExt cx="7315200" cy="2360880"/>
          </a:xfrm>
        </p:grpSpPr>
        <p:sp>
          <p:nvSpPr>
            <p:cNvPr id="53" name=""/>
            <p:cNvSpPr/>
            <p:nvPr/>
          </p:nvSpPr>
          <p:spPr>
            <a:xfrm>
              <a:off x="914400" y="228600"/>
              <a:ext cx="7315200" cy="213372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4" name=""/>
            <p:cNvGraphicFramePr/>
            <p:nvPr/>
          </p:nvGraphicFramePr>
          <p:xfrm>
            <a:off x="1049760" y="152280"/>
            <a:ext cx="2137680" cy="236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49760" y="152280"/>
                      <a:ext cx="2137680" cy="23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3148560" y="1539720"/>
              <a:ext cx="499392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Agency for Healthcare Research and Quali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ccff"/>
                  </a:solidFill>
                  <a:latin typeface="Arial"/>
                </a:rPr>
                <a:t>Advancing Excellence in Health Care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 </a:t>
              </a:r>
              <a:r>
                <a:rPr b="0" lang="en-US" sz="1600" spc="-1" strike="noStrike">
                  <a:solidFill>
                    <a:srgbClr val="99ccff"/>
                  </a:solidFill>
                  <a:latin typeface="Arial"/>
                  <a:ea typeface="Arial"/>
                </a:rPr>
                <a:t>www.ahrq.go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49280" y="228600"/>
              <a:ext cx="0" cy="213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53600" y="1871640"/>
              <a:ext cx="507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60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2897280" y="142920"/>
          <a:ext cx="3333600" cy="18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7280" y="142920"/>
                    <a:ext cx="333360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812880" y="2895120"/>
            <a:ext cx="10701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-Term Care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ing Systems and Cos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5182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ine G. Williams, M.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ice of Communications and Knowledge 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tional Trends in LTC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nancing and Servi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196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2360" indent="-4323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trying to “rebalance” LTC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tate, Federal, local resources committed for choice of services and se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multiple strategies to reba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ing financing and org of delivery systems to shift funds from NH to HC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H occupancy rates decl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remaining residents are older and more depend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07EF-ACF0-40CD-901A-6B27F3137B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livery System Is Flawe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person- or family-centered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al integration of services across time, settings, and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dequate attention paid to tran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ly trained professionals and paraprofessional work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dequate information systems to evaluate quality and track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A43F-D6AC-4374-83F9-FE0592AD07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5480" y="685440"/>
            <a:ext cx="69087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the Research Tells Us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2600" y="1523880"/>
            <a:ext cx="833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-42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uld prefer to remain in the community – yet 70% of Medicaid LTC dollars spent on institutional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unmet need for LTC in the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least 15% of nursing home residents could be cared for in the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Federal LTC demos show expanded home care not offset by less NH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a few State studies show cost-effect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remains a serious issue in all se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8856-6127-4F15-A6E1-E4FB633263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6000" y="22824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llenges Facing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State Policymak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graphic re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ing expenditures for L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budget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gmented delivery and financ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problems in most se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and for formal and informal caregivers growing – supply shr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LTC system 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68360" y="1295280"/>
            <a:ext cx="4572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C5DF-51CE-49D8-8BFD-B869705545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8880" y="228240"/>
            <a:ext cx="7221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e Responsibility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alth and LTC Care for 65+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mited responsibility for ages 65-7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mary burden for States – over age 75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mary State issu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disability,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not health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s must obtain Federal waiver for community-based care – institutional care mandated as Medicaid benef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ponsibility for “dual eligibles”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C232-BBD3-4F93-B234-F831027F27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55480" y="419040"/>
            <a:ext cx="7383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derly Medicaid Beneficiaries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Dual Eligibles”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id beneficiari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uch more like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n the total Medicare population to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st and poo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fair or poor general health/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greater need of ADL or IA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s of mor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racial/ethnic minority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% Medicaid enrollees – 42%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% Medicare enrollees – 42+%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B2E3-CBD9-4566-8F00-523343B02E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w-Income Protection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nder Medicar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1440" y="152388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fied Medicare Beneficiary (QMB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 to 100% pover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dicaid pays for Medicare Part B Premium and copay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ecified Low-Income Medicare Beneficiary (SLMB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0-125% povert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dicaid pays for Part B Premium on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ly few in the eligible population have been enroll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A80F-69A1-4A34-A01E-593DA2CD25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dicaid and Persons with Disabilit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9560" y="1447920"/>
            <a:ext cx="8196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derly and disabled account f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Medicaid beneficiaries but 2/3 of Medicaid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million disabled qualify for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se, only 2 million are elde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nger disabled increasing as a percent of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id spends mo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 beneficia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the elderly than on the disab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id spends mo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 to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nonelderly disabled than any other gro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 Vladeck et al, Health Affairs, vol. 22 (1);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F482-A433-4B59-92CB-5E06DF203C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dicaid and Persons with Disabilit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447920"/>
            <a:ext cx="8196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divers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ly disabled children and/or ad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ally 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ally retarded/developmentally disabled (MR/D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 spending shrinking minority of total LTC $$ on younger disab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id spending for disabled will continue to increase both absolutely and relative to other covered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 Vladeck et al., Health Affairs,Vol 22 (1); 2003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172A-0688-4ECE-886A-8EE59739F9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lmstead, Medicaid, and LT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Olmstead vs. L.C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1999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Supreme Court ruled that States must provide services in the “most integrated setting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olation of the Americans with Disabilities Act to provide services only in institutions if a person’s needs can be met in a community-based set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courages States to re-evaluate how they deliver publicly funded long-term care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rriers to full community integration contin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ancial constraints on Medicaid in St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9D8F-E5BC-478A-AB3F-21DA848059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Long-Term Care (LTC)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7520" y="1523880"/>
            <a:ext cx="76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 range of personal, social, and medical supports an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s persons of all ages with physical or mental impairments, who cannot function independ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for services projected 3+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s and housing both essential to LTC policy an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ed across a range of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2614-6A93-4F10-9C46-9FED3A0B71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ere Do Elders Receiv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LTC Services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1% with ADL/IADL needs are in the commun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met need in community – 37% of ADL-impaired elderly in community need help or additional assist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ly 5% of elderly needing LTC are in NH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ly of beds/occupancy rate for 75+ declined – LTC needs increasingly being met outside of nursing hom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9B96-E437-4862-B7E6-692C106DBB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me- and Community-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d Servi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7880" y="1676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expanding HCBS options – but 70% Medicaid LTC $ still institu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, greatest increase in HCBS for younger disabled – MR and 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savings unclear – “woodwork”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cost savings in HCBS – Alecxih, et al.,1996 study in Washington, Oregon, and Colo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1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A2D3-83D3-4985-A73A-EB6887C395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86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rsing Homes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om Do They Serve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6040" y="1676160"/>
            <a:ext cx="75819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334800" indent="-334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s serve small percent of functionally impaired elderly (4-5%), but dominates LTC financ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 pop. older, more disabled, frail, cognitively impaired (50%), need more skilled c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lihood of needing NH care increases dramatically with age – 50% of residents are 85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financial resources or family caregivers contributes to need for nursing home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elderly w/LTC needs without family in N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% elderly w/LTC needs with family in NH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2EA4-38E9-4AE6-8EC1-EE78C8DF15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sted Living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ssues and Future Tren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600" y="1447920"/>
            <a:ext cx="8196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0600" indent="-390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est growing senior hou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, facility definition/regs v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un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 available to moderate/low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id support for assisted living facilities (ALFs) incr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 of ALFs for demen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cause for discharge – need for more care – ASPE/Hawes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, ALFs rarely replace N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5861-7835-4F79-BCB8-3DA4AEBAB5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349200"/>
            <a:ext cx="7307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o Are the LTC Caregiver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LTC provid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ormal caregiv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family and friends – 73% women; average age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mal caregiv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Nursing assistants, home care aides, personal care workers – typical worker middle-aged, single mom, little education,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percent African American, Asian, or Hispanic workers, particularly in citi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DFD5-8DD2-46CF-87BD-1826337901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rmal/Informal Caregivers: Challenges and Tren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4840" y="152388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-42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l caregivers – backbone of LTC need emotional, practical, and $$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3+ States have caregiver support programs – 30 are respite care; 50% of States pay caregiv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unding for informal care is State $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LTC aide recruitment/retention major issue in most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+ States – wage “pass-throug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training/career support need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C276-FBB9-4C70-8C6A-91FE8CE3C1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ality in LTC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Can It Be Improved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 reform in Omnibus Budget Reconciliation Act (OBRA) ’87 – quality improvements but problems re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 GAO Report – additional steps needed to strengthen enforcement of Federal quality standards in N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 issues for State policymak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e staffing levels in 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id payment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44C0-4736-4F96-8981-76B84FC3A3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2080" y="228240"/>
            <a:ext cx="69087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ality in LTC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Can It Be Improved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7520" y="175248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 LTC difficult to defin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dical and social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LTC populations: clients and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s clients with complex probl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place over extended periods with periodic use of acute and subacute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omings of existing quality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S’s Nursing Home Com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S’s Home Health Com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63C3-256C-47D7-AAB4-DD168199A3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Term Ca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s and Options for St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Time of Budget Cri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 We Go From Her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Y’06 Budget Proposal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mplications for Sta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0600" indent="-3906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d $60 billion savings in Medicaid over 1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Freedom Initiative Propo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0080" indent="-33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lexibility for HC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0080" indent="-333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 follows the person rebalancing d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s on Medicaid funding for optional servi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4646-3DE4-43DD-86E7-43C277A82A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7440" y="457200"/>
            <a:ext cx="76456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Is the Need for LTC Defined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ed for LTC is defin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25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ing help with Activities of Daily Living (ADLs): eating, bathing, dressing, toileting, transferring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25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mental Activities of Daily Living (IADLs): meal preparation, shopping, managing money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s with cognitive impair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25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zheimer’s and related dement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A601-3CE4-41CE-9046-1453AEDCA4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55480" y="419040"/>
            <a:ext cx="7383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ree Broad State Strategies to Control LTC Spend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 delivery system to provide care more effici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 HC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 acute and LTC: managed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private and Federal resour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Medicaid eligibility, reimbursement, an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0085-7DC1-4ABB-9AA8-2F6F33BA01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uild Community Op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4480" y="1676520"/>
            <a:ext cx="8196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- and community-based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 of Medicaid 1915(c) wa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 Changes for Community Living grants – CMS (HCFA*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mstead – impact on HC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t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ult da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67680" y="5900760"/>
            <a:ext cx="33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ormerly Health Care Financing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E5E3-69DE-4C21-A08E-FB16983075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pport Informal Caregiv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80560" y="167652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te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x cred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 of services funded by Older Americans Act and Medicaid waiver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$ to informal caregiv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1D3D-156F-45CD-8986-6093B4CE31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cruit and Retain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rmal LTC Workfor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2520" y="1676520"/>
            <a:ext cx="8196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“wage pass-through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worker fringe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career lad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and improve training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new worker pools including former welfare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spring model of quality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2663-00E9-444E-B90A-BF97D1791FE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pport Consumer Dir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7960" y="1676520"/>
            <a:ext cx="8407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8320" indent="-4183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sue driven by younger peo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mits person to arrange own care; spend as sees fit, allows hiring fami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obert Wood Johnson Foundation (RWJ)/CMS cash and counseling dem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reduce unmet ne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me or lower public c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reased satisf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K, NJ, F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dependence Plus Waiver – FL, LA, SC, N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6E81-3FD1-4162-B812-3415741981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re Private/Federal $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ivate LTC Insuran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e of private LTC insurance unknow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% in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income likely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cost of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may depend on development of employer-based group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Claimant Stud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PE/RW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Employees Health Benefits Program (FEHBP) LTC insurance benefit –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State offerings – MI, M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6216-F7E2-4D09-99D4-7A5646808E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145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ducate Boomers About LT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57840" indent="-3578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sts of LTC: Public Perceptions vs. Reality” – AARP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1680" indent="-305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estimat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1680" indent="-305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ly think their insurance covers L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1680" indent="-305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% believe Medicare covers L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ial about need for L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mers need to plan for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AD4F-333A-40DB-8872-04DEAE97AF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llmarks of a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rehensive LTC Syste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6360" y="1676160"/>
            <a:ext cx="78055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48840" indent="-348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ilosophy of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State organization responsible for all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multiple funding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appropriation for Medicaid LTC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amlined functional and financial elig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entry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d assessment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Mollica and Reinhard, Recommendations of State policy leaders,    RWJ funded, 200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1FB3-DCCC-4FB4-B4E5-5DF55710CE3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llmarks of a Comprehens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TC System (cont’d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array of in-home, residential, and institutional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and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-directe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coordinators assigned to NH to assist with re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assurance and improvement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ion of health and LTC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278E-3A7E-4B40-BA0E-62E41EB59C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20840" y="685800"/>
            <a:ext cx="7145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te Innovations in LTC</a:t>
            </a: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olidate State LTC programs and dollars in single State agenc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 and N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d consumer directi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K, NJ, F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appropriation for Medicaid LTC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R, MD, W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opt assessment and care management practices to target resources to most in n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A8AA-F0B1-4A5C-9D75-1003200FBB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o Is Most Likely to Need LTC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 affected by age, gender, race/ethnicity, and marital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increases with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matic increase in physical and cognitive disability over age 8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 higher among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 higher among those living 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1191-20B0-4E2D-9DB5-34DA2E7FF6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55840" y="380520"/>
            <a:ext cx="714672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e Innovations in LT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ine and Oreg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duce NH utilization – increase home care and residential altern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exas and Minnesota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egrates LTC and acute care services and financing in managed care (Everca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iscons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amily Care Program, comprehensive entry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905E-4DD8-4CB4-9349-D338997992F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uture Tren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6080" indent="-316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ng likely to continue as patchwork of public and private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id will continue as primary public funding – wide State va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continue to expand HC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expand consumer direction through Medicaid and State f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x strategies for incremental refo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BE1B-6413-4C84-BEBE-F391F679EF1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55840" y="380520"/>
            <a:ext cx="714672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mographics of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TC Popu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7% needing LTC are over 65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7% of elderly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are adults 18-64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3.3 million = 2.1%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% children = 400,000 (Nat’l Academy on Aging l99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3C9A-BB6A-4D18-B8DF-3661477A82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759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oomers turn 65 in 7 Years!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82440" y="1447920"/>
            <a:ext cx="755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8320" indent="-418320">
              <a:lnSpc>
                <a:spcPct val="9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ability declining by 1% per year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BU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in 2000-2030, 65+ = 35 </a:t>
            </a:r>
            <a:r>
              <a:rPr b="0" lang="en-US" sz="27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71 million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2.4% </a:t>
            </a:r>
            <a:r>
              <a:rPr b="0" lang="en-US" sz="23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20% of total popul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opulations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Triple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– 85+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65+ in nursing homes (NH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65+ with ADL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acial/ethnic diversity – disability higher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men outlive men, yet more disabl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ewer informal caregivers: smaller families, divorce, childlessne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83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522C-C436-4567-9744-410B11C920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55840" y="41904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Oldest Old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Fastest Growing Age Grou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ages 85+ have the highest rates of disability – their numbers will increase by 31% by 20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gnitive impairment – Alzheimer's and related dementias – increases dramatically with increasing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half of all NH residents have some form of dement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D5AE-9394-462E-A744-5A7FE6C53C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TC: How Is It Financed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TC financing is a patchwork of public (Federal, State, local) and private doll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id largest payer – 43% sp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-of-pocket spending – 2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re – 1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TC insurance – 4 -1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D estimates value of informal caregiving up to $200 billion annually – 80% at home rely ONLY on unpaid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E02A-39A6-4D00-937D-F3A4756787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55840" y="349200"/>
            <a:ext cx="714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dicaid Spending Trends for LT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72600" y="1828440"/>
            <a:ext cx="79916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edicaid spending grew 105%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―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3-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93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nding for home and community-based services (HCBS) grew 56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Y’03 Medicaid LTC sp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93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44.8B – 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93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27.8B – HC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93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11.3B – intensive care facilities/mentally retarded (ICF/M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854440"/>
            <a:ext cx="4572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6135-2A73-45B4-9691-B654703AFF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Cheryl Bell</cp:lastModifiedBy>
  <cp:lastPrinted>2003-01-21T20:19:23Z</cp:lastPrinted>
  <dcterms:modified xsi:type="dcterms:W3CDTF">2005-03-21T16:16:11Z</dcterms:modified>
  <cp:revision>116</cp:revision>
  <dc:subject/>
  <dc:title>AHRQ Slide Template 2004</dc:title>
</cp:coreProperties>
</file>