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E5C9BD-88CB-4346-B9D8-F59A6F995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revisions look great!!!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6A18-7307-4BA9-8468-A2FA760CB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F7BC-928C-4323-8679-97E5AFD6A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6261-53D2-4F63-AE19-36CBED40F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4197-4E34-4821-B620-6C5C1A385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55840" y="349200"/>
            <a:ext cx="714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2029-0FA5-4CA6-ABE8-235933F84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F6C3-B53A-417F-9E83-C6CA75F55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30A0-E45C-4492-893E-067E2F7BA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FC16-321B-432D-987F-2CE3464A0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55840" y="349200"/>
            <a:ext cx="714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4316-6E4D-418B-BBD8-24F36FB4B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54AD-1961-475A-8F8B-45178210E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35ED-0432-49E6-BD3E-C5239E739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9674-CC2A-4C18-83D3-106C0F6FE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03736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736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"/>
          <p:cNvGrpSpPr/>
          <p:nvPr/>
        </p:nvGrpSpPr>
        <p:grpSpPr>
          <a:xfrm>
            <a:off x="12600" y="19080"/>
            <a:ext cx="1252800" cy="1362960"/>
            <a:chOff x="12600" y="19080"/>
            <a:chExt cx="1252800" cy="1362960"/>
          </a:xfrm>
        </p:grpSpPr>
        <p:sp>
          <p:nvSpPr>
            <p:cNvPr id="5" name=""/>
            <p:cNvSpPr/>
            <p:nvPr/>
          </p:nvSpPr>
          <p:spPr>
            <a:xfrm>
              <a:off x="12600" y="19080"/>
              <a:ext cx="125280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1440" y="704880"/>
              <a:ext cx="1076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3640" y="704880"/>
              <a:ext cx="98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-2232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32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5866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s # </a:t>
            </a:r>
            <a:fld id="{3A762FFA-CA1B-4B7E-BA7C-0BF21B623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685800" y="6305400"/>
            <a:ext cx="731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152280"/>
            <a:ext cx="7315200" cy="2360880"/>
            <a:chOff x="914400" y="152280"/>
            <a:chExt cx="7315200" cy="2360880"/>
          </a:xfrm>
        </p:grpSpPr>
        <p:sp>
          <p:nvSpPr>
            <p:cNvPr id="53" name=""/>
            <p:cNvSpPr/>
            <p:nvPr/>
          </p:nvSpPr>
          <p:spPr>
            <a:xfrm>
              <a:off x="914400" y="228600"/>
              <a:ext cx="7315200" cy="21337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049760" y="152280"/>
            <a:ext cx="213768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9760" y="152280"/>
                      <a:ext cx="213768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148560" y="1539720"/>
              <a:ext cx="4993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6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492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53600" y="1871640"/>
              <a:ext cx="507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60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89728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728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812880" y="2895120"/>
            <a:ext cx="1070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-Term Care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Systems and Co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518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ine G. Williams, M.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ice of Communications and Knowledge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Trends in LTC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nancing and Servi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trying to “rebalance” LTC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tate, Federal, local resources committed for choice of services and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ultiple strategies to re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ing financing and org of delivery systems to shift funds from NH to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 occupancy rates decl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maining residents are older and more depend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4901-F0AA-44EB-884D-860862804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livery System Is Flaw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person- or family-centered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al integration of services across time, settings, and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dequate attention paid to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trained professionals and paraprofessional work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dequate information systems to evaluate quality and track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1C96-F2A6-4FD0-9ADD-DAF83AEA6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480" y="685440"/>
            <a:ext cx="6908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the Research Tells Us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2600" y="1523880"/>
            <a:ext cx="833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uld prefer to remain in the community – yet 70% of Medicaid LTC dollars spent on institutional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unmet need for LTC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15% of nursing home residents could be cared for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ederal LTC demos show expanded home care not offset by less NH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 few State studies show cost-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remains a serious issue in all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3224-A2DF-4C30-A3F2-0B79E35810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600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Fac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tate Policyma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graphic re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expenditures for L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budget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mented delivery and financ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problems in most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 for formal and informal caregivers growing – supply shr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LTC system 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1295280"/>
            <a:ext cx="4572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E21F-0DEF-4D70-9E5C-EA2A63D73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8880" y="228240"/>
            <a:ext cx="7221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Responsibility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and LTC Care for 65+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ed responsibility for ages 65-7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burden for States – over age 75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State issu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disability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not healt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s must obtain Federal waiver for community-based care – institutional care mandated as Medicaid benef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ponsibility for “dual eligibles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4170-5314-4917-BF64-998D4F9E0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5480" y="419040"/>
            <a:ext cx="7383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derly Medicaid Beneficiarie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Dual Eligible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beneficiari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ch more like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the total Medicare population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st and po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ir or poor general health/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reater need of ADL or IA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of mo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racial/ethnic minority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Medicaid enrollees – 42%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% Medicare enrollees – 42+%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3CCA-B4CA-4F99-ABBD-C191F8B18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w-Income Protectio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nder Medicar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440" y="152388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ed Medicare Beneficiary (QMB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100% pover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id pays for Medicare Part B Premium and cop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fied Low-Income Medicare Beneficiary (SLMB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-125% pover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id pays for Part B Premium on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few in the eligible population have been enro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B90E-EA29-4521-A3AF-6E07044005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caid and Persons with Disabil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9560" y="14479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derly and disabled account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Medicaid beneficiaries but 2/3 of Medicaid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million disabled qualify for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se, only 2 million are elde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er disabled increasing as a percent of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pends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 beneficia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elderly than on the disa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pends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 to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nonelderly disabled than any othe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Vladeck et al, Health Affairs, vol. 22 (1);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96F2-C2A1-42C0-86AC-1A7904E5BD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caid and Persons with Disabil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4479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divers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ly disabled children and/or ad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ly 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ly retarded/developmentally disabled (MR/D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 spending shrinking minority of total LTC $$ on younger disa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pending for disabled will continue to increase both absolutely and relative to other covered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Vladeck et al., Health Affairs,Vol 22 (1); 200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92C0-8CA3-4B9B-9BEA-5F12B57DD2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lmstead, Medicaid, and LT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lmstead vs. L.C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Supreme Court ruled that States must provide services in the “most integrated setti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olation of the Americans with Disabilities Act to provide services only in institutions if a person’s needs can be met in a community-based set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courages States to re-evaluate how they deliver publicly funded long-term care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riers to full community integration contin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ncial constraints on Medicaid in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D85B-6DE6-48E5-B08F-A6FE4C6510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Long-Term Care (LTC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520" y="1523880"/>
            <a:ext cx="76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range of personal, social, and medical supports an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persons of all ages with physical or mental impairments, who cannot function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services projected 3+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 and housing both essential to LTC policy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ed across a range of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43F-B9D2-4CF2-A167-CF23F9821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re Do Elders Recei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LTC Service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1% with ADL/IADL needs are in the commun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met need in community – 37% of ADL-impaired elderly in community need help or additional assis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ly 5% of elderly needing LTC are in N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ly of beds/occupancy rate for 75+ declined – LTC needs increasingly being met outside of nursing h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C4A3-3DC4-4460-B185-11DDFE36F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me- and Community-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d Serv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7880" y="1676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expanding HCBS options – but 70% Medicaid LTC $ still institu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, greatest increase in HCBS for younger disabled – MR and 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savings unclear – “woodwork”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st savings in HCBS – Alecxih, et al.,1996 study in Washington, Oregon, and Col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0274-E3D5-4AF6-AD30-5F7BD383FE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8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rsing Home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m Do They Serve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1676160"/>
            <a:ext cx="75819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s serve small percent of functionally impaired elderly (4-5%), but dominates LTC finan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 pop. older, more disabled, frail, cognitively impaired (50%), need more skilled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ihood of needing NH care increases dramatically with age – 50% of residents are 85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financial resources or family caregivers contributes to need for nursing hom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elderly w/LTC needs without family in N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 elderly w/LTC needs with family in N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DC76-46E0-42C1-ACDB-39A6AD1241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sted Living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sues and Future Tre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600" y="144792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est growing senior ho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facility definition/reg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available to moderate/low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upport for assisted living facilities (ALFs)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 of ALFs for demen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use for discharge – need for more care – ASPE/Hawes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ALFs rarely replace N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E225-F54A-467E-AC26-3F787AF310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349200"/>
            <a:ext cx="7307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 Are the LTC Caregiver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LTC provid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al caregiv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amily and friends – 73% women; average age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al caregiv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Nursing assistants, home care aides, personal care workers – typical worker middle-aged, single mom, little education,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percent African American, Asian, or Hispanic workers, particularly in citi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C460-D0E8-4F2C-8C1A-9926B19970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l/Informal Caregivers: Challenges and Tre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4840" y="152388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l caregivers – backbone of LTC need emotional, practical, and $$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+ States have caregiver support programs – 30 are respite care; 50% of States pay caregiv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unding for informal care is State $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LTC aide recruitment/retention major issue in most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States – wage “pass-throug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raining/career support nee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C093-808F-429D-9743-A0F6DF9AF0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in LTC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Can It Be Improv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 reform in Omnibus Budget Reconciliation Act (OBRA) ’87 – quality improvements but problems re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GAO Report – additional steps needed to strengthen enforcement of Federal quality standards in N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issues for State policymak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e staffing levels in 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payment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32CD-A2BC-4010-9FEC-A50885BEC9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2080" y="228240"/>
            <a:ext cx="6908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in LTC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Can It Be Improv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17524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 LTC difficult to defin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cal and soci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LTC populations: clients and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s clients with complex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place over extended periods with periodic use of acute and subacut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omings of existing quality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’s Nursing Home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’s Home Health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DEF7-5E26-49A7-BD7B-2D0622AC85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Term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and Options for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Time of Budget Cri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We Go From He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Y’06 Budget Proposal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lications for Sta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$60 billion savings in Medicaid over 1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Freedom Initiative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lexibility for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follows the person rebalancing 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on Medicaid funding for optional servi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FF42-875B-49F0-A2EB-60571A311F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7440" y="457200"/>
            <a:ext cx="7645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Is the Need for LTC Defin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LTC is def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ing help with Activities of Daily Living (ADLs): eating, bathing, dressing, toileting, transferring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al Activities of Daily Living (IADLs): meal preparation, shopping, managing money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with cognitive impair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zheimer’s and related dement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A3F6-4DEC-4D33-8917-5D882B39E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5480" y="419040"/>
            <a:ext cx="7383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ree Broad State Strategies to Control LTC Spend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 delivery system to provide care more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acute and LTC: managed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private and Federal re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Medicaid eligibility, reimbursement, an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0F4A-DDF2-44D6-9F0C-53D84753A4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uild Community Op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4480" y="16765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- and community-based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Medicaid 1915(c) wa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Changes for Community Living grants – CMS (HCFA*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mstead – impact on HC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t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 da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7680" y="5900760"/>
            <a:ext cx="33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ormerly Health Care Financing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A17E-842E-4AC0-B33E-F16BA7B0B4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port Informal Caregiv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80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t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 cr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of services funded by Older Americans Act and Medicaid waiver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$ to informal caregiv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969A-6717-4983-84AF-02E81430F7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ruit and Retai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l LTC Workfor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2520" y="167652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“wage pass-through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worker fring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career lad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and improve training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new worker pools including former welfare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spring model of quality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8146-7471-4F1D-9710-8C78D929D6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port Consumer Dir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167652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 driven by younger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mits person to arrange own care; spend as sees fit, allows hiring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bert Wood Johnson Foundation (RWJ)/CMS cash and counseling de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educe unmet n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e or lower public 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satisf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K, NJ, F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ependence Plus Waiver – FL, LA, SC, N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7629-E453-481D-A1DF-CBF1B42A2C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Private/Federal $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vate LTC Insura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f private LTC insurance unknow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%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income likely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ost of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may depend on development of employer-based group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Claimant Stud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PE/RW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Employees Health Benefits Program (FEHBP) LTC insurance benefit –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State offerings – MI, M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74CC-181B-40DA-9DF0-D26B1DD65F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ucate Boomers About LT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sts of LTC: Public Perceptions vs. Reality” – AARP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1680" indent="-30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estimat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1680" indent="-30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ly think their insurance covers L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1680" indent="-30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believe Medicare covers L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al about need for L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mers need to plan for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9E02-32E9-4D29-9CFD-30658ED4C2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llmarks of 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rehensive LTC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6360" y="1676160"/>
            <a:ext cx="78055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y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tate organization responsible for all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multiple funding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appropriation for Medicaid LT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lined functional and financial elig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entry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assessment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Mollica and Reinhard, Recommendations of State policy leaders,    RWJ funded,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F832-9DDB-4CA5-AB2B-C5FA901A8D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llmarks of a Comprehens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TC System (cont’d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array of in-home, residential, and institutio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nd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-directe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coordinators assigned to NH to assist with re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 and improvement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of health and LT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FD74-AD6E-46AA-93F5-51B7F19DCC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Innovations in LTC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lidate State LTC programs and dollars in single State agenc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 and N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 consumer dire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K, NJ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appropriation for Medicaid LTC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, MD, W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pt assessment and care management practices to target resources to most in n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F98A-8FD2-47BE-8CDD-51D728D7C7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Is Most Likely to Need LTC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affected by age, gender, race/ethnicity, and marital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increases with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increase in physical and cognitive disability over age 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higher amo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higher among those living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5209-375B-406D-9F91-1D49A3BAF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5840" y="380520"/>
            <a:ext cx="71467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Innovations in LT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e and Oreg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duce NH utilization – increase home care and residential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xas and Minnesota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grates LTC and acute care services and financing in managed care (Everc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scon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amily Care Program, comprehensive entry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EBE3-8751-47A7-8110-42D9CF6288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Tre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 likely to continue as patchwork of public and privat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will continue as primary public funding – wide State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continue to expand HC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expand consumer direction through Medicaid and State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 strategies for incremental re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09FD-0EA1-4B82-A1E5-BF557FAC66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5840" y="380520"/>
            <a:ext cx="71467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mographics of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TC Popu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7% needing LTC are over 65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7% of elderly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are adults 18-64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.3 million = 2.1%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children = 400,000 (Nat’l Academy on Aging l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1E80-CEDF-4E28-A98D-68D9CE60F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759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omers turn 65 in 7 Years!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82440" y="1447920"/>
            <a:ext cx="755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ability declining by 1% per yea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2000-2030, 65+ = 35 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71 millio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2.4% </a:t>
            </a: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20% of total popul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pulations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Trip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– 85+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65+ in nursing homes (NH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65+ with AD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cial/ethnic diversity – disability highe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men outlive men, yet more disabl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wer informal caregivers: smaller families, divorce, childlessn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4AFF-F6F5-4CBF-9E0A-A6A5975E1B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Oldest Old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Fastest Growing Age Grou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ges 85+ have the highest rates of disability – their numbers will increase by 31% by 20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impairment – Alzheimer's and related dementias – increases dramatically with increasing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half of all NH residents have some form of demen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91C2-1205-422A-A96D-0A33C4EB1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TC: How Is It Financ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C financing is a patchwork of public (Federal, State, local) and private doll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largest payer – 43%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pocket spending – 2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– 1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TC insurance – 4 -1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 estimates value of informal caregiving up to $200 billion annually – 80% at home rely ONLY on unpaid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45BF-1489-4C0C-9358-4DEE0E823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caid Spending Trends for LT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2600" y="1828440"/>
            <a:ext cx="79916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dicaid spending grew 105%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3-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nding for home and community-based services (HCBS) grew 56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Y’03 Medicaid LTC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44.8B – 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27.8B –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1.3B – intensive care facilities/mentally retarded (ICF/M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854440"/>
            <a:ext cx="4572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E096-0DA0-42A7-9DDD-3EB7407942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Cheryl Bell</cp:lastModifiedBy>
  <cp:lastPrinted>2003-01-21T20:19:23Z</cp:lastPrinted>
  <dcterms:modified xsi:type="dcterms:W3CDTF">2005-03-21T16:16:11Z</dcterms:modified>
  <cp:revision>116</cp:revision>
  <dc:subject/>
  <dc:title>AHRQ Slide Template 2004</dc:title>
</cp:coreProperties>
</file>