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3.png" ContentType="image/pn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F976-3FE2-48A1-97BB-80CD0618B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ECB9-C2A7-4E78-9124-F53FA22D6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- including guaranteed issue, renewability, portability requirements, and premium rate restriction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us, we focused on two groupings of states:  our 16 study states and the other 34 stat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B378-82FC-482E-8E29-D104C0B3E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e only included states which had passed insurance market reforms in BOTH the small-employer and individual insurance markets.  Also, we only included states which had implemented a complete package of regul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4A9-9573-4344-A268-6997C53FC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ven more striking, when we compare the pre-reform annual growth in the uninsured with the post-reform growth we find that in 1990 all three groups experienced a comparable increase in their uninsured population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 1996, after passing reforms designed to decrease the number of uninsured - the 16 regulatory states experienced an average annual growth rate in their uninsured population of 8.1% versus only a 1.0% increase in the other 34 states!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 1996, these 16 most regulatory states experienced an average eight-fold increase in the size of their uninsured population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6D50-0647-45C7-96B9-5FCDD95D6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40FA-B70F-4785-BCF2-E8057DA6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116F-A976-4C37-BBEF-4735F397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6AD8-9A05-468C-A516-CAD47AA0A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ost of an individual health policy for workers in 2002 was $3,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D30-5F94-40C5-89C6-544963293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menos, Vivius, Aetna, Hum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ules:  HRAs and HIFA, Independence Init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ograms:  Tax credi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9C13-8AD3-42E6-89FB-9E17913DE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e began this descriptive study to answer the question - using a common sense approach - do insurance market regulations achieve their stated goals?  In other words, do we see a decrease in the number of uninsured citizens and an increase in private insurance coverage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6433-0F03-4B40-A47F-CBA1CE5C8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3092-4549-4F0C-93FD-7B0EBAC20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2282-400E-4ECF-AF61-4ED4AA4CB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AB6C-5AD1-4D3E-A8A3-ED884E458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A638-C542-43A9-A609-476F19B35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7813-C32C-4F5B-94B9-84FB8EE19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5B55-EB88-4B14-9FEF-66BDCBB55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FEDA-D592-4E6A-8E38-F3813AECE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E984-0EC9-4A5E-A357-27F3BF57B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997D-3573-451F-9238-0B53D861F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6CB4-43EF-47C9-AFAA-47E64B337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7E7C-C89F-435C-9A83-30CAB7C52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1"/>
          </p:nvPr>
        </p:nvSpPr>
        <p:spPr>
          <a:xfrm>
            <a:off x="6095520" y="6324120"/>
            <a:ext cx="25909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er # </a:t>
            </a:r>
            <a:fld id="{C7BB994F-70D5-41FC-A2B3-9004956275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cms.hhs.gov/statistics/nhe/projections-2003/t3.asp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www.mercerhr.com/knowledgecenter/reportsummary.jhtml?idContent=1051300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The Uninsured and the Health Care Safety Net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race-Marie Turner, Ph.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Galen Institute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lexandria, 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20220"/>
          <a:stretch/>
        </p:blipFill>
        <p:spPr>
          <a:xfrm>
            <a:off x="5791320" y="3200400"/>
            <a:ext cx="2227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surance regulation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d iss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d renew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dated benef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existing condition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8E60-A18D-4C7F-9FF5-8F82529A10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AO identified 16 States that passed these insurance regulations in the early- and mid-199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8DE3-DEF5-4101-B34F-37DD23FA73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Annual growth rate in number of uninsured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8080" y="3232080"/>
            <a:ext cx="645840" cy="2138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60680" y="3554280"/>
            <a:ext cx="646200" cy="1816200"/>
          </a:xfrm>
          <a:prstGeom prst="rect">
            <a:avLst/>
          </a:prstGeom>
          <a:solidFill>
            <a:srgbClr val="00d6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1880" y="3367080"/>
            <a:ext cx="644760" cy="2003400"/>
          </a:xfrm>
          <a:prstGeom prst="rect">
            <a:avLst/>
          </a:prstGeom>
          <a:solidFill>
            <a:srgbClr val="b82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65320" y="2735280"/>
            <a:ext cx="1052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6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70240" y="3057480"/>
            <a:ext cx="1141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59320" y="2739960"/>
            <a:ext cx="1052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.1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2360" y="1701720"/>
            <a:ext cx="0" cy="3673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52360" y="5394240"/>
            <a:ext cx="750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83120" y="1623960"/>
            <a:ext cx="640080" cy="3746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81760" y="4890960"/>
            <a:ext cx="638280" cy="479520"/>
          </a:xfrm>
          <a:prstGeom prst="rect">
            <a:avLst/>
          </a:prstGeom>
          <a:solidFill>
            <a:srgbClr val="00d62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37560" y="4095720"/>
            <a:ext cx="639720" cy="1257480"/>
          </a:xfrm>
          <a:prstGeom prst="rect">
            <a:avLst/>
          </a:prstGeom>
          <a:solidFill>
            <a:srgbClr val="b82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5504040"/>
            <a:ext cx="323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6480" y="5486400"/>
            <a:ext cx="331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75200" y="1363680"/>
            <a:ext cx="66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1400" y="1143000"/>
            <a:ext cx="14065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.1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4361040"/>
            <a:ext cx="1303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88160" y="3565440"/>
            <a:ext cx="1082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.7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2440" y="4869000"/>
            <a:ext cx="8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51000" y="485316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4834080"/>
            <a:ext cx="103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5640" y="4834080"/>
            <a:ext cx="982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23000" y="4834080"/>
            <a:ext cx="89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21640" y="4818240"/>
            <a:ext cx="84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86728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nsured Rates Rise Dramatically in States with Strictest Health Insurance Regulations,” Arnett GM, Schriver ML. The Heritage Foundation 1998. http://www.galen.org/statehealth.asp?docID=17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7360" y="541008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 of St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-1257120" y="331344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% growth rate in number of uninsu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6BFE-36E8-4FDA-8944-97C43AE52F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Expanding access to the uninsured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is it so hard for the States to solve this probl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B7A6-24F8-42B0-9E81-B64EDF333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tax treatment of health insurance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uge Federal subsidy that discriminates against lower-income, working Americans who are most likely to b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9FBE-BCCD-4D8F-8277-4BE7498C93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2120" y="152280"/>
            <a:ext cx="778644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w income families hard to reach with job-based cover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68560" y="4003560"/>
            <a:ext cx="1218960" cy="1346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97360" y="2378160"/>
            <a:ext cx="1218960" cy="2971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1400" y="5343480"/>
            <a:ext cx="196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ss th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$25,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69920" y="5345280"/>
            <a:ext cx="1561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v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$75,00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82520" y="3470400"/>
            <a:ext cx="1570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8480" y="1752480"/>
            <a:ext cx="1598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2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02120" y="3013200"/>
            <a:ext cx="3841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sons with job-based health insurance, by inco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5640" y="56800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97560" y="4842000"/>
            <a:ext cx="41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.S. Census Bureau, Current Population Survey, 2004 Annual Social and Economic Supplement. Table HI01. Health Insurance Coverage Status and Type of Coverage by Selected Characteristics: 2003 (All Rac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ABCF-F2BE-4331-AA77-8ADF31AE6F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982880"/>
            <a:ext cx="23623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pulation under age 65 wi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co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31200" y="554184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78200" y="558792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75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89320" y="5649840"/>
            <a:ext cx="160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5800" y="2909880"/>
            <a:ext cx="1808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42 M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Unins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081240" y="1371600"/>
            <a:ext cx="5700960" cy="4145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586728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ceptual depiction based upon the logo of the Galen Institu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Galen Gap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213A-FDA0-46FE-BCDC-B1D77B83AF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Getting to the root of the problem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ce controls in World War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724280" y="1752480"/>
          <a:ext cx="4038840" cy="339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752480"/>
                    <a:ext cx="403884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8E42-E1C4-4674-92DC-2304553221C9}" type="slidenum">
              <a:t>17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1943: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ealth insurance to boost pay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638600" cy="38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ers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ge and price controls cap p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insurance offered inst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insurance becomes job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57680" y="2130480"/>
          <a:ext cx="4011480" cy="34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57680" y="2130480"/>
                    <a:ext cx="4011480" cy="34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FD17-2540-4C35-BA29-D15F4D250845}" type="slidenum">
              <a:t>18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ixty years and $1 trillion later..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$189 billion annual tax subsidy that i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9709-36CB-4069-9A11-452661DFC3E4}" type="slidenum">
              <a:t>19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he U.S. health care system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s in troubl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ing insurance costs threaten coverage for ma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s ar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ethora of rules, regulations, fines, penalties govern the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13B0-13A3-4005-A7B5-45A9822106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people to think health insurance is a gift from employers, not part of their pay, as i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of health care drive up costs by demanding more expensive coverage without seeing the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costs drive more and more people out of the market for health insurance, especially low-income workers/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373C-FDAB-4F3D-A03F-844DB4B7B9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967040" y="1447920"/>
            <a:ext cx="5709960" cy="4152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836800" y="3178080"/>
            <a:ext cx="372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38320" y="3579840"/>
            <a:ext cx="490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27480" y="4672080"/>
            <a:ext cx="666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90960" y="4092480"/>
            <a:ext cx="604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080" y="566424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54480" y="569268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75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08400" y="5737320"/>
            <a:ext cx="160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ressure for Government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o fill the gap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E81E-E36D-4944-82C9-9462E2C0F4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fresh idea: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e new, fairer subsidies for health insu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x credits for the uninsured to purchase health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ts are “refundable” and “advanc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new help for those shut out of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fairness in subsidizing insur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48640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owering Health Care Consumers through Tax Reform,” Grace-Marie Arnett, Ed. University of Michigan Press, Ann Arbor. September 1999. http://www.galen.org/book.as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Pauly and Bradley Herring. “Expanding Coverage Via Tax Credits: Trade-Offs and Outcomes,” Health Affairs, January/February 2001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C0D1-C7F0-4C50-8026-C52748C137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he uninsured will need new places to purchase coverag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 with new subsidies will need new places to buy health insurance, outside the workplace, to get group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 unions, professional organizations, churches, and other affinity groups could offer insurance as a member bene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nsurance would be portable from job to job and provide more continuity in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8A38-54B3-4438-A5F6-653C6A3CF2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Bipartisan agreemen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credits for the unin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urchasing pool arrang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olling those eligible for Medicaid and SC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ining efficiencies through health information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5011560" y="1676520"/>
            <a:ext cx="3516480" cy="3809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85800" y="571500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 assessment of general agreement based upon joint publications and position papers by political leaders, including President Bush, Senator Kerry, Senator Frist, Senator Clinton, et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4230-0193-412B-8E78-7616AE149B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ublic sector innovation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ary Leavitt will support greater use of 115 waivers for Medicaid to expand o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Jeb Bush of Florida wants to bring competition and choice into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 Carolina offers Medicaid Health Savings Account (HSA) 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York State’s reinsuranc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’s DirigoChoice for small busi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83818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9DD8-8061-4DB5-A9A9-48327F23CF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A new conversa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ease manag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alue in medic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eater access to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sumer input into care cho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5638680" y="1752480"/>
            <a:ext cx="304812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4197-2C4C-47FD-9A20-904F8D3FDD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are management programs have demonstrated succes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rida’s Cash and Counseling programs  give the disabled more choice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tney-Bowes’ positive experience in direct care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sheville Project provides care for chronic conditions like diabetes, asthma, and heart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002F-ACC1-4D1A-8B8D-50FAB5B514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ome options for the Stat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one-third of new purchasers of HSAs were previously uninsu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ing HSAs can help some citizens to get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5410080"/>
            <a:ext cx="8686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Savings Accounts: The First Year in Review,” eHealthInsurance, February 15, 200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resa Chovan and Hannah Yoo. “Health Savings Accounts Off to a Fast Start in the Individual Market,” America’s Health Insurance Plans, January 12, 200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E59D-A5DB-40D5-926A-674D3AAE76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SA overview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As allow individuals, employers, or employees to deposit tax-free money into a special account to pay for current and future medical expen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roll over from year to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 must have a “high-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ble health plan” to open a H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9518-EDFF-417C-9267-BAC82C45A8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2004 U.S. health expenditures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(estimated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ta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$1.8 trill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5% of GD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t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984 bill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5% of tot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810 bill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% of to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30760" y="5622840"/>
            <a:ext cx="610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6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cms.hhs.gov/statistics/nhe/projections-2003/t3.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5C70-7884-4F8C-AA77-BC200CD4306A}" type="slidenum">
              <a:t>3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ne example of an HSA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19440" y="4419720"/>
            <a:ext cx="190512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19440" y="1752480"/>
            <a:ext cx="1905120" cy="201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4572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809880" y="441900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$1,000 depos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62480" y="1676520"/>
            <a:ext cx="2219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4114800"/>
            <a:ext cx="28195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oyer, employee, or individual makes deposit to HSA. Unspent funds roll over to next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64360" y="4267080"/>
            <a:ext cx="2448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s routine health spending. Preventive care exemp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64360" y="2133720"/>
            <a:ext cx="2651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astrophic coverage + preventive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695760" y="2510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deductible ins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76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500 deduc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4876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259092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487692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2B32-D2D0-476F-AB8A-24610FE20F6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SA options for the Stat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ing the HSA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 State tax deduction for deposits to H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State tax deductibility for conforming health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cross-State purchase of health ins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benefit option for State employees to save State funds on health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96F3-C7E8-4DD1-B52F-9036C3ECFD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ther State respons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new State mandates and regulations that drive up costs and reduce ch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Medicaid and SCHIP $$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better managing chronic care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value, not just cuttin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incentives for patients to stretch doll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private-public partnerships to strengthen the safety 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community health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E799-A2F5-45E3-BA50-118CE95DA7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What is the new world about?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tient contr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nsumers will have more choices in health insurance arran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st visibi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They will be more price conscious in shopping for insurance and some medical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vings incen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Consumers have more incentive to get the best product, service, and value for their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960C-1EEC-4850-A72D-5B5132F1F54D}" type="slidenum">
              <a:t>33</a:t>
            </a:fld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next big thing…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choice in health care and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10120" y="1828800"/>
            <a:ext cx="3144960" cy="38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6568-4382-4AE3-BAA6-3F430D1A78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8" dur="indefinite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goal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gaging consumers as partners rather than adversaries in managing health costs and getting the best value for health care doll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9C1A-0883-46EF-BE49-B82A1EF99E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2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For more informa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ce-Marie T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en Instit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galen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703) 299-8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cemarie@galen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286560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897C-3C30-47A7-A4D2-27B605BB07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ost concerns drive debate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144792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57200" y="5334120"/>
            <a:ext cx="8686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4 Mercer U.S. National Employer-Sponsored Health Plans Survey,” Mercer Human Resources, November 22, 2004. </a:t>
            </a:r>
            <a:r>
              <a:rPr b="0" lang="en-US" sz="11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mercerhr.com/knowledgecenter/reportsummary.jhtml?idContent=105130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U.S. Department of Labor, Bureau of Labor Statistics. Consumer Price Index. January 19, 2005. ftp://ftp.bls.gov/pub/special.requests/cpi/cpiai.tx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EBAD-EAC3-4485-A397-89BAAAC8D9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Does the U.S. spend too much or too little on health care?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523880"/>
          <a:ext cx="8207280" cy="42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23880"/>
                    <a:ext cx="8207280" cy="42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579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bert Blendon and John Benson.  “Americans’ Views on Health Policy”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Health Affair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March/April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08EC-421A-492F-871A-A52C2BE8B2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onsumers pay 15% of cost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68360" y="1523880"/>
          <a:ext cx="820728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23880"/>
                    <a:ext cx="820728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85800" y="58672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fice of the Actuary, Centers for Medicare and Medicaid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ED5A-AF9C-4BA2-A456-9FB723CB4F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aiser benefits study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iums now average $3,383 for single coverage and $9,068 for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 contributions were stable for singles (at $508) and rising 13% for families (to $2,4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8672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aiser 2003 Employer Health Benefit Surv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C556-1092-4852-BC5B-652BE429CF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ost drivers for health insuranc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health care 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edical advances,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ing provider expe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mandates and reg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nsumer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igation and defensive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08756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ud and abu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59436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ceWaterhouseCoopers 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7DF9-F59C-40F3-9D49-D7BA6CDA6C12}" type="slidenum">
              <a:t>8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Research questio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State health insurance regula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duce costs and increase acc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health insuranc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E031-6AB6-485B-AC44-F6263668B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26:33Z</dcterms:created>
  <dc:creator>Grace-Marie Turner</dc:creator>
  <dc:description/>
  <cp:keywords/>
  <dc:language>en-US</dc:language>
  <cp:lastModifiedBy>Cheryl Bell</cp:lastModifiedBy>
  <dcterms:modified xsi:type="dcterms:W3CDTF">2005-03-25T15:24:57Z</dcterms:modified>
  <cp:revision>2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33</vt:lpwstr>
  </property>
</Properties>
</file>