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3.png" ContentType="image/png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20B6-E97D-4F03-A8B9-6DA5BDEC1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A43D-0735-4D25-818E-D84183E54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- including guaranteed issue, renewability, portability requirements, and premium rate restriction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us, we focused on two groupings of states:  our 16 study states and the other 34 state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550B-44BB-44C5-B53D-383D62E35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e only included states which had passed insurance market reforms in BOTH the small-employer and individual insurance markets.  Also, we only included states which had implemented a complete package of regul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5EFE-3D75-4D10-819E-DB386B669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Even more striking, when we compare the pre-reform annual growth in the uninsured with the post-reform growth we find that in 1990 all three groups experienced a comparable increase in their uninsured population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 1996, after passing reforms designed to decrease the number of uninsured - the 16 regulatory states experienced an average annual growth rate in their uninsured population of 8.1% versus only a 1.0% increase in the other 34 states!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 1996, these 16 most regulatory states experienced an average eight-fold increase in the size of their uninsured populations!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9050-74F5-4180-9E22-663DAEFE1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FAC7-FC8C-4FC5-BEE2-03F84738C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446C-EA49-4DBE-A825-F30682D64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C419-AB10-4642-A919-BDC89D06F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cost of an individual health policy for workers in 2002 was $3,0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25DB-4A19-4E0E-9169-C572E5B0B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menos, Vivius, Aetna, Hum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ules:  HRAs and HIFA, Independence Initi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ograms:  Tax credi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8F05-2B3D-44E6-B30E-9585FF216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e began this descriptive study to answer the question - using a common sense approach - do insurance market regulations achieve their stated goals?  In other words, do we see a decrease in the number of uninsured citizens and an increase in private insurance coverage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2A42-FF63-4EE9-9B84-6953ED9FE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34FF-0FBB-4E5C-B9AC-13A976396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2C0C-05D7-4255-B1F7-2D9E32B71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3DCC-A7FB-41F5-9078-E593C0FEF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C84B-2A6B-4809-9F62-D40E1D97C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5757-B8B7-4541-A945-6773C2F10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B098-5AEE-4013-812D-077A67BF2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B58F4-3F60-40D9-B995-3C55E198E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EF0F-15F2-438D-A0F2-5C8BAC943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1F548-D01B-471E-BF88-E7D6359E0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5F0C-4E2F-419A-89A7-37B1C1DB7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0C3B-7DA8-4DD6-89F3-29AEF58BD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1"/>
          </p:nvPr>
        </p:nvSpPr>
        <p:spPr>
          <a:xfrm>
            <a:off x="6095520" y="6324120"/>
            <a:ext cx="25909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ner # </a:t>
            </a:r>
            <a:fld id="{D4299BA0-F9A5-477A-B3F7-06B502799D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cms.hhs.gov/statistics/nhe/projections-2003/t3.asp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mercerhr.com/knowledgecenter/reportsummary.jhtml?idContent=1051300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The Uninsured and the Health Care Safety Net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62120" y="3505320"/>
            <a:ext cx="548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Grace-Marie Turner, Ph.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es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Galen Institute,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lexandria, V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20220"/>
          <a:stretch/>
        </p:blipFill>
        <p:spPr>
          <a:xfrm>
            <a:off x="5791320" y="3200400"/>
            <a:ext cx="2227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nsurance regulation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aranteed issu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aranteed renew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 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dated benefi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existing condition ex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7B017-C13B-4728-91B1-2CA65A3D62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AO identified 16 States that passed these insurance regulations in the early- and mid-199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A32F-DFBB-44DD-A751-828DA7865E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Annual growth rate in number of uninsured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8080" y="3232080"/>
            <a:ext cx="645840" cy="2138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60680" y="3554280"/>
            <a:ext cx="646200" cy="1816200"/>
          </a:xfrm>
          <a:prstGeom prst="rect">
            <a:avLst/>
          </a:prstGeom>
          <a:solidFill>
            <a:srgbClr val="00d6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01880" y="3367080"/>
            <a:ext cx="644760" cy="2003400"/>
          </a:xfrm>
          <a:prstGeom prst="rect">
            <a:avLst/>
          </a:prstGeom>
          <a:solidFill>
            <a:srgbClr val="b82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65320" y="2735280"/>
            <a:ext cx="1052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6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70240" y="3057480"/>
            <a:ext cx="1141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.9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59320" y="2739960"/>
            <a:ext cx="1052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1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52360" y="1701720"/>
            <a:ext cx="0" cy="3673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52360" y="5394240"/>
            <a:ext cx="750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83120" y="1623960"/>
            <a:ext cx="640080" cy="3746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81760" y="4890960"/>
            <a:ext cx="638280" cy="479520"/>
          </a:xfrm>
          <a:prstGeom prst="rect">
            <a:avLst/>
          </a:prstGeom>
          <a:solidFill>
            <a:srgbClr val="00d6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37560" y="4095720"/>
            <a:ext cx="639720" cy="1257480"/>
          </a:xfrm>
          <a:prstGeom prst="rect">
            <a:avLst/>
          </a:prstGeom>
          <a:solidFill>
            <a:srgbClr val="b82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5504040"/>
            <a:ext cx="32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16480" y="5486400"/>
            <a:ext cx="331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75200" y="1363680"/>
            <a:ext cx="66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21400" y="1143000"/>
            <a:ext cx="1406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.1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4361040"/>
            <a:ext cx="1303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88160" y="3565440"/>
            <a:ext cx="1082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.7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52440" y="4869000"/>
            <a:ext cx="86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51000" y="485316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3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4834080"/>
            <a:ext cx="103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05640" y="4834080"/>
            <a:ext cx="982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23000" y="4834080"/>
            <a:ext cx="897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3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21640" y="4818240"/>
            <a:ext cx="84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867280"/>
            <a:ext cx="800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nsured Rates Rise Dramatically in States with Strictest Health Insurance Regulations,” Arnett GM, Schriver ML. The Heritage Foundation 1998. http://www.galen.org/statehealth.asp?docID=17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47360" y="541008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# of St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-1257120" y="331344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 growth rate in number of uninsu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2530-6482-4A01-AB23-02D53170E0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Expanding access to the uninsured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is it so hard for the States to solve this proble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A040E-0E02-4DCD-9693-EBEA677980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The tax treatment of health insurance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uge Federal subsidy that discriminates against lower-income, working Americans who are most likely to be unins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6494-FF7D-48C5-9A6F-A013A823A7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25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62120" y="152280"/>
            <a:ext cx="7786440" cy="16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w income families hard to reach with job-based cover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68560" y="4003560"/>
            <a:ext cx="1218960" cy="1346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97360" y="2378160"/>
            <a:ext cx="1218960" cy="2971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1400" y="5343480"/>
            <a:ext cx="196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ss tha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$25,00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69920" y="5345280"/>
            <a:ext cx="1561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v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$75,00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82520" y="3470400"/>
            <a:ext cx="1570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3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68480" y="1752480"/>
            <a:ext cx="1598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82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02120" y="3013200"/>
            <a:ext cx="38419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sons with job-based health insurance, by incom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35640" y="56800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97560" y="4842000"/>
            <a:ext cx="41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.S. Census Bureau, Current Population Survey, 2004 Annual Social and Economic Supplement. Table HI01. Health Insurance Coverage Status and Type of Coverage by Selected Characteristics: 2003 (All Rac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315C-12EA-4515-8D9B-B1B00A9F2D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430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1982880"/>
            <a:ext cx="236232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pulation under age 65 wit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 cove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31200" y="5541840"/>
            <a:ext cx="58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78200" y="5587920"/>
            <a:ext cx="128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75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89320" y="5649840"/>
            <a:ext cx="1607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5800" y="2909880"/>
            <a:ext cx="18082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42 Mil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Unins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081240" y="1371600"/>
            <a:ext cx="5700960" cy="4145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586728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ceptual depiction based upon the logo of the Galen Institut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The Galen Gap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0821-B536-4BA6-8245-0BDCA16AE7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Getting to the root of the problem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384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ce controls in World War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724280" y="1752480"/>
          <a:ext cx="4038840" cy="339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752480"/>
                    <a:ext cx="403884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AC6D-0E91-4926-8BC9-1C5346D4943C}" type="slidenum">
              <a:t>17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1943: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ealth insurance to boost pay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4638600" cy="38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kers are sca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ge and price controls cap p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 insurance offered inst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 insurance becomes job-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57680" y="2130480"/>
          <a:ext cx="4011480" cy="34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57680" y="2130480"/>
                    <a:ext cx="4011480" cy="34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2F70-46B9-4140-BF76-7D11730FA365}" type="slidenum">
              <a:t>18</a:t>
            </a:fld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ixty years and $1 trillion later...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$189 billion annual tax subsidy that is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ffic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res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rimina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4B12-93F4-498B-B0AA-2C0F03F6C6CA}" type="slidenum">
              <a:t>19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he U.S. health care system 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is in trouble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ing insurance costs threaten coverage for ma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lions are unins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ethora of rules, regulations, fines, penalties govern the 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0C96-14A5-4287-B957-DAB093D068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s people to think health insurance is a gift from employers, not part of their pay, as i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s of health care drive up costs by demanding more expensive coverage without seeing the pr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er costs drive more and more people out of the market for health insurance, especially low-income workers/fami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66C7-B024-4EE6-A502-3CB8B2A709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967040" y="1447920"/>
            <a:ext cx="5709960" cy="41529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836800" y="317808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38320" y="3579840"/>
            <a:ext cx="490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27480" y="4672080"/>
            <a:ext cx="666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90960" y="4092480"/>
            <a:ext cx="604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080" y="5664240"/>
            <a:ext cx="58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54480" y="5692680"/>
            <a:ext cx="128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75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08400" y="5737320"/>
            <a:ext cx="1607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ressure for Government 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o fill the gap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6070-EE4D-4592-A952-73318E6939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fresh idea: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eate new, fairer subsidies for health insura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x credits for the uninsured to purchase health ins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dits are “refundable” and “advance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new help for those shut out of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w fairness in subsidizing insura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48640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owering Health Care Consumers through Tax Reform,” Grace-Marie Arnett, Ed. University of Michigan Press, Ann Arbor. September 1999. http://www.galen.org/book.as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 Pauly and Bradley Herring. “Expanding Coverage Via Tax Credits: Trade-Offs and Outcomes,” Health Affairs, January/February 2001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9A4A-0700-4DBE-A8DE-B3B1E28507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he uninsured will need new places to purchase coverage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s with new subsidies will need new places to buy health insurance, outside the workplace, to get group 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 unions, professional organizations, churches, and other affinity groups could offer insurance as a member benef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nsurance would be portable from job to job and provide more continuity in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6C8D-8743-40A0-ADA0-298ED1C483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Bipartisan agreemen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 credits for the uninsu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purchasing pool arrang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rolling those eligible for Medicaid and SC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ining efficiencies through health information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5011560" y="1676520"/>
            <a:ext cx="3516480" cy="38098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85800" y="571500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 assessment of general agreement based upon joint publications and position papers by political leaders, including President Bush, Senator Kerry, Senator Frist, Senator Clinton, etc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C9521-3DC2-4060-A242-B9D65056A6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Public sector innovation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retary Leavitt will support greater use of 115 waivers for Medicaid to expand o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or Jeb Bush of Florida wants to bring competition and choice into Medic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th Carolina offers Medicaid Health Savings Account (HSA) o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York State’s reinsuranc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e’s DirigoChoice for small busin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457200" y="4343400"/>
            <a:ext cx="83818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7561-FD2D-4F7C-BB2C-2A8EEEFFEE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A new conversation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ease manage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alue in medical c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reater access to inform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re consumer input into care cho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5638680" y="1752480"/>
            <a:ext cx="3048120" cy="426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D948-4041-447A-A015-74C4A0B0CD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are management programs have demonstrated succes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rida’s Cash and Counseling programs  give the disabled more choice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tney-Bowes’ positive experience in direct care manag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sheville Project provides care for chronic conditions like diabetes, asthma, and heart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1090B-0329-451C-993B-B474A7C0442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me options for the State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one-third of new purchasers of HSAs were previously uninsur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ing HSAs can help some citizens to get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5410080"/>
            <a:ext cx="8686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 Savings Accounts: The First Year in Review,” eHealthInsurance, February 15, 200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resa Chovan and Hannah Yoo. “Health Savings Accounts Off to a Fast Start in the Individual Market,” America’s Health Insurance Plans, January 12, 200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9613-AAA2-4691-8315-799504BC526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SA overview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As allow individuals, employers, or employees to deposit tax-free money into a special account to pay for current and future medical expen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ings roll over from year to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s must have a “high-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ductible health plan” to open a H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535B-15BC-4D31-9240-E08D5FFC4E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2004 U.S. health expenditures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(estimated)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ta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$1.8 trill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5% of GD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t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984 bill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5% of tot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810 bill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% of to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30760" y="5622840"/>
            <a:ext cx="610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0" lang="en-US" sz="16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http://www.cms.hhs.gov/statistics/nhe/projections-2003/t3.as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C131-DD0B-490E-93D4-8319CB81FFFE}" type="slidenum">
              <a:t>3</a:t>
            </a:fld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ne example of an HSA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19440" y="4419720"/>
            <a:ext cx="1905120" cy="144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19440" y="1752480"/>
            <a:ext cx="1905120" cy="201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760" rIns="4572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809880" y="441900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$1,000 depos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62480" y="1676520"/>
            <a:ext cx="2219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4114800"/>
            <a:ext cx="28195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oyer, employee, or individual makes deposit to HSA. Unspent funds roll over to next ye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64360" y="4267080"/>
            <a:ext cx="2448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ds routine health spending. Preventive care exemp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64360" y="2133720"/>
            <a:ext cx="2651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tastrophic coverage + preventive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695760" y="2510280"/>
            <a:ext cx="17524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deductible insu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576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$500 deduct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48769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38680" y="2590920"/>
            <a:ext cx="609840" cy="304560"/>
          </a:xfrm>
          <a:prstGeom prst="leftArrow">
            <a:avLst>
              <a:gd name="adj1" fmla="val 50000"/>
              <a:gd name="adj2" fmla="val 5005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4876920"/>
            <a:ext cx="609840" cy="304560"/>
          </a:xfrm>
          <a:prstGeom prst="leftArrow">
            <a:avLst>
              <a:gd name="adj1" fmla="val 50000"/>
              <a:gd name="adj2" fmla="val 5005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9CE3-7925-410D-A851-8BE786C3FC1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SA options for the State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ing the HSA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a State tax deduction for deposits to HS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State tax deductibility for conforming health in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cross-State purchase of health in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w benefit option for State employees to save State funds on health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CBFE-C885-4C52-9526-A693F958B8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ther State response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new State mandates and regulations that drive up costs and reduce ch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Medicaid and SCHIP $$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better managing chronic care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value, not just cuttin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incentives for patients to stretch doll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private-public partnerships to strengthen the safety 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 community health ce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7946-5E53-457C-AF0D-765C82D7C0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What is the new world about?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tient contr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Consumers will have more choices in health insurance arrang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st visibil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They will be more price conscious in shopping for insurance and some medical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avings incenti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Consumers have more incentive to get the best product, service, and value for their 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8C0D-2EDE-4DA3-94EE-E0548388DCF1}" type="slidenum">
              <a:t>33</a:t>
            </a:fld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The next big thing…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 choice in health care and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010120" y="1828800"/>
            <a:ext cx="3144960" cy="386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7548-C9F9-4D79-AFFC-43406DB4738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88" dur="indefinite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The goal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gaging consumers as partners rather than adversaries in managing health costs and getting the best value for health care doll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5489-CB3A-4246-8061-7FE3619F1F7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0" dur="250" autoRev="1" fill="hold"/>
                                        <p:tgtEl>
                                          <p:spTgt spid="3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For more information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ce-Marie Tu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en Instit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galen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703) 299-8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cemarie@galen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5257800" y="1523880"/>
            <a:ext cx="286560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3DD7-7B88-4CA5-AE9C-547DAA0ADF5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ost concerns drive debate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5800" y="144792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57200" y="5334120"/>
            <a:ext cx="8686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4 Mercer U.S. National Employer-Sponsored Health Plans Survey,” Mercer Human Resources, November 22, 2004. </a:t>
            </a:r>
            <a:r>
              <a:rPr b="0" lang="en-US" sz="11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http://www.mercerhr.com/knowledgecenter/reportsummary.jhtml?idContent=105130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U.S. Department of Labor, Bureau of Labor Statistics. Consumer Price Index. January 19, 2005. ftp://ftp.bls.gov/pub/special.requests/cpi/cpiai.tx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871C-6535-40C5-8F69-E1FCA66A85E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Does the U.S. spend too much or too little on health care?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1523880"/>
          <a:ext cx="8207280" cy="425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23880"/>
                    <a:ext cx="8207280" cy="42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0" y="579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bert Blendon and John Benson.  “Americans’ Views on Health Policy”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Health Affair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March/April 200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23F2-FC26-4C29-BC98-3656B75435D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onsumers pay 15% of cost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68360" y="1523880"/>
          <a:ext cx="820728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23880"/>
                    <a:ext cx="820728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685800" y="586728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fice of the Actuary, Centers for Medicare and Medicaid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E8E9-8B32-4E27-8D58-5D1CF1AE1BA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Kaiser benefits study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iums now average $3,383 for single coverage and $9,068 for fami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r contributions were stable for singles (at $508) and rising 13% for families (to $2,4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586728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aiser 2003 Employer Health Benefit Surv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183D-67F3-480E-9C72-3BF030F19A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ost drivers for health insurance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7560" indent="0">
              <a:spcBef>
                <a:spcPts val="7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health care inf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7560" indent="0">
              <a:spcBef>
                <a:spcPts val="7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2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medical advances,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7560" indent="0">
              <a:spcBef>
                <a:spcPts val="7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ing provider expe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7560" indent="0">
              <a:spcBef>
                <a:spcPts val="7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mandates and regul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7560" indent="0">
              <a:spcBef>
                <a:spcPts val="7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consumer dem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7560" indent="0">
              <a:spcBef>
                <a:spcPts val="7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igation and defensive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7560" indent="0">
              <a:spcBef>
                <a:spcPts val="7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ud and abus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59436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ceWaterhouseCoopers 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1500-F955-45B5-B5AE-425BD2B7DE14}" type="slidenum">
              <a:t>8</a:t>
            </a:fld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Research question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State health insurance regulatio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uce costs and increase acces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ealth insuranc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893F-EBB2-433E-BF3E-2E32E3FD97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26:33Z</dcterms:created>
  <dc:creator>Grace-Marie Turner</dc:creator>
  <dc:description/>
  <cp:keywords/>
  <dc:language>en-US</dc:language>
  <cp:lastModifiedBy>Cheryl Bell</cp:lastModifiedBy>
  <dcterms:modified xsi:type="dcterms:W3CDTF">2005-03-25T15:24:57Z</dcterms:modified>
  <cp:revision>2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21033</vt:lpwstr>
  </property>
</Properties>
</file>