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169E-A848-4CF3-8FBB-4842663D5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B842-E6D0-46BF-A964-BD05F2B86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C7E1-E728-40C6-B7D5-47680318D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6945-91AF-417F-BAA0-4C1704404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7323-2133-4B69-B501-F94CE4CE5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6279-3690-470E-A73A-40F4A4FC7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58A4-4070-411C-801F-479294697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28E3-5D0E-4558-B4FF-BBF091F7A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EA34-F1C0-43BA-B65C-73BC98CEB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6A15-C580-49D8-808A-D88C5618D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BEA9-7B87-4B14-AC2F-7AB1ACCF5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C714-A54D-4B36-9F52-1DDCFBCCE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Thorpe # </a:t>
            </a:r>
            <a:fld id="{BD25D7B2-9294-406F-8E5F-4FD451FAFE8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787320" cy="96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at Can States Do About the Uninsured?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nneth E. Thorpe, Ph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W. Woodruff Professor and Ch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Health Policy a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s School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ory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ptions for Covering the Uninsured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ndated/Comprehensive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 or play approach (Californ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e health plans include young adults to age 25/26 on parents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all college students to have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vendors to have health insurance as conditions of receiving State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6C92-DF92-41AB-8A31-D1BC8B5AA3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ssu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the unin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pays for care received by the unin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care among th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s for covering th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CEBA-B8A1-46A8-A57A-6F6A4DFDC0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o are the Uninsured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87560" y="1604880"/>
          <a:ext cx="6968880" cy="45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7560" y="1604880"/>
                    <a:ext cx="69688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EEDE-B53A-411F-ACB3-B0696677EC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Uninsured by Age: 45 Million in 2003; Most are Young Adult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28800" y="1604880"/>
          <a:ext cx="821520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04880"/>
                    <a:ext cx="82152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18CA-92B8-413A-AB74-5A3ACC4271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st Uninsured Children Are Eligible for Medicaid or SCHIP Toda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12680" y="1816200"/>
          <a:ext cx="7446960" cy="42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1816200"/>
                    <a:ext cx="744696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B33C-6242-4577-8ACF-520E56494E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st Uninsured Adults Work During the Year in Small Firm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648320" y="2516040"/>
          <a:ext cx="4038480" cy="269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91F2-FCAF-4665-B07C-98738832CB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ho Pays for the Health Care Received by the Uninsured?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d Uncompensated Care in 2005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44 B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URCES OF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id DS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8.5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DS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8.0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and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Levy Sup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0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UAL = UNSPONSOR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7.5 B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91D8-E8A1-4C17-B070-828333EE28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olicy Opt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uce Cost of Private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-loss for small firms using purchasing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l State employees, Medicaid, and SCHIP to negotiate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insurance tax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“no-mandate” insurance policies for small emplo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4959-5C0C-4B3C-9ED3-1C3ADE7553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ptions for Covering the Uninsured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dicaid/SCHIP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oll currently eligible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Medicaid to parents and childless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FA and 1115 Wa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1899-3E15-46DF-A124-C439280E52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8:26:21Z</dcterms:created>
  <dc:creator>Adriana Antelo</dc:creator>
  <dc:description/>
  <dc:language>en-US</dc:language>
  <cp:lastModifiedBy>Cheryl Bell</cp:lastModifiedBy>
  <dcterms:modified xsi:type="dcterms:W3CDTF">2005-03-25T14:12:53Z</dcterms:modified>
  <cp:revision>7</cp:revision>
  <dc:subject/>
  <dc:title>What Can States Do About the Uninsured?</dc:title>
</cp:coreProperties>
</file>