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0F4A-2599-40EB-AF84-21CDC1EF2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658B-DBC9-4119-A2CA-5B70A760A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46D2-F67D-4B6F-BF85-687985028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A144-FFD7-4B63-95B1-FEAC29299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01E1-1E77-485C-82C6-863E0B385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05A6-A463-4BF7-82FB-71EF30955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2A20-EE56-4644-BA24-CE5CC210D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A582-A52D-4D4C-9FB6-6BBD5BC60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CF7B-EEA7-42F4-96F7-04F8C1C85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3884-4044-48EC-8491-3BB77629F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6A1E-EA4E-44CD-962E-F0FC2C77D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9E46-8F25-45AD-A56E-845C20D7E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Thorpe # </a:t>
            </a:r>
            <a:fld id="{BCD71A9E-3AF8-453B-B561-C643D69DEB4E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787320" cy="96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Can States Do About the Uninsured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nneth E. Thorpe, Ph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W. Woodruff Professor and Ch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Health Policy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s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ory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ptions for Covering the Uninsured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ndated/Comprehensive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or play approach (Califor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e health plans include young adults to age 25/26 on parent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ll college students to have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vendors to have health insurance as conditions of receiving State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8052-C94E-4466-87E5-2BDB4143D9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the unin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pays for care received by the unin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care amo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for covering the unin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9969-DA13-483B-BB49-91DE9E3C6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o are the Uninsured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87560" y="1604880"/>
          <a:ext cx="696888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1604880"/>
                    <a:ext cx="69688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07F3-2F27-4AE0-A74B-BE5F78F1C4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Uninsured by Age: 45 Million in 2003; Most are Young Adult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28800" y="1604880"/>
          <a:ext cx="821520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04880"/>
                    <a:ext cx="82152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B4D9-B705-429B-8622-E26F70D91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st Uninsured Children Are Eligible for Medicaid or SCHIP Toda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12680" y="1816200"/>
          <a:ext cx="7446960" cy="42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1816200"/>
                    <a:ext cx="744696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7B3E-F175-47CD-94A6-7A8D9828E4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st Uninsured Adults Work During the Year in Small Firm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648320" y="2516040"/>
          <a:ext cx="4038480" cy="269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7101-26E4-4AF0-9A20-DFB08892A1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ho Pays for the Health Care Received by the Uninsured?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d Uncompensated Care in 2005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44 B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URCES OF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id DS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8.5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D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8.0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and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Levy Supp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0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UAL = UNSPONSOR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7.5 B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79A6-E193-4CCC-82A3-FFAC881140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olicy Opt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duce Cost of Private 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-loss for small firms using purchasing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l State employees, Medicaid, and SCHIP to negotiate pay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insurance tax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“no-mandate” insurance policies for small emplo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4102-1421-4DD3-A0A3-E7B6EACB3C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ptions for Covering the Uninsured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dicaid/SCHIP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oll currently eligible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Medicaid to parents and childless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FA and 1115 Wa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E9DE-1A6E-4126-BCA7-8B5EC43F39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8:26:21Z</dcterms:created>
  <dc:creator>Adriana Antelo</dc:creator>
  <dc:description/>
  <dc:language>en-US</dc:language>
  <cp:lastModifiedBy>Cheryl Bell</cp:lastModifiedBy>
  <dcterms:modified xsi:type="dcterms:W3CDTF">2005-03-25T14:12:53Z</dcterms:modified>
  <cp:revision>7</cp:revision>
  <dc:subject/>
  <dc:title>What Can States Do About the Uninsured?</dc:title>
</cp:coreProperties>
</file>