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A232-FC9D-44F8-9125-DDD5F7D17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6668-D232-4E0C-8F6B-FF5ECF1BA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24A1-8DC7-45CA-B872-14531273A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E01A-8CC0-4A68-97BD-787CB54E6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4B92-A9D1-4114-8D02-943C6A708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1004-FE91-494F-8936-027507B9E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4832-205D-4C61-AA90-AD0ED9D03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FC44-E334-4DCE-98A9-EEB97BD0C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7C1A-CDFD-4170-8346-8DAB399DC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5910-C0F7-49FC-B05C-51FFD6899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A457-4E9E-4BAA-B239-80DFE6353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722A-FCBE-48BD-97FD-0C9EEBE3F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chols # </a:t>
            </a:r>
            <a:fld id="{2FA1A7F6-3197-4277-9DA7-6D6174D102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28305" t="0" r="60513" b="0"/>
          <a:stretch/>
        </p:blipFill>
        <p:spPr>
          <a:xfrm>
            <a:off x="0" y="0"/>
            <a:ext cx="62856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09480" y="6324480"/>
            <a:ext cx="7925040" cy="0"/>
          </a:xfrm>
          <a:prstGeom prst="line">
            <a:avLst/>
          </a:prstGeom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0500" t="7967" r="55021" b="40033"/>
          <a:stretch/>
        </p:blipFill>
        <p:spPr>
          <a:xfrm>
            <a:off x="-220680" y="0"/>
            <a:ext cx="9364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0500" t="7967" r="55021" b="40033"/>
          <a:stretch/>
        </p:blipFill>
        <p:spPr>
          <a:xfrm>
            <a:off x="0" y="0"/>
            <a:ext cx="93646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Regulation of the Small Group and Individual Health Insurance Markets: Why, Why Not, and What Could Be Better?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419112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Len M. Nichols, Ph.D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Director, Health Policy Program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New America Foundation</a:t>
            </a:r>
            <a:br>
              <a:rPr sz="2000"/>
            </a:b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y HIPAA Matter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efined “Federal purpose” to be insurance market performanc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presents bipartisan agreement that small group and non-group markets need rul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eft existing State laws and enforcement mechanisms in plac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stablished a “Federal floor”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CD30-D215-484D-952C-A813945EE4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IPAA Group Market Provision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imits on pre-existing condition exclus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12/6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redit for prior cover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ximum 62-day ga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uaranteed issue (all products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Guaranteed renewa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 premium variance restric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F104-7E09-4B56-A2E0-7E950DB440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IPAA Individual Market Provision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uaranteed renewal of all product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uaranteed issue for eligible individua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ligible individu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8 months continuous coverage (62 day gap limit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st recently employer group covera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xhausted COBR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ot eligible for group or public coverage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 premium variance restrictio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6EFB-45CD-4C20-AA63-9F496641D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Effects of Insurance Reform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ver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ot much net effect in small group marke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duced coverage in non-group market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isk pool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vidence is mixed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arke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mpetitors (reduc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mpetition (increased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EC8A-38B9-4022-9CAF-E22E142593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Bottom Line: Offer Rat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523880"/>
            <a:ext cx="72392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mployer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mploye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7.2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8.3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6.8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7.3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0-2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7.8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1.5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5-9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2.4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6.5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00-99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5.4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6.6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,000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8.8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9.4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5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4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3.5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50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6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7.8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200400"/>
                <a:tab algn="ctr" pos="5424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MEPS-IC, data 2002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D6D6-054E-4842-B9DB-F48F8663B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y Small Firms Don’t Offer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abor market realiti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ower wage worker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er turnover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Relative cos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dministrative economies of scal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isk pooling economi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ED52-E9BD-4304-93E3-702424F791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orrisome Trends I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447920"/>
            <a:ext cx="7543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99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fer rat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6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8.3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igibility rat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1.3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7.1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ke-up rat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5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1.0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MEPS-IC, various year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B887-4094-4494-833E-55F210BA5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orrisome Trends II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600200"/>
            <a:ext cx="76960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ESI Cover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98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vera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6.3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5.0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low pover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3.9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6.5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-2* pover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8.5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1.9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-4* pover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6.0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1.4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+ povert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5.7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5.6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CPS data, cited in Nichols, 2005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349236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mployee-sponsored health insur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0061-4804-4998-AFE9-038DEC137D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orrisome Trends III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447920"/>
            <a:ext cx="78487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atio of family premium to wag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99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5th percentile w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3.2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7.1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dian w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2.4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2.6%</a:t>
            </a:r>
            <a:br>
              <a:rPr sz="2400"/>
            </a:b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an w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7.9%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5.7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003560"/>
                <a:tab algn="ctr" pos="4745160"/>
                <a:tab algn="ctr" pos="6227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National Compensation Surveys, BLS, cited in Nichols, 2005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0C14-2B9C-43ED-B570-6F1CB4E063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orrisome Trends IV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295280"/>
            <a:ext cx="71629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ccup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amily premium/Median wa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hysicia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7.3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story profess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5.8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retary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9.1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rpent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4.2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o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9.8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ource: BLS, cited in Nichols, 2005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E790-16F3-4584-9AB5-B417C78155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lative sizes of insurance market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story of insurance market regul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tate and Federal rol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nique importance of Health Insurance Portability and Accountability Act (HIPA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ffer rates by firm siz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ome worrisome tren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e search for solutions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1B84-F5A5-48D9-9246-B4E007916A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earch for Solutions Intensifies               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sociation health pla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xemption from State regula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adeoff gets back to risk pool preferenc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er deductible health plan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ccount based adjuncts (HSAs, HRAs, MSAs)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reate better health care consumers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xpenditure distribution is highly skewed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Comparative price and quality data not yet widespread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20EE-1DAA-4A20-9CF0-1F64BB8CDA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surance market regulation is largely your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radeoffs are the nature of this policy gam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creasing fraction of our workforce cannot afford health insurance as we know i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ressure for solutions will increas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We may be ready for systemwide “adult”  conversations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6D46-F841-4BF9-9A6E-1CD6F3F32E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Relative Sizes of Group and Non-Group Insurance Market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743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6840" y="2309760"/>
            <a:ext cx="109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318960" y="2556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905120"/>
            <a:ext cx="74674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llion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erc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 algn="ctr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fered employer cover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8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75%</a:t>
            </a:r>
            <a:br>
              <a:rPr sz="2400"/>
            </a:b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rolled in employer coverag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6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68%</a:t>
            </a:r>
            <a:br>
              <a:rPr sz="2400"/>
            </a:b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didates for nongrou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4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rolled in nongrou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8.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%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Source: CTS Household Survey, 2001, cited in Nichols and Pauly,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Health Affairs, 2002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749160" indent="-749160" algn="ctr">
              <a:tabLst>
                <a:tab algn="l" pos="0"/>
                <a:tab algn="ctr" pos="491184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CC90-7577-49C9-9C59-CD8465535C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istory of Federal Insurance Market Regulation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stitu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.S. vs. Southeast Underwriters, 1944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cCarran-Ferguson, 1945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MO Act, 1973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mployee Retirement Income Security Act (ERISA), 1974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mnibus Budget Reconciliation Act (OBRA), 1990 (Medigap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PAA, 1996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715000"/>
            <a:ext cx="58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ackground: Nichols and Blumberg, </a:t>
            </a: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Health Affairs, 1998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7AE2-958D-4D4F-A5AD-1AC547277D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tate and Federal Roles in Insurance Regulation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tat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olvenc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sumer protection/market con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Benefit mandat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ket reforms (unless contradict HIPA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eder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ket opportunities and rul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xemptions from State law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nforcement of HIPAA if State is unwill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C773-2A1A-4FF5-9BDA-904DB0B33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ealth Insurance Market Reform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eory of market regulation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urance is about pooling risk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Expenditure distribution is highly skewed (1/30, 10/70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Voluntary purchase </a:t>
            </a:r>
            <a:r>
              <a:rPr b="0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selection is key issu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mpeting views of “just” risk poo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Libertaria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Communitaria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Regulation is about forcing more pooling than the free market would offer up if left alo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our job as legislators is about deciding how much forced risk pooling there will b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9B6B-9E69-48F0-945C-AF4578B99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y State Reforms Passed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mall business owners were outrage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remium infla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tability of insurance offers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n-group insurance stories are harsh, sad, and tru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dverse selection is a real threa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lection management is profitabl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surers do what they are allowed to do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surance industry historically preferred State regulation to Feder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5E50-0CEA-42F0-8AC0-6EC5878192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pecific Types of Market Regulation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imits on pre-existing condition exclusions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ortability (credit for prior coverage)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uaranteed renewal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uaranteed issue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strictions on the variance of premiums allowed for the same policy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A51B-2CFE-48C4-AF19-88713CEABA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Prevalence of Specific Regulations (pre-HIPAA)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1480" y="1905120"/>
            <a:ext cx="724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eform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mall grou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on-group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Guar. Issu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6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Guar. Renewal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45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mits on pre-ex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42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ctr" pos="4178160"/>
                <a:tab algn="ctr" pos="6235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remium restriction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45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8560" y="586728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ource: Blue Cross Blue Shield Association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E27F-DA34-4CC3-A215-BF2B39D229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ryl Bell</cp:lastModifiedBy>
  <dcterms:modified xsi:type="dcterms:W3CDTF">2005-03-25T14:03:46Z</dcterms:modified>
  <cp:revision>68</cp:revision>
  <dc:subject/>
  <dc:title>PowerPoint Presentation</dc:title>
</cp:coreProperties>
</file>