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7E40-8EE7-4F68-83E9-4CDF1FC7C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99BF-585C-4E93-ACC8-A1BE8F519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0ABB-ED26-44B2-820E-1FD838EA5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F0F9-A3CA-41BE-B03A-B89B92C30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07C2-2434-4CBF-A02A-654E1B4BC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8D53-30EB-42C9-A210-918DB978D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D685-0B31-461C-9A33-060ABBD02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C376-58E4-44D2-BC12-BB51378D8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3BEA-B08D-4075-9C04-DAD8C4A25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67FC-AB64-4888-A311-3807B0204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26F4-5C4C-4FC3-9C1D-97BC4BC71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C477-33E7-4FF8-889D-066F4D1D8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chols # </a:t>
            </a:r>
            <a:fld id="{5D1EA397-9857-4D78-A517-59592B002F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28305" t="0" r="60513" b="0"/>
          <a:stretch/>
        </p:blipFill>
        <p:spPr>
          <a:xfrm>
            <a:off x="0" y="0"/>
            <a:ext cx="62856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09480" y="6324480"/>
            <a:ext cx="792504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0500" t="7967" r="55021" b="40033"/>
          <a:stretch/>
        </p:blipFill>
        <p:spPr>
          <a:xfrm>
            <a:off x="-220680" y="0"/>
            <a:ext cx="9364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0500" t="7967" r="55021" b="40033"/>
          <a:stretch/>
        </p:blipFill>
        <p:spPr>
          <a:xfrm>
            <a:off x="0" y="0"/>
            <a:ext cx="93646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Regulation of the Small Group and Individual Health Insurance Markets: Why, Why Not, and What Could Be Better?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7720" y="419112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Len M. Nichols, Ph.D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Director, Health Policy Program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New America Foundation</a:t>
            </a:r>
            <a:br>
              <a:rPr sz="2000"/>
            </a:b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y HIPAA Matter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fined “Federal purpose” to be insurance market performanc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epresents bipartisan agreement that small group and non-group markets need rul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eft existing State laws and enforcement mechanisms in plac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stablished a “Federal floor”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397B-3579-4BA7-807A-1A30E41FAC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HIPAA Group Market Provision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imits on pre-existing condition exclus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12/6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redit for prior cover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ximum 62-day gap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uaranteed issue (all product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uaranteed renewa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 premium variance restric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A93A-0D0D-4260-B81F-8FD449E6C0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HIPAA Individual Market Provision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uaranteed renewal of all product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uaranteed issue for eligible individua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ligible individu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18 months continuous coverage (62 day gap limit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st recently employer group covera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xhausted COBR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ot eligible for group or public coverage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 premium variance restrictio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38C2-D6C2-44D9-823E-72A14A3FD6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Effects of Insurance Reform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ver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ot much net effect in small group marke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duced coverage in non-group market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isk p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vidence is mixed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rke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mpetitors (reduc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mpetition (increas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6296-BCA6-4383-8576-6987D76102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Bottom Line: Offer Rat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523880"/>
            <a:ext cx="72392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mploye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mploye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t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57.2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8.3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6.8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7.3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0-2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7.8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71.5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5-9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2.4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6.5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00-99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5.4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6.6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,000+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8.8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9.4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5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4.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3.5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50+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6.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7.8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ource: MEPS-IC, data 2002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5A6B-C4FF-4FC3-82AD-850ADFE2BD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y Small Firms Don’t Offer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abor market realiti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ower wage worker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gher turnover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elative cos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dministrative economies of scal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isk pooling economi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C1A5-106E-490B-AEDE-AAE7ECF9DC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orrisome Trends I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447920"/>
            <a:ext cx="75438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99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fer rat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6.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8.3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igibility rat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1.3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77.1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ke-up rat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5.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1.0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ource: MEPS-IC, various year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668A-1B1F-4999-A233-0FA3E8614A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orrisome Trends II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600200"/>
            <a:ext cx="76960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ESI Cover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98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vera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6.3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5.0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low pover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3.9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6.5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-2* pover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8.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1.9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-4* pover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76.0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71.4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+ pover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5.7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5.6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ource: CPS data, cited in Nichols, 2005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Employee-sponsored health insuran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C26B-B29D-49BE-8CD4-9A44098501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orrisome Trends III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447920"/>
            <a:ext cx="78487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atio of family premium to wag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998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5th percentile w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3.2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7.1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dian w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2.4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2.6%</a:t>
            </a:r>
            <a:br>
              <a:rPr sz="2400"/>
            </a:b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an w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7.9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5.7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ource: National Compensation Surveys, BLS, cited in Nichols, 2005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9B9F-9A11-4DAF-B559-C910733D78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orrisome Trends IV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295280"/>
            <a:ext cx="71629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ccup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amily premium/Median wa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hysicia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7.3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story profess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5.8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retary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9.1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rpent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4.2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o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9.8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ource: BLS, cited in Nichols, 2005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58E0-7F59-431F-B98B-40A9A5828C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lative sizes of insurance market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story of insurance market regul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tate and Federal rol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nique importance of Health Insurance Portability and Accountability Act (HIPAA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ffer rates by firm siz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ome worrisome trend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e search for solutions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26AE-D016-4B54-AD83-9193EFD7B4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earch for Solutions Intensifies               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ociation health pla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xemption from State regul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radeoff gets back to risk pool preferen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gher deductible health pla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ccount based adjuncts (HSAs, HRAs, MSAs)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reate better health care consumers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xpenditure distribution is highly skewed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Comparative price and quality data not yet widespread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3C99-3CDE-4582-AFCD-D3F308D3F2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surance market regulation is largely your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adeoffs are the nature of this policy gam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creasing fraction of our workforce cannot afford health insurance as we know i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essure for solutions will increas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e may be ready for systemwide “adult”  conversations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0FDF-DE6C-426B-B117-0D707D3A26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Relative Sizes of Group and Non-Group Insurance Market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743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6840" y="2309760"/>
            <a:ext cx="109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18960" y="2556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905120"/>
            <a:ext cx="74674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llion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erc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 algn="ctr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fered employer cover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75%</a:t>
            </a:r>
            <a:br>
              <a:rPr sz="2400"/>
            </a:b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nrolled in employer cover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6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8%</a:t>
            </a:r>
            <a:br>
              <a:rPr sz="2400"/>
            </a:b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didates for nongrou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4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nrolled in nongrou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.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Source: CTS Household Survey, 2001, cited in Nichols and Pauly,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Health Affairs, 2002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 algn="ctr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C6E7-CCC7-412A-BE27-2F5520D349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History of Federal Insurance Market Regulation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stitu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.S. vs. Southeast Underwriters, 1944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cCarran-Ferguson, 1945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MO Act, 1973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mployee Retirement Income Security Act (ERISA), 1974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mnibus Budget Reconciliation Act (OBRA), 1990 (Medigap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PAA, 1996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715000"/>
            <a:ext cx="58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ackground: Nichols and Blumberg, </a:t>
            </a: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Health Affairs, 1998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893E-0CA5-4CA0-AC22-F01109A6F8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tate and Federal Roles in Insurance Regulation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tat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olvenc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sumer protection/market conduc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enefit mandat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ket reforms (unless contradict HIPAA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eder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ket opportunities and rul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xemptions from State law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nforcement of HIPAA if State is unwill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C367-30FE-4283-B9C0-CC866E9FFA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Health Insurance Market Reform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eory of market regul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surance is about pooling risk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xpenditure distribution is highly skewed (1/30, 10/70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oluntary purchase </a:t>
            </a:r>
            <a:r>
              <a:rPr b="0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selection is key issu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mpeting views of “just” risk pool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Libertaria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Communitaria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gulation is about forcing more pooling than the free market would offer up if left alon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our job as legislators is about deciding how much forced risk pooling there will b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C903-5CA6-4BC7-B4B4-5D68AA8C6B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y State Reforms Passed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mall business owners were outrage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remium infl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stability of insurance offers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n-group insurance stories are harsh, sad, and tru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verse selection is a real threa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election management is profitabl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surers do what they are allowed to do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surance industry historically preferred State regulation to Feder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16F4-BE53-4EFC-A54B-F98649F665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pecific Types of Market Regulation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imits on pre-existing condition exclusions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ortability (credit for prior coverage)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uaranteed renewal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uaranteed issue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strictions on the variance of premiums allowed for the same policy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4B12-A1FA-4122-B097-8CCA8EE605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Prevalence of Specific Regulations (pre-HIPAA)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1480" y="1905120"/>
            <a:ext cx="724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eform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mall group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on-group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Guar. Issue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6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Guar. Renewal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45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imits on pre-ex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42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remium restriction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45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8560" y="5867280"/>
            <a:ext cx="42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ource: Blue Cross Blue Shield Association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401F-1B80-4BF6-B6DD-3F159AB01C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ryl Bell</cp:lastModifiedBy>
  <dcterms:modified xsi:type="dcterms:W3CDTF">2005-03-25T14:03:46Z</dcterms:modified>
  <cp:revision>68</cp:revision>
  <dc:subject/>
  <dc:title>PowerPoint Presentation</dc:title>
</cp:coreProperties>
</file>