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8.wmf" ContentType="image/x-wmf"/>
  <Override PartName="/ppt/media/image9.wmf" ContentType="image/x-wmf"/>
  <Override PartName="/ppt/media/image14.png" ContentType="image/pn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3EF-65F8-4042-8C81-1FD7DD9E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48A-DB32-4732-AADF-E0313B4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5B1-505A-45F2-82EF-933A7C64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E9D-3480-4343-B056-5B2426B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350-A182-4A4A-8E9E-A738E70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809-C433-47A0-B7CD-2934D79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E50-B4FC-4392-800F-9734050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258-6D15-4ACC-9C8F-5AA95D5D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9D2-B250-42C5-BEE6-77EDCE6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090-08E0-4B36-90CD-F89F34D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7D9-AF65-4716-A993-D9C7DAE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573-CA24-46CF-84DA-AC6D3C7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F3D-DFD9-4FE1-BAE5-340AC0C7D99F}" type="slidenum"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304920" y="1676520"/>
            <a:ext cx="8596080" cy="253800"/>
          </a:xfrm>
          <a:custGeom>
            <a:avLst/>
            <a:gdLst>
              <a:gd name="textAreaLeft" fmla="*/ 360 w 8596080"/>
              <a:gd name="textAreaRight" fmla="*/ 8596800 w 8596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2040" y="1752480"/>
            <a:ext cx="8751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3e2f8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e2f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49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3e2f8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3e2f8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3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rc.state.ky.us/Statcomm/Medicaid/homepage.htm" TargetMode="External"/><Relationship Id="rId2" Type="http://schemas.openxmlformats.org/officeDocument/2006/relationships/hyperlink" Target="http://www.state.sc.us/sclac/Reports/2003/Medicaid.htm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2.state.id.us/ope/" TargetMode="External"/><Relationship Id="rId2" Type="http://schemas.openxmlformats.org/officeDocument/2006/relationships/hyperlink" Target="http://www.wa.gov/wsipp" TargetMode="External"/><Relationship Id="rId3" Type="http://schemas.openxmlformats.org/officeDocument/2006/relationships/hyperlink" Target="http://www.wa.gov/wsipp/" TargetMode="External"/><Relationship Id="rId4" Type="http://schemas.openxmlformats.org/officeDocument/2006/relationships/hyperlink" Target="http://www.le.state.ut.us/lrgc/briefingpapers/medicaid.pdf" TargetMode="External"/><Relationship Id="rId5" Type="http://schemas.openxmlformats.org/officeDocument/2006/relationships/hyperlink" Target="http://www.le.state.ut.us/lrgc/briefingpapers/medicaid.pdf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ncsl.org/programs/health/diseasemgmt.htm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medicaid.state.ar.us/" TargetMode="Externa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ncsl.org/print/health/06HltBgtProps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Impact"/>
              </a:rPr>
              <a:t>Hot Issues in Health Care</a:t>
            </a:r>
            <a:endParaRPr b="0" lang="en-US" sz="4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ocus on Medicaid &amp; SCHIP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pril 2, 2005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rtha K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ational Conference of State Legislatures (NCSL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ealth Program Director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303/856-1448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rtha.king@ncsl.or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at a Glanc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hree programs in one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health insurance program for low-income parents (mostly mothers) and childre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funding source to provide services to people with significant disabiliti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long-term care program for the elderl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makes Medicare work”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D17-CB4B-4ACB-9BDD-345C1948D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Percepti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One view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 black hol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nother view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 cash cow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F22-B2D8-4062-B23D-8B0F82CBD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People &amp; Servic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Entitlement: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all who qualify are eligibl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PEOPLE: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Mandatory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“categories”  (e.g., children &amp; PG women to 133% of poverty; SSI recipient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Optional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(e.g., additional children &amp; PG 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women; “medically needy”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SERVICES: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Mandatory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(e.g., hospital, nursing facility,physician, rural health clinic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       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Optional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(e.g., Prescription drugs, hospice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091-E92A-481B-81F1-39A5BFABB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Who’s Not Covered?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verybody else . . 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nyone not in a “category”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45 million uninsured America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ults without children or SSI eligibili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arents who makes more than about 4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lderly or people with disabilities who don’t meet SSI or other criteria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igh medical users who don’t meet criteria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353-A00F-4762-B39E-AE831E1E8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Beneficiaries and Expenditures</a:t>
            </a:r>
            <a:br>
              <a:rPr sz="4000"/>
            </a:b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(2002 -- U.S. average)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52640"/>
          <a:ext cx="4952880" cy="39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9528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95680" y="2666880"/>
          <a:ext cx="464832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23880" y="541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Enrollees</a:t>
            </a:r>
            <a:br>
              <a:rPr sz="1800"/>
            </a:b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51 mill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41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Expenditures*</a:t>
            </a:r>
            <a:br>
              <a:rPr sz="1800"/>
            </a:b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$210 bill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6058080"/>
          <a:ext cx="6489720" cy="799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6058080"/>
                    <a:ext cx="64897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B92-D1A8-4B52-826C-27BF69D3F3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Medicaid Expenditures Per Enrollee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by Acute and Long-Term Care, 2002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981080"/>
          <a:ext cx="830556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3055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362320" y="152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457200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,47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9240" y="4419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,94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26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1,46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7880" y="21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2,7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2485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OURCE:  Kaiser Commission on Medicaid and the Uninsured, January 200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E63-6C1F-44A1-A571-90B3198872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Waiver” Opti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mprehensive health reform 1115 waiv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.g., DE, HI, MA, MN, OR, TN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ew twist:  Utah’s 1115 waiver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rimary and preventive services only for adults to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150% of poverty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pecialized 1115 waiv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harmacy Plus” — low-income senior prescription drug benefit (only) up to 200% poverty (IL, SC, WI approved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Discount-only” waiver — extend Medicaid drug price reductions to other populations (ME operating; court challenge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Family planning services — extend post-partum time for family planning (and primary care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937-0222-4756-89A4-01C9047C2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:  New Flexibility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HIFA (Health Insurance Flexibility &amp; Accountability initiative) —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6 approv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pecial 1115 demonstration waiv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Purpose: to expand health insurance coverage to the uninsure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argeted to people below 200% of povert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5E9-08BB-4F6D-A084-1E8F33732F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Expansions  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Pros and C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Ottawa"/>
              </a:rPr>
              <a:t>Pros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ederal share (50-80%)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xisting administration/provider network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ew flexibility &amp; op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etter than nothing” for uninsur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Ottawa"/>
              </a:rPr>
              <a:t>Cons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inancing constraints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(economy &amp; budgets) 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ederal mandates (although getting better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otential “maintenance of effort” requireme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olitical philosophy re less government rol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C45-E0B3-4D39-A173-760008C21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Cost-Saving Strategies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ost typical cuts 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ut “optional” group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CO has limited option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ut or restrict “optional”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.g., prescription drugs, hospice care, rehabilitative services, case management, etc.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reeze or cut provider reimbursemen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Eliminate the entire Medicaid program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aveats: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Unintended consequence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enny-wise and pound foolish”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Cuts often shift burden: needs don’t disappear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EA4-B5C2-4365-B378-5EE3F97723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58672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“</a:t>
            </a: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While I can explain the meaning of life, I don’t dare try to explain how the Medicaid system works.”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120" y="838080"/>
            <a:ext cx="46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“Experts”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B93-8351-4200-9D54-6CF24F352D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ahoma"/>
              </a:rPr>
              <a:t>Only so much to cut</a:t>
            </a:r>
            <a:endParaRPr b="0" lang="en-US" sz="48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20600" y="1752480"/>
          <a:ext cx="3176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752480"/>
                    <a:ext cx="3176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3760" y="2044800"/>
            <a:ext cx="38098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Provid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7B5-FB30-46DA-8933-C5D813AC6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E92-9D3F-404D-B66D-6C75EB506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Cost-Saving Strategies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Other reform options 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valuate &amp; understand program &amp; op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udy &amp; reform long-term car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mphasize preven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duce prescription drugs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Take advantage of federal flexibili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duce fraud &amp; abus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Use electronic record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ID any services eligible for federal match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ke Medicaid the “payer of last resor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DBB-F3D9-44FA-8C1C-9888FDEA60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C31-8DEB-4ED9-8099-84F196696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id oversight committe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Massachusetts</a:t>
            </a:r>
            <a:r>
              <a:rPr b="0" i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House created a Medicaid committee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Wyoming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'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ubcommittee on Medicaid cost control &amp; content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Oregon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enate special committee on the Oregon Health Plan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Kentucky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Managed Care Oversight Committee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lrc.state.ky.us/Statcomm/Medicaid/homepage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Legislative audit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South Carolina’s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Legislative Audit Council recommended $22.9 million in savings.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3" marL="1536120" indent="-2192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Preferred drug list est. $12.8 mil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3" marL="1536120" indent="-2192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Medicaid enrollment fee est. $1.4 mil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2"/>
              </a:rPr>
              <a:t>http://www.state.sc.us/sclac/Reports/2003/Medicaid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2F3-8D1C-4F19-8760-5FA5BF9284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xternal evaluation &amp; consulta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Idaho’s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 Office of Performance Evaluations 2000 report "Idaho's Medicaid Program: The Department of Health and Welfare Has Many Opportunities for Cost Savings.”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2.state.id.us/ope/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Washington</a:t>
            </a:r>
            <a:r>
              <a:rPr b="0" i="1" lang="en-US" sz="18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State Institute for Public Policy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2"/>
              </a:rPr>
              <a:t>http://www.wa.gov/wsipp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3"/>
              </a:rPr>
              <a:t>/</a:t>
            </a: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Washington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 commissioned a Lewin Group study.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Ottawa"/>
              </a:rPr>
              <a:t>http://www.leg.wa.gov/senate/scs/wm/publications/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ditional resources: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dpw.state.pa.us/omap/geninf/maac/022703CostContainment.asp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5"/>
              </a:rPr>
              <a:t>www.le.state.ut.us/lrgc/briefingpapers/medicaid.pdf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A80-8DD9-414C-894B-E19AEB703B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Understanding the Cost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lderly &amp; people with disabiliti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Qualify based on both income &amp; disabilit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id has become the nation’s LTC “program of last resort”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pays for 60% of N.H. resident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id serves as the nation’s “high risk pool” for low-income people with serious disabilities and chronic condi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other options exist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0BC-A901-4AF1-A804-786DEE586A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Focus on Long-Term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226656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80% of LTC provided by informal caregiv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es/should the state provide assistance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n the state prevent or delay NH placements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ersonal care option”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 (assistance with bathing, dressing, feeding, housekeeping, shopping, etc.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TC insurance: 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es/should the state promote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ederal law encourages community car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oubling of residential and assisted living options in last decad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234-AB2F-44CA-81AC-F0930BB3C1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Long-Term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Institutional vs. community-based car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25% vs. 75% of LTC recipient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70% vs. 30% of LTC spending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(Source: Harrington &amp; Kitchener, NCSL Annual Meeting, 2003)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creening progra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Prevention initiative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.g., disease management, Meals-on Wheels, etc.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sset transfers/estate recover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Family education/contributions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nd-of-Life planning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54B-EF79-4679-9494-AE0F4A788E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Transitioning to community care</a:t>
            </a:r>
            <a:br>
              <a:rPr sz="3600"/>
            </a:br>
            <a:r>
              <a:rPr b="0" lang="en-US" sz="1800" spc="-1" strike="noStrike">
                <a:solidFill>
                  <a:srgbClr val="660033"/>
                </a:solidFill>
                <a:latin typeface="Ottawa"/>
              </a:rPr>
              <a:t>http://www.ncsl.org/programs/health/longcare.htm</a:t>
            </a:r>
            <a:endParaRPr b="0" lang="en-US" sz="1800" spc="-1" strike="noStrike">
              <a:solidFill>
                <a:srgbClr val="660033"/>
              </a:solidFill>
              <a:latin typeface="Impact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1828800"/>
            <a:ext cx="7772400" cy="4584600"/>
            <a:chOff x="609480" y="1828800"/>
            <a:chExt cx="7772400" cy="45846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77240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609480" y="1828800"/>
              <a:ext cx="7772400" cy="458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ccff"/>
                </a:buClr>
                <a:buSzPct val="75000"/>
                <a:buFont typeface="Monotype Sorts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148-4D77-44F8-BB3B-E264BA40E2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459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75960" y="838080"/>
            <a:ext cx="55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Made Simpl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8A6-02B1-409E-BC2A-939DA0412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Main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arget nursing home admission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re as first pay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Legislative approval for nursing home capacity chang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tricter controls on asset transf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xpanded access to state and Medicaid-funded home care services 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BF1-26C9-4325-A3FB-224C60481E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1995 MeCare program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Universal LTC pre-admissions screening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ssessment costs = 1% of LTC spending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ase-mix” reimbursement for nursing hom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Nursing homes certify more Medicare bed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hange in nursing facility reimburse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ADF-65BA-4938-98F7-405D972125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aine’s Cost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creased Medicare’s share of LTC (Medicaid’s share dropped 18% between 1995-2002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44% decline in Medicaid length of stay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26% decline in total nursing home day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# Nursing home beds:  10,207 (1994)     7,708 (2002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% of LTC clients in nursing home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, 50%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2001, 33% 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2% decline in per-person spend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BBD-5341-4849-AA8C-BE2907D6E4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For More Information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aine Resourc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ine’s HCBS System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www.state.me.us/dhs/beas/ltc/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-Admission Screening Program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ww.state.me.us/dhs/beas/ltc/2001/mecare2001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ate and Medicaid LTC Expenditures: www.state.me.us/dhs/beas/ltc/ltc_exp_97_01.htm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LTC status report, Dec. 2002: www.state.me.us/dhs/beas/ltc/2002/ltc_2002.htm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576-0E77-4C61-8C41-236910BCB0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Minnesota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-admission screening for nursing home car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mmunity development grants NH alternatives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mmunity services expans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losure of excess nursing home bed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ratorium on new nursing home construc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FD9-E206-40D0-8544-37C8822489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innesota Cost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Eliminated 1,089 nursing home beds between Aug. 2001 and Jan. 2003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nursing home beds per 1,000 elderly from 68 in 2000 to 64 in 2002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ecreased NH spending as % of public LTC spending from 86% in 2000 to 73% in 2002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innesota’s Long-term Care Task Force: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ww.dhs.state.mn.us/agingint/ltctaskforce/default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F2B-3B38-4389-9866-397EF9478C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Wisconsin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 Family Care Pilot Program (integrates county-level LTC services through case management and managed LTC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Single entry point for LTC services (assessment, consultation, case management, individual service plans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e-admission counseling to LTC facilitie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Saving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LTC spending decreased by an average of $198/person/mo.    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9.6% less per Family Care enrollee than a similar population in a fee-for-service environment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Family Care Program: www.dhfs.state.wi.us/LTCare/index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071-B352-4C62-B64A-DB2BA2B89C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LTC:  Other Idea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rizona, Texas, Arizona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anaged LTC and integrated acute/LTC program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regon: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xpanded home &amp; community services; reduced NH beds (1981-95, Medicaid $ fell by 8.6%; nationwide increase of 19%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ational Family Caregiver Program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funds to Area Agencies on Aging—86% participants say” enables home care for longer”)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ush Admin. Systems Change Grants &amp; “Independence Plus Initiative”  (D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mo for family or individual directed comm. Service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ging in Place” initiatives (e.g., GA &amp; NH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E96-B4DB-4EDE-97C0-1549B75A32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hronic Illness &amp; Disabiliti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ow much could be prevented/reduced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ccess to insurance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“Ticket to Work” Buy-in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ncsl.org/legis/health/medicaidbuyin.htm)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ccess to preventive &amp; primary car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natal care &amp; counsel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ocus on wellness/health educa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moking (est. 12% of costs for Medicaid in ’99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besity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stimated $21 billion in obesity-related condition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/”Care Managemen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D98-1E97-4CC0-8BB8-1E89BA33A2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Disease Management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Top 1% of people account for 30% of health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Top 10% of people for 70% of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Bottom 50% of people for 3% of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(Source:  Scott Leitz, Economist,  Minnesota Department of Health)</a:t>
            </a:r>
            <a:endParaRPr b="0" lang="en-US" sz="1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” targets people with chronic illness and provides more intensive services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Common targets:  asthma, HIV/AIDS, cardiac diseases, diabetes, hemophilia, depression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Leaders: FL, MD, MS, NC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re Management” focuses on people, not diseas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.g., Lahey Clinic in Mass.:  50% of enrollees had 5+ condition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C43-6EA9-464D-81CF-FCE09FDA22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:  Why Should You Care?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22% of average state’s total budget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argest financing source for low-income   (43% of federal allocations to states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ays half of U.S. nursing home cos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vers 31% of U.S. population 85+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unds about 35% of U.S. birth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ubsidizes care for the uninsured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ubsidizes graduate medical educa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3EE-D188-4248-8617-4AEA38EC2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Disease Managemen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Cost savings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ot a panacea, could help with longer-term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R visits for patients reduc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ospital costs reduced overall for participa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Resource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ncsl.org/programs/health/diseasemgmt.htm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Contracting for Chronic Disease Management:  The Florida Experience”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chcs.org/usr_doc/CDM-report.PDF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638-333C-4CEA-8AE6-2C1C100474C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ventive &amp; Primary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ppropriate preventive &amp; acute care for Medicaid enrolle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lan/provider accountabilit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Outreach/Treat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creening/educa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mmuniza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l home” for kids (avoid ER us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North Carolina Pilot Project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E14-04D7-44D8-BD4F-53E53D7175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Ottawa"/>
              </a:rPr>
              <a:t>High-Value Preventive Services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Ottawa"/>
              </a:rPr>
              <a:t>(for adults--Partnership for Prevention)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Tobacco cessation counsel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Vision screening age 65+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ervical cancer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olorectal cancer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Hypertension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fluenza vaccination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hlamydia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holesterol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oblem drinking screening &amp; counsel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neumococcal vaccination age 65+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AA5-A61F-48B6-A83C-43708B0B66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scription Drug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x accounts for 12% of Medicaid costs (U.S.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apidly rising costs (17.3% in ’01; est. 12.9% in ’04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Valuable cost-saving tool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vent hospital &amp; nursing home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st common cost containment strategies: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ior authorization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ferred drug lists:  30+ states 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upplemental rebates:  14+ stat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Use of generic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veat:  Don’t be “penny wise &amp; pound foolish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CB4-1A4C-4F49-A2B0-CD8744E953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edicaid Preferred Drug List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676520"/>
          <a:ext cx="701028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1028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4E8-2751-43C4-9AA6-DDAACFF762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scription Drug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Other cost containment strategi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ep therapy or “fail firs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nthly Caps and limi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just dispensing fees &amp; ingredient reimbursement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nrollee copayme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raud &amp; abuse investiga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harmaceutical managers or administrato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ulti-state bulk purchas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1F1-701B-499A-BFFD-E64DC8E3B9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New Medicare Rx Benefi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id has subsidized Medicar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st. 80-85% of Medicaid Rx costs for elderly &amp; people with disabilities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many of whom covered by Medicar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January 2006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re will cover outpatient Rx for Medicare/Medicaid “dually eligible”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tates will pay under “claw back” provis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90% of 2003 drug costs in ’06 &amp; ’07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219-26DB-4939-B447-0F12AD03E7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New Federal Flexibility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st reforms intended to expand coverag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1115 Waiv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IFA Waiver (a new 1115 typ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mium assistance program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dified benefit packag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332-EF26-4E2C-87A1-CDDD2C48D5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Ottawa"/>
              </a:rPr>
              <a:t>Employer Premium Assistance Programs/Health Insurance Premium Payment Programs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ublic insurance subsidizes employer coverage for  low-income working beneficiaries:  Medicaid or SCHIP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15 states have programs -- different in intent and scope.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n be done through Medicaid or SCHIP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avings significant in states with eligibility to families above 10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visit http://www.ncsl.org/programs/health/buyin03.htm for a list of the states and few details of the programs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F5D-99BB-4036-BE2E-7C9B0DACF3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Case Study:  Utah’s Primary Care Network (1115 Waiver program)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irst state to offer a very basic benefit package (limited to preventive &amp; primary care) to an expansion population (adults up to 150%)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benefits and increased cost sharing to some mandatory Medicaid clients (TANF parents) to help finance the program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essons for other stat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Does investment in primary care reduce uncompensated care $$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ill people be interested in a very limited benefit package over time?  So far, enrollment steady over time with the number at 18,910 as of 1-8-05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1C6-968A-463B-9DAB-A94BCCFECB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Distribution of the Average State’s Budget for Health Services, 2001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523880"/>
          <a:ext cx="730584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3058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78920" y="5715000"/>
            <a:ext cx="71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Source: Milbank Memorial Fund, National Association of State Budget Officers and The Reforming States Group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2000-2001 </a:t>
            </a:r>
            <a:r>
              <a:rPr b="0" i="1" lang="en-US" sz="1200" spc="-1" strike="noStrike">
                <a:solidFill>
                  <a:srgbClr val="000066"/>
                </a:solidFill>
                <a:latin typeface="Times New Roman"/>
              </a:rPr>
              <a:t>State Health Care Expenditure Report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(New York: Milbank Memorial Fund, April 2003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http://www.milbank.org/reports/2000shcer/index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38B-B6BF-4FDC-88D1-24571ECE8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Utah’s Primary Care Network Benefits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imary/preventive care by physicians and mid-level professionals enrolled in the network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dult immuniza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Urgent care &amp; ER visits when appropriat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ab, x-ray, medical equipment, medical supplies, oxygen, ambulanc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Basic dental, hearing tests, vision screening but not glasses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scription drugs [Limit of 4 per month]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19E-43FA-4C33-BCB8-82307FEF77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Other State Medicaid Proposal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12040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Ottawa"/>
              </a:rPr>
              <a:t>Florida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Ottawa"/>
              </a:rPr>
              <a:t>South Carolina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vamp to resemble private managed care pla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ssign a “premium” per person (risk adjusted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p the “premium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Give Medicaid recipients HSA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ocus on prevention (reward it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92D-9C09-459E-90D5-31D06A5EE0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Reducing Medicaid Fraud and Abus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illing for services not render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illing for unnecessary servic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ubstitutions of generic drug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Kickback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uble bill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ther unauthorized billing such as charging a customer for service covered by Medicai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4C8-54FC-4054-AEC3-DC015CE99D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Case Study: Florida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lorida: 1996 enacted two laws to strengthen anti-fraud and abuse activiti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Identifies providers with aberrant billing patter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nducts provider investiga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commends administrative sanc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ermits Florida’s Medicaid Fraud Control Unit to become law enforcement offic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lorida AG’s Office reports the Medicaid Fraud Control Unit recovered $17.5 million in cash and made 158 arrests in 2001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290-99AB-4D67-9A35-8BE4DD711C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Case Study: Texa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 Medicaid Fraud and Prevention Act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AG’s office investigates and prosecutes Medicaid fraud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ovider exclusion list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patient screening criteria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Medicaid fraud training to health care professional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Medicaid fraud and abuse report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 the second fiscal quarter of 2003,  1,435 fraud cases identified and $14.5 million was recovered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Recently, 2 Rx companies paid $45 million to settle fraud charges (accused of falsely reporting inflated prices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A5B-7803-47C3-A3A7-BD438FDF42B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Ottawa"/>
              </a:rPr>
              <a:t>Electronic Billing, Data Collection and Eligibility Determination</a:t>
            </a:r>
            <a:endParaRPr b="0" lang="en-US" sz="3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rkansas saved about $30 million in 17 month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rop in emergency room us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claims processing tim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Virtually eliminated collection expens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essened claim denial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creased efficiency in data analysis and report produc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Arkansas Medicaid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medicaid.state.ar.u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F81-03CB-4F31-A0D7-3A680D9279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ombination Initiativ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E.g., Oregon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Government’s  role:</a:t>
            </a:r>
            <a:endParaRPr b="0" lang="en-US" sz="34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sure the uninsured up to the poverty level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ovide subsidies for some oth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Employers’ roles:</a:t>
            </a:r>
            <a:endParaRPr b="0" lang="en-US" sz="34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ver employees with incomes above poverty via “play or pay” require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Other: </a:t>
            </a: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ioritize publicly funded health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9EC-636D-4477-B217-087563E1F2C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Opportunities &amp; Challenge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are your goals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Universal coverage?  Universal acces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Healthy population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ore personal responsibility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is the appropriate role of government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The private sector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Individual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re you getting what you pay for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ervices, quality, health status improvement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ow can you control (not shift) costs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D87-D5FF-42CC-AA92-549C0C1A8C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SCHIP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tate Children’s Health Insurance Program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on-Medicaid insurance op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re flexibility than Medicaid expans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igher federal matching rat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ver kids under 20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Waivers possible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14B-269D-4C9E-9537-61AFBDF758F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FY 2006 Proposed Health Budget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esident’s FY 2006 Budget Proposal for  Selected Health Progra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Impact"/>
                <a:hlinkClick r:id="rId1"/>
              </a:rPr>
              <a:t>http://www.ncsl.org/print/health/06HltBgtProps.pdf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D04-BE46-402C-ADD8-8B51693237B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Medicaid dominates the health debat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2040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 1985, Medicaid accounted for 8% of state budgets (total spending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 2005, Medicaid accounts for 22% !!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16.5% of state general fund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2/3 of spending is for optional people &amp;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42% of spending is for Medicare-covered recipien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35% of spending is for LTC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C3E-6438-4896-AA13-1253EBC73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Medicaid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MS revised baseline for annual Medicaid growth rate over next 10 years:  from 7.8 % to 7.6%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esult:  $73 billion reduction in spending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ith FY06 Budget Proposals the baseline for growth would be 7.3%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948-3482-43AE-AB7B-F3FA094870F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Proposed Administrative Change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ayment Refor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ogram Administration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escription Drug Program Refor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02C-C61F-40B7-B6F1-763CACFC603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State Budgets &amp; Health Costs </a:t>
            </a: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981080"/>
          <a:ext cx="6096240" cy="4565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State 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Revenue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Medicaid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-6.8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3.4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9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1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25E-F80A-4588-8110-706ABC65A2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14400" y="2057400"/>
          <a:ext cx="777240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7724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33520" y="5410080"/>
            <a:ext cx="711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Total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National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Spending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(billions</a:t>
            </a: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160" y="5715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1,1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71500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1640" y="57150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4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57150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9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571500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1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880" y="63374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1a00"/>
                </a:solidFill>
                <a:latin typeface="Times New Roman"/>
              </a:rPr>
              <a:t>SOURCE: Heffler, S. et al., 2002.  Based on National Health Care Expenditure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1a00"/>
                </a:solidFill>
                <a:latin typeface="Times New Roman"/>
              </a:rPr>
              <a:t>Date, Centers for Medicare and Medicaid Services, Office of the Actuary.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0" y="279360"/>
            <a:ext cx="904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’s Role in the Health System,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2000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169-5F6D-4B96-A480-BB9C7C896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at a Glanc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Federal/state program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55 variation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Optional—large financial incentiv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ederal gov’t pays 50-80% of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Dollar for dollar match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D6C-B7F0-4E20-971A-B09FFF213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7:44:27Z</dcterms:created>
  <dc:creator>NCSL</dc:creator>
  <dc:description/>
  <dc:language>en-US</dc:language>
  <cp:lastModifiedBy>Cheryl Bell</cp:lastModifiedBy>
  <cp:lastPrinted>2002-08-09T19:30:42Z</cp:lastPrinted>
  <dcterms:modified xsi:type="dcterms:W3CDTF">2005-04-13T13:46:48Z</dcterms:modified>
  <cp:revision>212</cp:revision>
  <dc:subject/>
  <dc:title>No Slide Title</dc:title>
</cp:coreProperties>
</file>