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20EC-8476-4DC6-80E8-33F9019A7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4663-1650-4CB6-B37F-78449046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5C45-ACDE-4F13-BBE1-F143CF8B1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0702-E595-4762-80BF-3B4F2BAAE2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73EE-132A-4D1A-9AA1-D2BE43FA6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88F3-41BD-43F3-87A6-9AF6398D0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3E41-FD94-4D93-AD59-F9527C682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05BE-921B-4932-A35B-6B2021935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C87E-A459-40DA-A2BD-A2D425E8B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FA84-7B9E-479F-9279-A4FE7F170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8CE5-F63F-4700-93CA-E4620EF91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4060-2C4F-49D5-89F8-AA04DC873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0"/>
            <a:ext cx="9144000" cy="127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4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ames # </a:t>
            </a:r>
            <a:fld id="{20D3A274-3525-45C3-9C64-66C3D4AB3858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57200" y="6384960"/>
            <a:ext cx="8229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lvl="1" marL="666720" indent="-257040">
              <a:spcBef>
                <a:spcPts val="624"/>
              </a:spcBef>
              <a:buClr>
                <a:srgbClr val="ffff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5640" indent="-20484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36760" indent="-20628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80"/>
            <a:ext cx="9144000" cy="3116160"/>
          </a:xfrm>
          <a:prstGeom prst="rect">
            <a:avLst/>
          </a:prstGeom>
          <a:gradFill rotWithShape="0">
            <a:gsLst>
              <a:gs pos="0">
                <a:srgbClr val="00006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17880"/>
            <a:ext cx="9144000" cy="381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55960"/>
            <a:ext cx="7257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imesNewRomanPS"/>
              </a:rPr>
              <a:t>Quality and Cost: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imesNewRomanPS"/>
              </a:rPr>
              <a:t>What You Can't Afford to Ignore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733920"/>
            <a:ext cx="480060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MT"/>
              </a:rPr>
              <a:t>Brent C. James, M.D., M.St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Executive Director, Institute f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Health Care Delivery Researc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Intermountain Health Ca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Salt Lake City, Utah, US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647640" cy="733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4587" t="8331" r="10413" b="18339"/>
          <a:stretch/>
        </p:blipFill>
        <p:spPr>
          <a:xfrm>
            <a:off x="4952880" y="3352680"/>
            <a:ext cx="230688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DD22-F025-4014-BFD0-B5A90FF2DA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20, 2003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6880" y="1882800"/>
            <a:ext cx="78278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Patient Safety Data Standard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a major follow-on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Patient Safety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Achieving a New Standard of Care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638440" y="4573440"/>
          <a:ext cx="386712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4573440"/>
                    <a:ext cx="38671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5C08-77EB-4016-8F9C-CF638A8143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920" y="403200"/>
            <a:ext cx="793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good is American health ca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838080"/>
          <a:ext cx="8173800" cy="49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17380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5638680"/>
            <a:ext cx="8143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3280" indent="-5032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Allison JJ </a:t>
            </a:r>
            <a:r>
              <a:rPr b="1" i="1" lang="en-US" sz="1300" spc="-1" strike="noStrike">
                <a:solidFill>
                  <a:srgbClr val="ff4040"/>
                </a:solidFill>
                <a:latin typeface="Arial"/>
              </a:rPr>
              <a:t>et al</a:t>
            </a: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. Relationship of hospital teaching with quality of care and mortality for Medicare patients with acute MI.  </a:t>
            </a:r>
            <a:r>
              <a:rPr b="1" i="1" lang="en-US" sz="1300" spc="-1" strike="noStrike">
                <a:solidFill>
                  <a:srgbClr val="ff4040"/>
                </a:solidFill>
                <a:latin typeface="Arial"/>
              </a:rPr>
              <a:t>JAMA</a:t>
            </a: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 2000; 284(10):1256-62 (Sep 13)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E095-3A9A-4176-81F7-10BC7BC07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920" y="403200"/>
            <a:ext cx="793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good is American health ca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22520" y="2127240"/>
            <a:ext cx="73771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22520" y="2127240"/>
            <a:ext cx="7377120" cy="30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6240" y="2387520"/>
            <a:ext cx="511200" cy="274320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18000" y="3220920"/>
            <a:ext cx="511200" cy="190980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68760" y="3666960"/>
            <a:ext cx="511200" cy="146376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0520" y="3465360"/>
            <a:ext cx="511200" cy="166536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40160"/>
            <a:ext cx="5130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29200" y="3330720"/>
            <a:ext cx="5205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9960" y="3919680"/>
            <a:ext cx="511200" cy="1211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21720" y="3363840"/>
            <a:ext cx="512640" cy="17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00440" y="2682720"/>
            <a:ext cx="509400" cy="244800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9760" y="3389400"/>
            <a:ext cx="511200" cy="174132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1160" y="4037040"/>
            <a:ext cx="513000" cy="109368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34360" y="3473280"/>
            <a:ext cx="511200" cy="165744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2520" y="2127240"/>
            <a:ext cx="1440" cy="30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9680" y="51307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9680" y="50720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9680" y="50133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79680" y="49546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9680" y="488808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79680" y="48276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9680" y="47689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79680" y="4710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9680" y="46512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9680" y="45925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79680" y="45338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79680" y="4467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9680" y="44085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79680" y="43498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79680" y="42908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79680" y="42321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9680" y="417348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41133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9680" y="40449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9680" y="39862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79680" y="39276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9680" y="386856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79680" y="38098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79680" y="37512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9680" y="36925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79680" y="36338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79680" y="35654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79680" y="35067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79680" y="34480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79680" y="33894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9680" y="33307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79680" y="32716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9680" y="32130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79680" y="31464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9680" y="30877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79680" y="30290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79680" y="29703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79680" y="291132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79680" y="28512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79680" y="27925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9680" y="27241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79680" y="26654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79680" y="26067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79680" y="25480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79680" y="24890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79680" y="243036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79680" y="23716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9680" y="23036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9680" y="22446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9680" y="21859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9680" y="2127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3840" y="513072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3840" y="482760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453384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3840" y="4232160"/>
            <a:ext cx="5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3840" y="392760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3840" y="36338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3840" y="333072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63840" y="30290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272412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243036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3840" y="21272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22520" y="5130720"/>
            <a:ext cx="7377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43040" y="5130360"/>
            <a:ext cx="18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86240" y="5130360"/>
            <a:ext cx="144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35560" y="5130360"/>
            <a:ext cx="18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77320" y="5130360"/>
            <a:ext cx="144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62252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465360" y="5130360"/>
            <a:ext cx="180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3150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1564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9996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5920" y="21016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91.2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7680" y="29354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3.7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18440" y="3381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8.8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0200" y="31798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38920" y="22543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6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80320" y="30448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0.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9640" y="36338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0.3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72840" y="30780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8.9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8320" y="23972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1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99440" y="310356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8.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42640" y="37512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36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4040" y="31878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5.2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23720" y="5030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3560" y="47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3560" y="4433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3560" y="4129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3560" y="38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3560" y="353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3560" y="3230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3560" y="29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3560" y="2624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3560" y="232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2680" y="2027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92760" y="530712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92520" y="530712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ACE inhibitor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8840" y="5307120"/>
            <a:ext cx="126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Beta-blocker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89080" y="5307120"/>
            <a:ext cx="111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Reperfusion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24560" y="5661000"/>
            <a:ext cx="1393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1343880" y="3467520"/>
            <a:ext cx="376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% "ideal patients" receiving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41480" y="1547640"/>
            <a:ext cx="486108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1960" y="1639800"/>
            <a:ext cx="119160" cy="11772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9080" y="1589040"/>
            <a:ext cx="134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Major 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64080" y="1639800"/>
            <a:ext cx="120600" cy="117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41200" y="1589040"/>
            <a:ext cx="13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Minor 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5280" y="1639800"/>
            <a:ext cx="119160" cy="11772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22040" y="1589040"/>
            <a:ext cx="115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on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5960" y="6184800"/>
            <a:ext cx="8372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3280" indent="-5032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Allison JJ </a:t>
            </a:r>
            <a:r>
              <a:rPr b="1" i="1" lang="en-US" sz="1500" spc="-1" strike="noStrike">
                <a:solidFill>
                  <a:srgbClr val="ff4040"/>
                </a:solidFill>
                <a:latin typeface="Arial"/>
              </a:rPr>
              <a:t>et al</a:t>
            </a: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. Relationship of hospital teaching with quality of care and mortality for Medicare patients with acute MI.  </a:t>
            </a:r>
            <a:r>
              <a:rPr b="1" i="1" lang="en-US" sz="1500" spc="-1" strike="noStrike">
                <a:solidFill>
                  <a:srgbClr val="ff4040"/>
                </a:solidFill>
                <a:latin typeface="Arial"/>
              </a:rPr>
              <a:t>JAMA</a:t>
            </a: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 2000; 284(10):1256-62 (Sep 13).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7115-29BF-4385-8145-D9BF19827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54000" y="2179800"/>
            <a:ext cx="3736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American health care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"gets it </a:t>
            </a:r>
            <a:r>
              <a:rPr b="1" i="1" lang="en-US" sz="2900" spc="-1" strike="noStrike">
                <a:solidFill>
                  <a:srgbClr val="00ff00"/>
                </a:solidFill>
                <a:latin typeface="Arial"/>
              </a:rPr>
              <a:t>right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4300" spc="-1" strike="noStrike">
                <a:solidFill>
                  <a:srgbClr val="f32d3b"/>
                </a:solidFill>
                <a:latin typeface="Arial"/>
              </a:rPr>
              <a:t>54.9%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of the time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2640" y="6032520"/>
            <a:ext cx="7239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McGlynn EA, Asch SM, Adams J,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et al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.  The quality of health care delivered to adults in the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United States.   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N Engl J Med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2003; 348(26):2635-45 (June 26)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26FC-CB79-43EC-A89A-498CCEF82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a #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4040" y="1949400"/>
            <a:ext cx="8124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American health care is </a:t>
            </a:r>
            <a:r>
              <a:rPr b="1" i="1" lang="en-US" sz="3500" spc="-1" strike="noStrike">
                <a:solidFill>
                  <a:srgbClr val="00ff00"/>
                </a:solidFill>
                <a:latin typeface="Arial"/>
              </a:rPr>
              <a:t>very good </a:t>
            </a: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but it could be </a:t>
            </a:r>
            <a:r>
              <a:rPr b="1" i="1" lang="en-US" sz="3500" spc="-1" strike="noStrike">
                <a:solidFill>
                  <a:srgbClr val="f32d3b"/>
                </a:solidFill>
                <a:latin typeface="Arial"/>
              </a:rPr>
              <a:t>much better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39BE-F6F0-4E27-BF5E-FAA936186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sons for variation and inju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676520"/>
            <a:ext cx="74674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ow many factors can the human mind simultaneously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alance to optimize an outcome? 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lan Morris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"The complexity of modern American medicine exceed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the capacity of the unaided human mind“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David Eddy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ck of valid clinical knowledge </a:t>
            </a: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(poor evidence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Reliance on subjective judgmen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bjective evaluation is notoriously poor across group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or over tim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husiasm for unproven methods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 Chassin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f it might work, do it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vid Eddy, M.D., Ph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Quality = spare no expense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ent James, M.D., M.Stat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720" y="1295280"/>
            <a:ext cx="3278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Arial"/>
              </a:rPr>
              <a:t>Clinical uncertainty: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BB0B-4646-45A9-8AFA-7CD2ECB713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74760" y="2475000"/>
            <a:ext cx="482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Medicine used to be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simpl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ff6379"/>
                </a:solidFill>
                <a:latin typeface="Arial"/>
              </a:rPr>
              <a:t>ineffectiv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and relatively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saf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4760" y="3637080"/>
            <a:ext cx="466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Now it is </a:t>
            </a:r>
            <a:r>
              <a:rPr b="1" i="1" lang="en-US" sz="2500" spc="-1" strike="noStrike">
                <a:solidFill>
                  <a:srgbClr val="f32d3b"/>
                </a:solidFill>
                <a:latin typeface="Arial"/>
              </a:rPr>
              <a:t>complex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effectiv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and potentially </a:t>
            </a:r>
            <a:r>
              <a:rPr b="1" i="1" lang="en-US" sz="2500" spc="-1" strike="noStrike">
                <a:solidFill>
                  <a:srgbClr val="f32d3b"/>
                </a:solidFill>
                <a:latin typeface="Arial"/>
              </a:rPr>
              <a:t>dangerous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9760" y="5754600"/>
            <a:ext cx="5983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Neal G.  Reducing risks in the practice of hospital general medicine.  In </a:t>
            </a:r>
            <a:r>
              <a:rPr b="0" i="1" lang="en-US" sz="1300" spc="-1" strike="noStrike">
                <a:solidFill>
                  <a:srgbClr val="f32d3b"/>
                </a:solidFill>
                <a:latin typeface="Arial"/>
              </a:rPr>
              <a:t>Clinical Risk Management, 2nd edition</a:t>
            </a: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.  British Medical Journal, 2001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Chantler, Cyril.  The role and education of doctors in the delivery of health care. </a:t>
            </a:r>
            <a:r>
              <a:rPr b="0" i="1" lang="en-US" sz="1300" spc="-1" strike="noStrike">
                <a:solidFill>
                  <a:srgbClr val="f32d3b"/>
                </a:solidFill>
                <a:latin typeface="Arial"/>
              </a:rPr>
              <a:t>Lancet</a:t>
            </a: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 1999; 353:1178-81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74120" y="4628880"/>
            <a:ext cx="1637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ir Cyril Chantler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127F-70F8-4FBE-AF50-C57F6B79E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 most injuries unavoidab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6760" y="1612800"/>
            <a:ext cx="67032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ice we pa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                        </a:t>
            </a: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(for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eases of medical prog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10480" y="4729320"/>
            <a:ext cx="7869600" cy="1066320"/>
            <a:chOff x="510480" y="4729320"/>
            <a:chExt cx="7869600" cy="1066320"/>
          </a:xfrm>
        </p:grpSpPr>
        <p:sp>
          <p:nvSpPr>
            <p:cNvPr id="233" name=""/>
            <p:cNvSpPr/>
            <p:nvPr/>
          </p:nvSpPr>
          <p:spPr>
            <a:xfrm>
              <a:off x="545400" y="523440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Barr, David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44520" y="5234400"/>
              <a:ext cx="3292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Hazards of modern diagnosis and therapy -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5080" y="5234400"/>
              <a:ext cx="119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the price we pay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70080" y="52344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8520" y="523440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JAMA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12520" y="5234400"/>
              <a:ext cx="215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955; 159(115):1452-6 (Dec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8560" y="54025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0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9120" y="5597280"/>
              <a:ext cx="1344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Moser, Robert H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74440" y="5597280"/>
              <a:ext cx="215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Diseases of medical progress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8360" y="55972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66200" y="5597280"/>
              <a:ext cx="98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N Engl J Med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2080" y="55972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956; 255(13):606-14 (Sep 27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0480" y="4729320"/>
              <a:ext cx="1409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Blendon, Robert J.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36440" y="4729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et al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48200" y="4729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0760" y="4729320"/>
              <a:ext cx="470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Views of practicing physicians and the public on medical errors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96160" y="4729320"/>
              <a:ext cx="98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N Engl J Med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6440" y="47293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2002;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120" y="4898520"/>
              <a:ext cx="193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347(24):1933-40 (Dec 12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5E20-D788-45E1-B021-7EA78B6812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69560" y="604440"/>
            <a:ext cx="6272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Beta blockers at discharg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5440" y="1371600"/>
            <a:ext cx="8936280" cy="4803840"/>
            <a:chOff x="55440" y="1371600"/>
            <a:chExt cx="8936280" cy="4803840"/>
          </a:xfrm>
        </p:grpSpPr>
        <p:sp>
          <p:nvSpPr>
            <p:cNvPr id="254" name=""/>
            <p:cNvSpPr/>
            <p:nvPr/>
          </p:nvSpPr>
          <p:spPr>
            <a:xfrm>
              <a:off x="3259080" y="1371600"/>
              <a:ext cx="2710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Beta blockers at discharge</a:t>
              </a:r>
              <a:endParaRPr b="0" lang="en-US" sz="1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780000">
              <a:off x="518400" y="5664600"/>
              <a:ext cx="4237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an 99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780000">
              <a:off x="964440" y="5624640"/>
              <a:ext cx="312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780000">
              <a:off x="1392120" y="5597280"/>
              <a:ext cx="2797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00">
              <a:off x="1773000" y="5587560"/>
              <a:ext cx="2538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00">
              <a:off x="2103120" y="5598720"/>
              <a:ext cx="2984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00">
              <a:off x="2485800" y="5591160"/>
              <a:ext cx="268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00">
              <a:off x="2891520" y="5572800"/>
              <a:ext cx="209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00">
              <a:off x="3188160" y="5599440"/>
              <a:ext cx="297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00">
              <a:off x="3565080" y="5594040"/>
              <a:ext cx="2779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780000">
              <a:off x="3947040" y="5585760"/>
              <a:ext cx="246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780000">
              <a:off x="4279320" y="5597280"/>
              <a:ext cx="2890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780000">
              <a:off x="4649040" y="5595120"/>
              <a:ext cx="277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780000">
              <a:off x="4837680" y="5667840"/>
              <a:ext cx="509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an 0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780000">
              <a:off x="5376600" y="5592600"/>
              <a:ext cx="270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780000">
              <a:off x="5738040" y="5591520"/>
              <a:ext cx="2635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780000">
              <a:off x="6108480" y="5587560"/>
              <a:ext cx="2538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780000">
              <a:off x="6438600" y="5598720"/>
              <a:ext cx="2984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780000">
              <a:off x="6820560" y="5590080"/>
              <a:ext cx="270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780000">
              <a:off x="7227000" y="5572800"/>
              <a:ext cx="209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780000">
              <a:off x="7522200" y="5601240"/>
              <a:ext cx="298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780000">
              <a:off x="7897320" y="5594040"/>
              <a:ext cx="276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780000">
              <a:off x="8281800" y="5586120"/>
              <a:ext cx="2462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360" y="5322960"/>
              <a:ext cx="76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680" y="4651200"/>
              <a:ext cx="195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680" y="3978360"/>
              <a:ext cx="1951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680" y="3306600"/>
              <a:ext cx="195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680" y="2637000"/>
              <a:ext cx="1951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360" y="1963800"/>
              <a:ext cx="763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96240" y="5322960"/>
              <a:ext cx="77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96240" y="4651200"/>
              <a:ext cx="1954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96240" y="3978360"/>
              <a:ext cx="195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6240" y="3306600"/>
              <a:ext cx="19548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96240" y="2637000"/>
              <a:ext cx="1954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96240" y="1963800"/>
              <a:ext cx="77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8680" y="2062080"/>
              <a:ext cx="5781600" cy="1414440"/>
            </a:xfrm>
            <a:custGeom>
              <a:avLst/>
              <a:gdLst/>
              <a:ahLst/>
              <a:rect l="l" t="t" r="r" b="b"/>
              <a:pathLst>
                <a:path w="4129" h="1042">
                  <a:moveTo>
                    <a:pt x="0" y="1041"/>
                  </a:moveTo>
                  <a:lnTo>
                    <a:pt x="258" y="25"/>
                  </a:lnTo>
                  <a:lnTo>
                    <a:pt x="516" y="111"/>
                  </a:lnTo>
                  <a:lnTo>
                    <a:pt x="774" y="147"/>
                  </a:lnTo>
                  <a:lnTo>
                    <a:pt x="1032" y="248"/>
                  </a:lnTo>
                  <a:lnTo>
                    <a:pt x="1290" y="390"/>
                  </a:lnTo>
                  <a:lnTo>
                    <a:pt x="1548" y="214"/>
                  </a:lnTo>
                  <a:lnTo>
                    <a:pt x="1806" y="79"/>
                  </a:lnTo>
                  <a:lnTo>
                    <a:pt x="2064" y="295"/>
                  </a:lnTo>
                  <a:lnTo>
                    <a:pt x="2322" y="87"/>
                  </a:lnTo>
                  <a:lnTo>
                    <a:pt x="2580" y="16"/>
                  </a:lnTo>
                  <a:lnTo>
                    <a:pt x="2838" y="0"/>
                  </a:lnTo>
                  <a:lnTo>
                    <a:pt x="3096" y="103"/>
                  </a:lnTo>
                  <a:lnTo>
                    <a:pt x="3354" y="14"/>
                  </a:lnTo>
                  <a:lnTo>
                    <a:pt x="3612" y="101"/>
                  </a:lnTo>
                  <a:lnTo>
                    <a:pt x="3870" y="51"/>
                  </a:lnTo>
                  <a:lnTo>
                    <a:pt x="4128" y="38"/>
                  </a:lnTo>
                </a:path>
              </a:pathLst>
            </a:custGeom>
            <a:noFill/>
            <a:ln w="31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57360" y="327348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5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19520" y="189396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76640" y="2009880"/>
              <a:ext cx="3380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1680" y="20574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040" y="219564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4200" y="238752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6000" y="214956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86360" y="1967040"/>
              <a:ext cx="3333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46720" y="22590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8520" y="1978200"/>
              <a:ext cx="3333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70680" y="1881360"/>
              <a:ext cx="331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31040" y="1857240"/>
              <a:ext cx="334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91400" y="1998720"/>
              <a:ext cx="334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53200" y="1876320"/>
              <a:ext cx="335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3560" y="1996920"/>
              <a:ext cx="333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7160" y="1928880"/>
              <a:ext cx="3333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37520" y="19098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06760" y="5989680"/>
              <a:ext cx="522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Month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-1332360" y="3423240"/>
              <a:ext cx="2968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Proportion "ideal" patients receiving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8636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224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5843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9479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306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6686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0290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3926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753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1133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4751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835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1973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5594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9198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802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0041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364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7263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80866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84488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6720" y="505476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720" y="43830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720" y="37116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720" y="30402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6720" y="23670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720" y="169704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7400" y="53910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400" y="47196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400" y="40464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7400" y="33750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400" y="270504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7400" y="203184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594280" y="505476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594280" y="43830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594280" y="37116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594280" y="30402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594280" y="23670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594280" y="169704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594640" y="53910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594640" y="47196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594640" y="40464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594640" y="33750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594640" y="270504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594640" y="203184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4240" y="1697040"/>
              <a:ext cx="7882200" cy="3693960"/>
            </a:xfrm>
            <a:custGeom>
              <a:avLst/>
              <a:gdLst/>
              <a:ahLst/>
              <a:rect l="l" t="t" r="r" b="b"/>
              <a:pathLst>
                <a:path w="5629" h="2720">
                  <a:moveTo>
                    <a:pt x="5628" y="0"/>
                  </a:moveTo>
                  <a:lnTo>
                    <a:pt x="0" y="0"/>
                  </a:lnTo>
                  <a:lnTo>
                    <a:pt x="0" y="2719"/>
                  </a:lnTo>
                  <a:lnTo>
                    <a:pt x="5628" y="2719"/>
                  </a:lnTo>
                  <a:lnTo>
                    <a:pt x="56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41560" y="5148360"/>
              <a:ext cx="171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5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1920" y="5148360"/>
              <a:ext cx="173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93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60840" y="5148360"/>
              <a:ext cx="1746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8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2640" y="5148360"/>
              <a:ext cx="173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6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4800" y="5148360"/>
              <a:ext cx="1746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7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0052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02280" y="5148360"/>
              <a:ext cx="171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9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656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17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8340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4988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2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032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4536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7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1040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7724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4876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2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6040" y="5148360"/>
              <a:ext cx="1312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n (ideal patients) =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746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657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857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93960" y="4329000"/>
              <a:ext cx="123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3680" y="4329000"/>
              <a:ext cx="122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92680" y="4329000"/>
              <a:ext cx="122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76160" y="3486240"/>
              <a:ext cx="1844640" cy="0"/>
            </a:xfrm>
            <a:prstGeom prst="line">
              <a:avLst/>
            </a:prstGeom>
            <a:ln w="31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2080" y="3489480"/>
              <a:ext cx="597060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08360" y="2378160"/>
              <a:ext cx="577836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A229-5BD8-4229-93E8-C3DA01D65FC2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rdiac discharge medicin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838080" y="990720"/>
          <a:ext cx="74250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250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02720" y="635148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HF = Chronic heart failure;  IHD = Ischaemic heart diseas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DC34-5CF2-4952-AA61-B5F73C8760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mergence of modern medic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280" y="2027160"/>
            <a:ext cx="222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~1860 - 1910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8760" y="2693880"/>
            <a:ext cx="703332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w high standards for clinical educ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ict requirements for professional licens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nical practice founded on scientific resear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w internal organization for hospita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AB17-ADF9-48B2-91E0-EE3AD68696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983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o-natal intensive care unit (NICU) admits by weeks gestatio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3520" y="990720"/>
          <a:ext cx="8191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91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1BCB-649F-4F63-A9DC-3849E6912D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Elective inductions &lt; 39 week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36600" y="1258920"/>
          <a:ext cx="860724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258920"/>
                    <a:ext cx="860724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3013-5880-4E32-9D92-38AC701277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Unplanned c-section rat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68360" y="1303200"/>
          <a:ext cx="827568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03200"/>
                    <a:ext cx="827568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17A6-F608-42C4-9987-2C97A2938D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verage hours in labor &amp; delive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71600" y="1297080"/>
          <a:ext cx="820260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297080"/>
                    <a:ext cx="82026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86FA-D642-41B8-8C8F-54600B36A0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rimiparous elective indu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71600" y="1355760"/>
          <a:ext cx="8407440" cy="52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355760"/>
                    <a:ext cx="840744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7B92-316A-4822-A61E-4376366B7D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Labor &amp; delivery variable cos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1600" y="1387440"/>
          <a:ext cx="8267760" cy="51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387440"/>
                    <a:ext cx="826776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F3C1-BCD7-45CC-89D0-E5119A0348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Well newborn bilirubin testing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39640" y="1322280"/>
          <a:ext cx="8340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22280"/>
                    <a:ext cx="834084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6BE7-2B57-4EDB-AEF2-B7EA600CD07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35000" y="160200"/>
          <a:ext cx="88740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60200"/>
                    <a:ext cx="88740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349-0670-47AE-B48B-C283ADE793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Newborns w/ hyperbilirubinem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70000" y="1292400"/>
          <a:ext cx="8604000" cy="52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92400"/>
                    <a:ext cx="8604000" cy="52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0BAB-45D5-4A43-8C40-C1650E1327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yperbilirubinemia readmiss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70000" y="1278000"/>
          <a:ext cx="8604000" cy="52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78000"/>
                    <a:ext cx="8604000" cy="52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AB65-1EA5-434B-97A2-ECCE61B233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12:  The ‘Great Divide’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1960" y="1816200"/>
            <a:ext cx="768816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"... for the first time in human history, a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random patient with a random disease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nsulting a doctor chosen at random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stands a better than 50/50 chance of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benefiting from the encounter.“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Harvard Professor L. Henderson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(Harris, Richard.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A Sacred Trust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.  New York, NY: New American Library, 1966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1A83-D3B1-48A0-8AF8-9C970E992B4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rotocols can improve c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2280" y="1344600"/>
            <a:ext cx="7765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9680" indent="-409680">
              <a:lnSpc>
                <a:spcPct val="12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multidisciplinary team of health professionals </a:t>
            </a:r>
            <a:r>
              <a:rPr b="1" i="1" lang="en-US" sz="2000" spc="-1" strike="noStrike">
                <a:solidFill>
                  <a:srgbClr val="ffff00"/>
                </a:solidFill>
                <a:latin typeface="Book Antiqua"/>
              </a:rPr>
              <a:t>―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lect a high priority care proces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nerate an evidence-based "best practice" guideli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end the guideline into the flow of clinical 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training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suppl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physical layou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measurement / information flo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educational material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Font typeface="Arial Unicode MS"/>
              <a:buChar char="◆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se the guideline as a shared baseline, with clinician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ee to vary based on individual patient need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 startAt="5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asure, learn from, and (over time) eliminate variatio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rising from professionals; retain variation arising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om patients             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("mass customization"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84E5-768C-4578-9231-0B059E38265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Lean produc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1600200"/>
            <a:ext cx="7315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standardized processes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with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"smart cogs“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tha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adapt to individual needs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Unicode MS"/>
              <a:buChar char="◆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That is, "mass customization:“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efficient processes that can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deal with complexity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1680-63B3-4476-8D21-EF46C0893DE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dea #2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8960" y="1344600"/>
            <a:ext cx="7966800" cy="50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The health professions - and health care delivery –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are </a:t>
            </a:r>
            <a:r>
              <a:rPr b="1" i="1" lang="en-US" sz="3100" spc="-1" strike="noStrike">
                <a:solidFill>
                  <a:srgbClr val="ffff00"/>
                </a:solidFill>
                <a:latin typeface="Arial"/>
              </a:rPr>
              <a:t>changing </a:t>
            </a: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From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craft-based practice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individual physicians, working alone </a:t>
            </a:r>
            <a:r>
              <a:rPr b="1" i="1" lang="en-US" sz="1400" spc="-1" strike="noStrike">
                <a:solidFill>
                  <a:srgbClr val="c0c0c0"/>
                </a:solidFill>
                <a:latin typeface="Arial"/>
              </a:rPr>
              <a:t>(house/staff = apprentice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handcraft a customized solution for each patient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based on a core ethical commitment to the patient and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vast personal knowledge gained from training and experi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o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profession-based practi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groups of peers, treating similar patients in a shared setting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plan coordinated care delivery processes </a:t>
            </a:r>
            <a:r>
              <a:rPr b="1" i="1" lang="en-US" sz="1400" spc="-1" strike="noStrike">
                <a:solidFill>
                  <a:srgbClr val="c0c0c0"/>
                </a:solidFill>
                <a:latin typeface="Arial"/>
              </a:rPr>
              <a:t>(e.g., standing order set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which individual clinicians adapt to specific patient needs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1700" spc="-1" strike="noStrike">
                <a:solidFill>
                  <a:srgbClr val="c0c0c0"/>
                </a:solidFill>
                <a:latin typeface="Arial"/>
              </a:rPr>
              <a:t>early experience shows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ess expensive </a:t>
            </a:r>
            <a:r>
              <a:rPr b="1" i="1" lang="en-US" sz="1300" spc="-1" strike="noStrike">
                <a:solidFill>
                  <a:srgbClr val="c0c0c0"/>
                </a:solidFill>
                <a:latin typeface="Arial"/>
              </a:rPr>
              <a:t>(facility can staff, train, supply an organize to a single core process)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ess complex </a:t>
            </a:r>
            <a:r>
              <a:rPr b="1" i="1" lang="en-US" sz="1300" spc="-1" strike="noStrike">
                <a:solidFill>
                  <a:srgbClr val="c0c0c0"/>
                </a:solidFill>
                <a:latin typeface="Arial"/>
              </a:rPr>
              <a:t>(which means fewer mistakes and dropped handoffs, less conflict)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etter patient outcom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7640" y="178596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EF1C-5BEB-4DE5-8214-365A2AB943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800424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Why “profession-based” practice?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960" y="1411200"/>
            <a:ext cx="8589960" cy="42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produces better outcomes for our patien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eliminates waste, reduces costs, and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creases available resources for patient car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puts the caring professions back in control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f care delivery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is the foundation for useful shared electronic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ata </a:t>
            </a:r>
            <a:r>
              <a:rPr b="1" i="1" lang="en-US" sz="2100" spc="-1" strike="noStrike">
                <a:solidFill>
                  <a:srgbClr val="c0c0c0"/>
                </a:solidFill>
                <a:latin typeface="Book Antiqua"/>
              </a:rPr>
              <a:t>―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an important next step in care delivery improvemen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6F7-0D9D-4654-B2D6-74967535586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Quality controls cos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15160" y="2174760"/>
            <a:ext cx="1252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Quality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20240" y="2174760"/>
            <a:ext cx="123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Cost 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88240" y="2174760"/>
            <a:ext cx="1352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Forum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36120" y="331632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36120" y="392436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4280" y="4746600"/>
            <a:ext cx="2294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c0c0c0"/>
                </a:solidFill>
                <a:latin typeface="Arial"/>
              </a:rPr>
              <a:t>Cost-benefit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39000" y="4802040"/>
            <a:ext cx="105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822840" y="3233520"/>
            <a:ext cx="1440" cy="1760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54440" y="3174840"/>
            <a:ext cx="136440" cy="2653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24280" y="3335400"/>
            <a:ext cx="1440" cy="2347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75360" y="3295800"/>
            <a:ext cx="1440" cy="1746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26556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188" y="0"/>
                </a:moveTo>
                <a:lnTo>
                  <a:pt x="94" y="377"/>
                </a:lnTo>
                <a:lnTo>
                  <a:pt x="0" y="0"/>
                </a:lnTo>
                <a:lnTo>
                  <a:pt x="188" y="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176800" y="3134880"/>
            <a:ext cx="1800" cy="2365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22840" y="4754160"/>
            <a:ext cx="1440" cy="17460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4440" y="469584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c0c0c0"/>
          </a:solidFill>
          <a:ln w="33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4280" y="4854600"/>
            <a:ext cx="1440" cy="23508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175360" y="4765320"/>
            <a:ext cx="1440" cy="17316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6960" y="470700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c0c0c0"/>
          </a:solidFill>
          <a:ln w="33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76800" y="4863960"/>
            <a:ext cx="1800" cy="23652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5360" y="3936960"/>
            <a:ext cx="1440" cy="1746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6960" y="390672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188" y="0"/>
                </a:moveTo>
                <a:lnTo>
                  <a:pt x="94" y="377"/>
                </a:lnTo>
                <a:lnTo>
                  <a:pt x="0" y="0"/>
                </a:lnTo>
                <a:lnTo>
                  <a:pt x="188" y="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76800" y="3776760"/>
            <a:ext cx="1800" cy="2347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23120" y="3745080"/>
            <a:ext cx="415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endParaRPr b="0" lang="en-US" sz="4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400" y="2651040"/>
            <a:ext cx="1288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Waste: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16720" y="1787400"/>
            <a:ext cx="161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(Potential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Savings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99320" y="3317760"/>
            <a:ext cx="96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25-4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73560" y="3924360"/>
            <a:ext cx="80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&gt; 5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69160" y="4802040"/>
            <a:ext cx="85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(none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4480" y="3871800"/>
            <a:ext cx="3016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Inefficiency waste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7320" y="3265560"/>
            <a:ext cx="2216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Quality waste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400" y="2174760"/>
            <a:ext cx="2625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Mechanism     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3C25-59EB-4376-955B-39DAAC6231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dea #3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4120" y="2151000"/>
            <a:ext cx="80413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Bette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re can be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uch cheape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re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c0c0c0"/>
                </a:solidFill>
                <a:latin typeface="Arial"/>
              </a:rPr>
              <a:t>if you set things up right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F489-081A-4D4E-BD0D-88B2BB8FDA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809640" y="1459080"/>
          <a:ext cx="793908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459080"/>
                    <a:ext cx="793908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1AFA-332A-42C4-985F-1D2AF908E711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rrent health c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4200" y="1278000"/>
            <a:ext cx="8381880" cy="33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is the best the world has ever seen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919191"/>
                </a:solidFill>
                <a:latin typeface="Arial"/>
              </a:rPr>
              <a:t>A few simple examples: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From 1900 to 2000, average life expectancy at birth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increased from only </a:t>
            </a:r>
            <a:r>
              <a:rPr b="1" i="1" lang="en-US" sz="2100" spc="-1" strike="noStrike">
                <a:solidFill>
                  <a:srgbClr val="ff9494"/>
                </a:solidFill>
                <a:latin typeface="Arial"/>
              </a:rPr>
              <a:t>49 years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to almost 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80 years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Since 1960, age-adjusted mortality from heart disease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(#1)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has decreased by 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56%;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i="1" lang="en-US" sz="2200" spc="-1" strike="noStrike" baseline="-6000">
                <a:solidFill>
                  <a:srgbClr val="919191"/>
                </a:solidFill>
                <a:latin typeface="Arial"/>
              </a:rPr>
              <a:t>(from 307.4 to 134.6 deaths / 100,000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Since 1950, age-adjusted mortality from stroke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(#3)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has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decreased by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70%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 baseline="-6000">
                <a:solidFill>
                  <a:srgbClr val="919191"/>
                </a:solidFill>
                <a:latin typeface="Arial"/>
              </a:rPr>
              <a:t>(from 88.8 to 26.5 deaths / 100,000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4362480"/>
            <a:ext cx="7036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Initial life expectancy gains almost all resulted from public health 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initiatives -- clean water, safe food, and (especially) widespread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control of epidemic infectious disease.  But since about 1960, direct 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disease treatment has made increasingly large contributions.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2440" y="5402160"/>
            <a:ext cx="8099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Centers for Disease Control.  Decline in deaths from heart disease and stroke</a:t>
            </a:r>
            <a:r>
              <a:rPr b="1" lang="en-US" sz="1000" spc="-1" strike="noStrike">
                <a:solidFill>
                  <a:srgbClr val="f32d3b"/>
                </a:solidFill>
                <a:latin typeface="Book Antiqua"/>
              </a:rPr>
              <a:t>―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United States, 1900-1999.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JAMA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1999; 282(8):724-6   (Aug 25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National Center for Health Statistics.  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Health, United States, 2000 with Adolescent Health Chartbook.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Hyattsville, MD:   U.S. Dept. of  Health and Human Services, Center for Disease Control and Prevention, 2000; pg. 7 (DHHS Publication No. (PHS)  2000-1232-1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U.S. Department of Health and Human Services, Public Health Service.  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Healthy People 2000: National Health Promotion and  Disease Prevention Objectives.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Washington, DC: U.S. Government Printing Office, 1991 (DHHS Publication No. (PHS) 91-50212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1515-12A1-45E3-A130-960236F2F4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. John Wennber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1630440"/>
            <a:ext cx="244440" cy="2206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6"/>
                </a:lnTo>
                <a:lnTo>
                  <a:pt x="0" y="116"/>
                </a:lnTo>
                <a:lnTo>
                  <a:pt x="106" y="197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6"/>
                </a:lnTo>
                <a:lnTo>
                  <a:pt x="210" y="116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60720" y="1565280"/>
            <a:ext cx="737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Geography is destiny </a:t>
            </a:r>
            <a:r>
              <a:rPr b="1" i="1" lang="en-US" sz="1900" spc="-1" strike="noStrike">
                <a:solidFill>
                  <a:srgbClr val="c0c0c0"/>
                </a:solidFill>
                <a:latin typeface="Arial"/>
              </a:rPr>
              <a:t>("Who you see is what you get"  </a:t>
            </a:r>
            <a:r>
              <a:rPr b="1" i="1" lang="en-US" sz="1900" spc="-1" strike="noStrike">
                <a:solidFill>
                  <a:srgbClr val="f32d3b"/>
                </a:solidFill>
                <a:latin typeface="Arial"/>
              </a:rPr>
              <a:t>*</a:t>
            </a:r>
            <a:r>
              <a:rPr b="1" i="1" lang="en-US" sz="1900" spc="-1" strike="noStrike">
                <a:solidFill>
                  <a:srgbClr val="c0c0c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69360" y="1639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32d3b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8800" y="2041560"/>
            <a:ext cx="244440" cy="2188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7"/>
                </a:lnTo>
                <a:lnTo>
                  <a:pt x="0" y="117"/>
                </a:lnTo>
                <a:lnTo>
                  <a:pt x="106" y="197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7"/>
                </a:lnTo>
                <a:lnTo>
                  <a:pt x="210" y="117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59640" y="1976400"/>
            <a:ext cx="5153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re is no health care "system"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2451240"/>
            <a:ext cx="244440" cy="2206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7"/>
                </a:lnTo>
                <a:lnTo>
                  <a:pt x="0" y="117"/>
                </a:lnTo>
                <a:lnTo>
                  <a:pt x="106" y="198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7"/>
                </a:lnTo>
                <a:lnTo>
                  <a:pt x="210" y="117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6760" y="2387520"/>
            <a:ext cx="4178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upplier-induced demand: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45960" y="2895480"/>
            <a:ext cx="70426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Field of Dreams approach: build it and they will come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James T. Kirk:  Do something, Bones!  She's dying!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Eddy:  more is better </a:t>
            </a:r>
            <a:r>
              <a:rPr b="1" i="1" lang="en-US" sz="2100" spc="-1" strike="noStrike">
                <a:solidFill>
                  <a:srgbClr val="c0c0c0"/>
                </a:solidFill>
                <a:latin typeface="Book Antiqua"/>
              </a:rPr>
              <a:t>―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if it might work, do i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Chassin:  enthusiasm for unproven methods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Boston City / Boston University Hospital, 1998: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8200" y="4570560"/>
            <a:ext cx="7236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Same house/staff on both services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More beds / easier access to resources on Boston University service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Boston University readmit rate ~50% higher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562720"/>
            <a:ext cx="78962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*</a:t>
            </a:r>
            <a:r>
              <a:rPr b="1" i="1" lang="en-US" sz="1500" spc="-1" strike="noStrike">
                <a:solidFill>
                  <a:srgbClr val="f32d3b"/>
                </a:solidFill>
                <a:latin typeface="Arial"/>
              </a:rPr>
              <a:t>Richard Deyo, MD, MPH - in: Cherken, Deyo, Wheeler and Ciol.  Physician variation in diagnostic testing for low back pain. </a:t>
            </a:r>
            <a:r>
              <a:rPr b="1" lang="en-US" sz="1500" spc="-1" strike="noStrike">
                <a:solidFill>
                  <a:srgbClr val="f32d3b"/>
                </a:solidFill>
                <a:latin typeface="Arial"/>
              </a:rPr>
              <a:t>Arth &amp; Rheum </a:t>
            </a:r>
            <a:r>
              <a:rPr b="1" i="1" lang="en-US" sz="1500" spc="-1" strike="noStrike">
                <a:solidFill>
                  <a:srgbClr val="f32d3b"/>
                </a:solidFill>
                <a:latin typeface="Arial"/>
              </a:rPr>
              <a:t>1994; 37(1):15-22 (Jan).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9EC3-A2F5-4336-8AA1-C5E5AEDC8A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dicare cost versus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74800" y="1352520"/>
          <a:ext cx="753084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352520"/>
                    <a:ext cx="75308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FEE3-4A9F-4328-A208-D63B21506F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30, 1999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8680" y="2622600"/>
            <a:ext cx="781272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Quality of Health Care in America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its first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o Err is Human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uilding a Safer Health System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549A-B7F8-4F97-8864-8A5EEC4559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920" y="290520"/>
            <a:ext cx="38480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Medical injuri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1339920"/>
            <a:ext cx="253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ccount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8600" y="1969920"/>
            <a:ext cx="659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44,000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 98,000 deaths per 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2240" y="2592360"/>
            <a:ext cx="4216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 the United St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3960" y="3214800"/>
            <a:ext cx="8256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2500" spc="-1" strike="noStrike">
                <a:solidFill>
                  <a:srgbClr val="c0c0c0"/>
                </a:solidFill>
                <a:latin typeface="Arial"/>
              </a:rPr>
              <a:t>More people die from medical injuries than from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2500" spc="-1" strike="noStrike">
                <a:solidFill>
                  <a:srgbClr val="c0c0c0"/>
                </a:solidFill>
                <a:latin typeface="Arial"/>
              </a:rPr>
              <a:t>breast cancer or AIDS or motor vehicle acciden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2920" y="4076640"/>
            <a:ext cx="3483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Brennan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New Engl J Med 1991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Thomas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000" y="5032440"/>
            <a:ext cx="685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rect health care costs tota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81160" y="5611680"/>
            <a:ext cx="4595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$9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 15 billion per 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2920" y="6168960"/>
            <a:ext cx="2721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Thomas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9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Johnson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9697-F432-403A-A7ED-73055D81E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20, 2003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6880" y="1882800"/>
            <a:ext cx="78278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Patient Safety Data Standard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a major follow-on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Patient Safety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Achieving a New Standard of Care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B8A4-3440-47CB-A2E9-0565281EC5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22:00:44Z</dcterms:created>
  <dc:creator>Shanna Luke</dc:creator>
  <dc:description/>
  <dc:language>en-US</dc:language>
  <cp:lastModifiedBy>Cheryl Bell</cp:lastModifiedBy>
  <dcterms:modified xsi:type="dcterms:W3CDTF">2005-03-25T15:21:38Z</dcterms:modified>
  <cp:revision>8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ihc.com/institute</vt:lpwstr>
  </property>
  <property fmtid="{D5CDD505-2E9C-101B-9397-08002B2CF9AE}" pid="9" name="LinkColor">
    <vt:r8>16711782</vt:r8>
  </property>
  <property fmtid="{D5CDD505-2E9C-101B-9397-08002B2CF9AE}" pid="10" name="MailAddress">
    <vt:lpwstr>institute@ihc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