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43D53-98A0-4FEC-A97A-A1738E5B62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81F6F-355C-49A2-A61C-8DD1D2888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9D37F-1228-4A45-AB95-8AD33B6F5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43188-2259-4F39-A4A1-FB254F16A8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8D94-953F-490D-8E43-4DDE36CC45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264A3-5E99-48E8-9A84-AF021ACBBE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C6625-A39D-47B2-9644-888B5D6AC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661C6-C876-446C-91EC-E39387A7E5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73770-A840-44A1-8892-FAA129C20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31D69-AA36-4369-A4EF-4C7B35138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3222E-E8D4-4D0D-B8AF-560FEFCDE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F779-6F44-4819-A8FB-B87E9A5B3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0" y="0"/>
            <a:ext cx="9144000" cy="1278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4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James # </a:t>
            </a:r>
            <a:fld id="{5199FF28-0F48-4754-B99E-6DE73AF5E490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457200" y="6384960"/>
            <a:ext cx="82296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  <a:p>
            <a:pPr lvl="1" marL="666720" indent="-257040">
              <a:spcBef>
                <a:spcPts val="624"/>
              </a:spcBef>
              <a:buClr>
                <a:srgbClr val="ffff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  <a:p>
            <a:pPr lvl="2" marL="1025640" indent="-204840"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3" marL="1436760" indent="-206280">
              <a:spcBef>
                <a:spcPts val="451"/>
              </a:spcBef>
              <a:buClr>
                <a:srgbClr val="ffff00"/>
              </a:buClr>
              <a:buFont typeface="Times New Roman"/>
              <a:buChar char="–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4" marL="1846440" indent="-204840">
              <a:spcBef>
                <a:spcPts val="451"/>
              </a:spcBef>
              <a:buClr>
                <a:srgbClr val="ffff00"/>
              </a:buClr>
              <a:buFont typeface="Times New Roman"/>
              <a:buChar char="»"/>
              <a:tabLst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5" marL="1846440" indent="-204840">
              <a:spcBef>
                <a:spcPts val="45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6" marL="1846440" indent="-204840">
              <a:spcBef>
                <a:spcPts val="45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480"/>
            <a:ext cx="9144000" cy="3116160"/>
          </a:xfrm>
          <a:prstGeom prst="rect">
            <a:avLst/>
          </a:prstGeom>
          <a:gradFill rotWithShape="0">
            <a:gsLst>
              <a:gs pos="0">
                <a:srgbClr val="00006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017880"/>
            <a:ext cx="9144000" cy="381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255960"/>
            <a:ext cx="7257960" cy="15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TimesNewRomanPS"/>
              </a:rPr>
              <a:t>Quality and Cost:</a:t>
            </a:r>
            <a:endParaRPr b="0" lang="en-US" sz="37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TimesNewRomanPS"/>
              </a:rPr>
              <a:t>What You Can't Afford to Ignore</a:t>
            </a:r>
            <a:endParaRPr b="0" lang="en-US" sz="3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3733920"/>
            <a:ext cx="4800600" cy="15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MT"/>
              </a:rPr>
              <a:t>Brent C. James, M.D., M.Stat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MT"/>
              </a:rPr>
              <a:t>Executive Director, Institute fo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MT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 MT"/>
              </a:rPr>
              <a:t>Health Care Delivery Research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MT"/>
              </a:rPr>
              <a:t>Intermountain Health Car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MT"/>
              </a:rPr>
              <a:t>Salt Lake City, Utah, US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001000" y="5791320"/>
            <a:ext cx="647640" cy="733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14587" t="8331" r="10413" b="18339"/>
          <a:stretch/>
        </p:blipFill>
        <p:spPr>
          <a:xfrm>
            <a:off x="4952880" y="3352680"/>
            <a:ext cx="2306880" cy="281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2748-04B6-4561-A753-90E219A0E1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vember 20, 2003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6880" y="1882800"/>
            <a:ext cx="782784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c0c0c0"/>
                </a:solidFill>
                <a:latin typeface="Arial"/>
              </a:rPr>
              <a:t>The Institute of Medicine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5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ffff00"/>
                </a:solidFill>
                <a:latin typeface="Arial"/>
              </a:rPr>
              <a:t>Committee on Patient Safety Data Standards</a:t>
            </a: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c0c0c0"/>
                </a:solidFill>
                <a:latin typeface="Arial"/>
              </a:rPr>
              <a:t>announces a major follow-on report: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Patient Safety: 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Achieving a New Standard of Care</a:t>
            </a:r>
            <a:endParaRPr b="0" lang="en-US" sz="23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638440" y="4573440"/>
          <a:ext cx="3867120" cy="13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8440" y="4573440"/>
                    <a:ext cx="386712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D3F5B-A5B1-4FBF-87A5-519BC8C4707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9920" y="403200"/>
            <a:ext cx="7934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good is American health care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3520" y="838080"/>
          <a:ext cx="8173800" cy="49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38080"/>
                    <a:ext cx="8173800" cy="49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33520" y="5638680"/>
            <a:ext cx="81439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03280" indent="-503280">
              <a:lnSpc>
                <a:spcPct val="100000"/>
              </a:lnSpc>
              <a:tabLst>
                <a:tab algn="l" pos="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1" lang="en-US" sz="1300" spc="-1" strike="noStrike">
                <a:solidFill>
                  <a:srgbClr val="ff4040"/>
                </a:solidFill>
                <a:latin typeface="Arial"/>
              </a:rPr>
              <a:t>Allison JJ </a:t>
            </a:r>
            <a:r>
              <a:rPr b="1" i="1" lang="en-US" sz="1300" spc="-1" strike="noStrike">
                <a:solidFill>
                  <a:srgbClr val="ff4040"/>
                </a:solidFill>
                <a:latin typeface="Arial"/>
              </a:rPr>
              <a:t>et al</a:t>
            </a:r>
            <a:r>
              <a:rPr b="1" lang="en-US" sz="1300" spc="-1" strike="noStrike">
                <a:solidFill>
                  <a:srgbClr val="ff4040"/>
                </a:solidFill>
                <a:latin typeface="Arial"/>
              </a:rPr>
              <a:t>. Relationship of hospital teaching with quality of care and mortality for Medicare patients with acute MI.  </a:t>
            </a:r>
            <a:r>
              <a:rPr b="1" i="1" lang="en-US" sz="1300" spc="-1" strike="noStrike">
                <a:solidFill>
                  <a:srgbClr val="ff4040"/>
                </a:solidFill>
                <a:latin typeface="Arial"/>
              </a:rPr>
              <a:t>JAMA</a:t>
            </a:r>
            <a:r>
              <a:rPr b="1" lang="en-US" sz="1300" spc="-1" strike="noStrike">
                <a:solidFill>
                  <a:srgbClr val="ff4040"/>
                </a:solidFill>
                <a:latin typeface="Arial"/>
              </a:rPr>
              <a:t> 2000; 284(10):1256-62 (Sep 13).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11847-3CF3-400D-8534-C0E8BA5E25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9920" y="403200"/>
            <a:ext cx="7934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good is American health care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22520" y="2127240"/>
            <a:ext cx="7377120" cy="30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22520" y="2127240"/>
            <a:ext cx="7377120" cy="300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76240" y="2387520"/>
            <a:ext cx="511200" cy="2743200"/>
          </a:xfrm>
          <a:prstGeom prst="rect">
            <a:avLst/>
          </a:prstGeom>
          <a:solidFill>
            <a:srgbClr val="41ff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18000" y="3220920"/>
            <a:ext cx="511200" cy="1909800"/>
          </a:xfrm>
          <a:prstGeom prst="rect">
            <a:avLst/>
          </a:prstGeom>
          <a:solidFill>
            <a:srgbClr val="41ff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68760" y="3666960"/>
            <a:ext cx="511200" cy="1463760"/>
          </a:xfrm>
          <a:prstGeom prst="rect">
            <a:avLst/>
          </a:prstGeom>
          <a:solidFill>
            <a:srgbClr val="41ff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10520" y="3465360"/>
            <a:ext cx="511200" cy="1665360"/>
          </a:xfrm>
          <a:prstGeom prst="rect">
            <a:avLst/>
          </a:prstGeom>
          <a:solidFill>
            <a:srgbClr val="41ff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7440" y="2540160"/>
            <a:ext cx="513000" cy="259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29200" y="3330720"/>
            <a:ext cx="520560" cy="180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79960" y="3919680"/>
            <a:ext cx="511200" cy="1211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21720" y="3363840"/>
            <a:ext cx="512640" cy="1766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00440" y="2682720"/>
            <a:ext cx="509400" cy="2448000"/>
          </a:xfrm>
          <a:prstGeom prst="rect">
            <a:avLst/>
          </a:prstGeom>
          <a:solidFill>
            <a:srgbClr val="ff4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9760" y="3389400"/>
            <a:ext cx="511200" cy="1741320"/>
          </a:xfrm>
          <a:prstGeom prst="rect">
            <a:avLst/>
          </a:prstGeom>
          <a:solidFill>
            <a:srgbClr val="ff4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91160" y="4037040"/>
            <a:ext cx="513000" cy="1093680"/>
          </a:xfrm>
          <a:prstGeom prst="rect">
            <a:avLst/>
          </a:prstGeom>
          <a:solidFill>
            <a:srgbClr val="ff4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34360" y="3473280"/>
            <a:ext cx="511200" cy="1657440"/>
          </a:xfrm>
          <a:prstGeom prst="rect">
            <a:avLst/>
          </a:prstGeom>
          <a:solidFill>
            <a:srgbClr val="ff4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22520" y="2127240"/>
            <a:ext cx="1440" cy="300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79680" y="5130720"/>
            <a:ext cx="42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79680" y="507204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79680" y="501336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79680" y="495468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79680" y="4888080"/>
            <a:ext cx="4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79680" y="482760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79680" y="476892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79680" y="471024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79680" y="4651200"/>
            <a:ext cx="42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79680" y="4592520"/>
            <a:ext cx="42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79680" y="4533840"/>
            <a:ext cx="42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79680" y="446724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79680" y="440856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79680" y="434988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79680" y="4290840"/>
            <a:ext cx="42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79680" y="4232160"/>
            <a:ext cx="4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79680" y="4173480"/>
            <a:ext cx="4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4113360"/>
            <a:ext cx="4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79680" y="404496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79680" y="398628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79680" y="392760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79680" y="3868560"/>
            <a:ext cx="42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79680" y="3809880"/>
            <a:ext cx="42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79680" y="3751200"/>
            <a:ext cx="42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79680" y="369252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79680" y="363384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79680" y="3565440"/>
            <a:ext cx="42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79680" y="350676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79680" y="344808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79680" y="338940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79680" y="333072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79680" y="3271680"/>
            <a:ext cx="42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79680" y="3213000"/>
            <a:ext cx="42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79680" y="314640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9680" y="308772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79680" y="302904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79680" y="2970360"/>
            <a:ext cx="4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79680" y="2911320"/>
            <a:ext cx="4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79680" y="285120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79680" y="279252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79680" y="272412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79680" y="266544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79680" y="260676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79680" y="254808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79680" y="2489040"/>
            <a:ext cx="42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79680" y="2430360"/>
            <a:ext cx="42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79680" y="2371680"/>
            <a:ext cx="42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79680" y="230364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79680" y="2244600"/>
            <a:ext cx="42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79680" y="2185920"/>
            <a:ext cx="42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79680" y="2127240"/>
            <a:ext cx="42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3840" y="5130720"/>
            <a:ext cx="58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63840" y="4827600"/>
            <a:ext cx="58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63840" y="4533840"/>
            <a:ext cx="58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63840" y="4232160"/>
            <a:ext cx="58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63840" y="3927600"/>
            <a:ext cx="58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63840" y="3633840"/>
            <a:ext cx="58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63840" y="3330720"/>
            <a:ext cx="58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63840" y="3029040"/>
            <a:ext cx="58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63840" y="2724120"/>
            <a:ext cx="58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3840" y="2430360"/>
            <a:ext cx="58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63840" y="2127240"/>
            <a:ext cx="58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22520" y="5130720"/>
            <a:ext cx="7377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543040" y="5130360"/>
            <a:ext cx="1800" cy="4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386240" y="5130360"/>
            <a:ext cx="1440" cy="4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235560" y="5130360"/>
            <a:ext cx="1800" cy="4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077320" y="5130360"/>
            <a:ext cx="1440" cy="4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622520" y="5130360"/>
            <a:ext cx="1440" cy="58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465360" y="5130360"/>
            <a:ext cx="1800" cy="58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315040" y="5130360"/>
            <a:ext cx="1440" cy="58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156440" y="5130360"/>
            <a:ext cx="1440" cy="58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8999640" y="5130360"/>
            <a:ext cx="1440" cy="58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5920" y="210168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91.2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67680" y="293544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63.7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18440" y="338148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48.8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60200" y="317988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55.5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38920" y="225432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86.4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80320" y="304488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60.0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29640" y="363384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40.3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72840" y="307800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58.9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48320" y="239724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81.4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99440" y="310356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58.0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42640" y="375120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36.4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4040" y="318780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55.2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23720" y="50306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13560" y="47275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3560" y="44337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3560" y="412920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13560" y="38275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3560" y="35323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3560" y="32306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3560" y="29275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3560" y="26240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13560" y="23288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02680" y="202716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92760" y="5307120"/>
            <a:ext cx="657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Aspirin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92520" y="5307120"/>
            <a:ext cx="132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ACE inhibitors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68840" y="5307120"/>
            <a:ext cx="1265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Beta-blockers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89080" y="5307120"/>
            <a:ext cx="1113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Reperfusion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24560" y="5661000"/>
            <a:ext cx="1393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Medication</a:t>
            </a: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-1343880" y="3467520"/>
            <a:ext cx="3767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% "ideal patients" receiving</a:t>
            </a: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41480" y="1547640"/>
            <a:ext cx="4861080" cy="28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01960" y="1639800"/>
            <a:ext cx="119160" cy="117720"/>
          </a:xfrm>
          <a:prstGeom prst="rect">
            <a:avLst/>
          </a:prstGeom>
          <a:solidFill>
            <a:srgbClr val="41ff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79080" y="1589040"/>
            <a:ext cx="1347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Major teaching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64080" y="1639800"/>
            <a:ext cx="120600" cy="117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41200" y="1589040"/>
            <a:ext cx="13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Minor teaching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5280" y="1639800"/>
            <a:ext cx="119160" cy="117720"/>
          </a:xfrm>
          <a:prstGeom prst="rect">
            <a:avLst/>
          </a:prstGeom>
          <a:solidFill>
            <a:srgbClr val="ff4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22040" y="1589040"/>
            <a:ext cx="1154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Nonteaching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5960" y="6184800"/>
            <a:ext cx="83725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03280" indent="-503280">
              <a:lnSpc>
                <a:spcPct val="100000"/>
              </a:lnSpc>
              <a:tabLst>
                <a:tab algn="l" pos="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1" lang="en-US" sz="1500" spc="-1" strike="noStrike">
                <a:solidFill>
                  <a:srgbClr val="ff4040"/>
                </a:solidFill>
                <a:latin typeface="Arial"/>
              </a:rPr>
              <a:t>Allison JJ </a:t>
            </a:r>
            <a:r>
              <a:rPr b="1" i="1" lang="en-US" sz="1500" spc="-1" strike="noStrike">
                <a:solidFill>
                  <a:srgbClr val="ff4040"/>
                </a:solidFill>
                <a:latin typeface="Arial"/>
              </a:rPr>
              <a:t>et al</a:t>
            </a:r>
            <a:r>
              <a:rPr b="1" lang="en-US" sz="1500" spc="-1" strike="noStrike">
                <a:solidFill>
                  <a:srgbClr val="ff4040"/>
                </a:solidFill>
                <a:latin typeface="Arial"/>
              </a:rPr>
              <a:t>. Relationship of hospital teaching with quality of care and mortality for Medicare patients with acute MI.  </a:t>
            </a:r>
            <a:r>
              <a:rPr b="1" i="1" lang="en-US" sz="1500" spc="-1" strike="noStrike">
                <a:solidFill>
                  <a:srgbClr val="ff4040"/>
                </a:solidFill>
                <a:latin typeface="Arial"/>
              </a:rPr>
              <a:t>JAMA</a:t>
            </a:r>
            <a:r>
              <a:rPr b="1" lang="en-US" sz="1500" spc="-1" strike="noStrike">
                <a:solidFill>
                  <a:srgbClr val="ff4040"/>
                </a:solidFill>
                <a:latin typeface="Arial"/>
              </a:rPr>
              <a:t> 2000; 284(10):1256-62 (Sep 13).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FC70-E374-47E4-B72E-276ACDB729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754000" y="2179800"/>
            <a:ext cx="373608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900" spc="-1" strike="noStrike">
                <a:solidFill>
                  <a:srgbClr val="ffff00"/>
                </a:solidFill>
                <a:latin typeface="Arial"/>
              </a:rPr>
              <a:t>American health care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900" spc="-1" strike="noStrike">
                <a:solidFill>
                  <a:srgbClr val="ffff00"/>
                </a:solidFill>
                <a:latin typeface="Arial"/>
              </a:rPr>
              <a:t>"gets it </a:t>
            </a:r>
            <a:r>
              <a:rPr b="1" i="1" lang="en-US" sz="2900" spc="-1" strike="noStrike">
                <a:solidFill>
                  <a:srgbClr val="00ff00"/>
                </a:solidFill>
                <a:latin typeface="Arial"/>
              </a:rPr>
              <a:t>right</a:t>
            </a:r>
            <a:r>
              <a:rPr b="1" i="1" lang="en-US" sz="2900" spc="-1" strike="noStrike">
                <a:solidFill>
                  <a:srgbClr val="ffff00"/>
                </a:solidFill>
                <a:latin typeface="Arial"/>
              </a:rPr>
              <a:t>“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4300" spc="-1" strike="noStrike">
                <a:solidFill>
                  <a:srgbClr val="f32d3b"/>
                </a:solidFill>
                <a:latin typeface="Arial"/>
              </a:rPr>
              <a:t>54.9%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900" spc="-1" strike="noStrike">
                <a:solidFill>
                  <a:srgbClr val="ffff00"/>
                </a:solidFill>
                <a:latin typeface="Arial"/>
              </a:rPr>
              <a:t>of the time.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72640" y="6032520"/>
            <a:ext cx="72399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f32d3b"/>
                </a:solidFill>
                <a:latin typeface="Arial"/>
              </a:rPr>
              <a:t>McGlynn EA, Asch SM, Adams J, </a:t>
            </a:r>
            <a:r>
              <a:rPr b="0" i="1" lang="en-US" sz="1400" spc="-1" strike="noStrike">
                <a:solidFill>
                  <a:srgbClr val="f32d3b"/>
                </a:solidFill>
                <a:latin typeface="Arial"/>
              </a:rPr>
              <a:t>et al</a:t>
            </a:r>
            <a:r>
              <a:rPr b="0" lang="en-US" sz="1400" spc="-1" strike="noStrike">
                <a:solidFill>
                  <a:srgbClr val="f32d3b"/>
                </a:solidFill>
                <a:latin typeface="Arial"/>
              </a:rPr>
              <a:t>.  The quality of health care delivered to adults in the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f32d3b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f32d3b"/>
                </a:solidFill>
                <a:latin typeface="Arial"/>
              </a:rPr>
              <a:t>United States.    </a:t>
            </a:r>
            <a:r>
              <a:rPr b="0" i="1" lang="en-US" sz="1400" spc="-1" strike="noStrike">
                <a:solidFill>
                  <a:srgbClr val="f32d3b"/>
                </a:solidFill>
                <a:latin typeface="Arial"/>
              </a:rPr>
              <a:t>N Engl J Med </a:t>
            </a:r>
            <a:r>
              <a:rPr b="0" lang="en-US" sz="1400" spc="-1" strike="noStrike">
                <a:solidFill>
                  <a:srgbClr val="f32d3b"/>
                </a:solidFill>
                <a:latin typeface="Arial"/>
              </a:rPr>
              <a:t>2003; 348(26):2635-45 (June 26)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0F807-3646-46DB-99DC-946C6BC116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69920" y="291960"/>
            <a:ext cx="7866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dea #1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4040" y="1949400"/>
            <a:ext cx="81248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700" spc="-1" strike="noStrike">
                <a:solidFill>
                  <a:srgbClr val="ffffff"/>
                </a:solidFill>
                <a:latin typeface="Arial"/>
              </a:rPr>
              <a:t>American health care is </a:t>
            </a:r>
            <a:r>
              <a:rPr b="1" i="1" lang="en-US" sz="3500" spc="-1" strike="noStrike">
                <a:solidFill>
                  <a:srgbClr val="00ff00"/>
                </a:solidFill>
                <a:latin typeface="Arial"/>
              </a:rPr>
              <a:t>very good </a:t>
            </a:r>
            <a:r>
              <a:rPr b="1" i="1" lang="en-US" sz="37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37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700" spc="-1" strike="noStrike">
                <a:solidFill>
                  <a:srgbClr val="ffffff"/>
                </a:solidFill>
                <a:latin typeface="Arial"/>
              </a:rPr>
              <a:t>but it could be </a:t>
            </a:r>
            <a:r>
              <a:rPr b="1" i="1" lang="en-US" sz="3500" spc="-1" strike="noStrike">
                <a:solidFill>
                  <a:srgbClr val="f32d3b"/>
                </a:solidFill>
                <a:latin typeface="Arial"/>
              </a:rPr>
              <a:t>much better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90000" y="1916280"/>
            <a:ext cx="124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5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A8C04-79BC-40A4-BBBA-B5992EC311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69920" y="291960"/>
            <a:ext cx="7866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asons for variation and injur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90000" y="1916280"/>
            <a:ext cx="124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5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1676520"/>
            <a:ext cx="746748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Unicode MS"/>
              <a:buChar char="►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omplexity</a:t>
            </a: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buClr>
                <a:srgbClr val="ffff00"/>
              </a:buClr>
              <a:buFont typeface="Arial Unicode MS"/>
              <a:buChar char="●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How many factors can the human mind simultaneously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balance to optimize an outcome? 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―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lan Morris, M.D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buClr>
                <a:srgbClr val="ffff00"/>
              </a:buClr>
              <a:buFont typeface="Arial Unicode MS"/>
              <a:buChar char="●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"The complexity of modern American medicine exceeds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the capacity of the unaided human mind“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―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David Eddy, M.D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Unicode MS"/>
              <a:buChar char="►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Lack of valid clinical knowledge </a:t>
            </a: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(poor evidence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Unicode MS"/>
              <a:buChar char="►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Reliance on subjective judgment</a:t>
            </a: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buClr>
                <a:srgbClr val="ffff00"/>
              </a:buClr>
              <a:buFont typeface="Arial Unicode MS"/>
              <a:buChar char="●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Subjective evaluation is notoriously poor across groups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or over tim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Enthusiasm for unproven methods ..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rk Chassin, M.D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If it might work, do it ..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vid Eddy, M.D., Ph.D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Quality = spare no expense ..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rent James, M.D., M.Stat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4720" y="1295280"/>
            <a:ext cx="32788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700" spc="-1" strike="noStrike">
                <a:solidFill>
                  <a:srgbClr val="ffff00"/>
                </a:solidFill>
                <a:latin typeface="Arial"/>
              </a:rPr>
              <a:t>Clinical uncertainty: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BC55B-3417-4205-B144-EBEF5691F9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74760" y="2475000"/>
            <a:ext cx="4821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500" spc="-1" strike="noStrike">
                <a:solidFill>
                  <a:srgbClr val="ffff00"/>
                </a:solidFill>
                <a:latin typeface="Arial"/>
              </a:rPr>
              <a:t>Medicine used to be </a:t>
            </a:r>
            <a:r>
              <a:rPr b="1" i="1" lang="en-US" sz="2500" spc="-1" strike="noStrike">
                <a:solidFill>
                  <a:srgbClr val="00ff00"/>
                </a:solidFill>
                <a:latin typeface="Arial"/>
              </a:rPr>
              <a:t>simple</a:t>
            </a:r>
            <a:r>
              <a:rPr b="1" i="1" lang="en-US" sz="25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i="1" lang="en-US" sz="2500" spc="-1" strike="noStrike">
                <a:solidFill>
                  <a:srgbClr val="ff6379"/>
                </a:solidFill>
                <a:latin typeface="Arial"/>
              </a:rPr>
              <a:t>ineffective</a:t>
            </a:r>
            <a:r>
              <a:rPr b="1" i="1" lang="en-US" sz="2500" spc="-1" strike="noStrike">
                <a:solidFill>
                  <a:srgbClr val="ffff00"/>
                </a:solidFill>
                <a:latin typeface="Arial"/>
              </a:rPr>
              <a:t>, and relatively </a:t>
            </a:r>
            <a:r>
              <a:rPr b="1" i="1" lang="en-US" sz="2500" spc="-1" strike="noStrike">
                <a:solidFill>
                  <a:srgbClr val="00ff00"/>
                </a:solidFill>
                <a:latin typeface="Arial"/>
              </a:rPr>
              <a:t>safe</a:t>
            </a:r>
            <a:r>
              <a:rPr b="1" i="1" lang="en-US" sz="25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74760" y="3637080"/>
            <a:ext cx="466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500" spc="-1" strike="noStrike">
                <a:solidFill>
                  <a:srgbClr val="ffff00"/>
                </a:solidFill>
                <a:latin typeface="Arial"/>
              </a:rPr>
              <a:t>Now it is </a:t>
            </a:r>
            <a:r>
              <a:rPr b="1" i="1" lang="en-US" sz="2500" spc="-1" strike="noStrike">
                <a:solidFill>
                  <a:srgbClr val="f32d3b"/>
                </a:solidFill>
                <a:latin typeface="Arial"/>
              </a:rPr>
              <a:t>complex</a:t>
            </a:r>
            <a:r>
              <a:rPr b="1" i="1" lang="en-US" sz="25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i="1" lang="en-US" sz="2500" spc="-1" strike="noStrike">
                <a:solidFill>
                  <a:srgbClr val="00ff00"/>
                </a:solidFill>
                <a:latin typeface="Arial"/>
              </a:rPr>
              <a:t>effective</a:t>
            </a:r>
            <a:r>
              <a:rPr b="1" i="1" lang="en-US" sz="2500" spc="-1" strike="noStrike">
                <a:solidFill>
                  <a:srgbClr val="ffff00"/>
                </a:solidFill>
                <a:latin typeface="Arial"/>
              </a:rPr>
              <a:t>, and potentially </a:t>
            </a:r>
            <a:r>
              <a:rPr b="1" i="1" lang="en-US" sz="2500" spc="-1" strike="noStrike">
                <a:solidFill>
                  <a:srgbClr val="f32d3b"/>
                </a:solidFill>
                <a:latin typeface="Arial"/>
              </a:rPr>
              <a:t>dangerous</a:t>
            </a:r>
            <a:r>
              <a:rPr b="1" i="1" lang="en-US" sz="25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39760" y="5754600"/>
            <a:ext cx="59835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f32d3b"/>
                </a:solidFill>
                <a:latin typeface="Arial"/>
              </a:rPr>
              <a:t>Neal G.  Reducing risks in the practice of hospital general medicine.  In </a:t>
            </a:r>
            <a:r>
              <a:rPr b="0" i="1" lang="en-US" sz="1300" spc="-1" strike="noStrike">
                <a:solidFill>
                  <a:srgbClr val="f32d3b"/>
                </a:solidFill>
                <a:latin typeface="Arial"/>
              </a:rPr>
              <a:t>Clinical Risk Management, 2nd edition</a:t>
            </a:r>
            <a:r>
              <a:rPr b="0" lang="en-US" sz="1300" spc="-1" strike="noStrike">
                <a:solidFill>
                  <a:srgbClr val="f32d3b"/>
                </a:solidFill>
                <a:latin typeface="Arial"/>
              </a:rPr>
              <a:t>.  British Medical Journal, 2001.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f32d3b"/>
                </a:solidFill>
                <a:latin typeface="Arial"/>
              </a:rPr>
              <a:t>Chantler, Cyril.  The role and education of doctors in the delivery of health care. </a:t>
            </a:r>
            <a:r>
              <a:rPr b="0" i="1" lang="en-US" sz="1300" spc="-1" strike="noStrike">
                <a:solidFill>
                  <a:srgbClr val="f32d3b"/>
                </a:solidFill>
                <a:latin typeface="Arial"/>
              </a:rPr>
              <a:t>Lancet</a:t>
            </a:r>
            <a:r>
              <a:rPr b="0" lang="en-US" sz="1300" spc="-1" strike="noStrike">
                <a:solidFill>
                  <a:srgbClr val="f32d3b"/>
                </a:solidFill>
                <a:latin typeface="Arial"/>
              </a:rPr>
              <a:t> 1999; 353:1178-81.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74120" y="4628880"/>
            <a:ext cx="1637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Sir Cyril Chantler</a:t>
            </a:r>
            <a:endParaRPr b="0" lang="en-US" sz="1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4A3E8-676F-49BF-8DED-6DCCB3E1B2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69920" y="291960"/>
            <a:ext cx="78660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re most injuries unavoidable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90000" y="1916280"/>
            <a:ext cx="124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5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96760" y="1612800"/>
            <a:ext cx="6703200" cy="28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price we pa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c0c0c0"/>
                </a:solidFill>
                <a:latin typeface="Arial"/>
              </a:rPr>
              <a:t>                        </a:t>
            </a:r>
            <a:r>
              <a:rPr b="1" i="1" lang="en-US" sz="2200" spc="-1" strike="noStrike">
                <a:solidFill>
                  <a:srgbClr val="c0c0c0"/>
                </a:solidFill>
                <a:latin typeface="Arial"/>
              </a:rPr>
              <a:t>(for)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iseases of medical progr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10480" y="4729320"/>
            <a:ext cx="7869600" cy="1066320"/>
            <a:chOff x="510480" y="4729320"/>
            <a:chExt cx="7869600" cy="1066320"/>
          </a:xfrm>
        </p:grpSpPr>
        <p:sp>
          <p:nvSpPr>
            <p:cNvPr id="233" name=""/>
            <p:cNvSpPr/>
            <p:nvPr/>
          </p:nvSpPr>
          <p:spPr>
            <a:xfrm>
              <a:off x="545400" y="5234400"/>
              <a:ext cx="869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Barr, David.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44520" y="5234400"/>
              <a:ext cx="3292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  </a:t>
              </a: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Hazards of modern diagnosis and therapy - 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55080" y="5234400"/>
              <a:ext cx="1198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the price we pay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70080" y="523440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.  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88520" y="523440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300" spc="-1" strike="noStrike">
                  <a:solidFill>
                    <a:srgbClr val="f32d3b"/>
                  </a:solidFill>
                  <a:latin typeface="Arial"/>
                </a:rPr>
                <a:t>JAMA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12520" y="5234400"/>
              <a:ext cx="2158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1955; 159(115):1452-6 (Dec 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08560" y="540252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10).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9120" y="5597280"/>
              <a:ext cx="1344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Moser, Robert H.  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74440" y="5597280"/>
              <a:ext cx="2158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Diseases of medical progress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78360" y="559728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.  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066200" y="5597280"/>
              <a:ext cx="988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300" spc="-1" strike="noStrike">
                  <a:solidFill>
                    <a:srgbClr val="f32d3b"/>
                  </a:solidFill>
                  <a:latin typeface="Arial"/>
                </a:rPr>
                <a:t>N Engl J Med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42080" y="5597280"/>
              <a:ext cx="2350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1956; 255(13):606-14 (Sep 27).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10480" y="4729320"/>
              <a:ext cx="1409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Blendon, Robert J. 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36440" y="472932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300" spc="-1" strike="noStrike">
                  <a:solidFill>
                    <a:srgbClr val="f32d3b"/>
                  </a:solidFill>
                  <a:latin typeface="Arial"/>
                </a:rPr>
                <a:t>et al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48200" y="472932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.  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20760" y="4729320"/>
              <a:ext cx="4709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Views of practicing physicians and the public on medical errors.  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96160" y="4729320"/>
              <a:ext cx="988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300" spc="-1" strike="noStrike">
                  <a:solidFill>
                    <a:srgbClr val="f32d3b"/>
                  </a:solidFill>
                  <a:latin typeface="Arial"/>
                </a:rPr>
                <a:t>N Engl J Med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76440" y="472932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2002; 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8120" y="4898520"/>
              <a:ext cx="193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300" spc="-1" strike="noStrike">
                  <a:solidFill>
                    <a:srgbClr val="f32d3b"/>
                  </a:solidFill>
                  <a:latin typeface="Arial"/>
                </a:rPr>
                <a:t>347(24):1933-40 (Dec 12).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D660D-333B-4FC4-89FD-F262078923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69560" y="604440"/>
            <a:ext cx="627228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Beta blockers at discharg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5440" y="1371600"/>
            <a:ext cx="8936280" cy="4803840"/>
            <a:chOff x="55440" y="1371600"/>
            <a:chExt cx="8936280" cy="4803840"/>
          </a:xfrm>
        </p:grpSpPr>
        <p:sp>
          <p:nvSpPr>
            <p:cNvPr id="254" name=""/>
            <p:cNvSpPr/>
            <p:nvPr/>
          </p:nvSpPr>
          <p:spPr>
            <a:xfrm>
              <a:off x="3259080" y="1371600"/>
              <a:ext cx="27100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500" spc="-1" strike="noStrike">
                  <a:solidFill>
                    <a:srgbClr val="ffffff"/>
                  </a:solidFill>
                  <a:latin typeface="Arial"/>
                </a:rPr>
                <a:t>Beta blockers at discharge</a:t>
              </a:r>
              <a:endParaRPr b="0" lang="en-US" sz="15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8780000">
              <a:off x="518400" y="5664600"/>
              <a:ext cx="42372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Jan 99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780000">
              <a:off x="964440" y="5624640"/>
              <a:ext cx="31284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Feb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780000">
              <a:off x="1392120" y="5597280"/>
              <a:ext cx="2797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Mar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780000">
              <a:off x="1773000" y="5587560"/>
              <a:ext cx="25380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Apr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8780000">
              <a:off x="2103120" y="5598720"/>
              <a:ext cx="2984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May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8780000">
              <a:off x="2485800" y="5591160"/>
              <a:ext cx="2685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Jun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8780000">
              <a:off x="2891520" y="5572800"/>
              <a:ext cx="2095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Jul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780000">
              <a:off x="3188160" y="5599440"/>
              <a:ext cx="2970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8780000">
              <a:off x="3565080" y="5594040"/>
              <a:ext cx="27792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Sep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780000">
              <a:off x="3947040" y="5585760"/>
              <a:ext cx="2462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Oct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780000">
              <a:off x="4279320" y="5597280"/>
              <a:ext cx="28908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Nov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8780000">
              <a:off x="4649040" y="5595120"/>
              <a:ext cx="2779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8780000">
              <a:off x="4837680" y="5667840"/>
              <a:ext cx="5097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Jan 00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8780000">
              <a:off x="5376600" y="5592600"/>
              <a:ext cx="2700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Feb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8780000">
              <a:off x="5738040" y="5591520"/>
              <a:ext cx="2635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Mar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8780000">
              <a:off x="6108480" y="5587560"/>
              <a:ext cx="25380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Apr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8780000">
              <a:off x="6438600" y="5598720"/>
              <a:ext cx="2984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May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8780000">
              <a:off x="6820560" y="5590080"/>
              <a:ext cx="2700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Jun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8780000">
              <a:off x="7227000" y="5572800"/>
              <a:ext cx="2095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Jul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8780000">
              <a:off x="7522200" y="5601240"/>
              <a:ext cx="2984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8780000">
              <a:off x="7897320" y="5594040"/>
              <a:ext cx="2764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Sep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780000">
              <a:off x="8281800" y="5586120"/>
              <a:ext cx="2462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Oct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1360" y="5322960"/>
              <a:ext cx="7632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8680" y="4651200"/>
              <a:ext cx="1951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8680" y="3978360"/>
              <a:ext cx="1951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8680" y="3306600"/>
              <a:ext cx="195120" cy="1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8680" y="2637000"/>
              <a:ext cx="19512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1360" y="1963800"/>
              <a:ext cx="763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796240" y="5322960"/>
              <a:ext cx="777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96240" y="4651200"/>
              <a:ext cx="19548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96240" y="3978360"/>
              <a:ext cx="1954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96240" y="3306600"/>
              <a:ext cx="195480" cy="1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796240" y="2637000"/>
              <a:ext cx="19548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796240" y="1963800"/>
              <a:ext cx="777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68680" y="2062080"/>
              <a:ext cx="5781600" cy="1414440"/>
            </a:xfrm>
            <a:custGeom>
              <a:avLst/>
              <a:gdLst/>
              <a:ahLst/>
              <a:rect l="l" t="t" r="r" b="b"/>
              <a:pathLst>
                <a:path w="4129" h="1042">
                  <a:moveTo>
                    <a:pt x="0" y="1041"/>
                  </a:moveTo>
                  <a:lnTo>
                    <a:pt x="258" y="25"/>
                  </a:lnTo>
                  <a:lnTo>
                    <a:pt x="516" y="111"/>
                  </a:lnTo>
                  <a:lnTo>
                    <a:pt x="774" y="147"/>
                  </a:lnTo>
                  <a:lnTo>
                    <a:pt x="1032" y="248"/>
                  </a:lnTo>
                  <a:lnTo>
                    <a:pt x="1290" y="390"/>
                  </a:lnTo>
                  <a:lnTo>
                    <a:pt x="1548" y="214"/>
                  </a:lnTo>
                  <a:lnTo>
                    <a:pt x="1806" y="79"/>
                  </a:lnTo>
                  <a:lnTo>
                    <a:pt x="2064" y="295"/>
                  </a:lnTo>
                  <a:lnTo>
                    <a:pt x="2322" y="87"/>
                  </a:lnTo>
                  <a:lnTo>
                    <a:pt x="2580" y="16"/>
                  </a:lnTo>
                  <a:lnTo>
                    <a:pt x="2838" y="0"/>
                  </a:lnTo>
                  <a:lnTo>
                    <a:pt x="3096" y="103"/>
                  </a:lnTo>
                  <a:lnTo>
                    <a:pt x="3354" y="14"/>
                  </a:lnTo>
                  <a:lnTo>
                    <a:pt x="3612" y="101"/>
                  </a:lnTo>
                  <a:lnTo>
                    <a:pt x="3870" y="51"/>
                  </a:lnTo>
                  <a:lnTo>
                    <a:pt x="4128" y="38"/>
                  </a:lnTo>
                </a:path>
              </a:pathLst>
            </a:custGeom>
            <a:noFill/>
            <a:ln w="31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457360" y="3273480"/>
              <a:ext cx="3333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57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19520" y="1893960"/>
              <a:ext cx="3333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98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176640" y="2009880"/>
              <a:ext cx="33804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95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41680" y="2057400"/>
              <a:ext cx="3333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9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02040" y="2195640"/>
              <a:ext cx="3333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89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64200" y="2387520"/>
              <a:ext cx="3333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8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26000" y="2149560"/>
              <a:ext cx="3333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90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86360" y="1967040"/>
              <a:ext cx="33336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96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46720" y="2259000"/>
              <a:ext cx="3333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87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08520" y="1978200"/>
              <a:ext cx="33336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96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70680" y="1881360"/>
              <a:ext cx="3315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98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431040" y="1857240"/>
              <a:ext cx="3348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99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91400" y="1998720"/>
              <a:ext cx="3348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95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53200" y="1876320"/>
              <a:ext cx="3351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99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13560" y="1996920"/>
              <a:ext cx="33336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95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77160" y="1928880"/>
              <a:ext cx="3333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97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37520" y="1909800"/>
              <a:ext cx="3333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</a:rPr>
                <a:t>0.98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06760" y="5989680"/>
              <a:ext cx="5223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300" spc="-1" strike="noStrike">
                  <a:solidFill>
                    <a:srgbClr val="ffffff"/>
                  </a:solidFill>
                  <a:latin typeface="Arial"/>
                </a:rPr>
                <a:t>Month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6200000">
              <a:off x="-1332360" y="3423240"/>
              <a:ext cx="296856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300" spc="-1" strike="noStrike">
                  <a:solidFill>
                    <a:srgbClr val="ffffff"/>
                  </a:solidFill>
                  <a:latin typeface="Arial"/>
                </a:rPr>
                <a:t>Proportion "ideal" patients receiving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86364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122400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158436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194796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30652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66868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02904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339264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75300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411336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447516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83552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519732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555948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91984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28020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664200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00416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736452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772632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808668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8448840" y="5389200"/>
              <a:ext cx="0" cy="9540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66720" y="5054760"/>
              <a:ext cx="4752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6720" y="4383000"/>
              <a:ext cx="4752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6720" y="3711600"/>
              <a:ext cx="4752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66720" y="3040200"/>
              <a:ext cx="4752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66720" y="2367000"/>
              <a:ext cx="4752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6720" y="1697040"/>
              <a:ext cx="4752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7400" y="5391000"/>
              <a:ext cx="9684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7400" y="4719600"/>
              <a:ext cx="9684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17400" y="4046400"/>
              <a:ext cx="9684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17400" y="3375000"/>
              <a:ext cx="9684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17400" y="2705040"/>
              <a:ext cx="9684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17400" y="2031840"/>
              <a:ext cx="9684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8594280" y="5054760"/>
              <a:ext cx="4932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8594280" y="4383000"/>
              <a:ext cx="4932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8594280" y="3711600"/>
              <a:ext cx="4932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8594280" y="3040200"/>
              <a:ext cx="4932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8594280" y="2367000"/>
              <a:ext cx="4932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594280" y="1697040"/>
              <a:ext cx="4932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8594640" y="5391000"/>
              <a:ext cx="9864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8594640" y="4719600"/>
              <a:ext cx="9864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8594640" y="4046400"/>
              <a:ext cx="9864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8594640" y="3375000"/>
              <a:ext cx="9864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8594640" y="2705040"/>
              <a:ext cx="9864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8594640" y="2031840"/>
              <a:ext cx="98640" cy="0"/>
            </a:xfrm>
            <a:prstGeom prst="line">
              <a:avLst/>
            </a:prstGeom>
            <a:ln w="9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4240" y="1697040"/>
              <a:ext cx="7882200" cy="3693960"/>
            </a:xfrm>
            <a:custGeom>
              <a:avLst/>
              <a:gdLst/>
              <a:ahLst/>
              <a:rect l="l" t="t" r="r" b="b"/>
              <a:pathLst>
                <a:path w="5629" h="2720">
                  <a:moveTo>
                    <a:pt x="5628" y="0"/>
                  </a:moveTo>
                  <a:lnTo>
                    <a:pt x="0" y="0"/>
                  </a:lnTo>
                  <a:lnTo>
                    <a:pt x="0" y="2719"/>
                  </a:lnTo>
                  <a:lnTo>
                    <a:pt x="5628" y="2719"/>
                  </a:lnTo>
                  <a:lnTo>
                    <a:pt x="562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41560" y="5148360"/>
              <a:ext cx="1713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52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01920" y="5148360"/>
              <a:ext cx="1731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93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60840" y="5148360"/>
              <a:ext cx="1746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88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22640" y="5148360"/>
              <a:ext cx="1731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64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84800" y="5148360"/>
              <a:ext cx="1746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78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00520" y="5148360"/>
              <a:ext cx="2523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105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102280" y="5148360"/>
              <a:ext cx="1713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98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16560" y="5148360"/>
              <a:ext cx="2541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117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783400" y="5148360"/>
              <a:ext cx="2538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136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49880" y="5148360"/>
              <a:ext cx="2523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128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15280" y="5148360"/>
              <a:ext cx="2523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115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80320" y="5148360"/>
              <a:ext cx="2538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138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245360" y="5148360"/>
              <a:ext cx="2541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137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610400" y="5148360"/>
              <a:ext cx="2541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140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977240" y="5148360"/>
              <a:ext cx="2523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135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48760" y="5148360"/>
              <a:ext cx="2538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124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16040" y="5148360"/>
              <a:ext cx="1312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100" spc="-1" strike="noStrike">
                  <a:solidFill>
                    <a:srgbClr val="ffff00"/>
                  </a:solidFill>
                  <a:latin typeface="Arial"/>
                </a:rPr>
                <a:t>n (ideal patients) =</a:t>
              </a:r>
              <a:endParaRPr b="0" lang="en-US" sz="11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746680" y="3794040"/>
              <a:ext cx="0" cy="4636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4657680" y="3794040"/>
              <a:ext cx="0" cy="4636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2857680" y="3794040"/>
              <a:ext cx="0" cy="4636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793960" y="4329000"/>
              <a:ext cx="1238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4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03680" y="4329000"/>
              <a:ext cx="122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4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92680" y="4329000"/>
              <a:ext cx="122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2280"/>
                  <a:tab algn="l" pos="844560"/>
                  <a:tab algn="l" pos="1266840"/>
                  <a:tab algn="l" pos="1689120"/>
                  <a:tab algn="l" pos="2111400"/>
                  <a:tab algn="l" pos="2533680"/>
                  <a:tab algn="l" pos="2955960"/>
                  <a:tab algn="l" pos="3378240"/>
                  <a:tab algn="l" pos="3800520"/>
                  <a:tab algn="l" pos="4222800"/>
                  <a:tab algn="l" pos="4645080"/>
                  <a:tab algn="l" pos="5067360"/>
                  <a:tab algn="l" pos="5489640"/>
                  <a:tab algn="l" pos="5911920"/>
                  <a:tab algn="l" pos="6334200"/>
                  <a:tab algn="l" pos="6756480"/>
                  <a:tab algn="l" pos="7178760"/>
                  <a:tab algn="l" pos="7601040"/>
                  <a:tab algn="l" pos="8023320"/>
                  <a:tab algn="l" pos="8445600"/>
                </a:tabLst>
              </a:pPr>
              <a:r>
                <a:rPr b="1" i="1" lang="en-US" sz="14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776160" y="3486240"/>
              <a:ext cx="1844640" cy="0"/>
            </a:xfrm>
            <a:prstGeom prst="line">
              <a:avLst/>
            </a:prstGeom>
            <a:ln w="31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602080" y="3489480"/>
              <a:ext cx="5970600" cy="0"/>
            </a:xfrm>
            <a:prstGeom prst="line">
              <a:avLst/>
            </a:prstGeom>
            <a:ln w="1908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08360" y="2378160"/>
              <a:ext cx="5778360" cy="0"/>
            </a:xfrm>
            <a:prstGeom prst="line">
              <a:avLst/>
            </a:prstGeom>
            <a:ln w="1908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BFA9-EF87-4768-8F02-E8FE51835546}" type="slidenum">
              <a:t>18</a:t>
            </a:fld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58808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ardiac discharge medicine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838080" y="990720"/>
          <a:ext cx="74250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4250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702720" y="6351480"/>
            <a:ext cx="49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HF = Chronic heart failure;  IHD = Ischaemic heart diseas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49E24-FC6F-4094-8E79-1B21F38163B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emergence of modern medici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4280" y="2027160"/>
            <a:ext cx="2228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~1860 - 1910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8760" y="2693880"/>
            <a:ext cx="7033320" cy="20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WP IconicSymbolsA" charset="2"/>
              <a:buChar char="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ew high standards for clinical educa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WP IconicSymbolsA" charset="2"/>
              <a:buChar char="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trict requirements for professional licens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WP IconicSymbolsA" charset="2"/>
              <a:buChar char="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linical practice founded on scientific researc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WP IconicSymbolsA" charset="2"/>
              <a:buChar char="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ew internal organization for hospital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CBC1C-860B-4A32-BDE4-A0469F7F5C3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98336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eo-natal intensive care unit (NICU) admits by weeks gestation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533520" y="990720"/>
          <a:ext cx="81914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81914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DDE9E-7691-4B43-8D27-22CF4C01E5A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58808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Elective inductions &lt; 39 week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336600" y="1258920"/>
          <a:ext cx="8607240" cy="539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1258920"/>
                    <a:ext cx="860724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8FE2-CFED-46DD-9E1B-F3BEEDA2DBA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58808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Unplanned c-section rate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468360" y="1303200"/>
          <a:ext cx="8275680" cy="53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03200"/>
                    <a:ext cx="8275680" cy="53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C355-AB02-419F-8764-EB55B469E07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Average hours in labor &amp; deliver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471600" y="1297080"/>
          <a:ext cx="8202600" cy="53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1297080"/>
                    <a:ext cx="8202600" cy="53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B73FE-9E64-4F45-91C3-55758CFAA80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Primiparous elective induction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471600" y="1355760"/>
          <a:ext cx="8407440" cy="52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1355760"/>
                    <a:ext cx="8407440" cy="52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3493-A48D-4AAE-8073-3F45B938F0E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Labor &amp; delivery variable cos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471600" y="1387440"/>
          <a:ext cx="8267760" cy="51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1387440"/>
                    <a:ext cx="8267760" cy="51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E7BEE-6EC9-42C6-A970-79E46435BAE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Well newborn bilirubin testing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539640" y="1322280"/>
          <a:ext cx="8340840" cy="522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322280"/>
                    <a:ext cx="8340840" cy="52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17D7B-8C1F-4FF9-AB37-AEF7FDAD052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135000" y="160200"/>
          <a:ext cx="8874000" cy="653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000" y="160200"/>
                    <a:ext cx="8874000" cy="653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533B-A4BF-4523-B5AB-D9F36BAD9FD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Newborns w/ hyperbilirubinemia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270000" y="1292400"/>
          <a:ext cx="8604000" cy="52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1292400"/>
                    <a:ext cx="8604000" cy="52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464D-291C-48C1-9ED3-47707F7B833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Hyperbilirubinemia readmission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270000" y="1278000"/>
          <a:ext cx="8604000" cy="526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1278000"/>
                    <a:ext cx="8604000" cy="52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D0CD2-3506-409D-BAA5-A4375C015BD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912:  The ‘Great Divide’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1960" y="1816200"/>
            <a:ext cx="7688160" cy="41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"... for the first time in human history, a </a:t>
            </a: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random patient with a random disease</a:t>
            </a: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consulting a doctor chosen at random </a:t>
            </a: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stands a better than 50/50 chance of </a:t>
            </a: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benefiting from the encounter.“</a:t>
            </a: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  <a:p>
            <a:pPr lvl="2" marL="820800" algn="ctr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Arial"/>
              </a:rPr>
              <a:t>Harvard Professor L. Henderson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2" marL="820800" algn="ctr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 lvl="2" marL="820800" algn="ctr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 lvl="2" marL="82080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f32d3b"/>
                </a:solidFill>
                <a:latin typeface="Arial"/>
              </a:rPr>
              <a:t>(Harris, Richard. </a:t>
            </a:r>
            <a:r>
              <a:rPr b="0" i="1" lang="en-US" sz="1400" spc="-1" strike="noStrike">
                <a:solidFill>
                  <a:srgbClr val="f32d3b"/>
                </a:solidFill>
                <a:latin typeface="Arial"/>
              </a:rPr>
              <a:t>A Sacred Trust </a:t>
            </a:r>
            <a:r>
              <a:rPr b="0" lang="en-US" sz="1400" spc="-1" strike="noStrike">
                <a:solidFill>
                  <a:srgbClr val="f32d3b"/>
                </a:solidFill>
                <a:latin typeface="Arial"/>
              </a:rPr>
              <a:t>.  New York, NY: New American Library, 1966)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070E8-3457-495D-A4A6-EFA9BF781A3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Protocols can improve car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92280" y="1344600"/>
            <a:ext cx="77659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09680" indent="-409680">
              <a:lnSpc>
                <a:spcPct val="12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 multidisciplinary team of health professionals </a:t>
            </a:r>
            <a:r>
              <a:rPr b="1" i="1" lang="en-US" sz="2000" spc="-1" strike="noStrike">
                <a:solidFill>
                  <a:srgbClr val="ffff00"/>
                </a:solidFill>
                <a:latin typeface="Book Antiqua"/>
              </a:rPr>
              <a:t>―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409680" indent="-409680">
              <a:lnSpc>
                <a:spcPct val="125000"/>
              </a:lnSpc>
              <a:buClr>
                <a:srgbClr val="ffff00"/>
              </a:buClr>
              <a:buFont typeface="Arial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elect a high priority care proces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409680" indent="-409680">
              <a:lnSpc>
                <a:spcPct val="125000"/>
              </a:lnSpc>
              <a:buClr>
                <a:srgbClr val="ffff00"/>
              </a:buClr>
              <a:buFont typeface="Arial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nerate an evidence-based "best practice" guidelin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409680" indent="-409680">
              <a:lnSpc>
                <a:spcPct val="125000"/>
              </a:lnSpc>
              <a:buClr>
                <a:srgbClr val="ffff00"/>
              </a:buClr>
              <a:buFont typeface="Arial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Blend the guideline into the flow of clinical work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820800" indent="-411120">
              <a:lnSpc>
                <a:spcPct val="80000"/>
              </a:lnSpc>
              <a:buClr>
                <a:srgbClr val="ffffff"/>
              </a:buClr>
              <a:buSzPct val="85000"/>
              <a:buFont typeface="Wingdings" charset="2"/>
              <a:buChar char="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a0a0a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a0a0a0"/>
                </a:solidFill>
                <a:latin typeface="Arial"/>
              </a:rPr>
              <a:t>staffing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820800" indent="-411120">
              <a:lnSpc>
                <a:spcPct val="80000"/>
              </a:lnSpc>
              <a:buClr>
                <a:srgbClr val="ffffff"/>
              </a:buClr>
              <a:buSzPct val="85000"/>
              <a:buFont typeface="Wingdings" charset="2"/>
              <a:buChar char="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a0a0a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a0a0a0"/>
                </a:solidFill>
                <a:latin typeface="Arial"/>
              </a:rPr>
              <a:t>training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820800" indent="-411120">
              <a:lnSpc>
                <a:spcPct val="80000"/>
              </a:lnSpc>
              <a:buClr>
                <a:srgbClr val="ffffff"/>
              </a:buClr>
              <a:buSzPct val="85000"/>
              <a:buFont typeface="Wingdings" charset="2"/>
              <a:buChar char="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a0a0a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a0a0a0"/>
                </a:solidFill>
                <a:latin typeface="Arial"/>
              </a:rPr>
              <a:t>suppli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820800" indent="-411120">
              <a:lnSpc>
                <a:spcPct val="80000"/>
              </a:lnSpc>
              <a:buClr>
                <a:srgbClr val="ffffff"/>
              </a:buClr>
              <a:buSzPct val="85000"/>
              <a:buFont typeface="Wingdings" charset="2"/>
              <a:buChar char="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a0a0a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a0a0a0"/>
                </a:solidFill>
                <a:latin typeface="Arial"/>
              </a:rPr>
              <a:t>physical layou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820800" indent="-411120">
              <a:lnSpc>
                <a:spcPct val="80000"/>
              </a:lnSpc>
              <a:buClr>
                <a:srgbClr val="ffffff"/>
              </a:buClr>
              <a:buSzPct val="85000"/>
              <a:buFont typeface="Wingdings" charset="2"/>
              <a:buChar char="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a0a0a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a0a0a0"/>
                </a:solidFill>
                <a:latin typeface="Arial"/>
              </a:rPr>
              <a:t>measurement / information flow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820800" indent="-411120">
              <a:lnSpc>
                <a:spcPct val="80000"/>
              </a:lnSpc>
              <a:buClr>
                <a:srgbClr val="ffffff"/>
              </a:buClr>
              <a:buSzPct val="85000"/>
              <a:buFont typeface="Wingdings" charset="2"/>
              <a:buChar char="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a0a0a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a0a0a0"/>
                </a:solidFill>
                <a:latin typeface="Arial"/>
              </a:rPr>
              <a:t>educational material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820800" indent="-411120">
              <a:lnSpc>
                <a:spcPct val="80000"/>
              </a:lnSpc>
              <a:buClr>
                <a:srgbClr val="ffffff"/>
              </a:buClr>
              <a:buFont typeface="Arial Unicode MS"/>
              <a:buChar char="◆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buClr>
                <a:srgbClr val="ffff00"/>
              </a:buClr>
              <a:buFont typeface="Arial"/>
              <a:buAutoNum type="arabicPeriod" startAt="4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se the guideline as a shared baseline, with clinicians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409680" indent="-409680">
              <a:lnSpc>
                <a:spcPct val="12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ree to vary based on individual patient need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409680" indent="-409680">
              <a:lnSpc>
                <a:spcPct val="125000"/>
              </a:lnSpc>
              <a:buClr>
                <a:srgbClr val="ffff00"/>
              </a:buClr>
              <a:buFont typeface="Arial"/>
              <a:buAutoNum type="arabicPeriod" startAt="5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easure, learn from, and (over time) eliminate variation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rising from professionals; retain variation arising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rom patients              </a:t>
            </a:r>
            <a:r>
              <a:rPr b="1" i="1" lang="en-US" sz="2000" spc="-1" strike="noStrike">
                <a:solidFill>
                  <a:srgbClr val="a0a0a0"/>
                </a:solidFill>
                <a:latin typeface="Arial"/>
              </a:rPr>
              <a:t>("mass customization"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57F7-7EB1-4145-9F08-60C546F0E06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Lean product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914400" y="1600200"/>
            <a:ext cx="731520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standardized processes </a:t>
            </a:r>
            <a:r>
              <a:rPr b="1" i="1" lang="en-US" sz="2100" spc="-1" strike="noStrike">
                <a:solidFill>
                  <a:srgbClr val="c0c0c0"/>
                </a:solidFill>
                <a:latin typeface="Arial"/>
              </a:rPr>
              <a:t>with</a:t>
            </a: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"smart cogs“ </a:t>
            </a:r>
            <a:r>
              <a:rPr b="1" i="1" lang="en-US" sz="2100" spc="-1" strike="noStrike">
                <a:solidFill>
                  <a:srgbClr val="c0c0c0"/>
                </a:solidFill>
                <a:latin typeface="Arial"/>
              </a:rPr>
              <a:t>that</a:t>
            </a: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adapt to individual needs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 Unicode MS"/>
              <a:buChar char="◆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100" spc="-1" strike="noStrike">
                <a:solidFill>
                  <a:srgbClr val="c0c0c0"/>
                </a:solidFill>
                <a:latin typeface="Arial"/>
              </a:rPr>
              <a:t>That is, "mass customization:“</a:t>
            </a: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900" spc="-1" strike="noStrike">
                <a:solidFill>
                  <a:srgbClr val="ffff00"/>
                </a:solidFill>
                <a:latin typeface="Arial"/>
              </a:rPr>
              <a:t>efficient processes that can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900" spc="-1" strike="noStrike">
                <a:solidFill>
                  <a:srgbClr val="ffff00"/>
                </a:solidFill>
                <a:latin typeface="Arial"/>
              </a:rPr>
              <a:t>deal with complexity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4349E-1422-4D07-860A-A0B8D46A15E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Idea #2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8960" y="1344600"/>
            <a:ext cx="7966800" cy="50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600" spc="-1" strike="noStrike">
                <a:solidFill>
                  <a:srgbClr val="c0c0c0"/>
                </a:solidFill>
                <a:latin typeface="Arial"/>
              </a:rPr>
              <a:t>The health professions - and health care delivery –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600" spc="-1" strike="noStrike">
                <a:solidFill>
                  <a:srgbClr val="c0c0c0"/>
                </a:solidFill>
                <a:latin typeface="Arial"/>
              </a:rPr>
              <a:t>are </a:t>
            </a:r>
            <a:r>
              <a:rPr b="1" i="1" lang="en-US" sz="3100" spc="-1" strike="noStrike">
                <a:solidFill>
                  <a:srgbClr val="ffff00"/>
                </a:solidFill>
                <a:latin typeface="Arial"/>
              </a:rPr>
              <a:t>changing </a:t>
            </a:r>
            <a:r>
              <a:rPr b="1" i="1" lang="en-US" sz="2600" spc="-1" strike="noStrike">
                <a:solidFill>
                  <a:srgbClr val="c0c0c0"/>
                </a:solidFill>
                <a:latin typeface="Arial"/>
              </a:rPr>
              <a:t>...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c0c0c0"/>
                </a:solidFill>
                <a:latin typeface="Arial"/>
              </a:rPr>
              <a:t>From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craft-based practice</a:t>
            </a:r>
            <a:r>
              <a:rPr b="1" i="1" lang="en-US" sz="19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ffff00"/>
                </a:solidFill>
                <a:latin typeface="Arial"/>
              </a:rPr>
              <a:t>individual physicians, working alone </a:t>
            </a:r>
            <a:r>
              <a:rPr b="1" i="1" lang="en-US" sz="1400" spc="-1" strike="noStrike">
                <a:solidFill>
                  <a:srgbClr val="c0c0c0"/>
                </a:solidFill>
                <a:latin typeface="Arial"/>
              </a:rPr>
              <a:t>(house/staff = apprentices)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ffff00"/>
                </a:solidFill>
                <a:latin typeface="Arial"/>
              </a:rPr>
              <a:t>handcraft a customized solution for each patient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ffff00"/>
                </a:solidFill>
                <a:latin typeface="Arial"/>
              </a:rPr>
              <a:t>based on a core ethical commitment to the patient and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ffff00"/>
                </a:solidFill>
                <a:latin typeface="Arial"/>
              </a:rPr>
              <a:t>vast personal knowledge gained from training and experience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c0c0c0"/>
                </a:solidFill>
                <a:latin typeface="Arial"/>
              </a:rPr>
              <a:t>To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profession-based practice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ffff00"/>
                </a:solidFill>
                <a:latin typeface="Arial"/>
              </a:rPr>
              <a:t>groups of peers, treating similar patients in a shared setting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ffff00"/>
                </a:solidFill>
                <a:latin typeface="Arial"/>
              </a:rPr>
              <a:t>plan coordinated care delivery processes </a:t>
            </a:r>
            <a:r>
              <a:rPr b="1" i="1" lang="en-US" sz="1400" spc="-1" strike="noStrike">
                <a:solidFill>
                  <a:srgbClr val="c0c0c0"/>
                </a:solidFill>
                <a:latin typeface="Arial"/>
              </a:rPr>
              <a:t>(e.g., standing order sets)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ffff00"/>
                </a:solidFill>
                <a:latin typeface="Arial"/>
              </a:rPr>
              <a:t>which individual clinicians adapt to specific patient needs 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7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1" i="1" lang="en-US" sz="1700" spc="-1" strike="noStrike">
                <a:solidFill>
                  <a:srgbClr val="c0c0c0"/>
                </a:solidFill>
                <a:latin typeface="Arial"/>
              </a:rPr>
              <a:t>early experience shows</a:t>
            </a:r>
            <a:endParaRPr b="0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 lvl="2" marL="820800">
              <a:lnSpc>
                <a:spcPct val="100000"/>
              </a:lnSpc>
              <a:buClr>
                <a:srgbClr val="b2b2b2"/>
              </a:buClr>
              <a:buFont typeface="Arial Unicode MS"/>
              <a:buChar char="►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ess expensive </a:t>
            </a:r>
            <a:r>
              <a:rPr b="1" i="1" lang="en-US" sz="1300" spc="-1" strike="noStrike">
                <a:solidFill>
                  <a:srgbClr val="c0c0c0"/>
                </a:solidFill>
                <a:latin typeface="Arial"/>
              </a:rPr>
              <a:t>(facility can staff, train, supply an organize to a single core process)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 lvl="2" marL="820800">
              <a:lnSpc>
                <a:spcPct val="100000"/>
              </a:lnSpc>
              <a:buClr>
                <a:srgbClr val="b2b2b2"/>
              </a:buClr>
              <a:buFont typeface="Arial Unicode MS"/>
              <a:buChar char="►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ess complex </a:t>
            </a:r>
            <a:r>
              <a:rPr b="1" i="1" lang="en-US" sz="1300" spc="-1" strike="noStrike">
                <a:solidFill>
                  <a:srgbClr val="c0c0c0"/>
                </a:solidFill>
                <a:latin typeface="Arial"/>
              </a:rPr>
              <a:t>(which means fewer mistakes and dropped handoffs, less conflict) 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 lvl="2" marL="820800">
              <a:lnSpc>
                <a:spcPct val="100000"/>
              </a:lnSpc>
              <a:buClr>
                <a:srgbClr val="b2b2b2"/>
              </a:buClr>
              <a:buFont typeface="Arial Unicode MS"/>
              <a:buChar char="►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better patient outcome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17640" y="1785960"/>
            <a:ext cx="1105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1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CBA95-6A05-4C64-8854-713271CA80A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800424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Why “profession-based” practice?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45960" y="1411200"/>
            <a:ext cx="8589960" cy="42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09680" indent="-40968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It produces better outcomes for our patient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It eliminates waste, reduces costs, and 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820800" indent="-41112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increases available resources for patient care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It puts the caring professions back in control 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820800" indent="-411120">
              <a:lnSpc>
                <a:spcPct val="100000"/>
              </a:lnSpc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of care delivery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It is the foundation for useful shared electronic 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data </a:t>
            </a:r>
            <a:r>
              <a:rPr b="1" i="1" lang="en-US" sz="2100" spc="-1" strike="noStrike">
                <a:solidFill>
                  <a:srgbClr val="c0c0c0"/>
                </a:solidFill>
                <a:latin typeface="Book Antiqua"/>
              </a:rPr>
              <a:t>―</a:t>
            </a:r>
            <a:r>
              <a:rPr b="1" i="1" lang="en-US" sz="2100" spc="-1" strike="noStrike">
                <a:solidFill>
                  <a:srgbClr val="c0c0c0"/>
                </a:solidFill>
                <a:latin typeface="Arial"/>
              </a:rPr>
              <a:t> an important next step in care delivery improvement</a:t>
            </a: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E2FC7-8CC2-4AE0-B1C7-FAFABA12776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Quality controls cos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15160" y="2174760"/>
            <a:ext cx="12520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900" spc="-1" strike="noStrike" u="sng">
                <a:solidFill>
                  <a:srgbClr val="ffff00"/>
                </a:solidFill>
                <a:uFillTx/>
                <a:latin typeface="Arial"/>
              </a:rPr>
              <a:t>Quality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20240" y="2174760"/>
            <a:ext cx="1230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900" spc="-1" strike="noStrike" u="sng">
                <a:solidFill>
                  <a:srgbClr val="ffff00"/>
                </a:solidFill>
                <a:uFillTx/>
                <a:latin typeface="Arial"/>
              </a:rPr>
              <a:t>  </a:t>
            </a:r>
            <a:r>
              <a:rPr b="1" i="1" lang="en-US" sz="2900" spc="-1" strike="noStrike" u="sng">
                <a:solidFill>
                  <a:srgbClr val="ffff00"/>
                </a:solidFill>
                <a:uFillTx/>
                <a:latin typeface="Arial"/>
              </a:rPr>
              <a:t>Cost  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988240" y="2174760"/>
            <a:ext cx="13525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9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i="1" lang="en-US" sz="2900" spc="-1" strike="noStrike" u="sng">
                <a:solidFill>
                  <a:srgbClr val="ffff00"/>
                </a:solidFill>
                <a:uFillTx/>
                <a:latin typeface="Arial"/>
              </a:rPr>
              <a:t>Forum 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36120" y="3316320"/>
            <a:ext cx="1102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terna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36120" y="3924360"/>
            <a:ext cx="1102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terna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4280" y="4746600"/>
            <a:ext cx="2294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100" spc="-1" strike="noStrike">
                <a:solidFill>
                  <a:srgbClr val="c0c0c0"/>
                </a:solidFill>
                <a:latin typeface="Arial"/>
              </a:rPr>
              <a:t>Cost-benefit</a:t>
            </a: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39000" y="4802040"/>
            <a:ext cx="1050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400" spc="-1" strike="noStrike">
                <a:solidFill>
                  <a:srgbClr val="c0c0c0"/>
                </a:solidFill>
                <a:latin typeface="Arial"/>
              </a:rPr>
              <a:t>socie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3822840" y="3233520"/>
            <a:ext cx="1440" cy="1760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54440" y="3174840"/>
            <a:ext cx="136440" cy="265320"/>
          </a:xfrm>
          <a:custGeom>
            <a:avLst/>
            <a:gdLst/>
            <a:ahLst/>
            <a:rect l="l" t="t" r="r" b="b"/>
            <a:pathLst>
              <a:path w="188" h="377">
                <a:moveTo>
                  <a:pt x="0" y="377"/>
                </a:moveTo>
                <a:lnTo>
                  <a:pt x="94" y="0"/>
                </a:lnTo>
                <a:lnTo>
                  <a:pt x="188" y="377"/>
                </a:lnTo>
                <a:lnTo>
                  <a:pt x="0" y="377"/>
                </a:lnTo>
                <a:close/>
              </a:path>
            </a:pathLst>
          </a:custGeom>
          <a:solidFill>
            <a:srgbClr val="ffffff"/>
          </a:solidFill>
          <a:ln w="33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24280" y="3335400"/>
            <a:ext cx="1440" cy="23472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75360" y="3295800"/>
            <a:ext cx="1440" cy="1746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06960" y="3265560"/>
            <a:ext cx="136440" cy="263520"/>
          </a:xfrm>
          <a:custGeom>
            <a:avLst/>
            <a:gdLst/>
            <a:ahLst/>
            <a:rect l="l" t="t" r="r" b="b"/>
            <a:pathLst>
              <a:path w="188" h="377">
                <a:moveTo>
                  <a:pt x="188" y="0"/>
                </a:moveTo>
                <a:lnTo>
                  <a:pt x="94" y="377"/>
                </a:lnTo>
                <a:lnTo>
                  <a:pt x="0" y="0"/>
                </a:lnTo>
                <a:lnTo>
                  <a:pt x="188" y="0"/>
                </a:lnTo>
                <a:close/>
              </a:path>
            </a:pathLst>
          </a:custGeom>
          <a:solidFill>
            <a:srgbClr val="ffffff"/>
          </a:solidFill>
          <a:ln w="33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5176800" y="3134880"/>
            <a:ext cx="1800" cy="23652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3822840" y="4754160"/>
            <a:ext cx="1440" cy="174600"/>
          </a:xfrm>
          <a:prstGeom prst="line">
            <a:avLst/>
          </a:prstGeom>
          <a:ln w="33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54440" y="4695840"/>
            <a:ext cx="136440" cy="263520"/>
          </a:xfrm>
          <a:custGeom>
            <a:avLst/>
            <a:gdLst/>
            <a:ahLst/>
            <a:rect l="l" t="t" r="r" b="b"/>
            <a:pathLst>
              <a:path w="188" h="377">
                <a:moveTo>
                  <a:pt x="0" y="377"/>
                </a:moveTo>
                <a:lnTo>
                  <a:pt x="94" y="0"/>
                </a:lnTo>
                <a:lnTo>
                  <a:pt x="188" y="377"/>
                </a:lnTo>
                <a:lnTo>
                  <a:pt x="0" y="377"/>
                </a:lnTo>
                <a:close/>
              </a:path>
            </a:pathLst>
          </a:custGeom>
          <a:solidFill>
            <a:srgbClr val="c0c0c0"/>
          </a:solidFill>
          <a:ln w="33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24280" y="4854600"/>
            <a:ext cx="1440" cy="235080"/>
          </a:xfrm>
          <a:prstGeom prst="line">
            <a:avLst/>
          </a:prstGeom>
          <a:ln w="33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5175360" y="4765320"/>
            <a:ext cx="1440" cy="173160"/>
          </a:xfrm>
          <a:prstGeom prst="line">
            <a:avLst/>
          </a:prstGeom>
          <a:ln w="33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06960" y="4707000"/>
            <a:ext cx="136440" cy="263520"/>
          </a:xfrm>
          <a:custGeom>
            <a:avLst/>
            <a:gdLst/>
            <a:ahLst/>
            <a:rect l="l" t="t" r="r" b="b"/>
            <a:pathLst>
              <a:path w="188" h="377">
                <a:moveTo>
                  <a:pt x="0" y="377"/>
                </a:moveTo>
                <a:lnTo>
                  <a:pt x="94" y="0"/>
                </a:lnTo>
                <a:lnTo>
                  <a:pt x="188" y="377"/>
                </a:lnTo>
                <a:lnTo>
                  <a:pt x="0" y="377"/>
                </a:lnTo>
                <a:close/>
              </a:path>
            </a:pathLst>
          </a:custGeom>
          <a:solidFill>
            <a:srgbClr val="c0c0c0"/>
          </a:solidFill>
          <a:ln w="33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176800" y="4863960"/>
            <a:ext cx="1800" cy="236520"/>
          </a:xfrm>
          <a:prstGeom prst="line">
            <a:avLst/>
          </a:prstGeom>
          <a:ln w="33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175360" y="3936960"/>
            <a:ext cx="1440" cy="1746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06960" y="3906720"/>
            <a:ext cx="136440" cy="263520"/>
          </a:xfrm>
          <a:custGeom>
            <a:avLst/>
            <a:gdLst/>
            <a:ahLst/>
            <a:rect l="l" t="t" r="r" b="b"/>
            <a:pathLst>
              <a:path w="188" h="377">
                <a:moveTo>
                  <a:pt x="188" y="0"/>
                </a:moveTo>
                <a:lnTo>
                  <a:pt x="94" y="377"/>
                </a:lnTo>
                <a:lnTo>
                  <a:pt x="0" y="0"/>
                </a:lnTo>
                <a:lnTo>
                  <a:pt x="188" y="0"/>
                </a:lnTo>
                <a:close/>
              </a:path>
            </a:pathLst>
          </a:custGeom>
          <a:solidFill>
            <a:srgbClr val="ffffff"/>
          </a:solidFill>
          <a:ln w="33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5176800" y="3776760"/>
            <a:ext cx="1800" cy="23472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23120" y="3745080"/>
            <a:ext cx="41508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Symbol"/>
                <a:ea typeface="Symbol"/>
              </a:rPr>
              <a:t></a:t>
            </a:r>
            <a:endParaRPr b="0" lang="en-US" sz="41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65400" y="2651040"/>
            <a:ext cx="12884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Waste:</a:t>
            </a: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416720" y="1787400"/>
            <a:ext cx="161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(Potential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900" spc="-1" strike="noStrike" u="sng">
                <a:solidFill>
                  <a:srgbClr val="ffff00"/>
                </a:solidFill>
                <a:uFillTx/>
                <a:latin typeface="Arial"/>
              </a:rPr>
              <a:t>Savings 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99320" y="3317760"/>
            <a:ext cx="963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f32d3b"/>
                </a:solidFill>
                <a:latin typeface="Arial"/>
              </a:rPr>
              <a:t>25-40%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873560" y="3924360"/>
            <a:ext cx="801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f32d3b"/>
                </a:solidFill>
                <a:latin typeface="Arial"/>
              </a:rPr>
              <a:t>&gt; 50%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769160" y="4802040"/>
            <a:ext cx="854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f32d3b"/>
                </a:solidFill>
                <a:latin typeface="Arial"/>
              </a:rPr>
              <a:t>(none)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74480" y="3871800"/>
            <a:ext cx="30168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900" spc="-1" strike="noStrike">
                <a:solidFill>
                  <a:srgbClr val="ffff00"/>
                </a:solidFill>
                <a:latin typeface="Arial"/>
              </a:rPr>
              <a:t>Inefficiency waste 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7320" y="3265560"/>
            <a:ext cx="22165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2900" spc="-1" strike="noStrike">
                <a:solidFill>
                  <a:srgbClr val="ffff00"/>
                </a:solidFill>
                <a:latin typeface="Arial"/>
              </a:rPr>
              <a:t>Quality waste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0400" y="2174760"/>
            <a:ext cx="26251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900" spc="-1" strike="noStrike" u="sng">
                <a:solidFill>
                  <a:srgbClr val="ffff00"/>
                </a:solidFill>
                <a:uFillTx/>
                <a:latin typeface="Arial"/>
              </a:rPr>
              <a:t>Mechanism      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5DFC9-DF44-4E83-A5DE-89FF3559299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Idea #3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64120" y="2151000"/>
            <a:ext cx="8041320" cy="18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</a:rPr>
              <a:t>Better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are can be </a:t>
            </a:r>
            <a:r>
              <a:rPr b="1" i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much cheaper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are ..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900" spc="-1" strike="noStrike">
                <a:solidFill>
                  <a:srgbClr val="c0c0c0"/>
                </a:solidFill>
                <a:latin typeface="Arial"/>
              </a:rPr>
              <a:t>if you set things up right.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1FD6-F23B-4350-9630-607F5D4B00D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"/>
          <p:cNvGraphicFramePr/>
          <p:nvPr/>
        </p:nvGraphicFramePr>
        <p:xfrm>
          <a:off x="809640" y="1459080"/>
          <a:ext cx="7939080" cy="47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9640" y="1459080"/>
                    <a:ext cx="7939080" cy="47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31FE5-6BFB-457C-9DE0-48694A3C204D}" type="slidenum">
              <a:t>3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urrent health ca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4200" y="1278000"/>
            <a:ext cx="8381880" cy="33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452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</a:rPr>
              <a:t>is the best the world has ever seen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100" spc="-1" strike="noStrike">
                <a:solidFill>
                  <a:srgbClr val="919191"/>
                </a:solidFill>
                <a:latin typeface="Arial"/>
              </a:rPr>
              <a:t>A few simple examples:</a:t>
            </a: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58800" indent="-3078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WP IconicSymbolsA" charset="2"/>
              <a:buChar char=""/>
              <a:tabLst>
                <a:tab algn="l" pos="61452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100" spc="-1" strike="noStrike">
                <a:solidFill>
                  <a:srgbClr val="ffff00"/>
                </a:solidFill>
                <a:latin typeface="Arial"/>
              </a:rPr>
              <a:t>From 1900 to 2000, average life expectancy at birth</a:t>
            </a:r>
            <a:r>
              <a:rPr b="1" i="1" lang="en-US" sz="21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ffff00"/>
                </a:solidFill>
                <a:latin typeface="Arial"/>
              </a:rPr>
              <a:t>increased from only </a:t>
            </a:r>
            <a:r>
              <a:rPr b="1" i="1" lang="en-US" sz="2100" spc="-1" strike="noStrike">
                <a:solidFill>
                  <a:srgbClr val="ff9494"/>
                </a:solidFill>
                <a:latin typeface="Arial"/>
              </a:rPr>
              <a:t>49 years </a:t>
            </a:r>
            <a:r>
              <a:rPr b="1" i="1" lang="en-US" sz="2100" spc="-1" strike="noStrike">
                <a:solidFill>
                  <a:srgbClr val="ffff00"/>
                </a:solidFill>
                <a:latin typeface="Arial"/>
              </a:rPr>
              <a:t>to almost  </a:t>
            </a:r>
            <a:r>
              <a:rPr b="1" i="1" lang="en-US" sz="2100" spc="-1" strike="noStrike">
                <a:solidFill>
                  <a:srgbClr val="8dff7e"/>
                </a:solidFill>
                <a:latin typeface="Arial"/>
              </a:rPr>
              <a:t>80 years</a:t>
            </a:r>
            <a:r>
              <a:rPr b="1" i="1" lang="en-US" sz="21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58800" indent="-3078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P IconicSymbolsA" charset="2"/>
              <a:buChar char=""/>
              <a:tabLst>
                <a:tab algn="l" pos="61452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100" spc="-1" strike="noStrike">
                <a:solidFill>
                  <a:srgbClr val="ffff00"/>
                </a:solidFill>
                <a:latin typeface="Arial"/>
              </a:rPr>
              <a:t>Since 1960, age-adjusted mortality from heart disease </a:t>
            </a:r>
            <a:r>
              <a:rPr b="1" i="1" lang="en-US" sz="1700" spc="-1" strike="noStrike">
                <a:solidFill>
                  <a:srgbClr val="919191"/>
                </a:solidFill>
                <a:latin typeface="Arial"/>
              </a:rPr>
              <a:t>(#1) </a:t>
            </a:r>
            <a:r>
              <a:rPr b="1" i="1" lang="en-US" sz="17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ffff00"/>
                </a:solidFill>
                <a:latin typeface="Arial"/>
              </a:rPr>
              <a:t>has decreased by  </a:t>
            </a:r>
            <a:r>
              <a:rPr b="1" i="1" lang="en-US" sz="2100" spc="-1" strike="noStrike">
                <a:solidFill>
                  <a:srgbClr val="8dff7e"/>
                </a:solidFill>
                <a:latin typeface="Arial"/>
              </a:rPr>
              <a:t>56%; </a:t>
            </a:r>
            <a:r>
              <a:rPr b="1" i="1" lang="en-US" sz="21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1" i="1" lang="en-US" sz="2200" spc="-1" strike="noStrike" baseline="-6000">
                <a:solidFill>
                  <a:srgbClr val="919191"/>
                </a:solidFill>
                <a:latin typeface="Arial"/>
              </a:rPr>
              <a:t>(from 307.4 to 134.6 deaths / 100,000)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658800" indent="-3078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P IconicSymbolsA" charset="2"/>
              <a:buChar char=""/>
              <a:tabLst>
                <a:tab algn="l" pos="61452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100" spc="-1" strike="noStrike">
                <a:solidFill>
                  <a:srgbClr val="ffff00"/>
                </a:solidFill>
                <a:latin typeface="Arial"/>
              </a:rPr>
              <a:t>Since 1950, age-adjusted mortality from stroke </a:t>
            </a:r>
            <a:r>
              <a:rPr b="1" i="1" lang="en-US" sz="1700" spc="-1" strike="noStrike">
                <a:solidFill>
                  <a:srgbClr val="919191"/>
                </a:solidFill>
                <a:latin typeface="Arial"/>
              </a:rPr>
              <a:t>(#3) </a:t>
            </a:r>
            <a:r>
              <a:rPr b="1" i="1" lang="en-US" sz="2100" spc="-1" strike="noStrike">
                <a:solidFill>
                  <a:srgbClr val="ffff00"/>
                </a:solidFill>
                <a:latin typeface="Arial"/>
              </a:rPr>
              <a:t>has </a:t>
            </a:r>
            <a:r>
              <a:rPr b="1" i="1" lang="en-US" sz="21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ffff00"/>
                </a:solidFill>
                <a:latin typeface="Arial"/>
              </a:rPr>
              <a:t>decreased by </a:t>
            </a:r>
            <a:r>
              <a:rPr b="1" i="1" lang="en-US" sz="2100" spc="-1" strike="noStrike">
                <a:solidFill>
                  <a:srgbClr val="8dff7e"/>
                </a:solidFill>
                <a:latin typeface="Arial"/>
              </a:rPr>
              <a:t>70%</a:t>
            </a:r>
            <a:r>
              <a:rPr b="1" i="1" lang="en-US" sz="2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200" spc="-1" strike="noStrike" baseline="-6000">
                <a:solidFill>
                  <a:srgbClr val="919191"/>
                </a:solidFill>
                <a:latin typeface="Arial"/>
              </a:rPr>
              <a:t>(from 88.8 to 26.5 deaths / 100,000)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1452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4160" y="4362480"/>
            <a:ext cx="703692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700" spc="-1" strike="noStrike">
                <a:solidFill>
                  <a:srgbClr val="919191"/>
                </a:solidFill>
                <a:latin typeface="Arial"/>
              </a:rPr>
              <a:t>Initial life expectancy gains almost all resulted from public health </a:t>
            </a:r>
            <a:endParaRPr b="0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700" spc="-1" strike="noStrike">
                <a:solidFill>
                  <a:srgbClr val="919191"/>
                </a:solidFill>
                <a:latin typeface="Arial"/>
              </a:rPr>
              <a:t>initiatives -- clean water, safe food, and (especially) widespread</a:t>
            </a:r>
            <a:endParaRPr b="0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700" spc="-1" strike="noStrike">
                <a:solidFill>
                  <a:srgbClr val="919191"/>
                </a:solidFill>
                <a:latin typeface="Arial"/>
              </a:rPr>
              <a:t>control of epidemic infectious disease.  But since about 1960, direct </a:t>
            </a:r>
            <a:endParaRPr b="0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700" spc="-1" strike="noStrike">
                <a:solidFill>
                  <a:srgbClr val="919191"/>
                </a:solidFill>
                <a:latin typeface="Arial"/>
              </a:rPr>
              <a:t>disease treatment has made increasingly large contributions.</a:t>
            </a:r>
            <a:endParaRPr b="0" lang="en-US" sz="1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2440" y="5402160"/>
            <a:ext cx="809928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f32d3b"/>
                </a:solidFill>
                <a:latin typeface="Arial"/>
              </a:rPr>
              <a:t>Centers for Disease Control.  Decline in deaths from heart disease and stroke</a:t>
            </a:r>
            <a:r>
              <a:rPr b="1" lang="en-US" sz="1000" spc="-1" strike="noStrike">
                <a:solidFill>
                  <a:srgbClr val="f32d3b"/>
                </a:solidFill>
                <a:latin typeface="Book Antiqua"/>
              </a:rPr>
              <a:t>―</a:t>
            </a:r>
            <a:r>
              <a:rPr b="1" lang="en-US" sz="1000" spc="-1" strike="noStrike">
                <a:solidFill>
                  <a:srgbClr val="f32d3b"/>
                </a:solidFill>
                <a:latin typeface="Arial"/>
              </a:rPr>
              <a:t>United States, 1900-1999. </a:t>
            </a:r>
            <a:r>
              <a:rPr b="1" i="1" lang="en-US" sz="1000" spc="-1" strike="noStrike">
                <a:solidFill>
                  <a:srgbClr val="f32d3b"/>
                </a:solidFill>
                <a:latin typeface="Arial"/>
              </a:rPr>
              <a:t>JAMA </a:t>
            </a:r>
            <a:r>
              <a:rPr b="1" lang="en-US" sz="1000" spc="-1" strike="noStrike">
                <a:solidFill>
                  <a:srgbClr val="f32d3b"/>
                </a:solidFill>
                <a:latin typeface="Arial"/>
              </a:rPr>
              <a:t>1999; 282(8):724-6   (Aug 25)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f32d3b"/>
                </a:solidFill>
                <a:latin typeface="Arial"/>
              </a:rPr>
              <a:t>National Center for Health Statistics.   </a:t>
            </a:r>
            <a:r>
              <a:rPr b="1" i="1" lang="en-US" sz="1000" spc="-1" strike="noStrike">
                <a:solidFill>
                  <a:srgbClr val="f32d3b"/>
                </a:solidFill>
                <a:latin typeface="Arial"/>
              </a:rPr>
              <a:t>Health, United States, 2000 with Adolescent Health Chartbook. </a:t>
            </a:r>
            <a:r>
              <a:rPr b="1" lang="en-US" sz="1000" spc="-1" strike="noStrike">
                <a:solidFill>
                  <a:srgbClr val="f32d3b"/>
                </a:solidFill>
                <a:latin typeface="Arial"/>
              </a:rPr>
              <a:t>Hyattsville, MD:   U.S. Dept. of  Health and Human Services, Center for Disease Control and Prevention, 2000; pg. 7 (DHHS Publication No. (PHS)  2000-1232-1)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f32d3b"/>
                </a:solidFill>
                <a:latin typeface="Arial"/>
              </a:rPr>
              <a:t>U.S. Department of Health and Human Services, Public Health Service.   </a:t>
            </a:r>
            <a:r>
              <a:rPr b="1" i="1" lang="en-US" sz="1000" spc="-1" strike="noStrike">
                <a:solidFill>
                  <a:srgbClr val="f32d3b"/>
                </a:solidFill>
                <a:latin typeface="Arial"/>
              </a:rPr>
              <a:t>Healthy People 2000: National Health Promotion and  Disease Prevention Objectives. </a:t>
            </a:r>
            <a:r>
              <a:rPr b="1" lang="en-US" sz="1000" spc="-1" strike="noStrike">
                <a:solidFill>
                  <a:srgbClr val="f32d3b"/>
                </a:solidFill>
                <a:latin typeface="Arial"/>
              </a:rPr>
              <a:t>Washington, DC: U.S. Government Printing Office, 1991 (DHHS Publication No. (PHS) 91-50212)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BEBB8-4E8C-48B1-8C38-E2F2B39EE13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r. John Wennber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28800" y="1630440"/>
            <a:ext cx="244440" cy="220680"/>
          </a:xfrm>
          <a:custGeom>
            <a:avLst/>
            <a:gdLst/>
            <a:ahLst/>
            <a:rect l="l" t="t" r="r" b="b"/>
            <a:pathLst>
              <a:path w="339" h="314">
                <a:moveTo>
                  <a:pt x="169" y="0"/>
                </a:moveTo>
                <a:lnTo>
                  <a:pt x="129" y="116"/>
                </a:lnTo>
                <a:lnTo>
                  <a:pt x="0" y="116"/>
                </a:lnTo>
                <a:lnTo>
                  <a:pt x="106" y="197"/>
                </a:lnTo>
                <a:lnTo>
                  <a:pt x="64" y="314"/>
                </a:lnTo>
                <a:lnTo>
                  <a:pt x="169" y="238"/>
                </a:lnTo>
                <a:lnTo>
                  <a:pt x="275" y="314"/>
                </a:lnTo>
                <a:lnTo>
                  <a:pt x="233" y="191"/>
                </a:lnTo>
                <a:lnTo>
                  <a:pt x="339" y="116"/>
                </a:lnTo>
                <a:lnTo>
                  <a:pt x="210" y="116"/>
                </a:lnTo>
                <a:lnTo>
                  <a:pt x="169" y="0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60720" y="1565280"/>
            <a:ext cx="73782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Geography is destiny </a:t>
            </a:r>
            <a:r>
              <a:rPr b="1" i="1" lang="en-US" sz="1900" spc="-1" strike="noStrike">
                <a:solidFill>
                  <a:srgbClr val="c0c0c0"/>
                </a:solidFill>
                <a:latin typeface="Arial"/>
              </a:rPr>
              <a:t>("Who you see is what you get"  </a:t>
            </a:r>
            <a:r>
              <a:rPr b="1" i="1" lang="en-US" sz="1900" spc="-1" strike="noStrike">
                <a:solidFill>
                  <a:srgbClr val="f32d3b"/>
                </a:solidFill>
                <a:latin typeface="Arial"/>
              </a:rPr>
              <a:t>*</a:t>
            </a:r>
            <a:r>
              <a:rPr b="1" i="1" lang="en-US" sz="1900" spc="-1" strike="noStrike">
                <a:solidFill>
                  <a:srgbClr val="c0c0c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69360" y="1639800"/>
            <a:ext cx="9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900" spc="-1" strike="noStrike">
                <a:solidFill>
                  <a:srgbClr val="f32d3b"/>
                </a:solidFill>
                <a:latin typeface="Arial"/>
              </a:rPr>
              <a:t>*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28800" y="2041560"/>
            <a:ext cx="244440" cy="218880"/>
          </a:xfrm>
          <a:custGeom>
            <a:avLst/>
            <a:gdLst/>
            <a:ahLst/>
            <a:rect l="l" t="t" r="r" b="b"/>
            <a:pathLst>
              <a:path w="339" h="314">
                <a:moveTo>
                  <a:pt x="169" y="0"/>
                </a:moveTo>
                <a:lnTo>
                  <a:pt x="129" y="117"/>
                </a:lnTo>
                <a:lnTo>
                  <a:pt x="0" y="117"/>
                </a:lnTo>
                <a:lnTo>
                  <a:pt x="106" y="197"/>
                </a:lnTo>
                <a:lnTo>
                  <a:pt x="64" y="314"/>
                </a:lnTo>
                <a:lnTo>
                  <a:pt x="169" y="238"/>
                </a:lnTo>
                <a:lnTo>
                  <a:pt x="275" y="314"/>
                </a:lnTo>
                <a:lnTo>
                  <a:pt x="233" y="191"/>
                </a:lnTo>
                <a:lnTo>
                  <a:pt x="339" y="117"/>
                </a:lnTo>
                <a:lnTo>
                  <a:pt x="210" y="117"/>
                </a:lnTo>
                <a:lnTo>
                  <a:pt x="169" y="0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59640" y="1976400"/>
            <a:ext cx="5153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There is no health care "system"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2451240"/>
            <a:ext cx="244440" cy="220680"/>
          </a:xfrm>
          <a:custGeom>
            <a:avLst/>
            <a:gdLst/>
            <a:ahLst/>
            <a:rect l="l" t="t" r="r" b="b"/>
            <a:pathLst>
              <a:path w="339" h="314">
                <a:moveTo>
                  <a:pt x="169" y="0"/>
                </a:moveTo>
                <a:lnTo>
                  <a:pt x="129" y="117"/>
                </a:lnTo>
                <a:lnTo>
                  <a:pt x="0" y="117"/>
                </a:lnTo>
                <a:lnTo>
                  <a:pt x="106" y="198"/>
                </a:lnTo>
                <a:lnTo>
                  <a:pt x="64" y="314"/>
                </a:lnTo>
                <a:lnTo>
                  <a:pt x="169" y="238"/>
                </a:lnTo>
                <a:lnTo>
                  <a:pt x="275" y="314"/>
                </a:lnTo>
                <a:lnTo>
                  <a:pt x="233" y="191"/>
                </a:lnTo>
                <a:lnTo>
                  <a:pt x="339" y="117"/>
                </a:lnTo>
                <a:lnTo>
                  <a:pt x="210" y="117"/>
                </a:lnTo>
                <a:lnTo>
                  <a:pt x="169" y="0"/>
                </a:lnTo>
                <a:close/>
              </a:path>
            </a:pathLst>
          </a:custGeom>
          <a:solidFill>
            <a:srgbClr val="ffff00"/>
          </a:solidFill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56760" y="2387520"/>
            <a:ext cx="4178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Supplier-induced demand: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45960" y="2895480"/>
            <a:ext cx="704268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SzPct val="140000"/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1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1" i="1" lang="en-US" sz="2100" spc="-1" strike="noStrike">
                <a:solidFill>
                  <a:srgbClr val="c0c0c0"/>
                </a:solidFill>
                <a:latin typeface="Arial"/>
              </a:rPr>
              <a:t>Field of Dreams approach: build it and they will come</a:t>
            </a: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140000"/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1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1" i="1" lang="en-US" sz="2100" spc="-1" strike="noStrike">
                <a:solidFill>
                  <a:srgbClr val="c0c0c0"/>
                </a:solidFill>
                <a:latin typeface="Arial"/>
              </a:rPr>
              <a:t>James T. Kirk:  Do something, Bones!  She's dying!</a:t>
            </a: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140000"/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1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1" i="1" lang="en-US" sz="2100" spc="-1" strike="noStrike">
                <a:solidFill>
                  <a:srgbClr val="c0c0c0"/>
                </a:solidFill>
                <a:latin typeface="Arial"/>
              </a:rPr>
              <a:t>Eddy:  more is better </a:t>
            </a:r>
            <a:r>
              <a:rPr b="1" i="1" lang="en-US" sz="2100" spc="-1" strike="noStrike">
                <a:solidFill>
                  <a:srgbClr val="c0c0c0"/>
                </a:solidFill>
                <a:latin typeface="Book Antiqua"/>
              </a:rPr>
              <a:t>―</a:t>
            </a:r>
            <a:r>
              <a:rPr b="1" i="1" lang="en-US" sz="2100" spc="-1" strike="noStrike">
                <a:solidFill>
                  <a:srgbClr val="c0c0c0"/>
                </a:solidFill>
                <a:latin typeface="Arial"/>
              </a:rPr>
              <a:t> if it might work, do it</a:t>
            </a: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140000"/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1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1" i="1" lang="en-US" sz="2100" spc="-1" strike="noStrike">
                <a:solidFill>
                  <a:srgbClr val="c0c0c0"/>
                </a:solidFill>
                <a:latin typeface="Arial"/>
              </a:rPr>
              <a:t>Chassin:  enthusiasm for unproven methods</a:t>
            </a: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140000"/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1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1" i="1" lang="en-US" sz="2100" spc="-1" strike="noStrike">
                <a:solidFill>
                  <a:srgbClr val="c0c0c0"/>
                </a:solidFill>
                <a:latin typeface="Arial"/>
              </a:rPr>
              <a:t>Boston City / Boston University Hospital, 1998:</a:t>
            </a:r>
            <a:endParaRPr b="0" lang="en-US" sz="21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8200" y="4570560"/>
            <a:ext cx="7236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7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700" spc="-1" strike="noStrike">
                <a:solidFill>
                  <a:srgbClr val="808080"/>
                </a:solidFill>
                <a:latin typeface="Arial"/>
              </a:rPr>
              <a:t>Same house/staff on both services</a:t>
            </a:r>
            <a:endParaRPr b="0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7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700" spc="-1" strike="noStrike">
                <a:solidFill>
                  <a:srgbClr val="808080"/>
                </a:solidFill>
                <a:latin typeface="Arial"/>
              </a:rPr>
              <a:t>More beds / easier access to resources on Boston University service</a:t>
            </a:r>
            <a:endParaRPr b="0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7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700" spc="-1" strike="noStrike">
                <a:solidFill>
                  <a:srgbClr val="808080"/>
                </a:solidFill>
                <a:latin typeface="Arial"/>
              </a:rPr>
              <a:t>Boston University readmit rate ~50% higher</a:t>
            </a:r>
            <a:endParaRPr b="0" lang="en-US" sz="1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5562720"/>
            <a:ext cx="78962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f32d3b"/>
                </a:solidFill>
                <a:latin typeface="Arial"/>
              </a:rPr>
              <a:t>*</a:t>
            </a:r>
            <a:r>
              <a:rPr b="1" i="1" lang="en-US" sz="1500" spc="-1" strike="noStrike">
                <a:solidFill>
                  <a:srgbClr val="f32d3b"/>
                </a:solidFill>
                <a:latin typeface="Arial"/>
              </a:rPr>
              <a:t>Richard Deyo, MD, MPH - in: Cherken, Deyo, Wheeler and Ciol.  Physician variation in diagnostic testing for low back pain. </a:t>
            </a:r>
            <a:r>
              <a:rPr b="1" lang="en-US" sz="1500" spc="-1" strike="noStrike">
                <a:solidFill>
                  <a:srgbClr val="f32d3b"/>
                </a:solidFill>
                <a:latin typeface="Arial"/>
              </a:rPr>
              <a:t>Arth &amp; Rheum </a:t>
            </a:r>
            <a:r>
              <a:rPr b="1" i="1" lang="en-US" sz="1500" spc="-1" strike="noStrike">
                <a:solidFill>
                  <a:srgbClr val="f32d3b"/>
                </a:solidFill>
                <a:latin typeface="Arial"/>
              </a:rPr>
              <a:t>1994; 37(1):15-22 (Jan).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08D84-7E2D-42C4-A20E-B88E9ED6E51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dicare cost versus qual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74800" y="1352520"/>
          <a:ext cx="753084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1352520"/>
                    <a:ext cx="753084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11DA-FB06-4EC0-B35B-14DD0EEDB73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vember 30, 1999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8680" y="2622600"/>
            <a:ext cx="781272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c0c0c0"/>
                </a:solidFill>
                <a:latin typeface="Arial"/>
              </a:rPr>
              <a:t>The Institute of Medicine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5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ffff00"/>
                </a:solidFill>
                <a:latin typeface="Arial"/>
              </a:rPr>
              <a:t>Committee on Quality of Health Care in America</a:t>
            </a: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c0c0c0"/>
                </a:solidFill>
                <a:latin typeface="Arial"/>
              </a:rPr>
              <a:t>announces its first report: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To Err is Human: 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Building a Safer Health System</a:t>
            </a:r>
            <a:endParaRPr b="0" lang="en-US" sz="2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FFD99-B053-401E-8793-2F0FF4FB7F6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9920" y="290520"/>
            <a:ext cx="38480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Medical injurie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000" y="1339920"/>
            <a:ext cx="253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ccount f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28600" y="1969920"/>
            <a:ext cx="659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i="1" lang="en-US" sz="3200" spc="-1" strike="noStrike">
                <a:solidFill>
                  <a:srgbClr val="ff4040"/>
                </a:solidFill>
                <a:latin typeface="Arial"/>
              </a:rPr>
              <a:t>44,000 </a:t>
            </a:r>
            <a:r>
              <a:rPr b="1" i="1" lang="en-US" sz="3200" spc="-1" strike="noStrike">
                <a:solidFill>
                  <a:srgbClr val="c0c0c0"/>
                </a:solidFill>
                <a:latin typeface="Arial"/>
              </a:rPr>
              <a:t>-</a:t>
            </a:r>
            <a:r>
              <a:rPr b="1" i="1" lang="en-US" sz="3200" spc="-1" strike="noStrike">
                <a:solidFill>
                  <a:srgbClr val="ff4040"/>
                </a:solidFill>
                <a:latin typeface="Arial"/>
              </a:rPr>
              <a:t> 98,000 deaths per yea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62240" y="2592360"/>
            <a:ext cx="4216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in the United Stat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3960" y="3214800"/>
            <a:ext cx="8256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i="1" lang="en-US" sz="2500" spc="-1" strike="noStrike">
                <a:solidFill>
                  <a:srgbClr val="c0c0c0"/>
                </a:solidFill>
                <a:latin typeface="Arial"/>
              </a:rPr>
              <a:t>More people die from medical injuries than from</a:t>
            </a: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i="1" lang="en-US" sz="2500" spc="-1" strike="noStrike">
                <a:solidFill>
                  <a:srgbClr val="c0c0c0"/>
                </a:solidFill>
                <a:latin typeface="Arial"/>
              </a:rPr>
              <a:t>breast cancer or AIDS or motor vehicle accidents</a:t>
            </a: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52920" y="4076640"/>
            <a:ext cx="34830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1600" spc="-1" strike="noStrike">
                <a:solidFill>
                  <a:srgbClr val="ff4040"/>
                </a:solidFill>
                <a:latin typeface="Arial"/>
              </a:rPr>
              <a:t>Brennan et al. </a:t>
            </a:r>
            <a:r>
              <a:rPr b="0" i="1" lang="en-US" sz="1600" spc="-1" strike="noStrike">
                <a:solidFill>
                  <a:srgbClr val="ff4040"/>
                </a:solidFill>
                <a:latin typeface="Arial"/>
              </a:rPr>
              <a:t>New Engl J Med 1991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1600" spc="-1" strike="noStrike">
                <a:solidFill>
                  <a:srgbClr val="ff4040"/>
                </a:solidFill>
                <a:latin typeface="Arial"/>
              </a:rPr>
              <a:t>Thomas et al. </a:t>
            </a:r>
            <a:r>
              <a:rPr b="0" i="1" lang="en-US" sz="1600" spc="-1" strike="noStrike">
                <a:solidFill>
                  <a:srgbClr val="ff4040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3000" y="5032440"/>
            <a:ext cx="6850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Direct health care costs total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81160" y="5611680"/>
            <a:ext cx="4595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i="1" lang="en-US" sz="3200" spc="-1" strike="noStrike">
                <a:solidFill>
                  <a:srgbClr val="ff4040"/>
                </a:solidFill>
                <a:latin typeface="Arial"/>
              </a:rPr>
              <a:t>$9 </a:t>
            </a:r>
            <a:r>
              <a:rPr b="1" i="1" lang="en-US" sz="3200" spc="-1" strike="noStrike">
                <a:solidFill>
                  <a:srgbClr val="c0c0c0"/>
                </a:solidFill>
                <a:latin typeface="Arial"/>
              </a:rPr>
              <a:t>-</a:t>
            </a:r>
            <a:r>
              <a:rPr b="1" i="1" lang="en-US" sz="3200" spc="-1" strike="noStrike">
                <a:solidFill>
                  <a:srgbClr val="ff4040"/>
                </a:solidFill>
                <a:latin typeface="Arial"/>
              </a:rPr>
              <a:t> 15 billion per yea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52920" y="6168960"/>
            <a:ext cx="27212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1600" spc="-1" strike="noStrike">
                <a:solidFill>
                  <a:srgbClr val="ff4040"/>
                </a:solidFill>
                <a:latin typeface="Arial"/>
              </a:rPr>
              <a:t>Thomas et al. </a:t>
            </a:r>
            <a:r>
              <a:rPr b="0" i="1" lang="en-US" sz="1600" spc="-1" strike="noStrike">
                <a:solidFill>
                  <a:srgbClr val="ff4040"/>
                </a:solidFill>
                <a:latin typeface="Arial"/>
              </a:rPr>
              <a:t>1999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n-US" sz="1600" spc="-1" strike="noStrike">
                <a:solidFill>
                  <a:srgbClr val="ff4040"/>
                </a:solidFill>
                <a:latin typeface="Arial"/>
              </a:rPr>
              <a:t>Johnson et al. </a:t>
            </a:r>
            <a:r>
              <a:rPr b="0" i="1" lang="en-US" sz="1600" spc="-1" strike="noStrike">
                <a:solidFill>
                  <a:srgbClr val="ff4040"/>
                </a:solidFill>
                <a:latin typeface="Arial"/>
              </a:rPr>
              <a:t>1992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76E8C-F3DA-42C2-8B8E-62905C04FE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69920" y="291600"/>
            <a:ext cx="78660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vember 20, 2003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6880" y="1882800"/>
            <a:ext cx="782784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c0c0c0"/>
                </a:solidFill>
                <a:latin typeface="Arial"/>
              </a:rPr>
              <a:t>The Institute of Medicine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5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ffff00"/>
                </a:solidFill>
                <a:latin typeface="Arial"/>
              </a:rPr>
              <a:t>Committee on Patient Safety Data Standards</a:t>
            </a: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c0c0c0"/>
                </a:solidFill>
                <a:latin typeface="Arial"/>
              </a:rPr>
              <a:t>announces a major follow-on report: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Patient Safety: 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Achieving a New Standard of Care</a:t>
            </a:r>
            <a:endParaRPr b="0" lang="en-US" sz="2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A89A2-2E9D-49FE-AE74-715F7F55B87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22:00:44Z</dcterms:created>
  <dc:creator>Shanna Luke</dc:creator>
  <dc:description/>
  <dc:language>en-US</dc:language>
  <cp:lastModifiedBy>Cheryl Bell</cp:lastModifiedBy>
  <dcterms:modified xsi:type="dcterms:W3CDTF">2005-03-25T15:21:38Z</dcterms:modified>
  <cp:revision>8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www.ihc.com/institute</vt:lpwstr>
  </property>
  <property fmtid="{D5CDD505-2E9C-101B-9397-08002B2CF9AE}" pid="9" name="LinkColor">
    <vt:r8>16711782</vt:r8>
  </property>
  <property fmtid="{D5CDD505-2E9C-101B-9397-08002B2CF9AE}" pid="10" name="MailAddress">
    <vt:lpwstr>institute@ihc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L:\presentation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