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19.gif" ContentType="image/gi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7167-6B7D-4EBA-80F8-552674411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30AD-6376-44B0-9D83-49355C242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B0F2-6EFF-465B-9DCD-4E276083C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22C8-984D-443A-88D2-83CF02EC7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66BD-259E-4DDD-96E2-4044329E3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5B8F-4A37-4021-930F-4E889F7E5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4D9D-5932-4C2C-98B5-76558BF33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B99F-41D6-44C8-AAF1-B8E0991AF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D0FE-F057-4154-B52A-FEEAAC2FB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1846-1062-40AA-B169-27462778C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5FD1-068D-4685-A842-018C21A9B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4678-77A1-48CB-BB2D-AD7341DD5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13f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b1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39"/>
                </a:solidFill>
                <a:latin typeface="Arial"/>
              </a:rPr>
              <a:t>Hurley # </a:t>
            </a:r>
            <a:fld id="{C5ED365C-5DA7-4D35-9EE0-5F1466436ED8}" type="slidenum">
              <a:rPr b="0" lang="en-US" sz="1200" spc="-1" strike="noStrike">
                <a:solidFill>
                  <a:srgbClr val="39393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H="1">
            <a:off x="457200" y="6324480"/>
            <a:ext cx="8153280" cy="0"/>
          </a:xfrm>
          <a:prstGeom prst="line">
            <a:avLst/>
          </a:prstGeom>
          <a:ln w="19080">
            <a:solidFill>
              <a:srgbClr val="ffb1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b13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6868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68686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ath, Taxes, and Rising Health Care Cos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580920" y="3809880"/>
            <a:ext cx="487692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obert E. Hurley, Ph.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ginia Commonwealth Univers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661640" y="942840"/>
            <a:ext cx="276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6451" t="3327" r="9685" b="3743"/>
          <a:stretch/>
        </p:blipFill>
        <p:spPr>
          <a:xfrm>
            <a:off x="838080" y="3276720"/>
            <a:ext cx="2476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r Rev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mployers make their m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9D4D-2F57-4C27-B93A-F63BB590EE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chasers Attempt To Promote Competition via Managed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purchasers embraced managed care to exert more control over health benefits and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d care organizations (MCOs) charged with being aggressive purchasing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COs design/develop products to match purchaser (and consumer) demands with provider capacity and cap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s to promote competitive dynamics to curb cost growth/improve efficiency/reduce cost sh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77B0-0CFB-4601-8039-8DF6FD0F77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Indemnity to Managed 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demn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freedom of choice of providers, providers fees not negotiated, little/no medical management, varied benefit pack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anaged c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network-based delivery systems, negotiated payments, medical management, typically richer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b13f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MO—narrower networks, aggressive medical management, some risk-based pa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b13f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O—broader networks, limited medical management,           discounted prices pa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b13f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—HMO with out-of-network options (“leaky HMO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25909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5A28-9D02-471B-ADBE-C521A1867C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440" y="609480"/>
          <a:ext cx="8972640" cy="73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609480"/>
                    <a:ext cx="897264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295280" y="6172200"/>
            <a:ext cx="6782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nt of All Covered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5943600"/>
            <a:ext cx="807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28600"/>
            <a:ext cx="7619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employee enrollment by type of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2073240" y="580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0" y="651024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2F4E-82DC-418D-B6E4-5F6B5CE362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s in Health Insurance Premiums Compared to Other Indicators, 1988-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203480" y="2220840"/>
            <a:ext cx="84132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8%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8%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0480" y="651024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362320"/>
            <a:ext cx="205740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3FCF-9AEA-4BD3-AC01-53C425C735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 Governments In 1990s Hitched Their Wagons to Managed Care and Market-based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employee health benefits programs came to rely extensively on managed c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2000, more than half (56%) of Medicaid beneficiaries  enrolled in managed care arrang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ates enrolled SCHIP eligible children in managed care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ility of coverage expansions conditioned on expectation of controlling cost incr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promoted coverage and benefit expansions with       various mandates on health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DB6D-61F2-4523-A2B3-A974E117D4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nging on a Counterrev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ression of cost-shif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 and provider backla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ontrollable cost pressure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lining public pay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9A26-6F2C-4EE7-A3AC-8590E43A57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cline of Cost-Shifting—1990-2000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yments received as a % of actual cos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295280"/>
          <a:ext cx="87044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7044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27160" y="2552760"/>
            <a:ext cx="7552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2971800"/>
            <a:ext cx="755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6400800"/>
            <a:ext cx="1581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PAC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047E-2106-4F69-8887-A242AAAFD1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 U.S. Physician Income, 1988-199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889280"/>
          <a:ext cx="817884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9280"/>
                    <a:ext cx="8178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96640" y="2362320"/>
            <a:ext cx="389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4120" y="6324480"/>
            <a:ext cx="257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rn Healthcare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CE5A-1BEE-4E4E-993C-293B92AB73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7899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of Groups with “Unfavorable” Rating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Kaiser Family Foundation, National Survey of Prescription Drugs, Sept. 200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9560" y="1886040"/>
          <a:ext cx="71308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1886040"/>
                    <a:ext cx="71308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523880" y="2666880"/>
            <a:ext cx="1067040" cy="5335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900C-C1E4-4BBE-A9CF-3571EA05E6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press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ve to managed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rly success; later dec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uences for St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sector respo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s before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D23B-CC19-4EBB-A694-7892862B33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 Increase in Rx Spending vs. Total Health Care Spending, 1990-20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55560" y="1914480"/>
          <a:ext cx="7782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914480"/>
                    <a:ext cx="7782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08880" y="1600200"/>
            <a:ext cx="10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0160" y="6400800"/>
            <a:ext cx="230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HCFA/C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9FC6-FF22-42FC-94D7-C4A3D61F44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Makes Its Move—BBA* of 1997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Annual Increase in National Health Expenditures (NHE)                          vs. Private insurance and Medi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600200"/>
          <a:ext cx="914400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954320" y="5867280"/>
            <a:ext cx="336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Balanced Budget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800" y="6019920"/>
            <a:ext cx="257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rn Healthcare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9774-B06E-411D-9CD5-C2A59004F8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s in Health Insurance Premiums Compared to Other Indicators, 1988-200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76520"/>
          <a:ext cx="817884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1788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071720" y="2057400"/>
            <a:ext cx="807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8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" y="601992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34DC-DB99-42DB-A4D6-70F8C6EA84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mporary Pi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mium increases remain near or at double dig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coverage likely to continue to dec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-sector managed care plans lose traction in cost control efforts with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d increases in major cost drivers: labor, technology, pharmacy, malpractice, and administrative c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payers continue to shift more pressure to private p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consumer cost participation inevi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5AA3-735E-4B13-B36F-5A5DDF4CCF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d Care—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to Hold 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ader networks/looser products (PP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geted disease management programs to focus on high-cost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ntive-based compensation systems for providers to promote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ed consumer cost sharing and consumer engagement in cho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ising premiums faster than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13E0-C26B-429F-BCF9-797E17EEFD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440" y="609480"/>
          <a:ext cx="8971200" cy="73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609480"/>
                    <a:ext cx="897120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295280" y="6172200"/>
            <a:ext cx="6782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nt of All Covered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943600"/>
            <a:ext cx="807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28600"/>
            <a:ext cx="685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employee enrollment by type of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073240" y="580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9600" y="632448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518A-D20F-47B9-A4C2-4B1E12922E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ations for State Policymak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ply rising health care expenses affec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employee benefits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id and SCHIP expendi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age expansions—past and 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ncing for safety net provid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ility of private coverage—potentially                       increasing enrollment in public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25160" indent="-425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s for both deregulation and new regu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FC0C-AE63-4BC0-98FD-BEFAE96E71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id—The Land Where Managed Care Succeeded, So F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d care in Medicaid has fared better than in commercial sector because it is grounded in assumption that resources are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have stayed with HMO product in part because substantial cost-shifting to consumer not an o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(but not all) States generally satisfied with prepaid health plans and ability to hold them accountable for cost and quality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aid managed care emerging as lucrative industry for specialized plans; new opportunities to place greater demands on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80E8-6F84-4972-9F3B-FEB76F7094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ivate Sector Respons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enchanted with managed care organizations, growing             doubts about their ability to affect health care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ief that expanded coverage/benefits with reduced out of pocket costs for employee/consumer is THE problem and needs to be rever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mbeat building for a variety of “consumer directed health product” (CDHP)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is inspiration or desper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3526-7851-491D-B20D-A1D01D34E1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age of Large Employers (&gt;200 workers) Planning Selected Benefit Changes in Next Y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65280" y="1447920"/>
          <a:ext cx="776268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447920"/>
                    <a:ext cx="776268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78720" y="5965920"/>
            <a:ext cx="718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el et al, KFF, 2004   Likely= Very/Somewhat likely; Not=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C676-D098-4C39-BF54-2598E71462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usive Pursuit of Sustainable, Affordable Health Care Cover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chasers of health benefits have long struggled to expand  coverage, promote access, and contain costs—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policymakers have assisted efforts with a variety of policy interventions to try to affect health care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 have pursued many strategies:  certificate of need, rate regulation, investment in safety net providers, reform of insurance markets, mandated benefits and services, expanded public coverage, consumer protection initi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containment, in particular, has proven to be elu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91B6-C9FC-46DD-A7F6-BB71BDC56C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Directed Products (CDHP)—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ntinuum Persp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7560" y="1600200"/>
            <a:ext cx="6501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 premium contribution and “first dollar”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133720"/>
            <a:ext cx="7925040" cy="4343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49280" y="6461280"/>
            <a:ext cx="2967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h in lieu of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98760" y="2438280"/>
            <a:ext cx="458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emium contributions and cost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22680" y="3124080"/>
            <a:ext cx="6422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harply increased out-of-pocket costs/benefits buy-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3809880"/>
            <a:ext cx="3962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gh-deductible plan optio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lth savings/reimbursement accou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5680" y="5105520"/>
            <a:ext cx="2422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fined con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C675-8712-4B42-ADCF-B6882E0B65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HP:  Managed Care Under New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1523880"/>
            <a:ext cx="2590560" cy="1447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429000"/>
            <a:ext cx="175248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4245480"/>
            <a:ext cx="2820960" cy="1817640"/>
          </a:xfrm>
          <a:prstGeom prst="hexagon">
            <a:avLst>
              <a:gd name="adj" fmla="val 31126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Dedu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90920" y="2971800"/>
            <a:ext cx="76176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3962520"/>
            <a:ext cx="6094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98760" y="2759040"/>
            <a:ext cx="40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4114800"/>
            <a:ext cx="40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990720"/>
            <a:ext cx="533520" cy="76176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2209680"/>
            <a:ext cx="533520" cy="76212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1600200"/>
            <a:ext cx="533520" cy="76212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4495680"/>
            <a:ext cx="1219320" cy="1371600"/>
          </a:xfrm>
          <a:prstGeom prst="plus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220968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2590920"/>
            <a:ext cx="1066680" cy="6858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07920" y="1114560"/>
            <a:ext cx="181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0960" y="4191120"/>
            <a:ext cx="90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48320" y="4114440"/>
            <a:ext cx="1066680" cy="6094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541008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B8B9-B5CE-4903-B101-E47CC4DF13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y Concerns with Consumer Directed Produc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to support consumers remains badly underdevelo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 to lose group-based negotiating cl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erred/forgone care could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mpensated care could rise sharp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y likely to opt out of conventional insu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healthy try to maintain comprehensive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-pooling undermined; premiums could so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of the less healthy can afford coverage—become uninsu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4B74-AA38-44D2-9905-31048568AC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asks Before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 past coverage expansions and explore new configurations of public and private arrang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strategies for purchasing care for Medicaid           and SCHIP benefici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sit benefit designs and delivery system options           for State 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ppraise regulatory and other interventions to bolster   private insurance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consequences of consumer directed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DD9F-9AB5-47BC-ACC7-184E139EEC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Change in Private Health Spend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Capita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ed for inflation), 1961-2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1886040"/>
          <a:ext cx="817884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86040"/>
                    <a:ext cx="817884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0" y="1371600"/>
          <a:ext cx="9144000" cy="481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71600"/>
                    <a:ext cx="91440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0042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1295640" cy="63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Medicare and Medicaid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5638680"/>
            <a:ext cx="1295640" cy="45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oluntary 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5562720"/>
            <a:ext cx="1295280" cy="63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anaged Care and Threat of Health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638680"/>
            <a:ext cx="947160" cy="63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Wa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3240" y="5613480"/>
            <a:ext cx="1054080" cy="817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ex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01000" y="5486400"/>
            <a:ext cx="91440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" y="6248520"/>
            <a:ext cx="2445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man and Levitt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42D5-E1B2-4148-95B3-7D137623B6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761760" y="4038480"/>
            <a:ext cx="80010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You can always count on the Americans to     do the right thing, after exhausting all other alternatives.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inston S. Churchil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816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Change in Private Health Spending per Capita (Adjusted for Inflation), 1961-2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2680" y="1828800"/>
          <a:ext cx="817380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828800"/>
                    <a:ext cx="817380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0" y="1447920"/>
          <a:ext cx="9144000" cy="481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91440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0042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715000"/>
            <a:ext cx="15242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Medicare and Medicaid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943600"/>
            <a:ext cx="1295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Voluntary 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791320"/>
            <a:ext cx="1295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anaged Care and Threat of Health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240" y="5791320"/>
            <a:ext cx="9471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Wa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Pr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4880" y="6324480"/>
            <a:ext cx="2445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man and Levitt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89960" y="2590920"/>
            <a:ext cx="43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8BCE-EE8D-4B4C-808A-1F5522869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flipH="1">
            <a:off x="5285160" y="1888560"/>
            <a:ext cx="891360" cy="11473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905120"/>
            <a:ext cx="1066680" cy="121896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343400"/>
            <a:ext cx="0" cy="6094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066680"/>
            <a:ext cx="1981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1143000"/>
            <a:ext cx="213336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240" y="650880"/>
            <a:ext cx="259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09680"/>
            <a:ext cx="2286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d (&gt;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8680" y="2257560"/>
            <a:ext cx="180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loy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1981080"/>
            <a:ext cx="0" cy="29718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967120"/>
            <a:ext cx="2743200" cy="1423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ier/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/T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1440" y="3962520"/>
            <a:ext cx="1553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198108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4191120"/>
            <a:ext cx="1096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952880"/>
            <a:ext cx="5867280" cy="914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800" y="5181480"/>
            <a:ext cx="336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alth Car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480" y="1143000"/>
            <a:ext cx="197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13480" y="1143000"/>
            <a:ext cx="15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1447920"/>
            <a:ext cx="1219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 m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44792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0 m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5943600"/>
            <a:ext cx="3200400" cy="6858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nsured = 45 mil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0160" y="304920"/>
            <a:ext cx="64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U.S. Health System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―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Simplified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2501-08EC-4BB4-B88C-2AE23362F4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33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r/Sponsored Indemnity Cover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system built around spending someone else’s money . . .and an unmanaged system, at th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ployer sponsorshi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idized premiums and limited cost sharing, health benefits as non-cash compensation shielded from income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emnity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dom of choice of providers, providers fees not  negotiated, little/no medical management, varied benefit pack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913F-1496-401C-BD32-BEF3A9CA22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440" y="609480"/>
          <a:ext cx="8972640" cy="73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609480"/>
                    <a:ext cx="897264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295280" y="6172200"/>
            <a:ext cx="6782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nt of All Covered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943600"/>
            <a:ext cx="80769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28600"/>
            <a:ext cx="762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employee enrollment by type of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2073240" y="5805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0" y="6521400"/>
            <a:ext cx="2277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7CE8-B900-4C19-A3A5-A65E564812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s in Health Insurance Premiums Compared to Other Indicators, 198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204920" y="2220840"/>
            <a:ext cx="841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8%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1920" y="651024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bel et al, KFF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5440" y="4159080"/>
            <a:ext cx="6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2209680"/>
            <a:ext cx="70102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ADC9-A662-407E-9837-6685E13F6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of Premium Paid by Covered Work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990720" y="1090440"/>
          <a:ext cx="10972800" cy="576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90720" y="1090440"/>
                    <a:ext cx="109728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-3240" y="6461280"/>
            <a:ext cx="217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bel et al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DAE9-0F54-4D05-B00C-A3A1E91366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0T20:59:42Z</dcterms:created>
  <dc:creator>Robert Hurley</dc:creator>
  <dc:description/>
  <dc:language>en-US</dc:language>
  <cp:lastModifiedBy>Cheryl Bell</cp:lastModifiedBy>
  <cp:lastPrinted>2001-01-05T17:22:33Z</cp:lastPrinted>
  <dcterms:modified xsi:type="dcterms:W3CDTF">2005-03-25T15:20:02Z</dcterms:modified>
  <cp:revision>95</cp:revision>
  <dc:subject/>
  <dc:title>Managed Care: A Purchaser instigated revolution/rebellion </dc:title>
</cp:coreProperties>
</file>