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19.gif" ContentType="image/gi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4B59-E964-4041-9CA4-9DB98DDCC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C011-2D9C-4F82-A5BA-9455C9300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ED3E-7D8B-4A0D-97CC-AD06C8FB3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3F9B-BCEA-48D0-82A5-87EB60156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828A-C5F8-4A78-B849-7C12706CD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8432-1EB7-4FF3-83DA-5EBA23C0E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D58F-F8F5-4960-B7A2-EE9982595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0E66-2CA2-4DCA-B109-00164382C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7D0C-771C-4050-85F0-669E0EDD2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5F35-71E8-4E23-BE10-FA460C340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7496-4F41-49D5-8291-F05F33A9E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C625-08F1-4810-BE33-7DAD43B5E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13f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b1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686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Hurley # </a:t>
            </a:r>
            <a:fld id="{9034C883-4D3C-4F1F-8A80-DED545DAD527}" type="slidenum">
              <a:rPr b="0" lang="en-US" sz="1200" spc="-1" strike="noStrike">
                <a:solidFill>
                  <a:srgbClr val="39393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flipH="1">
            <a:off x="457200" y="6324480"/>
            <a:ext cx="8153280" cy="0"/>
          </a:xfrm>
          <a:prstGeom prst="line">
            <a:avLst/>
          </a:prstGeom>
          <a:ln w="19080">
            <a:solidFill>
              <a:srgbClr val="ffb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b13f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6868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68686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ath, Taxes, and Rising Health Care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580920" y="3809880"/>
            <a:ext cx="487692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obert E. Hurley, Ph.D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ginia Commonwealth Univers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661640" y="942840"/>
            <a:ext cx="276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6451" t="3327" r="9685" b="3743"/>
          <a:stretch/>
        </p:blipFill>
        <p:spPr>
          <a:xfrm>
            <a:off x="838080" y="3276720"/>
            <a:ext cx="2476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r Rev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mployers make their m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DFD4-67BB-447D-85D8-BF32AE448D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chasers Attempt To Promote Competition via Managed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purchasers embraced managed care to exert more control over health benefits and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d care organizations (MCOs) charged with being aggressive purchasing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COs design/develop products to match purchaser (and consumer) demands with provider capacity and cap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s to promote competitive dynamics to curb cost growth/improve efficiency/reduce cost sh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30D4-DD4D-4ACE-A023-F993D500B3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 Indemnity to Managed C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demn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freedom of choice of providers, providers fees not negotiated, little/no medical management, varied benefit pack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anaged ca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network-based delivery systems, negotiated payments, medical management, typically richer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b13f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MO—narrower networks, aggressive medical management, some risk-based pa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b13f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O—broader networks, limited medical management,           discounted prices pa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b13f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—HMO with out-of-network options (“leaky HMO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25909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EC2D-6189-416C-BFF2-8F166C549B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440" y="609480"/>
          <a:ext cx="8972640" cy="73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609480"/>
                    <a:ext cx="897264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295280" y="6172200"/>
            <a:ext cx="6782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nt of All Covered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5943600"/>
            <a:ext cx="807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28600"/>
            <a:ext cx="7619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employee enrollment by type of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2073240" y="580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0" y="6510240"/>
            <a:ext cx="227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bel et al, KFF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A145-FAD0-4897-BFDE-7EF18C4E9C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s in Health Insurance Premiums Compared to Other Indicators, 1988-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203480" y="2220840"/>
            <a:ext cx="84132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8%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8%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0480" y="6510240"/>
            <a:ext cx="227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bel et al, KFF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362320"/>
            <a:ext cx="2057400" cy="35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2869-C402-4F49-BAD4-8828C89990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 Governments In 1990s Hitched Their Wagons to Managed Care and Market-based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employee health benefits programs came to rely extensively on managed c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2000, more than half (56%) of Medicaid beneficiaries  enrolled in managed care arrang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ates enrolled SCHIP eligible children in managed care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ility of coverage expansions conditioned on expectation of controlling cost incr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promoted coverage and benefit expansions with       various mandates on health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F7A6-C115-409D-B0B7-DC7D2F9642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nging on a Counterrevol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ression of cost-shif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 and provider backla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ontrollable cost pressure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lining public pay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B0AC-CD0B-4CAB-ACC0-380D2B0442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cline of Cost-Shifting—1990-2000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yments received as a % of actual cos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295280"/>
          <a:ext cx="870444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7044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27160" y="2552760"/>
            <a:ext cx="7552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2971800"/>
            <a:ext cx="755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40" y="6400800"/>
            <a:ext cx="1581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PAC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CFC4-D13F-4A10-96C0-6175930A34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 U.S. Physician Income, 1988-199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889280"/>
          <a:ext cx="817884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89280"/>
                    <a:ext cx="8178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96640" y="2362320"/>
            <a:ext cx="389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4120" y="6324480"/>
            <a:ext cx="2571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rn Healthcare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B9C7-3C95-438F-9711-78231D8849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899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nt of Groups with “Unfavorable” Rating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Kaiser Family Foundation, National Survey of Prescription Drugs, Sept. 200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79560" y="1886040"/>
          <a:ext cx="71308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1886040"/>
                    <a:ext cx="71308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523880" y="2666880"/>
            <a:ext cx="1067040" cy="5335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433C-8AC6-45D9-8F2E-3744267356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press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ve to managed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success; later dec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quences for Sta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sector respo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sks before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28C0-12CD-4669-B04F-D8D864E40B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 Increase in Rx Spending vs. Total Health Care Spending, 1990-200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55560" y="1914480"/>
          <a:ext cx="7782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914480"/>
                    <a:ext cx="7782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08880" y="1600200"/>
            <a:ext cx="102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0160" y="6400800"/>
            <a:ext cx="23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HCFA/C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1B0E-F27A-4053-914B-502DBCC743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Makes Its Move—BBA* of 1997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Annual Increase in National Health Expenditures (NHE)                          vs. Private insurance and Medi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600200"/>
          <a:ext cx="914400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954320" y="5867280"/>
            <a:ext cx="3365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*Balanced Budget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7800" y="6019920"/>
            <a:ext cx="2571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rn Healthcare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2979-977B-4DDF-97C7-4E9394B8FA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s in Health Insurance Premiums Compared to Other Indicators, 1988-200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676520"/>
          <a:ext cx="817884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17884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071720" y="2057400"/>
            <a:ext cx="8072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.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8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5920" y="6019920"/>
            <a:ext cx="227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bel et al, KFF,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748E-564B-4C29-9472-49289C92B0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mporary Pi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mium increases remain near or at double dig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coverage likely to continue to dec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-sector managed care plans lose traction in cost control efforts with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d increases in major cost drivers: labor, technology, pharmacy, malpractice, and administrative co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payers continue to shift more pressure to private p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consumer cost participation inevi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89CB-9F56-4A5E-8FB7-F1567437B2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d Care—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to Hold 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ader networks/looser products (PP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rgeted disease management programs to focus on high-cost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ntive-based compensation systems for providers to promote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ed consumer cost sharing and consumer engagement in cho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ising premiums faster than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8D64-02DE-4881-81E8-13F1533F14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440" y="609480"/>
          <a:ext cx="8971200" cy="73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609480"/>
                    <a:ext cx="897120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295280" y="6172200"/>
            <a:ext cx="6782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nt of All Covered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943600"/>
            <a:ext cx="807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228600"/>
            <a:ext cx="685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employee enrollment by type of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2073240" y="580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9600" y="6324480"/>
            <a:ext cx="227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bel et al, KFF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A5FD-466E-460E-B251-DF0EDE7629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ations for State Policymak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ply rising health care expenses affec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employee benefits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id and SCHIP expendi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age expansions—past and fu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ncing for safety net provid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ility of private coverage—potentially                       increasing enrollment in public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s for both deregulation and new regul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E31E-48D9-4809-8339-6C40347456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id—The Land Where Managed Care Succeeded, So F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d care in Medicaid has fared better than in commercial sector because it is grounded in assumption that resources are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have stayed with HMO product in part because substantial cost-shifting to consumer not an o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(but not all) States generally satisfied with prepaid health plans and ability to hold them accountable for cost and quality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aid managed care emerging as lucrative industry for specialized plans; new opportunities to place greater demands on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1507-C236-4C90-A20B-B89FC10375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ivate Sector Respons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enchanted with managed care organizations, growing             doubts about their ability to affect health care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ief that expanded coverage/benefits with reduced out of pocket costs for employee/consumer is THE problem and needs to be rever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mbeat building for a variety of “consumer directed health product” (CDHP) de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is inspiration or desper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E906-F344-4FF7-9F3C-1A84086D9B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ntage of Large Employers (&gt;200 workers) Planning Selected Benefit Changes in Next Y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65280" y="1447920"/>
          <a:ext cx="776268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1447920"/>
                    <a:ext cx="776268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78720" y="5965920"/>
            <a:ext cx="718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bel et al, KFF, 2004   Likely= Very/Somewhat likely; Not=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6B7D-2285-44AC-8C10-4A90D9F6AE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lusive Pursuit of Sustainable, Affordable Health Care Cover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chasers of health benefits have long struggled to expand  coverage, promote access, and contain costs—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policymakers have assisted efforts with a variety of policy interventions to try to affect health care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have pursued many strategies:  certificate of need, rate regulation, investment in safety net providers, reform of insurance markets, mandated benefits and services, expanded public coverage, consumer protection initi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containment, in particular, has proven to be elu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8387-31C8-4BF6-8A30-ADDC6670F9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Directed Products (CDHP)—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ontinuum Perspec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7560" y="1600200"/>
            <a:ext cx="6501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 premium contribution and “first dollar”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133720"/>
            <a:ext cx="7925040" cy="43434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49280" y="6461280"/>
            <a:ext cx="2967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sh in lieu of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98760" y="2438280"/>
            <a:ext cx="458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emium contributions and cost sh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22680" y="3124080"/>
            <a:ext cx="6422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harply increased out-of-pocket costs/benefits buy-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3809880"/>
            <a:ext cx="3962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gh-deductible plan option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lth savings/reimbursement accou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5680" y="5105520"/>
            <a:ext cx="242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fined con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3DC6-4546-4767-A2F5-55FF73007E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HP:  Managed Care Under New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1523880"/>
            <a:ext cx="2590560" cy="1447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3429000"/>
            <a:ext cx="175248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4245480"/>
            <a:ext cx="2820960" cy="1817640"/>
          </a:xfrm>
          <a:prstGeom prst="hexagon">
            <a:avLst>
              <a:gd name="adj" fmla="val 31126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Dedu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590920" y="2971800"/>
            <a:ext cx="76176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3962520"/>
            <a:ext cx="6094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98760" y="2759040"/>
            <a:ext cx="409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4114800"/>
            <a:ext cx="409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15200" y="990720"/>
            <a:ext cx="533520" cy="761760"/>
          </a:xfrm>
          <a:prstGeom prst="plus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15200" y="2209680"/>
            <a:ext cx="533520" cy="762120"/>
          </a:xfrm>
          <a:prstGeom prst="plus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1600200"/>
            <a:ext cx="533520" cy="762120"/>
          </a:xfrm>
          <a:prstGeom prst="plus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86600" y="4495680"/>
            <a:ext cx="1219320" cy="1371600"/>
          </a:xfrm>
          <a:prstGeom prst="plus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220968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2590920"/>
            <a:ext cx="106668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07920" y="1114560"/>
            <a:ext cx="181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0960" y="4191120"/>
            <a:ext cx="90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648320" y="4114440"/>
            <a:ext cx="1066680" cy="6094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541008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297E-B544-42B3-A393-F1EE565914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icy Concerns with Consumer Directed Produc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to support consumers remains badly underdevelop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ential to lose group-based negotiating cl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erred/forgone care could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mpensated care could rise sharp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y likely to opt out of conventional insu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healthy try to maintain comprehensive co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-pooling undermined; premiums could so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of the less healthy can afford coverage—become uninsu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FECC-1A7F-435B-B7A6-E3DD1BAB20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Tasks Before Yo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 past coverage expansions and explore new configurations of public and private arrang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strategies for purchasing care for Medicaid           and SCHIP benefici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sit benefit designs and delivery system options           for State employ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ppraise regulatory and other interventions to bolster   private insurance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consequences of consumer directed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BE9C-4F08-4F61-8BDF-7D8127408B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Change in Private Health Spend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Capita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ed for inflation), 1961-20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57200" y="1886040"/>
          <a:ext cx="817884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86040"/>
                    <a:ext cx="817884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0" y="1371600"/>
          <a:ext cx="9144000" cy="481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71600"/>
                    <a:ext cx="91440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00425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1295640" cy="63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Medicare and Medicaid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5638680"/>
            <a:ext cx="1295640" cy="45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oluntary Ef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5562720"/>
            <a:ext cx="1295280" cy="63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anaged Care and Threat of Health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638680"/>
            <a:ext cx="947160" cy="63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Wa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r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3240" y="5613480"/>
            <a:ext cx="1054080" cy="81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x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01000" y="5486400"/>
            <a:ext cx="914400" cy="1143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4000" y="6248520"/>
            <a:ext cx="2445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man and Levitt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A957-B1DE-4E0B-AF38-3F44344913F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761760" y="4038480"/>
            <a:ext cx="80010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You can always count on the Americans to     do the right thing, after exhausting all other alternatives.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inston S. Churchil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2816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Change in Private Health Spending per Capita (Adjusted for Inflation), 1961-20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2680" y="1828800"/>
          <a:ext cx="817380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828800"/>
                    <a:ext cx="817380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0" y="1447920"/>
          <a:ext cx="9144000" cy="481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47920"/>
                    <a:ext cx="91440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00425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715000"/>
            <a:ext cx="15242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Medicare and Medicaid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5943600"/>
            <a:ext cx="1295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oluntary Ef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5791320"/>
            <a:ext cx="1295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anaged Care and Threat of Health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7240" y="5791320"/>
            <a:ext cx="9471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Wa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r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4880" y="6324480"/>
            <a:ext cx="2445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man and Levitt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89960" y="2590920"/>
            <a:ext cx="435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C784-376A-45F1-B0E3-76F8955E2F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flipH="1">
            <a:off x="5285160" y="1888560"/>
            <a:ext cx="891360" cy="11473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905120"/>
            <a:ext cx="1066680" cy="121896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343400"/>
            <a:ext cx="0" cy="6094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066680"/>
            <a:ext cx="19810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1143000"/>
            <a:ext cx="213336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240" y="650880"/>
            <a:ext cx="259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209680"/>
            <a:ext cx="2286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d (&gt;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8680" y="2257560"/>
            <a:ext cx="180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1981080"/>
            <a:ext cx="0" cy="29718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2967120"/>
            <a:ext cx="2743200" cy="1423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rier/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/T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1440" y="3962520"/>
            <a:ext cx="1553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198108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4191120"/>
            <a:ext cx="1096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4952880"/>
            <a:ext cx="5867280" cy="9144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800" y="5181480"/>
            <a:ext cx="3367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alth Car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480" y="1143000"/>
            <a:ext cx="197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13480" y="1143000"/>
            <a:ext cx="15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1447920"/>
            <a:ext cx="1219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 m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447920"/>
            <a:ext cx="137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0 m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5943600"/>
            <a:ext cx="3200400" cy="6858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nsured = 45 mil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0160" y="304920"/>
            <a:ext cx="64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U.S. Health System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―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Simplified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25CF-1379-420F-872B-2071419E1B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33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er/Sponsored Indemnity Cover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system built around spending someone else’s money . . .and an unmanaged system, at th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mployer sponsorshi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idized premiums and limited cost sharing, health benefits as non-cash compensation shielded from income 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emnity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dom of choice of providers, providers fees not  negotiated, little/no medical management, varied benefit pack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3F51-FF53-48D7-A21F-8A5553A0E0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440" y="609480"/>
          <a:ext cx="8972640" cy="73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609480"/>
                    <a:ext cx="897264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295280" y="6172200"/>
            <a:ext cx="6782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nt of All Covered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943600"/>
            <a:ext cx="807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28600"/>
            <a:ext cx="762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employee enrollment by type of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2073240" y="580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0" y="6521400"/>
            <a:ext cx="227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bel et al, KFF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B04A-A51B-4A00-B6BE-A567FC0A85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s in Health Insurance Premiums Compared to Other Indicators, 198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204920" y="2220840"/>
            <a:ext cx="8410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8%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1920" y="651024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bel et al, KFF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5440" y="4159080"/>
            <a:ext cx="6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4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2209680"/>
            <a:ext cx="701028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E837-6401-4B38-BA79-894C6B00D3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nt of Premium Paid by Covered Work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-990720" y="1090440"/>
          <a:ext cx="10972800" cy="57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90720" y="1090440"/>
                    <a:ext cx="109728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-3240" y="6461280"/>
            <a:ext cx="217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bel et al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CA49-6B84-4A39-A65A-D8887897AD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0T20:59:42Z</dcterms:created>
  <dc:creator>Robert Hurley</dc:creator>
  <dc:description/>
  <dc:language>en-US</dc:language>
  <cp:lastModifiedBy>Cheryl Bell</cp:lastModifiedBy>
  <cp:lastPrinted>2001-01-05T17:22:33Z</cp:lastPrinted>
  <dcterms:modified xsi:type="dcterms:W3CDTF">2005-03-25T15:20:02Z</dcterms:modified>
  <cp:revision>95</cp:revision>
  <dc:subject/>
  <dc:title>Managed Care: A Purchaser instigated revolution/rebellion </dc:title>
</cp:coreProperties>
</file>