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6.wmf" ContentType="image/x-wmf"/>
  <Override PartName="/ppt/media/image2.jpeg" ContentType="image/jpeg"/>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84"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3"/>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8E40-DC57-4627-ABD0-4F1FADC96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5D20-BE08-4755-AF6A-8646DFCA6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662"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666"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670"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PlaceHolder 1"/>
          <p:cNvSpPr>
            <a:spLocks noGrp="1"/>
          </p:cNvSpPr>
          <p:nvPr>
            <p:ph type="sldImg"/>
          </p:nvPr>
        </p:nvSpPr>
        <p:spPr>
          <a:xfrm>
            <a:off x="1143000" y="693720"/>
            <a:ext cx="4573440" cy="3430440"/>
          </a:xfrm>
          <a:prstGeom prst="rect">
            <a:avLst/>
          </a:prstGeom>
          <a:ln w="0">
            <a:noFill/>
          </a:ln>
        </p:spPr>
      </p:sp>
      <p:sp>
        <p:nvSpPr>
          <p:cNvPr id="673"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013A-F0AB-4D42-992E-87EFC83BA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680"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684"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688"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PlaceHolder 1"/>
          <p:cNvSpPr>
            <a:spLocks noGrp="1"/>
          </p:cNvSpPr>
          <p:nvPr>
            <p:ph type="sldImg"/>
          </p:nvPr>
        </p:nvSpPr>
        <p:spPr>
          <a:xfrm>
            <a:off x="1143000" y="693720"/>
            <a:ext cx="4573440" cy="3430440"/>
          </a:xfrm>
          <a:prstGeom prst="rect">
            <a:avLst/>
          </a:prstGeom>
          <a:ln w="0">
            <a:noFill/>
          </a:ln>
        </p:spPr>
      </p:sp>
      <p:sp>
        <p:nvSpPr>
          <p:cNvPr id="691"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E787-723F-49BA-B7A7-E5CB0ECE5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698"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702"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706"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PlaceHolder 1"/>
          <p:cNvSpPr>
            <a:spLocks noGrp="1"/>
          </p:cNvSpPr>
          <p:nvPr>
            <p:ph type="sldImg"/>
          </p:nvPr>
        </p:nvSpPr>
        <p:spPr>
          <a:xfrm>
            <a:off x="1143000" y="693720"/>
            <a:ext cx="4573440" cy="3430440"/>
          </a:xfrm>
          <a:prstGeom prst="rect">
            <a:avLst/>
          </a:prstGeom>
          <a:ln w="0">
            <a:noFill/>
          </a:ln>
        </p:spPr>
      </p:sp>
      <p:sp>
        <p:nvSpPr>
          <p:cNvPr id="709"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5B98-B3E2-42D5-AC97-0E61E31A6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16"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720"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PlaceHolder 1"/>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PlaceHolder 2"/>
          <p:cNvSpPr>
            <a:spLocks noGrp="1"/>
          </p:cNvSpPr>
          <p:nvPr>
            <p:ph type="sldImg"/>
          </p:nvPr>
        </p:nvSpPr>
        <p:spPr>
          <a:xfrm>
            <a:off x="1143000" y="693720"/>
            <a:ext cx="4573440" cy="3430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4491-3B17-41C8-A9AB-CFC189C15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8"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30"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34"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PlaceHolder 1"/>
          <p:cNvSpPr>
            <a:spLocks noGrp="1"/>
          </p:cNvSpPr>
          <p:nvPr>
            <p:ph type="sldImg"/>
          </p:nvPr>
        </p:nvSpPr>
        <p:spPr>
          <a:xfrm>
            <a:off x="1135080" y="689040"/>
            <a:ext cx="4589280" cy="3441600"/>
          </a:xfrm>
          <a:prstGeom prst="rect">
            <a:avLst/>
          </a:prstGeom>
          <a:ln w="0">
            <a:noFill/>
          </a:ln>
        </p:spPr>
      </p:sp>
      <p:sp>
        <p:nvSpPr>
          <p:cNvPr id="737" name="PlaceHolder 2"/>
          <p:cNvSpPr>
            <a:spLocks noGrp="1"/>
          </p:cNvSpPr>
          <p:nvPr>
            <p:ph type="body"/>
          </p:nvPr>
        </p:nvSpPr>
        <p:spPr>
          <a:xfrm>
            <a:off x="914400" y="4361040"/>
            <a:ext cx="5029200" cy="413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s, JR, Clearfield M, Weis, S, Whiney E, Shaprio, DR, Beere, PA, Langendorfer A, Stein EA, Kruyer W, Gotto AM, Primary Prevnetionof Acute Coronary Events with Lovastation in Men and Women with Average Cholesteril Levels, JAMA 279:20 (May 27, 1998): 1615-162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C83A-B2F1-49F3-A25E-02A1781D1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44"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48"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52"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PlaceHolder 1"/>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2"/>
          <p:cNvSpPr>
            <a:spLocks noGrp="1"/>
          </p:cNvSpPr>
          <p:nvPr>
            <p:ph type="sldImg"/>
          </p:nvPr>
        </p:nvSpPr>
        <p:spPr>
          <a:xfrm>
            <a:off x="1135080" y="689040"/>
            <a:ext cx="4589280" cy="3441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F0646-2AD9-465B-87D0-FC4560572D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9084193-709D-4B7B-A4DF-F4E4AAEBD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C402559-4BF0-4709-8AEC-BF3DF26831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F6B2A37-42CE-4012-BFDE-DF39A5999E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114264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3252EC7-2C02-41FA-85DF-EE4572D0D9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3D6B28D-8692-4236-AE5F-B6A754456B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ADEE51F-B5A5-4325-9D0E-6430256341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D1FD2212-39B7-433A-A905-FDCC134709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4264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9DEF1C4-CCF0-4D9C-9F96-AF498BE6CD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B732BBD-9AFA-4AE5-8530-C2EBE48B6C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C78A83B-0AC6-471B-9D40-9EAD018A37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6D69DDC-8AD7-43AC-9AF7-3E436A7B8A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79405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sldNum" idx="1"/>
          </p:nvPr>
        </p:nvSpPr>
        <p:spPr>
          <a:xfrm>
            <a:off x="6553080" y="63244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gance # </a:t>
            </a:r>
            <a:fld id="{A3DF3F3C-E21D-49EB-B5C2-AFC1FB570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flipH="1">
            <a:off x="685800" y="6324480"/>
            <a:ext cx="777240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940520"/>
          </a:xfrm>
          <a:prstGeom prst="rect">
            <a:avLst/>
          </a:prstGeom>
          <a:ln w="0">
            <a:noFill/>
          </a:ln>
        </p:spPr>
      </p:pic>
      <p:sp>
        <p:nvSpPr>
          <p:cNvPr id="42"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7848720" cy="6815160"/>
          </a:xfrm>
          <a:prstGeom prst="rect">
            <a:avLst/>
          </a:prstGeom>
          <a:ln w="0">
            <a:noFill/>
          </a:ln>
        </p:spPr>
      </p:pic>
      <p:sp>
        <p:nvSpPr>
          <p:cNvPr id="88" name="PlaceHolder 1"/>
          <p:cNvSpPr>
            <a:spLocks noGrp="1"/>
          </p:cNvSpPr>
          <p:nvPr>
            <p:ph type="title"/>
          </p:nvPr>
        </p:nvSpPr>
        <p:spPr>
          <a:xfrm>
            <a:off x="990720" y="1523880"/>
            <a:ext cx="761976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Health Care Workforce: </a:t>
            </a:r>
            <a:br>
              <a:rPr sz="4400"/>
            </a:br>
            <a:r>
              <a:rPr b="1" lang="en-US" sz="4400" spc="-1" strike="noStrike">
                <a:solidFill>
                  <a:srgbClr val="000000"/>
                </a:solidFill>
                <a:latin typeface="Times New Roman"/>
              </a:rPr>
              <a:t>Key Trends, Challenges, and Strategies </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99072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am B. Briggance, Ph.D.</a:t>
            </a:r>
            <a:endParaRPr b="0" lang="en-US" sz="3200" spc="-1" strike="noStrike">
              <a:solidFill>
                <a:srgbClr val="000000"/>
              </a:solidFill>
              <a:latin typeface="Times New Roman"/>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CSF Center for the Health Professions</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4" name=""/>
          <p:cNvGraphicFramePr/>
          <p:nvPr/>
        </p:nvGraphicFramePr>
        <p:xfrm>
          <a:off x="0" y="1371600"/>
          <a:ext cx="8531280" cy="4529160"/>
        </p:xfrm>
        <a:graphic>
          <a:graphicData uri="http://schemas.openxmlformats.org/presentationml/2006/ole">
            <p:oleObj r:id="rId1" spid="">
              <p:embed/>
              <p:pic>
                <p:nvPicPr>
                  <p:cNvPr id="135" name="" descr=""/>
                  <p:cNvPicPr/>
                  <p:nvPr/>
                </p:nvPicPr>
                <p:blipFill>
                  <a:blip r:embed="rId2"/>
                  <a:stretch/>
                </p:blipFill>
                <p:spPr>
                  <a:xfrm>
                    <a:off x="0" y="1371600"/>
                    <a:ext cx="8531280" cy="4529160"/>
                  </a:xfrm>
                  <a:prstGeom prst="rect">
                    <a:avLst/>
                  </a:prstGeom>
                  <a:ln w="0">
                    <a:noFill/>
                  </a:ln>
                </p:spPr>
              </p:pic>
            </p:oleObj>
          </a:graphicData>
        </a:graphic>
      </p:graphicFrame>
      <p:sp>
        <p:nvSpPr>
          <p:cNvPr id="136"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pidemiology</a:t>
            </a:r>
            <a:endParaRPr b="1" lang="en-US" sz="4000" spc="-1" strike="noStrike">
              <a:solidFill>
                <a:srgbClr val="000000"/>
              </a:solidFill>
              <a:latin typeface="Times New Roman"/>
            </a:endParaRPr>
          </a:p>
        </p:txBody>
      </p:sp>
      <p:sp>
        <p:nvSpPr>
          <p:cNvPr id="137" name=""/>
          <p:cNvSpPr/>
          <p:nvPr/>
        </p:nvSpPr>
        <p:spPr>
          <a:xfrm>
            <a:off x="307440" y="5943600"/>
            <a:ext cx="4241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Health US, 2003, USHHS, CDC,NCHCS, October 2003,  56.</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2A8425AA-4CC2-4A99-AF6D-A22BF44BCD91}" type="slidenum">
              <a:t>10</a:t>
            </a:fld>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end: Epidemiology</a:t>
            </a:r>
            <a:endParaRPr b="1" lang="en-US" sz="40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inantly chronic</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sively acut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polar patterns of disease and health</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and less to do with health car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 of morbid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
          <p:cNvSpPr/>
          <p:nvPr/>
        </p:nvSpPr>
        <p:spPr>
          <a:xfrm>
            <a:off x="55440" y="638820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7BBD340C-206B-479B-98D1-E6B0D664B6BC}" type="slidenum">
              <a:t>11</a:t>
            </a:fld>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3520" y="5867280"/>
            <a:ext cx="6215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ongressional Budget Office, Center on Budget and Policy Priorities, September 23, 2003.</a:t>
            </a:r>
            <a:endParaRPr b="0" lang="en-US" sz="1000" spc="-1" strike="noStrike">
              <a:solidFill>
                <a:srgbClr val="000000"/>
              </a:solidFill>
              <a:latin typeface="Times New Roman"/>
            </a:endParaRPr>
          </a:p>
        </p:txBody>
      </p:sp>
      <p:sp>
        <p:nvSpPr>
          <p:cNvPr id="146"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conomic Disparity</a:t>
            </a:r>
            <a:endParaRPr b="1" lang="en-US" sz="4000" spc="-1" strike="noStrike">
              <a:solidFill>
                <a:srgbClr val="000000"/>
              </a:solidFill>
              <a:latin typeface="Times New Roman"/>
            </a:endParaRPr>
          </a:p>
        </p:txBody>
      </p:sp>
      <p:graphicFrame>
        <p:nvGraphicFramePr>
          <p:cNvPr id="147" name=""/>
          <p:cNvGraphicFramePr/>
          <p:nvPr/>
        </p:nvGraphicFramePr>
        <p:xfrm>
          <a:off x="304920" y="1295280"/>
          <a:ext cx="8531280" cy="4496040"/>
        </p:xfrm>
        <a:graphic>
          <a:graphicData uri="http://schemas.openxmlformats.org/presentationml/2006/ole">
            <p:oleObj r:id="rId1" spid="">
              <p:embed/>
              <p:pic>
                <p:nvPicPr>
                  <p:cNvPr id="148" name="" descr=""/>
                  <p:cNvPicPr/>
                  <p:nvPr/>
                </p:nvPicPr>
                <p:blipFill>
                  <a:blip r:embed="rId2"/>
                  <a:stretch/>
                </p:blipFill>
                <p:spPr>
                  <a:xfrm>
                    <a:off x="304920" y="1295280"/>
                    <a:ext cx="8531280" cy="4496040"/>
                  </a:xfrm>
                  <a:prstGeom prst="rect">
                    <a:avLst/>
                  </a:prstGeom>
                  <a:ln w="0">
                    <a:noFill/>
                  </a:ln>
                </p:spPr>
              </p:pic>
            </p:oleObj>
          </a:graphicData>
        </a:graphic>
      </p:graphicFrame>
      <p:sp>
        <p:nvSpPr>
          <p:cNvPr id="149" name=""/>
          <p:cNvSpPr/>
          <p:nvPr/>
        </p:nvSpPr>
        <p:spPr>
          <a:xfrm>
            <a:off x="2209680" y="4295880"/>
            <a:ext cx="68580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8.7%</a:t>
            </a:r>
            <a:endParaRPr b="0" lang="en-US" sz="1400" spc="-1" strike="noStrike">
              <a:solidFill>
                <a:srgbClr val="000000"/>
              </a:solidFill>
              <a:latin typeface="Times New Roman"/>
            </a:endParaRPr>
          </a:p>
        </p:txBody>
      </p:sp>
      <p:sp>
        <p:nvSpPr>
          <p:cNvPr id="150" name=""/>
          <p:cNvSpPr/>
          <p:nvPr/>
        </p:nvSpPr>
        <p:spPr>
          <a:xfrm>
            <a:off x="7543800" y="2268360"/>
            <a:ext cx="83808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68.3%</a:t>
            </a:r>
            <a:endParaRPr b="0" lang="en-US" sz="1400" spc="-1" strike="noStrike">
              <a:solidFill>
                <a:srgbClr val="000000"/>
              </a:solidFill>
              <a:latin typeface="Times New Roman"/>
            </a:endParaRPr>
          </a:p>
        </p:txBody>
      </p:sp>
      <p:sp>
        <p:nvSpPr>
          <p:cNvPr id="151" name=""/>
          <p:cNvSpPr/>
          <p:nvPr/>
        </p:nvSpPr>
        <p:spPr>
          <a:xfrm>
            <a:off x="6095880" y="3646440"/>
            <a:ext cx="83844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24.1%</a:t>
            </a:r>
            <a:endParaRPr b="0" lang="en-US" sz="1400" spc="-1" strike="noStrike">
              <a:solidFill>
                <a:srgbClr val="000000"/>
              </a:solidFill>
              <a:latin typeface="Times New Roman"/>
            </a:endParaRPr>
          </a:p>
        </p:txBody>
      </p:sp>
      <p:sp>
        <p:nvSpPr>
          <p:cNvPr id="152" name=""/>
          <p:cNvSpPr/>
          <p:nvPr/>
        </p:nvSpPr>
        <p:spPr>
          <a:xfrm>
            <a:off x="4648320" y="3728880"/>
            <a:ext cx="83808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15.1%</a:t>
            </a:r>
            <a:endParaRPr b="0" lang="en-US" sz="1400" spc="-1" strike="noStrike">
              <a:solidFill>
                <a:srgbClr val="000000"/>
              </a:solidFill>
              <a:latin typeface="Times New Roman"/>
            </a:endParaRPr>
          </a:p>
        </p:txBody>
      </p:sp>
      <p:sp>
        <p:nvSpPr>
          <p:cNvPr id="153" name=""/>
          <p:cNvSpPr/>
          <p:nvPr/>
        </p:nvSpPr>
        <p:spPr>
          <a:xfrm>
            <a:off x="3429000" y="4052880"/>
            <a:ext cx="83808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13.3%</a:t>
            </a:r>
            <a:endParaRPr b="0" lang="en-US" sz="1400" spc="-1" strike="noStrike">
              <a:solidFill>
                <a:srgbClr val="000000"/>
              </a:solidFill>
              <a:latin typeface="Times New Roman"/>
            </a:endParaRPr>
          </a:p>
        </p:txBody>
      </p:sp>
      <p:sp>
        <p:nvSpPr>
          <p:cNvPr id="154" name=""/>
          <p:cNvSpPr/>
          <p:nvPr/>
        </p:nvSpPr>
        <p:spPr>
          <a:xfrm>
            <a:off x="4952880" y="2711520"/>
            <a:ext cx="990720" cy="2764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rstyRoman Bd BT"/>
              </a:rPr>
              <a:t>% Change</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363AB91-E20B-4A89-9EC2-13D692CC09C9}" type="slidenum">
              <a:t>12</a:t>
            </a:fld>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7" name=""/>
          <p:cNvGraphicFramePr/>
          <p:nvPr/>
        </p:nvGraphicFramePr>
        <p:xfrm>
          <a:off x="0" y="1371600"/>
          <a:ext cx="8531280" cy="4529160"/>
        </p:xfrm>
        <a:graphic>
          <a:graphicData uri="http://schemas.openxmlformats.org/presentationml/2006/ole">
            <p:oleObj r:id="rId1" spid="">
              <p:embed/>
              <p:pic>
                <p:nvPicPr>
                  <p:cNvPr id="158" name="" descr=""/>
                  <p:cNvPicPr/>
                  <p:nvPr/>
                </p:nvPicPr>
                <p:blipFill>
                  <a:blip r:embed="rId2"/>
                  <a:stretch/>
                </p:blipFill>
                <p:spPr>
                  <a:xfrm>
                    <a:off x="0" y="1371600"/>
                    <a:ext cx="8531280" cy="4529160"/>
                  </a:xfrm>
                  <a:prstGeom prst="rect">
                    <a:avLst/>
                  </a:prstGeom>
                  <a:ln w="0">
                    <a:noFill/>
                  </a:ln>
                </p:spPr>
              </p:pic>
            </p:oleObj>
          </a:graphicData>
        </a:graphic>
      </p:graphicFrame>
      <p:sp>
        <p:nvSpPr>
          <p:cNvPr id="159" name=""/>
          <p:cNvSpPr/>
          <p:nvPr/>
        </p:nvSpPr>
        <p:spPr>
          <a:xfrm>
            <a:off x="459720" y="5943600"/>
            <a:ext cx="4311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Health US, 2003, USHHS, CDC,NCHCS, October 2003,  113.</a:t>
            </a:r>
            <a:endParaRPr b="0" lang="en-US" sz="10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st</a:t>
            </a:r>
            <a:endParaRPr b="1" lang="en-US" sz="4000" spc="-1" strike="noStrike">
              <a:solidFill>
                <a:srgbClr val="000000"/>
              </a:solidFill>
              <a:latin typeface="Times New Roman"/>
            </a:endParaRPr>
          </a:p>
        </p:txBody>
      </p:sp>
      <p:sp>
        <p:nvSpPr>
          <p:cNvPr id="161" name=""/>
          <p:cNvSpPr/>
          <p:nvPr/>
        </p:nvSpPr>
        <p:spPr>
          <a:xfrm>
            <a:off x="6858000" y="4267080"/>
            <a:ext cx="762120" cy="520200"/>
          </a:xfrm>
          <a:prstGeom prst="rect">
            <a:avLst/>
          </a:prstGeom>
          <a:solidFill>
            <a:srgbClr val="ffffff"/>
          </a:solidFill>
          <a:ln w="9360">
            <a:solidFill>
              <a:srgbClr val="000000"/>
            </a:solidFill>
            <a:miter/>
          </a:ln>
          <a:effectLst>
            <a:outerShdw dist="89604"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All Items</a:t>
            </a:r>
            <a:endParaRPr b="0" lang="en-US" sz="1400" spc="-1" strike="noStrike">
              <a:solidFill>
                <a:srgbClr val="000000"/>
              </a:solidFill>
              <a:latin typeface="Times New Roman"/>
            </a:endParaRPr>
          </a:p>
        </p:txBody>
      </p:sp>
      <p:sp>
        <p:nvSpPr>
          <p:cNvPr id="162" name=""/>
          <p:cNvSpPr/>
          <p:nvPr/>
        </p:nvSpPr>
        <p:spPr>
          <a:xfrm>
            <a:off x="5867280" y="2819520"/>
            <a:ext cx="762120" cy="520200"/>
          </a:xfrm>
          <a:prstGeom prst="rect">
            <a:avLst/>
          </a:prstGeom>
          <a:solidFill>
            <a:srgbClr val="ffffff"/>
          </a:solidFill>
          <a:ln w="9360">
            <a:solidFill>
              <a:srgbClr val="000000"/>
            </a:solidFill>
            <a:miter/>
          </a:ln>
          <a:effectLst>
            <a:outerShdw dist="89604"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Health Care</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A155F1C-945B-4070-9AD7-EC4F349E89DA}" type="slidenum">
              <a:t>13</a:t>
            </a:fld>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conomic Disparity</a:t>
            </a:r>
            <a:endParaRPr b="1" lang="en-US" sz="40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and larger number cannot afford health car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umbents in health care become wealthier</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policy and markets driven to serve those that have, rather than need</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back on patterns of health and outcom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
          <p:cNvSpPr/>
          <p:nvPr/>
        </p:nvSpPr>
        <p:spPr>
          <a:xfrm>
            <a:off x="762120" y="6019920"/>
            <a:ext cx="68832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3B2C5793-13F8-4354-9A25-5EFBF1891F7D}" type="slidenum">
              <a:t>14</a:t>
            </a:fld>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0" name=""/>
          <p:cNvGraphicFramePr/>
          <p:nvPr/>
        </p:nvGraphicFramePr>
        <p:xfrm>
          <a:off x="90360" y="1066680"/>
          <a:ext cx="9053640" cy="4708800"/>
        </p:xfrm>
        <a:graphic>
          <a:graphicData uri="http://schemas.openxmlformats.org/presentationml/2006/ole">
            <p:oleObj r:id="rId1" spid="">
              <p:embed/>
              <p:pic>
                <p:nvPicPr>
                  <p:cNvPr id="171" name="" descr=""/>
                  <p:cNvPicPr/>
                  <p:nvPr/>
                </p:nvPicPr>
                <p:blipFill>
                  <a:blip r:embed="rId2"/>
                  <a:stretch/>
                </p:blipFill>
                <p:spPr>
                  <a:xfrm>
                    <a:off x="90360" y="1066680"/>
                    <a:ext cx="9053640" cy="4708800"/>
                  </a:xfrm>
                  <a:prstGeom prst="rect">
                    <a:avLst/>
                  </a:prstGeom>
                  <a:ln w="0">
                    <a:noFill/>
                  </a:ln>
                </p:spPr>
              </p:pic>
            </p:oleObj>
          </a:graphicData>
        </a:graphic>
      </p:graphicFrame>
      <p:sp>
        <p:nvSpPr>
          <p:cNvPr id="172" name=""/>
          <p:cNvSpPr/>
          <p:nvPr/>
        </p:nvSpPr>
        <p:spPr>
          <a:xfrm>
            <a:off x="457200" y="5867280"/>
            <a:ext cx="6477120" cy="54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OECD Health Data 98: A Comparative Analysis of Twenty-Nine Countries.”  Paris: Organization of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conomic Cooperation and Development, 1998. Health US, 2003, USHHS, CDC, NCHCS, October 2003,  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3" name=""/>
          <p:cNvSpPr/>
          <p:nvPr/>
        </p:nvSpPr>
        <p:spPr>
          <a:xfrm>
            <a:off x="2292120" y="1752480"/>
            <a:ext cx="4520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GDP Health Care, 1960, ‘90, ‘97, 2000</a:t>
            </a:r>
            <a:endParaRPr b="0" lang="en-US" sz="1600" spc="-1" strike="noStrike">
              <a:solidFill>
                <a:srgbClr val="000000"/>
              </a:solidFill>
              <a:latin typeface="Times New Roman"/>
            </a:endParaRPr>
          </a:p>
        </p:txBody>
      </p:sp>
      <p:sp>
        <p:nvSpPr>
          <p:cNvPr id="174" name=""/>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010280" y="1523880"/>
            <a:ext cx="1376640" cy="307080"/>
          </a:xfrm>
          <a:prstGeom prst="rect">
            <a:avLst/>
          </a:prstGeom>
          <a:solidFill>
            <a:srgbClr val="ffffff"/>
          </a:solidFill>
          <a:ln w="9360">
            <a:solidFill>
              <a:srgbClr val="000000"/>
            </a:solidFill>
            <a:miter/>
          </a:ln>
          <a:effectLst>
            <a:outerShdw dist="89604"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Cost</a:t>
            </a:r>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lobalization</a:t>
            </a:r>
            <a:endParaRPr b="1"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38BFD5A3-A572-4112-AD89-6F110DABC639}" type="slidenum">
              <a:t>15</a:t>
            </a:fld>
          </a:p>
        </p:txBody>
      </p:sp>
    </p:spTree>
  </p:cSld>
  <p:transition spd="slow">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lobalization</a:t>
            </a:r>
            <a:endParaRPr b="1" lang="en-US" sz="3600" spc="-1" strike="noStrike">
              <a:solidFill>
                <a:srgbClr val="000000"/>
              </a:solidFill>
              <a:latin typeface="Times New Roman"/>
            </a:endParaRPr>
          </a:p>
        </p:txBody>
      </p:sp>
      <p:sp>
        <p:nvSpPr>
          <p:cNvPr id="180" name=""/>
          <p:cNvSpPr/>
          <p:nvPr/>
        </p:nvSpPr>
        <p:spPr>
          <a:xfrm>
            <a:off x="55440" y="638820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loyment and coverage shrinking</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f traditional manufacturing job bas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workforce and work globalized</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titiveness with other service econom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B583960-5AB0-4297-832B-F2CB17579271}" type="slidenum">
              <a:t>16</a:t>
            </a:fld>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685800" y="380880"/>
            <a:ext cx="77724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ology</a:t>
            </a:r>
            <a:endParaRPr b="1" lang="en-US" sz="4400" spc="-1" strike="noStrike">
              <a:solidFill>
                <a:srgbClr val="000000"/>
              </a:solidFill>
              <a:latin typeface="Times New Roman"/>
            </a:endParaRPr>
          </a:p>
        </p:txBody>
      </p:sp>
      <p:sp>
        <p:nvSpPr>
          <p:cNvPr id="185" name="PlaceHolder 2"/>
          <p:cNvSpPr>
            <a:spLocks noGrp="1"/>
          </p:cNvSpPr>
          <p:nvPr>
            <p:ph/>
          </p:nvPr>
        </p:nvSpPr>
        <p:spPr>
          <a:xfrm>
            <a:off x="609120" y="3429000"/>
            <a:ext cx="2514600" cy="2286000"/>
          </a:xfrm>
          <a:prstGeom prst="rect">
            <a:avLst/>
          </a:prstGeom>
          <a:noFill/>
          <a:ln w="28440">
            <a:solidFill>
              <a:srgbClr val="000000"/>
            </a:solidFill>
            <a:miter/>
          </a:ln>
        </p:spPr>
        <p:txBody>
          <a:bodyPr lIns="90360" rIns="90360" tIns="44280" bIns="44280" anchor="t">
            <a:normAutofit/>
          </a:bodyPr>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Imaging</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Transplant</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Open heart</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ung reduction</a:t>
            </a:r>
            <a:endParaRPr b="0" lang="en-US" sz="1800" spc="-1" strike="noStrike">
              <a:solidFill>
                <a:srgbClr val="000000"/>
              </a:solidFill>
              <a:latin typeface="Times New Roman"/>
            </a:endParaRPr>
          </a:p>
          <a:p>
            <a:pPr marL="39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5029200" y="6019920"/>
            <a:ext cx="327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Disease Control, </a:t>
            </a:r>
            <a:r>
              <a:rPr b="1" i="1" lang="en-US" sz="1000" spc="-1" strike="noStrike">
                <a:solidFill>
                  <a:srgbClr val="000000"/>
                </a:solidFill>
                <a:latin typeface="Times New Roman"/>
              </a:rPr>
              <a:t>Health US.</a:t>
            </a:r>
            <a:endParaRPr b="0" lang="en-US" sz="1000" spc="-1" strike="noStrike">
              <a:solidFill>
                <a:srgbClr val="000000"/>
              </a:solidFill>
              <a:latin typeface="Times New Roman"/>
            </a:endParaRPr>
          </a:p>
        </p:txBody>
      </p:sp>
      <p:sp>
        <p:nvSpPr>
          <p:cNvPr id="187" name=""/>
          <p:cNvSpPr/>
          <p:nvPr/>
        </p:nvSpPr>
        <p:spPr>
          <a:xfrm>
            <a:off x="609480" y="2895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Times New Roman"/>
              </a:rPr>
              <a:t>Increase cost</a:t>
            </a:r>
            <a:endParaRPr b="0" lang="en-US" sz="2400" spc="-1" strike="noStrike">
              <a:solidFill>
                <a:srgbClr val="000000"/>
              </a:solidFill>
              <a:latin typeface="Times New Roman"/>
            </a:endParaRPr>
          </a:p>
        </p:txBody>
      </p:sp>
      <p:sp>
        <p:nvSpPr>
          <p:cNvPr id="188" name=""/>
          <p:cNvSpPr/>
          <p:nvPr/>
        </p:nvSpPr>
        <p:spPr>
          <a:xfrm>
            <a:off x="5791320" y="2895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Times New Roman"/>
              </a:rPr>
              <a:t>Decrease cost</a:t>
            </a:r>
            <a:endParaRPr b="0" lang="en-US" sz="2400" spc="-1" strike="noStrike">
              <a:solidFill>
                <a:srgbClr val="000000"/>
              </a:solidFill>
              <a:latin typeface="Times New Roman"/>
            </a:endParaRPr>
          </a:p>
        </p:txBody>
      </p:sp>
      <p:sp>
        <p:nvSpPr>
          <p:cNvPr id="189" name=""/>
          <p:cNvSpPr/>
          <p:nvPr/>
        </p:nvSpPr>
        <p:spPr>
          <a:xfrm>
            <a:off x="5791320" y="3429000"/>
            <a:ext cx="2666880" cy="2286000"/>
          </a:xfrm>
          <a:prstGeom prst="rect">
            <a:avLst/>
          </a:prstGeom>
          <a:noFill/>
          <a:ln w="28440">
            <a:solidFill>
              <a:srgbClr val="000000"/>
            </a:solidFill>
            <a:miter/>
          </a:ln>
        </p:spPr>
        <p:style>
          <a:lnRef idx="0"/>
          <a:fillRef idx="0"/>
          <a:effectRef idx="0"/>
          <a:fontRef idx="minor"/>
        </p:style>
        <p:txBody>
          <a:bodyPr lIns="90360" rIns="90360" tIns="44280" bIns="44280" anchor="t">
            <a:normAutofit/>
          </a:bodyPr>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Statin drugs</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Protease inhibitors</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Photodynamic therapy</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Amino bisphosphonate drugs</a:t>
            </a:r>
            <a:endParaRPr b="0" lang="en-US" sz="1800" spc="-1" strike="noStrike">
              <a:solidFill>
                <a:srgbClr val="000000"/>
              </a:solidFill>
              <a:latin typeface="Times New Roman"/>
            </a:endParaRPr>
          </a:p>
          <a:p>
            <a:pPr marL="395280" indent="-395280">
              <a:spcBef>
                <a:spcPts val="451"/>
              </a:spcBef>
              <a:buClr>
                <a:srgbClr val="cc33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
          <p:cNvSpPr/>
          <p:nvPr/>
        </p:nvSpPr>
        <p:spPr>
          <a:xfrm>
            <a:off x="457200" y="1600200"/>
            <a:ext cx="6400800" cy="100872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xt generation of technology promises to reduce cost, move care to ambulatory settings, and improve outcomes.</a:t>
            </a:r>
            <a:endParaRPr b="0" lang="en-US" sz="2000" spc="-1" strike="noStrike">
              <a:solidFill>
                <a:srgbClr val="000000"/>
              </a:solidFill>
              <a:latin typeface="Times New Roman"/>
            </a:endParaRPr>
          </a:p>
        </p:txBody>
      </p:sp>
      <p:graphicFrame>
        <p:nvGraphicFramePr>
          <p:cNvPr id="191" name=""/>
          <p:cNvGraphicFramePr/>
          <p:nvPr/>
        </p:nvGraphicFramePr>
        <p:xfrm>
          <a:off x="3333600" y="3657600"/>
          <a:ext cx="2152800" cy="1584360"/>
        </p:xfrm>
        <a:graphic>
          <a:graphicData uri="http://schemas.openxmlformats.org/presentationml/2006/ole">
            <p:oleObj r:id="rId1" spid="">
              <p:embed/>
              <p:pic>
                <p:nvPicPr>
                  <p:cNvPr id="192" name="" descr=""/>
                  <p:cNvPicPr/>
                  <p:nvPr/>
                </p:nvPicPr>
                <p:blipFill>
                  <a:blip r:embed="rId2"/>
                  <a:stretch/>
                </p:blipFill>
                <p:spPr>
                  <a:xfrm>
                    <a:off x="3333600" y="3657600"/>
                    <a:ext cx="2152800" cy="1584360"/>
                  </a:xfrm>
                  <a:prstGeom prst="rect">
                    <a:avLst/>
                  </a:prstGeom>
                  <a:ln w="0">
                    <a:noFill/>
                  </a:ln>
                </p:spPr>
              </p:pic>
            </p:oleObj>
          </a:graphicData>
        </a:graphic>
      </p:graphicFrame>
      <p:sp>
        <p:nvSpPr>
          <p:cNvPr id="4" name="PlaceHolder 3"/>
          <p:cNvSpPr>
            <a:spLocks noGrp="1"/>
          </p:cNvSpPr>
          <p:nvPr>
            <p:ph type="sldNum" idx="1"/>
          </p:nvPr>
        </p:nvSpPr>
        <p:spPr/>
        <p:txBody>
          <a:bodyPr/>
          <a:p>
            <a:fld id="{C5338C99-5897-4DC0-99DF-37A7DF0E0668}" type="slidenum">
              <a:t>17</a:t>
            </a:fld>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chnology ― Biotech</a:t>
            </a:r>
            <a:endParaRPr b="1" lang="en-US" sz="4000" spc="-1" strike="noStrike">
              <a:solidFill>
                <a:srgbClr val="000000"/>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owns 85% of intellectual property in biotechnology</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industrial policy” followed consistently by both political parties</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 demand and expectation growing</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ph from biotech to care management technology</a:t>
            </a:r>
            <a:endParaRPr b="0" lang="en-US" sz="2000" spc="-1" strike="noStrike">
              <a:solidFill>
                <a:srgbClr val="000000"/>
              </a:solidFill>
              <a:latin typeface="Times New Roman"/>
            </a:endParaRPr>
          </a:p>
        </p:txBody>
      </p:sp>
      <p:sp>
        <p:nvSpPr>
          <p:cNvPr id="195" name=""/>
          <p:cNvSpPr/>
          <p:nvPr/>
        </p:nvSpPr>
        <p:spPr>
          <a:xfrm>
            <a:off x="4502880" y="4952880"/>
            <a:ext cx="4065480" cy="64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1,300 New Biotech Compan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200,000 Jobs</a:t>
            </a:r>
            <a:endParaRPr b="0" lang="en-US" sz="1800" spc="-1" strike="noStrike">
              <a:solidFill>
                <a:srgbClr val="000000"/>
              </a:solidFill>
              <a:latin typeface="Times New Roman"/>
            </a:endParaRPr>
          </a:p>
        </p:txBody>
      </p:sp>
      <p:sp>
        <p:nvSpPr>
          <p:cNvPr id="196" name="PlaceHolder 3"/>
          <p:cNvSpPr>
            <a:spLocks noGrp="1"/>
          </p:cNvSpPr>
          <p:nvPr>
            <p:ph/>
          </p:nvPr>
        </p:nvSpPr>
        <p:spPr>
          <a:xfrm>
            <a:off x="4876560" y="1981080"/>
            <a:ext cx="3733560" cy="243864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the Market Is Bett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Capitaliz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otech, pharmaceuticals, equipment = $1,300B</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t of health care = $169B</a:t>
            </a: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BED420DC-2F94-4550-8678-31139408A9A2}" type="slidenum">
              <a:t>18</a:t>
            </a:fld>
          </a:p>
        </p:txBody>
      </p:sp>
    </p:spTree>
  </p:cSld>
  <p:transition spd="med">
    <p:blinds dir="horz"/>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95"/>
                                        </p:tgtEl>
                                        <p:attrNameLst>
                                          <p:attrName>style.visibility</p:attrName>
                                        </p:attrNameLst>
                                      </p:cBhvr>
                                      <p:to>
                                        <p:strVal val="visible"/>
                                      </p:to>
                                    </p:set>
                                    <p:anim calcmode="lin" valueType="num">
                                      <p:cBhvr additive="base">
                                        <p:cTn id="35" dur="500" fill="hold"/>
                                        <p:tgtEl>
                                          <p:spTgt spid="195"/>
                                        </p:tgtEl>
                                        <p:attrNameLst>
                                          <p:attrName>ppt_x</p:attrName>
                                        </p:attrNameLst>
                                      </p:cBhvr>
                                      <p:tavLst>
                                        <p:tav tm="0">
                                          <p:val>
                                            <p:strVal val="0-#ppt_w/2"/>
                                          </p:val>
                                        </p:tav>
                                        <p:tav tm="100000">
                                          <p:val>
                                            <p:strVal val="#ppt_x"/>
                                          </p:val>
                                        </p:tav>
                                      </p:tavLst>
                                    </p:anim>
                                    <p:anim calcmode="lin" valueType="num">
                                      <p:cBhvr additive="base">
                                        <p:cTn id="3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743200"/>
            <a:ext cx="3048120" cy="457200"/>
          </a:xfrm>
          <a:prstGeom prst="rect">
            <a:avLst/>
          </a:prstGeom>
          <a:solidFill>
            <a:srgbClr val="ffff99"/>
          </a:solidFill>
          <a:ln w="12600">
            <a:solidFill>
              <a:srgbClr val="000000"/>
            </a:solidFill>
            <a:miter/>
          </a:ln>
          <a:effectLst>
            <a:outerShdw dist="107932"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Knowledge Business</a:t>
            </a:r>
            <a:endParaRPr b="1" lang="en-US" sz="2400" spc="-1" strike="noStrike">
              <a:solidFill>
                <a:srgbClr val="000000"/>
              </a:solidFill>
              <a:latin typeface="Times New Roman"/>
            </a:endParaRPr>
          </a:p>
        </p:txBody>
      </p:sp>
      <p:sp>
        <p:nvSpPr>
          <p:cNvPr id="198" name="PlaceHolder 2"/>
          <p:cNvSpPr>
            <a:spLocks noGrp="1"/>
          </p:cNvSpPr>
          <p:nvPr>
            <p:ph/>
          </p:nvPr>
        </p:nvSpPr>
        <p:spPr>
          <a:xfrm>
            <a:off x="533160" y="3352320"/>
            <a:ext cx="3809880" cy="25146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 million admissions </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 billion claims</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5 million outpatient visits</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billion prescriptions fill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73320" y="5791320"/>
            <a:ext cx="3560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lthcare Infirmities, December 1995, p15.</a:t>
            </a:r>
            <a:endParaRPr b="0" lang="en-US" sz="1400" spc="-1" strike="noStrike">
              <a:solidFill>
                <a:srgbClr val="000000"/>
              </a:solidFill>
              <a:latin typeface="Times New Roman"/>
            </a:endParaRPr>
          </a:p>
        </p:txBody>
      </p:sp>
      <p:graphicFrame>
        <p:nvGraphicFramePr>
          <p:cNvPr id="200" name=""/>
          <p:cNvGraphicFramePr/>
          <p:nvPr/>
        </p:nvGraphicFramePr>
        <p:xfrm>
          <a:off x="4038480" y="1295280"/>
          <a:ext cx="4400640" cy="4862520"/>
        </p:xfrm>
        <a:graphic>
          <a:graphicData uri="http://schemas.openxmlformats.org/presentationml/2006/ole">
            <p:oleObj r:id="rId1" spid="">
              <p:embed/>
              <p:pic>
                <p:nvPicPr>
                  <p:cNvPr id="201" name="" descr=""/>
                  <p:cNvPicPr/>
                  <p:nvPr/>
                </p:nvPicPr>
                <p:blipFill>
                  <a:blip r:embed="rId2"/>
                  <a:stretch/>
                </p:blipFill>
                <p:spPr>
                  <a:xfrm>
                    <a:off x="4038480" y="1295280"/>
                    <a:ext cx="4400640" cy="4862520"/>
                  </a:xfrm>
                  <a:prstGeom prst="rect">
                    <a:avLst/>
                  </a:prstGeom>
                  <a:ln w="0">
                    <a:noFill/>
                  </a:ln>
                </p:spPr>
              </p:pic>
            </p:oleObj>
          </a:graphicData>
        </a:graphic>
      </p:graphicFrame>
      <p:sp>
        <p:nvSpPr>
          <p:cNvPr id="202" name=""/>
          <p:cNvSpPr/>
          <p:nvPr/>
        </p:nvSpPr>
        <p:spPr>
          <a:xfrm>
            <a:off x="6627240" y="5943600"/>
            <a:ext cx="201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CW, March 30, 1998, </a:t>
            </a:r>
            <a:endParaRPr b="0" lang="en-US" sz="1400" spc="-1" strike="noStrike">
              <a:solidFill>
                <a:srgbClr val="000000"/>
              </a:solidFill>
              <a:latin typeface="Times New Roman"/>
            </a:endParaRPr>
          </a:p>
        </p:txBody>
      </p:sp>
      <p:sp>
        <p:nvSpPr>
          <p:cNvPr id="203" name=""/>
          <p:cNvSpPr/>
          <p:nvPr/>
        </p:nvSpPr>
        <p:spPr>
          <a:xfrm>
            <a:off x="457200" y="304920"/>
            <a:ext cx="84582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ology </a:t>
            </a:r>
            <a:r>
              <a:rPr b="1" lang="en-US" sz="4400" spc="-1" strike="noStrike">
                <a:solidFill>
                  <a:srgbClr val="000000"/>
                </a:solidFill>
                <a:latin typeface="Book Antiqua"/>
              </a:rPr>
              <a:t>―</a:t>
            </a:r>
            <a:r>
              <a:rPr b="1" lang="en-US" sz="4400" spc="-1" strike="noStrike">
                <a:solidFill>
                  <a:srgbClr val="000000"/>
                </a:solidFill>
                <a:latin typeface="Times New Roman"/>
              </a:rPr>
              <a:t> IT</a:t>
            </a:r>
            <a:endParaRPr b="0" lang="en-US" sz="4400" spc="-1" strike="noStrike">
              <a:solidFill>
                <a:srgbClr val="000000"/>
              </a:solidFill>
              <a:latin typeface="Times New Roman"/>
            </a:endParaRPr>
          </a:p>
        </p:txBody>
      </p:sp>
      <p:sp>
        <p:nvSpPr>
          <p:cNvPr id="204" name=""/>
          <p:cNvSpPr/>
          <p:nvPr/>
        </p:nvSpPr>
        <p:spPr>
          <a:xfrm>
            <a:off x="978480" y="1981080"/>
            <a:ext cx="2483640" cy="520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a:ea typeface="Wingdings"/>
              </a:rPr>
              <a:t></a:t>
            </a:r>
            <a:r>
              <a:rPr b="1" lang="en-US" sz="2800" spc="-1" strike="noStrike">
                <a:solidFill>
                  <a:srgbClr val="cc3300"/>
                </a:solidFill>
                <a:latin typeface="Times New Roman"/>
              </a:rPr>
              <a:t> </a:t>
            </a:r>
            <a:r>
              <a:rPr b="1" lang="en-US" sz="2800" spc="-1" strike="noStrike">
                <a:solidFill>
                  <a:srgbClr val="cc3300"/>
                </a:solidFill>
                <a:latin typeface="Times New Roman"/>
              </a:rPr>
              <a:t>Informatio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CCD34E8-B746-4D40-A52C-A48DF582C130}" type="slidenum">
              <a:t>19</a:t>
            </a:fld>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Workforce Reform Is Cardinal</a:t>
            </a:r>
            <a:endParaRPr b="1" lang="en-US" sz="4000" spc="-1" strike="noStrike">
              <a:solidFill>
                <a:srgbClr val="000000"/>
              </a:solidFill>
              <a:latin typeface="Times New Roman"/>
            </a:endParaRPr>
          </a:p>
        </p:txBody>
      </p:sp>
      <p:sp>
        <p:nvSpPr>
          <p:cNvPr id="91"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0-70% of health care is labor cost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g part of any employment sector</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5% of U.S. workforce (14,653,661) </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limits access, spurs cost increases, and directly affects quality</a:t>
            </a:r>
            <a:endParaRPr b="0" lang="en-US" sz="3200" spc="-1" strike="noStrike">
              <a:solidFill>
                <a:srgbClr val="000000"/>
              </a:solidFill>
              <a:latin typeface="Times New Roman"/>
            </a:endParaRPr>
          </a:p>
          <a:p>
            <a:pPr marL="343080" indent="-343080">
              <a:lnSpc>
                <a:spcPct val="90000"/>
              </a:lnSpc>
              <a:spcBef>
                <a:spcPts val="7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risis is looming for health workforce, but it has more to do with lack of innovation, than with shortage of worker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48818FF-E644-4AB9-9625-679328DC9A2A}" type="slidenum">
              <a:t>2</a:t>
            </a:fld>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533520" y="60912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ology </a:t>
            </a:r>
            <a:r>
              <a:rPr b="1" lang="en-US" sz="4400" spc="-1" strike="noStrike">
                <a:solidFill>
                  <a:srgbClr val="000000"/>
                </a:solidFill>
                <a:latin typeface="Book Antiqua"/>
              </a:rPr>
              <a:t>―</a:t>
            </a:r>
            <a:r>
              <a:rPr b="1" lang="en-US" sz="4400" spc="-1" strike="noStrike">
                <a:solidFill>
                  <a:srgbClr val="000000"/>
                </a:solidFill>
                <a:latin typeface="Times New Roman"/>
              </a:rPr>
              <a:t> IT</a:t>
            </a:r>
            <a:endParaRPr b="1" lang="en-US" sz="4400" spc="-1" strike="noStrike">
              <a:solidFill>
                <a:srgbClr val="000000"/>
              </a:solidFill>
              <a:latin typeface="Times New Roman"/>
            </a:endParaRPr>
          </a:p>
        </p:txBody>
      </p:sp>
      <p:sp>
        <p:nvSpPr>
          <p:cNvPr id="208" name=""/>
          <p:cNvSpPr/>
          <p:nvPr/>
        </p:nvSpPr>
        <p:spPr>
          <a:xfrm>
            <a:off x="55440" y="638820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iz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iving value and consumer purchas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fting expensive technology on top or rotten proces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way to aggregate value of population, behavior, environment, and genom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6C1CEF0-DBC5-4DB9-8162-873A4A981269}" type="slidenum">
              <a:t>20</a:t>
            </a:fld>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33520" y="167652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1" name=""/>
          <p:cNvSpPr/>
          <p:nvPr/>
        </p:nvSpPr>
        <p:spPr>
          <a:xfrm>
            <a:off x="3465360" y="357516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00600" y="3684600"/>
            <a:ext cx="3886200" cy="181656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st</a:t>
            </a:r>
            <a:endParaRPr b="0" lang="en-US" sz="2800" spc="-1" strike="noStrike">
              <a:solidFill>
                <a:srgbClr val="000000"/>
              </a:solidFill>
              <a:latin typeface="Times New Roman"/>
            </a:endParaRPr>
          </a:p>
          <a:p>
            <a:pPr marL="228600" indent="-22860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sumer satisfaction</a:t>
            </a:r>
            <a:endParaRPr b="0" lang="en-US" sz="2800" spc="-1" strike="noStrike">
              <a:solidFill>
                <a:srgbClr val="000000"/>
              </a:solidFill>
              <a:latin typeface="Times New Roman"/>
            </a:endParaRPr>
          </a:p>
          <a:p>
            <a:pPr marL="228600" indent="-22860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Quality</a:t>
            </a:r>
            <a:endParaRPr b="0" lang="en-US" sz="2800" spc="-1" strike="noStrike">
              <a:solidFill>
                <a:srgbClr val="000000"/>
              </a:solidFill>
              <a:latin typeface="Times New Roman"/>
            </a:endParaRPr>
          </a:p>
        </p:txBody>
      </p:sp>
      <p:sp>
        <p:nvSpPr>
          <p:cNvPr id="213" name=""/>
          <p:cNvSpPr/>
          <p:nvPr/>
        </p:nvSpPr>
        <p:spPr>
          <a:xfrm>
            <a:off x="1219320" y="2590920"/>
            <a:ext cx="6933960" cy="579960"/>
          </a:xfrm>
          <a:prstGeom prst="rect">
            <a:avLst/>
          </a:prstGeom>
          <a:solidFill>
            <a:srgbClr val="ffff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From </a:t>
            </a:r>
            <a:r>
              <a:rPr b="1" lang="en-US" sz="3200" spc="-1" strike="noStrike">
                <a:solidFill>
                  <a:srgbClr val="cc3300"/>
                </a:solidFill>
                <a:latin typeface="Times New Roman"/>
              </a:rPr>
              <a:t>Supply Based</a:t>
            </a:r>
            <a:r>
              <a:rPr b="1" lang="en-US" sz="2800" spc="-1" strike="noStrike">
                <a:solidFill>
                  <a:srgbClr val="cc3300"/>
                </a:solidFill>
                <a:latin typeface="Times New Roman"/>
              </a:rPr>
              <a:t> to </a:t>
            </a:r>
            <a:r>
              <a:rPr b="1" lang="en-US" sz="3200" spc="-1" strike="noStrike">
                <a:solidFill>
                  <a:srgbClr val="cc3300"/>
                </a:solidFill>
                <a:latin typeface="Times New Roman"/>
              </a:rPr>
              <a:t>Demand Driven</a:t>
            </a:r>
            <a:endParaRPr b="0" lang="en-US" sz="3200" spc="-1" strike="noStrike">
              <a:solidFill>
                <a:srgbClr val="000000"/>
              </a:solidFill>
              <a:latin typeface="Times New Roman"/>
            </a:endParaRPr>
          </a:p>
        </p:txBody>
      </p:sp>
      <p:sp>
        <p:nvSpPr>
          <p:cNvPr id="214" name=""/>
          <p:cNvSpPr/>
          <p:nvPr/>
        </p:nvSpPr>
        <p:spPr>
          <a:xfrm rot="16200000">
            <a:off x="2864520" y="3691440"/>
            <a:ext cx="1520640" cy="1916280"/>
          </a:xfrm>
          <a:custGeom>
            <a:avLst/>
            <a:gdLst/>
            <a:ahLst/>
            <a:rect l="l" t="t" r="r" b="b"/>
            <a:pathLst>
              <a:path w="3221" h="2469">
                <a:moveTo>
                  <a:pt x="0" y="0"/>
                </a:moveTo>
                <a:lnTo>
                  <a:pt x="412" y="0"/>
                </a:lnTo>
                <a:lnTo>
                  <a:pt x="502" y="123"/>
                </a:lnTo>
                <a:lnTo>
                  <a:pt x="590" y="241"/>
                </a:lnTo>
                <a:lnTo>
                  <a:pt x="687" y="369"/>
                </a:lnTo>
                <a:lnTo>
                  <a:pt x="799" y="513"/>
                </a:lnTo>
                <a:lnTo>
                  <a:pt x="902" y="652"/>
                </a:lnTo>
                <a:lnTo>
                  <a:pt x="997" y="776"/>
                </a:lnTo>
                <a:lnTo>
                  <a:pt x="1079" y="890"/>
                </a:lnTo>
                <a:lnTo>
                  <a:pt x="1155" y="999"/>
                </a:lnTo>
                <a:lnTo>
                  <a:pt x="1242" y="1129"/>
                </a:lnTo>
                <a:lnTo>
                  <a:pt x="1311" y="1241"/>
                </a:lnTo>
                <a:lnTo>
                  <a:pt x="1383" y="1364"/>
                </a:lnTo>
                <a:lnTo>
                  <a:pt x="1456" y="1502"/>
                </a:lnTo>
                <a:lnTo>
                  <a:pt x="1517" y="1627"/>
                </a:lnTo>
                <a:lnTo>
                  <a:pt x="1572" y="1762"/>
                </a:lnTo>
                <a:lnTo>
                  <a:pt x="1618" y="1642"/>
                </a:lnTo>
                <a:lnTo>
                  <a:pt x="1668" y="1498"/>
                </a:lnTo>
                <a:lnTo>
                  <a:pt x="1730" y="1345"/>
                </a:lnTo>
                <a:lnTo>
                  <a:pt x="1796" y="1191"/>
                </a:lnTo>
                <a:lnTo>
                  <a:pt x="1868" y="1042"/>
                </a:lnTo>
                <a:lnTo>
                  <a:pt x="1950" y="895"/>
                </a:lnTo>
                <a:lnTo>
                  <a:pt x="2049" y="736"/>
                </a:lnTo>
                <a:lnTo>
                  <a:pt x="2192" y="548"/>
                </a:lnTo>
                <a:lnTo>
                  <a:pt x="2304" y="409"/>
                </a:lnTo>
                <a:lnTo>
                  <a:pt x="2426" y="278"/>
                </a:lnTo>
                <a:lnTo>
                  <a:pt x="2552" y="167"/>
                </a:lnTo>
                <a:lnTo>
                  <a:pt x="2769" y="0"/>
                </a:lnTo>
                <a:lnTo>
                  <a:pt x="3221" y="0"/>
                </a:lnTo>
                <a:lnTo>
                  <a:pt x="3062" y="130"/>
                </a:lnTo>
                <a:lnTo>
                  <a:pt x="2899" y="289"/>
                </a:lnTo>
                <a:lnTo>
                  <a:pt x="2758" y="434"/>
                </a:lnTo>
                <a:lnTo>
                  <a:pt x="2625" y="578"/>
                </a:lnTo>
                <a:lnTo>
                  <a:pt x="2481" y="753"/>
                </a:lnTo>
                <a:lnTo>
                  <a:pt x="2355" y="924"/>
                </a:lnTo>
                <a:lnTo>
                  <a:pt x="2268" y="1050"/>
                </a:lnTo>
                <a:lnTo>
                  <a:pt x="2175" y="1215"/>
                </a:lnTo>
                <a:lnTo>
                  <a:pt x="2095" y="1361"/>
                </a:lnTo>
                <a:lnTo>
                  <a:pt x="2037" y="1483"/>
                </a:lnTo>
                <a:lnTo>
                  <a:pt x="1969" y="1638"/>
                </a:lnTo>
                <a:lnTo>
                  <a:pt x="1921" y="1761"/>
                </a:lnTo>
                <a:lnTo>
                  <a:pt x="1889" y="1845"/>
                </a:lnTo>
                <a:lnTo>
                  <a:pt x="1854" y="1956"/>
                </a:lnTo>
                <a:lnTo>
                  <a:pt x="1827" y="2050"/>
                </a:lnTo>
                <a:lnTo>
                  <a:pt x="2055" y="2050"/>
                </a:lnTo>
                <a:lnTo>
                  <a:pt x="1633" y="2469"/>
                </a:lnTo>
                <a:lnTo>
                  <a:pt x="1178" y="2050"/>
                </a:lnTo>
                <a:lnTo>
                  <a:pt x="1405" y="2050"/>
                </a:lnTo>
                <a:lnTo>
                  <a:pt x="1386" y="1978"/>
                </a:lnTo>
                <a:lnTo>
                  <a:pt x="1354" y="1891"/>
                </a:lnTo>
                <a:lnTo>
                  <a:pt x="1307" y="1801"/>
                </a:lnTo>
                <a:lnTo>
                  <a:pt x="1246" y="1690"/>
                </a:lnTo>
                <a:lnTo>
                  <a:pt x="1177" y="1577"/>
                </a:lnTo>
                <a:lnTo>
                  <a:pt x="1116" y="1480"/>
                </a:lnTo>
                <a:lnTo>
                  <a:pt x="1052" y="1382"/>
                </a:lnTo>
                <a:lnTo>
                  <a:pt x="979" y="1273"/>
                </a:lnTo>
                <a:lnTo>
                  <a:pt x="918" y="1183"/>
                </a:lnTo>
                <a:lnTo>
                  <a:pt x="848" y="1076"/>
                </a:lnTo>
                <a:lnTo>
                  <a:pt x="712" y="888"/>
                </a:lnTo>
                <a:lnTo>
                  <a:pt x="607" y="747"/>
                </a:lnTo>
                <a:lnTo>
                  <a:pt x="520" y="634"/>
                </a:lnTo>
                <a:lnTo>
                  <a:pt x="445" y="539"/>
                </a:lnTo>
                <a:lnTo>
                  <a:pt x="330" y="398"/>
                </a:lnTo>
                <a:lnTo>
                  <a:pt x="224" y="266"/>
                </a:lnTo>
                <a:lnTo>
                  <a:pt x="116" y="138"/>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5800" y="4267080"/>
            <a:ext cx="2438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Demand</a:t>
            </a:r>
            <a:endParaRPr b="0" lang="en-US" sz="4000" spc="-1" strike="noStrike">
              <a:solidFill>
                <a:srgbClr val="000000"/>
              </a:solidFill>
              <a:latin typeface="Times New Roman"/>
            </a:endParaRPr>
          </a:p>
        </p:txBody>
      </p:sp>
      <p:sp>
        <p:nvSpPr>
          <p:cNvPr id="216" name=""/>
          <p:cNvSpPr/>
          <p:nvPr/>
        </p:nvSpPr>
        <p:spPr>
          <a:xfrm>
            <a:off x="457200" y="304920"/>
            <a:ext cx="81532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rket-Driven Health</a:t>
            </a:r>
            <a:endParaRPr b="0" lang="en-US" sz="4400" spc="-1" strike="noStrike">
              <a:solidFill>
                <a:srgbClr val="000000"/>
              </a:solidFill>
              <a:latin typeface="Times New Roman"/>
            </a:endParaRPr>
          </a:p>
        </p:txBody>
      </p:sp>
      <p:sp>
        <p:nvSpPr>
          <p:cNvPr id="217" name=""/>
          <p:cNvSpPr/>
          <p:nvPr/>
        </p:nvSpPr>
        <p:spPr>
          <a:xfrm>
            <a:off x="902520" y="1752480"/>
            <a:ext cx="1650960" cy="520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cc3300"/>
                </a:solidFill>
                <a:latin typeface="Times New Roman"/>
              </a:rPr>
              <a:t>Value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48842FD-5254-40FC-B245-783096C9DE79}" type="slidenum">
              <a:t>21</a:t>
            </a:fld>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 Pressures</a:t>
            </a:r>
            <a:endParaRPr b="1" lang="en-US" sz="4000" spc="-1" strike="noStrike">
              <a:solidFill>
                <a:srgbClr val="000000"/>
              </a:solidFill>
              <a:latin typeface="Times New Roman"/>
            </a:endParaRPr>
          </a:p>
        </p:txBody>
      </p:sp>
      <p:sp>
        <p:nvSpPr>
          <p:cNvPr id="221" name="PlaceHolder 2"/>
          <p:cNvSpPr>
            <a:spLocks noGrp="1"/>
          </p:cNvSpPr>
          <p:nvPr>
            <p:ph/>
          </p:nvPr>
        </p:nvSpPr>
        <p:spPr>
          <a:xfrm>
            <a:off x="456840" y="2362320"/>
            <a:ext cx="380988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balance the tradition of individualism with the needs of:</a:t>
            </a:r>
            <a:endParaRPr b="0" lang="en-US" sz="2400" spc="-1" strike="noStrike">
              <a:solidFill>
                <a:srgbClr val="000000"/>
              </a:solidFill>
              <a:latin typeface="Times New Roman"/>
            </a:endParaRPr>
          </a:p>
          <a:p>
            <a:pPr lvl="1" marL="568440" indent="-28440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 health</a:t>
            </a:r>
            <a:endParaRPr b="0" lang="en-US" sz="2400" spc="-1" strike="noStrike">
              <a:solidFill>
                <a:srgbClr val="000000"/>
              </a:solidFill>
              <a:latin typeface="Times New Roman"/>
            </a:endParaRPr>
          </a:p>
          <a:p>
            <a:pPr lvl="1" marL="568440" indent="-28440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outcomes</a:t>
            </a:r>
            <a:endParaRPr b="0" lang="en-US" sz="2400" spc="-1" strike="noStrike">
              <a:solidFill>
                <a:srgbClr val="000000"/>
              </a:solidFill>
              <a:latin typeface="Times New Roman"/>
            </a:endParaRPr>
          </a:p>
          <a:p>
            <a:pPr lvl="1" marL="568440" indent="-28440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er social needs</a:t>
            </a:r>
            <a:endParaRPr b="0" lang="en-US" sz="2400" spc="-1" strike="noStrike">
              <a:solidFill>
                <a:srgbClr val="000000"/>
              </a:solidFill>
              <a:latin typeface="Times New Roman"/>
            </a:endParaRPr>
          </a:p>
          <a:p>
            <a:pPr lvl="1" marL="568440" indent="-28440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 to balance equity and choice</a:t>
            </a:r>
            <a:endParaRPr b="0" lang="en-US" sz="2400" spc="-1" strike="noStrike">
              <a:solidFill>
                <a:srgbClr val="000000"/>
              </a:solidFill>
              <a:latin typeface="Times New Roman"/>
            </a:endParaRPr>
          </a:p>
        </p:txBody>
      </p:sp>
      <p:sp>
        <p:nvSpPr>
          <p:cNvPr id="222" name="PlaceHolder 3"/>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understanding and expectation</a:t>
            </a:r>
            <a:endParaRPr b="0" lang="en-US" sz="2400" spc="-1" strike="noStrike">
              <a:solidFill>
                <a:srgbClr val="000000"/>
              </a:solidFill>
              <a:latin typeface="Times New Roman"/>
            </a:endParaRPr>
          </a:p>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framework</a:t>
            </a:r>
            <a:endParaRPr b="0" lang="en-US" sz="2400" spc="-1" strike="noStrike">
              <a:solidFill>
                <a:srgbClr val="000000"/>
              </a:solidFill>
              <a:latin typeface="Times New Roman"/>
            </a:endParaRPr>
          </a:p>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ng system</a:t>
            </a:r>
            <a:endParaRPr b="0" lang="en-US" sz="2400" spc="-1" strike="noStrike">
              <a:solidFill>
                <a:srgbClr val="000000"/>
              </a:solidFill>
              <a:latin typeface="Times New Roman"/>
            </a:endParaRPr>
          </a:p>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r expectations</a:t>
            </a:r>
            <a:endParaRPr b="0" lang="en-US" sz="2400" spc="-1" strike="noStrike">
              <a:solidFill>
                <a:srgbClr val="000000"/>
              </a:solidFill>
              <a:latin typeface="Times New Roman"/>
            </a:endParaRPr>
          </a:p>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ed and deployed public system</a:t>
            </a:r>
            <a:endParaRPr b="0" lang="en-US" sz="2400" spc="-1" strike="noStrike">
              <a:solidFill>
                <a:srgbClr val="000000"/>
              </a:solidFill>
              <a:latin typeface="Times New Roman"/>
            </a:endParaRPr>
          </a:p>
        </p:txBody>
      </p:sp>
      <p:sp>
        <p:nvSpPr>
          <p:cNvPr id="223" name=""/>
          <p:cNvSpPr/>
          <p:nvPr/>
        </p:nvSpPr>
        <p:spPr>
          <a:xfrm>
            <a:off x="609480" y="1523880"/>
            <a:ext cx="3429000" cy="6426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New challenge:</a:t>
            </a:r>
            <a:endParaRPr b="0" lang="en-US" sz="3600" spc="-1" strike="noStrike">
              <a:solidFill>
                <a:srgbClr val="000000"/>
              </a:solidFill>
              <a:latin typeface="Times New Roman"/>
            </a:endParaRPr>
          </a:p>
        </p:txBody>
      </p:sp>
      <p:sp>
        <p:nvSpPr>
          <p:cNvPr id="224" name=""/>
          <p:cNvSpPr/>
          <p:nvPr/>
        </p:nvSpPr>
        <p:spPr>
          <a:xfrm>
            <a:off x="4876920" y="3505320"/>
            <a:ext cx="40384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4572000" y="1523880"/>
            <a:ext cx="3962520" cy="6426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Changes needed:</a:t>
            </a:r>
            <a:endParaRPr b="0" lang="en-US" sz="3600" spc="-1" strike="noStrike">
              <a:solidFill>
                <a:srgbClr val="000000"/>
              </a:solidFill>
              <a:latin typeface="Times New Roman"/>
            </a:endParaRPr>
          </a:p>
        </p:txBody>
      </p:sp>
      <p:sp>
        <p:nvSpPr>
          <p:cNvPr id="5" name="PlaceHolder 4"/>
          <p:cNvSpPr>
            <a:spLocks noGrp="1"/>
          </p:cNvSpPr>
          <p:nvPr>
            <p:ph type="sldNum" idx="1"/>
          </p:nvPr>
        </p:nvSpPr>
        <p:spPr/>
        <p:txBody>
          <a:bodyPr/>
          <a:p>
            <a:fld id="{E13D4DFE-5700-4D5A-A95A-21735CF76850}" type="slidenum">
              <a:t>22</a:t>
            </a:fld>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mer</a:t>
            </a:r>
            <a:endParaRPr b="1" lang="en-US" sz="40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s choice ….</a:t>
            </a:r>
            <a:r>
              <a:rPr b="0" i="1" lang="en-US" sz="2800" spc="-1" strike="noStrike">
                <a:solidFill>
                  <a:srgbClr val="000000"/>
                </a:solidFill>
                <a:latin typeface="Times New Roman"/>
              </a:rPr>
              <a:t>but at what pric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ly willing to buy value… </a:t>
            </a:r>
            <a:r>
              <a:rPr b="0" i="1" lang="en-US" sz="2800" spc="-1" strike="noStrike">
                <a:solidFill>
                  <a:srgbClr val="000000"/>
                </a:solidFill>
                <a:latin typeface="Times New Roman"/>
              </a:rPr>
              <a:t>quality, access, and cost</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 are more segmented than care systems acknowledge… </a:t>
            </a:r>
            <a:r>
              <a:rPr b="0" i="1" lang="en-US" sz="2800" spc="-1" strike="noStrike">
                <a:solidFill>
                  <a:srgbClr val="000000"/>
                </a:solidFill>
                <a:latin typeface="Times New Roman"/>
              </a:rPr>
              <a:t>build it and they will come</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evitable exposure to more costs … </a:t>
            </a:r>
            <a:r>
              <a:rPr b="0" i="1" lang="en-US" sz="2800" spc="-1" strike="noStrike">
                <a:solidFill>
                  <a:srgbClr val="000000"/>
                </a:solidFill>
                <a:latin typeface="Times New Roman"/>
              </a:rPr>
              <a:t>will look for help to address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4E726A4-5EF4-4A42-8AC1-9E7F19BD3287}" type="slidenum">
              <a:t>23</a:t>
            </a:fld>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 II.</a:t>
            </a:r>
            <a:br>
              <a:rPr sz="4000"/>
            </a:br>
            <a:r>
              <a:rPr b="1" lang="en-US" sz="4000" spc="-1" strike="noStrike">
                <a:solidFill>
                  <a:srgbClr val="000000"/>
                </a:solidFill>
                <a:latin typeface="Times New Roman"/>
              </a:rPr>
              <a:t>A Glance at Three Challenges</a:t>
            </a:r>
            <a:endParaRPr b="1" lang="en-US" sz="40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d disequilibrium in health car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r for talent</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maginative scopes of practice and   professional models </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5F2A13E-017B-44FB-A89F-5CE5DF0AFD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3805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ontinued Disequilibrium in Health Care</a:t>
            </a:r>
            <a:endParaRPr b="1" lang="en-US" sz="3400" spc="-1" strike="noStrike">
              <a:solidFill>
                <a:srgbClr val="000000"/>
              </a:solidFill>
              <a:latin typeface="Times New Roman"/>
            </a:endParaRPr>
          </a:p>
        </p:txBody>
      </p:sp>
      <p:sp>
        <p:nvSpPr>
          <p:cNvPr id="231" name="PlaceHolder 2"/>
          <p:cNvSpPr>
            <a:spLocks noGrp="1"/>
          </p:cNvSpPr>
          <p:nvPr>
            <p:ph/>
          </p:nvPr>
        </p:nvSpPr>
        <p:spPr>
          <a:xfrm>
            <a:off x="0" y="129528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2" name=""/>
          <p:cNvSpPr/>
          <p:nvPr/>
        </p:nvSpPr>
        <p:spPr>
          <a:xfrm>
            <a:off x="1066680" y="5749920"/>
            <a:ext cx="15764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465360" y="574992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4227480" y="3276720"/>
            <a:ext cx="291240" cy="345600"/>
            <a:chOff x="4227480" y="3276720"/>
            <a:chExt cx="291240" cy="345600"/>
          </a:xfrm>
        </p:grpSpPr>
        <p:grpSp>
          <p:nvGrpSpPr>
            <p:cNvPr id="235" name=""/>
            <p:cNvGrpSpPr/>
            <p:nvPr/>
          </p:nvGrpSpPr>
          <p:grpSpPr>
            <a:xfrm>
              <a:off x="4486320" y="3506040"/>
              <a:ext cx="32400" cy="24840"/>
              <a:chOff x="4486320" y="3506040"/>
              <a:chExt cx="32400" cy="24840"/>
            </a:xfrm>
          </p:grpSpPr>
          <p:sp>
            <p:nvSpPr>
              <p:cNvPr id="236" name=""/>
              <p:cNvSpPr/>
              <p:nvPr/>
            </p:nvSpPr>
            <p:spPr>
              <a:xfrm>
                <a:off x="4486320" y="35107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7" name=""/>
              <p:cNvSpPr/>
              <p:nvPr/>
            </p:nvSpPr>
            <p:spPr>
              <a:xfrm>
                <a:off x="4508280" y="35060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238" name=""/>
            <p:cNvGrpSpPr/>
            <p:nvPr/>
          </p:nvGrpSpPr>
          <p:grpSpPr>
            <a:xfrm>
              <a:off x="4227480" y="3276720"/>
              <a:ext cx="266760" cy="345600"/>
              <a:chOff x="4227480" y="3276720"/>
              <a:chExt cx="266760" cy="345600"/>
            </a:xfrm>
          </p:grpSpPr>
          <p:grpSp>
            <p:nvGrpSpPr>
              <p:cNvPr id="239" name=""/>
              <p:cNvGrpSpPr/>
              <p:nvPr/>
            </p:nvGrpSpPr>
            <p:grpSpPr>
              <a:xfrm>
                <a:off x="4423320" y="3499920"/>
                <a:ext cx="70920" cy="61920"/>
                <a:chOff x="4423320" y="3499920"/>
                <a:chExt cx="70920" cy="61920"/>
              </a:xfrm>
            </p:grpSpPr>
            <p:sp>
              <p:nvSpPr>
                <p:cNvPr id="240" name=""/>
                <p:cNvSpPr/>
                <p:nvPr/>
              </p:nvSpPr>
              <p:spPr>
                <a:xfrm>
                  <a:off x="4459680" y="3499920"/>
                  <a:ext cx="2376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1" name=""/>
                <p:cNvSpPr/>
                <p:nvPr/>
              </p:nvSpPr>
              <p:spPr>
                <a:xfrm>
                  <a:off x="4423320" y="3506760"/>
                  <a:ext cx="7092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242" name=""/>
              <p:cNvSpPr/>
              <p:nvPr/>
            </p:nvSpPr>
            <p:spPr>
              <a:xfrm>
                <a:off x="4366440" y="340740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21800" y="33584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4" name=""/>
              <p:cNvSpPr/>
              <p:nvPr/>
            </p:nvSpPr>
            <p:spPr>
              <a:xfrm>
                <a:off x="4325760" y="3276720"/>
                <a:ext cx="10404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28360" y="352044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6" name=""/>
              <p:cNvSpPr/>
              <p:nvPr/>
            </p:nvSpPr>
            <p:spPr>
              <a:xfrm>
                <a:off x="4227480" y="3365280"/>
                <a:ext cx="20736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25760" y="32911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248" name=""/>
            <p:cNvGrpSpPr/>
            <p:nvPr/>
          </p:nvGrpSpPr>
          <p:grpSpPr>
            <a:xfrm>
              <a:off x="4359960" y="3332880"/>
              <a:ext cx="97200" cy="188280"/>
              <a:chOff x="4359960" y="3332880"/>
              <a:chExt cx="97200" cy="188280"/>
            </a:xfrm>
          </p:grpSpPr>
          <p:sp>
            <p:nvSpPr>
              <p:cNvPr id="249" name=""/>
              <p:cNvSpPr/>
              <p:nvPr/>
            </p:nvSpPr>
            <p:spPr>
              <a:xfrm>
                <a:off x="4359960" y="3332880"/>
                <a:ext cx="9720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362480" y="3333960"/>
                <a:ext cx="1044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251" name=""/>
            <p:cNvSpPr/>
            <p:nvPr/>
          </p:nvSpPr>
          <p:spPr>
            <a:xfrm>
              <a:off x="4390560" y="340992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52" name=""/>
          <p:cNvGrpSpPr/>
          <p:nvPr/>
        </p:nvGrpSpPr>
        <p:grpSpPr>
          <a:xfrm>
            <a:off x="914400" y="1371600"/>
            <a:ext cx="7124760" cy="4059360"/>
            <a:chOff x="914400" y="1371600"/>
            <a:chExt cx="7124760" cy="4059360"/>
          </a:xfrm>
        </p:grpSpPr>
        <p:grpSp>
          <p:nvGrpSpPr>
            <p:cNvPr id="253" name=""/>
            <p:cNvGrpSpPr/>
            <p:nvPr/>
          </p:nvGrpSpPr>
          <p:grpSpPr>
            <a:xfrm>
              <a:off x="914400" y="1371600"/>
              <a:ext cx="6997680" cy="1050840"/>
              <a:chOff x="914400" y="1371600"/>
              <a:chExt cx="6997680" cy="1050840"/>
            </a:xfrm>
          </p:grpSpPr>
          <p:graphicFrame>
            <p:nvGraphicFramePr>
              <p:cNvPr id="254" name=""/>
              <p:cNvGraphicFramePr/>
              <p:nvPr/>
            </p:nvGraphicFramePr>
            <p:xfrm>
              <a:off x="3114720" y="1371600"/>
              <a:ext cx="1517760" cy="1050840"/>
            </p:xfrm>
            <a:graphic>
              <a:graphicData uri="http://schemas.openxmlformats.org/presentationml/2006/ole">
                <p:oleObj r:id="rId1" spid="">
                  <p:embed/>
                  <p:pic>
                    <p:nvPicPr>
                      <p:cNvPr id="255" name="" descr=""/>
                      <p:cNvPicPr/>
                      <p:nvPr/>
                    </p:nvPicPr>
                    <p:blipFill>
                      <a:blip r:embed="rId2"/>
                      <a:stretch/>
                    </p:blipFill>
                    <p:spPr>
                      <a:xfrm>
                        <a:off x="3114720" y="1371600"/>
                        <a:ext cx="1517760" cy="1050840"/>
                      </a:xfrm>
                      <a:prstGeom prst="rect">
                        <a:avLst/>
                      </a:prstGeom>
                      <a:ln w="0">
                        <a:noFill/>
                      </a:ln>
                    </p:spPr>
                  </p:pic>
                </p:oleObj>
              </a:graphicData>
            </a:graphic>
          </p:graphicFrame>
          <p:sp>
            <p:nvSpPr>
              <p:cNvPr id="256" name=""/>
              <p:cNvSpPr/>
              <p:nvPr/>
            </p:nvSpPr>
            <p:spPr>
              <a:xfrm>
                <a:off x="914400" y="1679400"/>
                <a:ext cx="1676520" cy="4096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a:t>
                </a:r>
                <a:endParaRPr b="0" lang="en-US" sz="2000" spc="-1" strike="noStrike">
                  <a:solidFill>
                    <a:srgbClr val="000000"/>
                  </a:solidFill>
                  <a:latin typeface="Times New Roman"/>
                </a:endParaRPr>
              </a:p>
            </p:txBody>
          </p:sp>
          <p:sp>
            <p:nvSpPr>
              <p:cNvPr id="257" name=""/>
              <p:cNvSpPr/>
              <p:nvPr/>
            </p:nvSpPr>
            <p:spPr>
              <a:xfrm>
                <a:off x="5073480" y="1501920"/>
                <a:ext cx="2838600" cy="70236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system costs are a huge burden </a:t>
                </a:r>
                <a:endParaRPr b="0" lang="en-US" sz="2000" spc="-1" strike="noStrike">
                  <a:solidFill>
                    <a:srgbClr val="000000"/>
                  </a:solidFill>
                  <a:latin typeface="Times New Roman"/>
                </a:endParaRPr>
              </a:p>
            </p:txBody>
          </p:sp>
        </p:grpSp>
        <p:grpSp>
          <p:nvGrpSpPr>
            <p:cNvPr id="258" name=""/>
            <p:cNvGrpSpPr/>
            <p:nvPr/>
          </p:nvGrpSpPr>
          <p:grpSpPr>
            <a:xfrm>
              <a:off x="914400" y="2492280"/>
              <a:ext cx="6997680" cy="758880"/>
              <a:chOff x="914400" y="2492280"/>
              <a:chExt cx="6997680" cy="758880"/>
            </a:xfrm>
          </p:grpSpPr>
          <p:sp>
            <p:nvSpPr>
              <p:cNvPr id="259" name=""/>
              <p:cNvSpPr/>
              <p:nvPr/>
            </p:nvSpPr>
            <p:spPr>
              <a:xfrm>
                <a:off x="914400" y="2670120"/>
                <a:ext cx="1600200" cy="397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tion</a:t>
                </a:r>
                <a:endParaRPr b="0" lang="en-US" sz="2000" spc="-1" strike="noStrike">
                  <a:solidFill>
                    <a:srgbClr val="000000"/>
                  </a:solidFill>
                  <a:latin typeface="Times New Roman"/>
                </a:endParaRPr>
              </a:p>
            </p:txBody>
          </p:sp>
          <p:sp>
            <p:nvSpPr>
              <p:cNvPr id="260" name=""/>
              <p:cNvSpPr/>
              <p:nvPr/>
            </p:nvSpPr>
            <p:spPr>
              <a:xfrm>
                <a:off x="5073480" y="2492280"/>
                <a:ext cx="2838600" cy="70236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ormous range in definition of quality </a:t>
                </a:r>
                <a:endParaRPr b="0" lang="en-US" sz="2000" spc="-1" strike="noStrike">
                  <a:solidFill>
                    <a:srgbClr val="000000"/>
                  </a:solidFill>
                  <a:latin typeface="Times New Roman"/>
                </a:endParaRPr>
              </a:p>
            </p:txBody>
          </p:sp>
          <p:pic>
            <p:nvPicPr>
              <p:cNvPr id="261" name="" descr=""/>
              <p:cNvPicPr/>
              <p:nvPr/>
            </p:nvPicPr>
            <p:blipFill>
              <a:blip r:embed="rId3"/>
              <a:stretch/>
            </p:blipFill>
            <p:spPr>
              <a:xfrm>
                <a:off x="3505320" y="2514600"/>
                <a:ext cx="720720" cy="736560"/>
              </a:xfrm>
              <a:prstGeom prst="rect">
                <a:avLst/>
              </a:prstGeom>
              <a:ln w="0">
                <a:noFill/>
              </a:ln>
            </p:spPr>
          </p:pic>
        </p:grpSp>
        <p:grpSp>
          <p:nvGrpSpPr>
            <p:cNvPr id="262" name=""/>
            <p:cNvGrpSpPr/>
            <p:nvPr/>
          </p:nvGrpSpPr>
          <p:grpSpPr>
            <a:xfrm>
              <a:off x="914400" y="4495680"/>
              <a:ext cx="7124760" cy="935280"/>
              <a:chOff x="914400" y="4495680"/>
              <a:chExt cx="7124760" cy="935280"/>
            </a:xfrm>
          </p:grpSpPr>
          <p:sp>
            <p:nvSpPr>
              <p:cNvPr id="263" name=""/>
              <p:cNvSpPr/>
              <p:nvPr/>
            </p:nvSpPr>
            <p:spPr>
              <a:xfrm>
                <a:off x="914400" y="4797360"/>
                <a:ext cx="1600200" cy="457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plication</a:t>
                </a:r>
                <a:endParaRPr b="0" lang="en-US" sz="2000" spc="-1" strike="noStrike">
                  <a:solidFill>
                    <a:srgbClr val="000000"/>
                  </a:solidFill>
                  <a:latin typeface="Times New Roman"/>
                </a:endParaRPr>
              </a:p>
            </p:txBody>
          </p:sp>
          <p:sp>
            <p:nvSpPr>
              <p:cNvPr id="264" name=""/>
              <p:cNvSpPr/>
              <p:nvPr/>
            </p:nvSpPr>
            <p:spPr>
              <a:xfrm>
                <a:off x="5200560" y="4735440"/>
                <a:ext cx="2838600" cy="39744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stitutable inputs</a:t>
                </a:r>
                <a:endParaRPr b="0" lang="en-US" sz="2000" spc="-1" strike="noStrike">
                  <a:solidFill>
                    <a:srgbClr val="000000"/>
                  </a:solidFill>
                  <a:latin typeface="Times New Roman"/>
                </a:endParaRPr>
              </a:p>
            </p:txBody>
          </p:sp>
          <p:grpSp>
            <p:nvGrpSpPr>
              <p:cNvPr id="265" name=""/>
              <p:cNvGrpSpPr/>
              <p:nvPr/>
            </p:nvGrpSpPr>
            <p:grpSpPr>
              <a:xfrm>
                <a:off x="3352680" y="4495680"/>
                <a:ext cx="1739880" cy="935280"/>
                <a:chOff x="3352680" y="4495680"/>
                <a:chExt cx="1739880" cy="935280"/>
              </a:xfrm>
            </p:grpSpPr>
            <p:pic>
              <p:nvPicPr>
                <p:cNvPr id="266" name="" descr=""/>
                <p:cNvPicPr/>
                <p:nvPr/>
              </p:nvPicPr>
              <p:blipFill>
                <a:blip r:embed="rId4"/>
                <a:stretch/>
              </p:blipFill>
              <p:spPr>
                <a:xfrm>
                  <a:off x="4114800" y="4952880"/>
                  <a:ext cx="333360" cy="478080"/>
                </a:xfrm>
                <a:prstGeom prst="rect">
                  <a:avLst/>
                </a:prstGeom>
                <a:ln w="0">
                  <a:noFill/>
                </a:ln>
              </p:spPr>
            </p:pic>
            <p:pic>
              <p:nvPicPr>
                <p:cNvPr id="267" name="" descr=""/>
                <p:cNvPicPr/>
                <p:nvPr/>
              </p:nvPicPr>
              <p:blipFill>
                <a:blip r:embed="rId5"/>
                <a:stretch/>
              </p:blipFill>
              <p:spPr>
                <a:xfrm>
                  <a:off x="3962520" y="4495680"/>
                  <a:ext cx="685800" cy="473040"/>
                </a:xfrm>
                <a:prstGeom prst="rect">
                  <a:avLst/>
                </a:prstGeom>
                <a:ln w="0">
                  <a:noFill/>
                </a:ln>
              </p:spPr>
            </p:pic>
            <p:grpSp>
              <p:nvGrpSpPr>
                <p:cNvPr id="268" name=""/>
                <p:cNvGrpSpPr/>
                <p:nvPr/>
              </p:nvGrpSpPr>
              <p:grpSpPr>
                <a:xfrm>
                  <a:off x="3352680" y="4724280"/>
                  <a:ext cx="532080" cy="621000"/>
                  <a:chOff x="3352680" y="4724280"/>
                  <a:chExt cx="532080" cy="621000"/>
                </a:xfrm>
              </p:grpSpPr>
              <p:grpSp>
                <p:nvGrpSpPr>
                  <p:cNvPr id="269" name=""/>
                  <p:cNvGrpSpPr/>
                  <p:nvPr/>
                </p:nvGrpSpPr>
                <p:grpSpPr>
                  <a:xfrm>
                    <a:off x="3352680" y="4724280"/>
                    <a:ext cx="532080" cy="621000"/>
                    <a:chOff x="3352680" y="4724280"/>
                    <a:chExt cx="532080" cy="621000"/>
                  </a:xfrm>
                </p:grpSpPr>
                <p:grpSp>
                  <p:nvGrpSpPr>
                    <p:cNvPr id="270" name=""/>
                    <p:cNvGrpSpPr/>
                    <p:nvPr/>
                  </p:nvGrpSpPr>
                  <p:grpSpPr>
                    <a:xfrm>
                      <a:off x="3834000" y="5129280"/>
                      <a:ext cx="50760" cy="55080"/>
                      <a:chOff x="3834000" y="5129280"/>
                      <a:chExt cx="50760" cy="55080"/>
                    </a:xfrm>
                  </p:grpSpPr>
                  <p:sp>
                    <p:nvSpPr>
                      <p:cNvPr id="271" name=""/>
                      <p:cNvSpPr/>
                      <p:nvPr/>
                    </p:nvSpPr>
                    <p:spPr>
                      <a:xfrm>
                        <a:off x="3834000" y="5145480"/>
                        <a:ext cx="39960" cy="21600"/>
                      </a:xfrm>
                      <a:custGeom>
                        <a:avLst/>
                        <a:gdLst/>
                        <a:ahLst/>
                        <a:rect l="l" t="t" r="r" b="b"/>
                        <a:pathLst>
                          <a:path w="145" h="71">
                            <a:moveTo>
                              <a:pt x="145" y="0"/>
                            </a:moveTo>
                            <a:lnTo>
                              <a:pt x="0" y="23"/>
                            </a:lnTo>
                            <a:lnTo>
                              <a:pt x="0" y="58"/>
                            </a:lnTo>
                            <a:lnTo>
                              <a:pt x="145" y="71"/>
                            </a:lnTo>
                            <a:lnTo>
                              <a:pt x="145" y="0"/>
                            </a:lnTo>
                            <a:close/>
                          </a:path>
                        </a:pathLst>
                      </a:custGeom>
                      <a:solidFill>
                        <a:srgbClr val="808080"/>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2" name=""/>
                      <p:cNvSpPr/>
                      <p:nvPr/>
                    </p:nvSpPr>
                    <p:spPr>
                      <a:xfrm>
                        <a:off x="3865320" y="5129280"/>
                        <a:ext cx="19440" cy="55080"/>
                      </a:xfrm>
                      <a:prstGeom prst="ellipse">
                        <a:avLst/>
                      </a:prstGeom>
                      <a:solidFill>
                        <a:srgbClr val="80808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nvGrpSpPr>
                    <p:cNvPr id="273" name=""/>
                    <p:cNvGrpSpPr/>
                    <p:nvPr/>
                  </p:nvGrpSpPr>
                  <p:grpSpPr>
                    <a:xfrm>
                      <a:off x="3352680" y="4724280"/>
                      <a:ext cx="492480" cy="621000"/>
                      <a:chOff x="3352680" y="4724280"/>
                      <a:chExt cx="492480" cy="621000"/>
                    </a:xfrm>
                  </p:grpSpPr>
                  <p:grpSp>
                    <p:nvGrpSpPr>
                      <p:cNvPr id="274" name=""/>
                      <p:cNvGrpSpPr/>
                      <p:nvPr/>
                    </p:nvGrpSpPr>
                    <p:grpSpPr>
                      <a:xfrm>
                        <a:off x="3717360" y="5124600"/>
                        <a:ext cx="127800" cy="110520"/>
                        <a:chOff x="3717360" y="5124600"/>
                        <a:chExt cx="127800" cy="110520"/>
                      </a:xfrm>
                    </p:grpSpPr>
                    <p:sp>
                      <p:nvSpPr>
                        <p:cNvPr id="275" name=""/>
                        <p:cNvSpPr/>
                        <p:nvPr/>
                      </p:nvSpPr>
                      <p:spPr>
                        <a:xfrm>
                          <a:off x="3783240" y="5124600"/>
                          <a:ext cx="44640" cy="21600"/>
                        </a:xfrm>
                        <a:custGeom>
                          <a:avLst/>
                          <a:gdLst/>
                          <a:ahLst/>
                          <a:rect l="l" t="t" r="r" b="b"/>
                          <a:pathLst>
                            <a:path w="159" h="72">
                              <a:moveTo>
                                <a:pt x="0" y="71"/>
                              </a:moveTo>
                              <a:lnTo>
                                <a:pt x="49" y="39"/>
                              </a:lnTo>
                              <a:lnTo>
                                <a:pt x="108" y="8"/>
                              </a:lnTo>
                              <a:lnTo>
                                <a:pt x="129" y="1"/>
                              </a:lnTo>
                              <a:lnTo>
                                <a:pt x="145" y="0"/>
                              </a:lnTo>
                              <a:lnTo>
                                <a:pt x="157" y="7"/>
                              </a:lnTo>
                              <a:lnTo>
                                <a:pt x="159" y="14"/>
                              </a:lnTo>
                              <a:lnTo>
                                <a:pt x="157" y="26"/>
                              </a:lnTo>
                              <a:lnTo>
                                <a:pt x="153" y="35"/>
                              </a:lnTo>
                              <a:lnTo>
                                <a:pt x="144" y="46"/>
                              </a:lnTo>
                              <a:lnTo>
                                <a:pt x="129" y="57"/>
                              </a:lnTo>
                              <a:lnTo>
                                <a:pt x="101" y="72"/>
                              </a:lnTo>
                              <a:lnTo>
                                <a:pt x="0" y="71"/>
                              </a:lnTo>
                              <a:close/>
                            </a:path>
                          </a:pathLst>
                        </a:custGeom>
                        <a:solidFill>
                          <a:srgbClr val="ffbfb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6" name=""/>
                        <p:cNvSpPr/>
                        <p:nvPr/>
                      </p:nvSpPr>
                      <p:spPr>
                        <a:xfrm>
                          <a:off x="3717360" y="5136480"/>
                          <a:ext cx="127800" cy="98640"/>
                        </a:xfrm>
                        <a:custGeom>
                          <a:avLst/>
                          <a:gdLst/>
                          <a:ahLst/>
                          <a:rect l="l" t="t" r="r" b="b"/>
                          <a:pathLst>
                            <a:path w="459" h="325">
                              <a:moveTo>
                                <a:pt x="0" y="163"/>
                              </a:moveTo>
                              <a:lnTo>
                                <a:pt x="64" y="145"/>
                              </a:lnTo>
                              <a:lnTo>
                                <a:pt x="121" y="122"/>
                              </a:lnTo>
                              <a:lnTo>
                                <a:pt x="151" y="102"/>
                              </a:lnTo>
                              <a:lnTo>
                                <a:pt x="166" y="80"/>
                              </a:lnTo>
                              <a:lnTo>
                                <a:pt x="195" y="48"/>
                              </a:lnTo>
                              <a:lnTo>
                                <a:pt x="220" y="26"/>
                              </a:lnTo>
                              <a:lnTo>
                                <a:pt x="253" y="11"/>
                              </a:lnTo>
                              <a:lnTo>
                                <a:pt x="304" y="1"/>
                              </a:lnTo>
                              <a:lnTo>
                                <a:pt x="340" y="0"/>
                              </a:lnTo>
                              <a:lnTo>
                                <a:pt x="378" y="0"/>
                              </a:lnTo>
                              <a:lnTo>
                                <a:pt x="416" y="4"/>
                              </a:lnTo>
                              <a:lnTo>
                                <a:pt x="435" y="18"/>
                              </a:lnTo>
                              <a:lnTo>
                                <a:pt x="442" y="29"/>
                              </a:lnTo>
                              <a:lnTo>
                                <a:pt x="445" y="47"/>
                              </a:lnTo>
                              <a:lnTo>
                                <a:pt x="442" y="59"/>
                              </a:lnTo>
                              <a:lnTo>
                                <a:pt x="431" y="69"/>
                              </a:lnTo>
                              <a:lnTo>
                                <a:pt x="388" y="74"/>
                              </a:lnTo>
                              <a:lnTo>
                                <a:pt x="430" y="71"/>
                              </a:lnTo>
                              <a:lnTo>
                                <a:pt x="444" y="71"/>
                              </a:lnTo>
                              <a:lnTo>
                                <a:pt x="454" y="83"/>
                              </a:lnTo>
                              <a:lnTo>
                                <a:pt x="459" y="95"/>
                              </a:lnTo>
                              <a:lnTo>
                                <a:pt x="459" y="112"/>
                              </a:lnTo>
                              <a:lnTo>
                                <a:pt x="452" y="123"/>
                              </a:lnTo>
                              <a:lnTo>
                                <a:pt x="444" y="130"/>
                              </a:lnTo>
                              <a:lnTo>
                                <a:pt x="427" y="134"/>
                              </a:lnTo>
                              <a:lnTo>
                                <a:pt x="399" y="136"/>
                              </a:lnTo>
                              <a:lnTo>
                                <a:pt x="424" y="134"/>
                              </a:lnTo>
                              <a:lnTo>
                                <a:pt x="440" y="138"/>
                              </a:lnTo>
                              <a:lnTo>
                                <a:pt x="450" y="143"/>
                              </a:lnTo>
                              <a:lnTo>
                                <a:pt x="455" y="157"/>
                              </a:lnTo>
                              <a:lnTo>
                                <a:pt x="454" y="170"/>
                              </a:lnTo>
                              <a:lnTo>
                                <a:pt x="444" y="182"/>
                              </a:lnTo>
                              <a:lnTo>
                                <a:pt x="428" y="194"/>
                              </a:lnTo>
                              <a:lnTo>
                                <a:pt x="405" y="200"/>
                              </a:lnTo>
                              <a:lnTo>
                                <a:pt x="418" y="196"/>
                              </a:lnTo>
                              <a:lnTo>
                                <a:pt x="435" y="192"/>
                              </a:lnTo>
                              <a:lnTo>
                                <a:pt x="443" y="195"/>
                              </a:lnTo>
                              <a:lnTo>
                                <a:pt x="446" y="206"/>
                              </a:lnTo>
                              <a:lnTo>
                                <a:pt x="440" y="219"/>
                              </a:lnTo>
                              <a:lnTo>
                                <a:pt x="419" y="234"/>
                              </a:lnTo>
                              <a:lnTo>
                                <a:pt x="399" y="243"/>
                              </a:lnTo>
                              <a:lnTo>
                                <a:pt x="359" y="250"/>
                              </a:lnTo>
                              <a:lnTo>
                                <a:pt x="326" y="251"/>
                              </a:lnTo>
                              <a:lnTo>
                                <a:pt x="285" y="250"/>
                              </a:lnTo>
                              <a:lnTo>
                                <a:pt x="246" y="243"/>
                              </a:lnTo>
                              <a:lnTo>
                                <a:pt x="195" y="254"/>
                              </a:lnTo>
                              <a:lnTo>
                                <a:pt x="145" y="282"/>
                              </a:lnTo>
                              <a:lnTo>
                                <a:pt x="90" y="308"/>
                              </a:lnTo>
                              <a:lnTo>
                                <a:pt x="54" y="325"/>
                              </a:lnTo>
                              <a:lnTo>
                                <a:pt x="0" y="163"/>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3609720" y="4959000"/>
                        <a:ext cx="36360" cy="165600"/>
                      </a:xfrm>
                      <a:custGeom>
                        <a:avLst/>
                        <a:gdLst/>
                        <a:ahLst/>
                        <a:rect l="l" t="t" r="r" b="b"/>
                        <a:pathLst>
                          <a:path w="129" h="545">
                            <a:moveTo>
                              <a:pt x="34" y="0"/>
                            </a:moveTo>
                            <a:lnTo>
                              <a:pt x="29" y="40"/>
                            </a:lnTo>
                            <a:lnTo>
                              <a:pt x="18" y="74"/>
                            </a:lnTo>
                            <a:lnTo>
                              <a:pt x="0" y="101"/>
                            </a:lnTo>
                            <a:lnTo>
                              <a:pt x="15" y="114"/>
                            </a:lnTo>
                            <a:lnTo>
                              <a:pt x="29" y="131"/>
                            </a:lnTo>
                            <a:lnTo>
                              <a:pt x="51" y="142"/>
                            </a:lnTo>
                            <a:lnTo>
                              <a:pt x="69" y="147"/>
                            </a:lnTo>
                            <a:lnTo>
                              <a:pt x="56" y="172"/>
                            </a:lnTo>
                            <a:lnTo>
                              <a:pt x="55" y="199"/>
                            </a:lnTo>
                            <a:lnTo>
                              <a:pt x="27" y="260"/>
                            </a:lnTo>
                            <a:lnTo>
                              <a:pt x="74" y="545"/>
                            </a:lnTo>
                            <a:lnTo>
                              <a:pt x="93" y="431"/>
                            </a:lnTo>
                            <a:lnTo>
                              <a:pt x="108" y="357"/>
                            </a:lnTo>
                            <a:lnTo>
                              <a:pt x="116" y="296"/>
                            </a:lnTo>
                            <a:lnTo>
                              <a:pt x="124" y="237"/>
                            </a:lnTo>
                            <a:lnTo>
                              <a:pt x="129" y="185"/>
                            </a:lnTo>
                            <a:lnTo>
                              <a:pt x="127" y="159"/>
                            </a:lnTo>
                            <a:lnTo>
                              <a:pt x="116" y="141"/>
                            </a:lnTo>
                            <a:lnTo>
                              <a:pt x="101" y="128"/>
                            </a:lnTo>
                            <a:lnTo>
                              <a:pt x="90" y="117"/>
                            </a:lnTo>
                            <a:lnTo>
                              <a:pt x="90" y="98"/>
                            </a:lnTo>
                            <a:lnTo>
                              <a:pt x="79" y="63"/>
                            </a:lnTo>
                            <a:lnTo>
                              <a:pt x="60" y="34"/>
                            </a:lnTo>
                            <a:lnTo>
                              <a:pt x="34" y="0"/>
                            </a:lnTo>
                            <a:close/>
                          </a:path>
                        </a:pathLst>
                      </a:custGeom>
                      <a:solidFill>
                        <a:srgbClr val="00007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528000" y="4871520"/>
                        <a:ext cx="92160" cy="140400"/>
                      </a:xfrm>
                      <a:custGeom>
                        <a:avLst/>
                        <a:gdLst/>
                        <a:ahLst/>
                        <a:rect l="l" t="t" r="r" b="b"/>
                        <a:pathLst>
                          <a:path w="331" h="464">
                            <a:moveTo>
                              <a:pt x="61" y="0"/>
                            </a:moveTo>
                            <a:lnTo>
                              <a:pt x="0" y="94"/>
                            </a:lnTo>
                            <a:lnTo>
                              <a:pt x="68" y="134"/>
                            </a:lnTo>
                            <a:lnTo>
                              <a:pt x="136" y="201"/>
                            </a:lnTo>
                            <a:lnTo>
                              <a:pt x="203" y="289"/>
                            </a:lnTo>
                            <a:lnTo>
                              <a:pt x="251" y="383"/>
                            </a:lnTo>
                            <a:lnTo>
                              <a:pt x="278" y="464"/>
                            </a:lnTo>
                            <a:lnTo>
                              <a:pt x="284" y="424"/>
                            </a:lnTo>
                            <a:lnTo>
                              <a:pt x="311" y="350"/>
                            </a:lnTo>
                            <a:lnTo>
                              <a:pt x="325" y="323"/>
                            </a:lnTo>
                            <a:lnTo>
                              <a:pt x="331" y="289"/>
                            </a:lnTo>
                            <a:lnTo>
                              <a:pt x="331" y="276"/>
                            </a:lnTo>
                            <a:lnTo>
                              <a:pt x="291" y="222"/>
                            </a:lnTo>
                            <a:lnTo>
                              <a:pt x="237" y="161"/>
                            </a:lnTo>
                            <a:lnTo>
                              <a:pt x="163" y="94"/>
                            </a:lnTo>
                            <a:lnTo>
                              <a:pt x="61" y="0"/>
                            </a:lnTo>
                            <a:close/>
                          </a:path>
                        </a:pathLst>
                      </a:custGeom>
                      <a:solidFill>
                        <a:srgbClr val="d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5200" y="4724280"/>
                        <a:ext cx="192240" cy="240120"/>
                      </a:xfrm>
                      <a:custGeom>
                        <a:avLst/>
                        <a:gdLst/>
                        <a:ahLst/>
                        <a:rect l="l" t="t" r="r" b="b"/>
                        <a:pathLst>
                          <a:path w="688" h="792">
                            <a:moveTo>
                              <a:pt x="543" y="81"/>
                            </a:moveTo>
                            <a:lnTo>
                              <a:pt x="484" y="45"/>
                            </a:lnTo>
                            <a:lnTo>
                              <a:pt x="430" y="22"/>
                            </a:lnTo>
                            <a:lnTo>
                              <a:pt x="372" y="6"/>
                            </a:lnTo>
                            <a:lnTo>
                              <a:pt x="308" y="0"/>
                            </a:lnTo>
                            <a:lnTo>
                              <a:pt x="249" y="7"/>
                            </a:lnTo>
                            <a:lnTo>
                              <a:pt x="190" y="19"/>
                            </a:lnTo>
                            <a:lnTo>
                              <a:pt x="127" y="56"/>
                            </a:lnTo>
                            <a:lnTo>
                              <a:pt x="62" y="113"/>
                            </a:lnTo>
                            <a:lnTo>
                              <a:pt x="23" y="178"/>
                            </a:lnTo>
                            <a:lnTo>
                              <a:pt x="5" y="237"/>
                            </a:lnTo>
                            <a:lnTo>
                              <a:pt x="0" y="294"/>
                            </a:lnTo>
                            <a:lnTo>
                              <a:pt x="14" y="347"/>
                            </a:lnTo>
                            <a:lnTo>
                              <a:pt x="34" y="384"/>
                            </a:lnTo>
                            <a:lnTo>
                              <a:pt x="34" y="424"/>
                            </a:lnTo>
                            <a:lnTo>
                              <a:pt x="27" y="485"/>
                            </a:lnTo>
                            <a:lnTo>
                              <a:pt x="27" y="505"/>
                            </a:lnTo>
                            <a:lnTo>
                              <a:pt x="129" y="579"/>
                            </a:lnTo>
                            <a:lnTo>
                              <a:pt x="230" y="666"/>
                            </a:lnTo>
                            <a:lnTo>
                              <a:pt x="308" y="765"/>
                            </a:lnTo>
                            <a:lnTo>
                              <a:pt x="322" y="777"/>
                            </a:lnTo>
                            <a:lnTo>
                              <a:pt x="345" y="787"/>
                            </a:lnTo>
                            <a:lnTo>
                              <a:pt x="373" y="791"/>
                            </a:lnTo>
                            <a:lnTo>
                              <a:pt x="399" y="781"/>
                            </a:lnTo>
                            <a:lnTo>
                              <a:pt x="423" y="787"/>
                            </a:lnTo>
                            <a:lnTo>
                              <a:pt x="448" y="791"/>
                            </a:lnTo>
                            <a:lnTo>
                              <a:pt x="470" y="792"/>
                            </a:lnTo>
                            <a:lnTo>
                              <a:pt x="489" y="789"/>
                            </a:lnTo>
                            <a:lnTo>
                              <a:pt x="503" y="781"/>
                            </a:lnTo>
                            <a:lnTo>
                              <a:pt x="512" y="773"/>
                            </a:lnTo>
                            <a:lnTo>
                              <a:pt x="517" y="757"/>
                            </a:lnTo>
                            <a:lnTo>
                              <a:pt x="515" y="735"/>
                            </a:lnTo>
                            <a:lnTo>
                              <a:pt x="513" y="700"/>
                            </a:lnTo>
                            <a:lnTo>
                              <a:pt x="528" y="700"/>
                            </a:lnTo>
                            <a:lnTo>
                              <a:pt x="541" y="693"/>
                            </a:lnTo>
                            <a:lnTo>
                              <a:pt x="539" y="679"/>
                            </a:lnTo>
                            <a:lnTo>
                              <a:pt x="533" y="660"/>
                            </a:lnTo>
                            <a:lnTo>
                              <a:pt x="559" y="660"/>
                            </a:lnTo>
                            <a:lnTo>
                              <a:pt x="572" y="653"/>
                            </a:lnTo>
                            <a:lnTo>
                              <a:pt x="578" y="634"/>
                            </a:lnTo>
                            <a:lnTo>
                              <a:pt x="573" y="606"/>
                            </a:lnTo>
                            <a:lnTo>
                              <a:pt x="599" y="616"/>
                            </a:lnTo>
                            <a:lnTo>
                              <a:pt x="621" y="619"/>
                            </a:lnTo>
                            <a:lnTo>
                              <a:pt x="636" y="619"/>
                            </a:lnTo>
                            <a:lnTo>
                              <a:pt x="653" y="608"/>
                            </a:lnTo>
                            <a:lnTo>
                              <a:pt x="661" y="592"/>
                            </a:lnTo>
                            <a:lnTo>
                              <a:pt x="652" y="549"/>
                            </a:lnTo>
                            <a:lnTo>
                              <a:pt x="637" y="507"/>
                            </a:lnTo>
                            <a:lnTo>
                              <a:pt x="627" y="464"/>
                            </a:lnTo>
                            <a:lnTo>
                              <a:pt x="636" y="444"/>
                            </a:lnTo>
                            <a:lnTo>
                              <a:pt x="650" y="436"/>
                            </a:lnTo>
                            <a:lnTo>
                              <a:pt x="664" y="434"/>
                            </a:lnTo>
                            <a:lnTo>
                              <a:pt x="674" y="424"/>
                            </a:lnTo>
                            <a:lnTo>
                              <a:pt x="682" y="384"/>
                            </a:lnTo>
                            <a:lnTo>
                              <a:pt x="686" y="353"/>
                            </a:lnTo>
                            <a:lnTo>
                              <a:pt x="688" y="310"/>
                            </a:lnTo>
                            <a:lnTo>
                              <a:pt x="687" y="262"/>
                            </a:lnTo>
                            <a:lnTo>
                              <a:pt x="681" y="228"/>
                            </a:lnTo>
                            <a:lnTo>
                              <a:pt x="660" y="197"/>
                            </a:lnTo>
                            <a:lnTo>
                              <a:pt x="636" y="172"/>
                            </a:lnTo>
                            <a:lnTo>
                              <a:pt x="586" y="118"/>
                            </a:lnTo>
                            <a:lnTo>
                              <a:pt x="543" y="81"/>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726000" y="5160240"/>
                        <a:ext cx="29520" cy="79920"/>
                      </a:xfrm>
                      <a:custGeom>
                        <a:avLst/>
                        <a:gdLst/>
                        <a:ahLst/>
                        <a:rect l="l" t="t" r="r" b="b"/>
                        <a:pathLst>
                          <a:path w="108" h="264">
                            <a:moveTo>
                              <a:pt x="7" y="13"/>
                            </a:moveTo>
                            <a:lnTo>
                              <a:pt x="81" y="0"/>
                            </a:lnTo>
                            <a:lnTo>
                              <a:pt x="108" y="250"/>
                            </a:lnTo>
                            <a:lnTo>
                              <a:pt x="61" y="264"/>
                            </a:lnTo>
                            <a:lnTo>
                              <a:pt x="0" y="264"/>
                            </a:lnTo>
                            <a:lnTo>
                              <a:pt x="7" y="13"/>
                            </a:lnTo>
                            <a:close/>
                          </a:path>
                        </a:pathLst>
                      </a:custGeom>
                      <a:solidFill>
                        <a:srgbClr val="dfffff"/>
                      </a:solidFill>
                      <a:ln w="64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 name=""/>
                      <p:cNvSpPr/>
                      <p:nvPr/>
                    </p:nvSpPr>
                    <p:spPr>
                      <a:xfrm>
                        <a:off x="3352680" y="4883760"/>
                        <a:ext cx="384840" cy="461520"/>
                      </a:xfrm>
                      <a:custGeom>
                        <a:avLst/>
                        <a:gdLst/>
                        <a:ahLst/>
                        <a:rect l="l" t="t" r="r" b="b"/>
                        <a:pathLst>
                          <a:path w="1379" h="1521">
                            <a:moveTo>
                              <a:pt x="628" y="0"/>
                            </a:moveTo>
                            <a:lnTo>
                              <a:pt x="581" y="94"/>
                            </a:lnTo>
                            <a:lnTo>
                              <a:pt x="474" y="182"/>
                            </a:lnTo>
                            <a:lnTo>
                              <a:pt x="427" y="236"/>
                            </a:lnTo>
                            <a:lnTo>
                              <a:pt x="343" y="360"/>
                            </a:lnTo>
                            <a:lnTo>
                              <a:pt x="272" y="471"/>
                            </a:lnTo>
                            <a:lnTo>
                              <a:pt x="194" y="643"/>
                            </a:lnTo>
                            <a:lnTo>
                              <a:pt x="137" y="781"/>
                            </a:lnTo>
                            <a:lnTo>
                              <a:pt x="94" y="946"/>
                            </a:lnTo>
                            <a:lnTo>
                              <a:pt x="57" y="1105"/>
                            </a:lnTo>
                            <a:lnTo>
                              <a:pt x="20" y="1290"/>
                            </a:lnTo>
                            <a:lnTo>
                              <a:pt x="0" y="1521"/>
                            </a:lnTo>
                            <a:lnTo>
                              <a:pt x="1078" y="1521"/>
                            </a:lnTo>
                            <a:lnTo>
                              <a:pt x="1054" y="1421"/>
                            </a:lnTo>
                            <a:lnTo>
                              <a:pt x="1040" y="1354"/>
                            </a:lnTo>
                            <a:lnTo>
                              <a:pt x="1047" y="1266"/>
                            </a:lnTo>
                            <a:lnTo>
                              <a:pt x="1222" y="1219"/>
                            </a:lnTo>
                            <a:lnTo>
                              <a:pt x="1379" y="1207"/>
                            </a:lnTo>
                            <a:lnTo>
                              <a:pt x="1363" y="1116"/>
                            </a:lnTo>
                            <a:lnTo>
                              <a:pt x="1348" y="982"/>
                            </a:lnTo>
                            <a:lnTo>
                              <a:pt x="1350" y="904"/>
                            </a:lnTo>
                            <a:lnTo>
                              <a:pt x="1228" y="929"/>
                            </a:lnTo>
                            <a:lnTo>
                              <a:pt x="1165" y="939"/>
                            </a:lnTo>
                            <a:lnTo>
                              <a:pt x="1101" y="950"/>
                            </a:lnTo>
                            <a:lnTo>
                              <a:pt x="1067" y="964"/>
                            </a:lnTo>
                            <a:lnTo>
                              <a:pt x="1027" y="821"/>
                            </a:lnTo>
                            <a:lnTo>
                              <a:pt x="1002" y="666"/>
                            </a:lnTo>
                            <a:lnTo>
                              <a:pt x="973" y="532"/>
                            </a:lnTo>
                            <a:lnTo>
                              <a:pt x="946" y="461"/>
                            </a:lnTo>
                            <a:lnTo>
                              <a:pt x="928" y="415"/>
                            </a:lnTo>
                            <a:lnTo>
                              <a:pt x="906" y="350"/>
                            </a:lnTo>
                            <a:lnTo>
                              <a:pt x="867" y="269"/>
                            </a:lnTo>
                            <a:lnTo>
                              <a:pt x="846" y="230"/>
                            </a:lnTo>
                            <a:lnTo>
                              <a:pt x="824" y="193"/>
                            </a:lnTo>
                            <a:lnTo>
                              <a:pt x="796" y="151"/>
                            </a:lnTo>
                            <a:lnTo>
                              <a:pt x="751" y="94"/>
                            </a:lnTo>
                            <a:lnTo>
                              <a:pt x="690" y="45"/>
                            </a:lnTo>
                            <a:lnTo>
                              <a:pt x="628"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535200" y="4750200"/>
                        <a:ext cx="116640" cy="89640"/>
                      </a:xfrm>
                      <a:custGeom>
                        <a:avLst/>
                        <a:gdLst/>
                        <a:ahLst/>
                        <a:rect l="l" t="t" r="r" b="b"/>
                        <a:pathLst>
                          <a:path w="419" h="295">
                            <a:moveTo>
                              <a:pt x="99" y="0"/>
                            </a:moveTo>
                            <a:lnTo>
                              <a:pt x="110" y="8"/>
                            </a:lnTo>
                            <a:lnTo>
                              <a:pt x="125" y="15"/>
                            </a:lnTo>
                            <a:lnTo>
                              <a:pt x="139" y="20"/>
                            </a:lnTo>
                            <a:lnTo>
                              <a:pt x="155" y="25"/>
                            </a:lnTo>
                            <a:lnTo>
                              <a:pt x="179" y="41"/>
                            </a:lnTo>
                            <a:lnTo>
                              <a:pt x="209" y="61"/>
                            </a:lnTo>
                            <a:lnTo>
                              <a:pt x="243" y="84"/>
                            </a:lnTo>
                            <a:lnTo>
                              <a:pt x="300" y="105"/>
                            </a:lnTo>
                            <a:lnTo>
                              <a:pt x="348" y="116"/>
                            </a:lnTo>
                            <a:lnTo>
                              <a:pt x="384" y="121"/>
                            </a:lnTo>
                            <a:lnTo>
                              <a:pt x="404" y="160"/>
                            </a:lnTo>
                            <a:lnTo>
                              <a:pt x="415" y="189"/>
                            </a:lnTo>
                            <a:lnTo>
                              <a:pt x="419" y="227"/>
                            </a:lnTo>
                            <a:lnTo>
                              <a:pt x="407" y="258"/>
                            </a:lnTo>
                            <a:lnTo>
                              <a:pt x="392" y="291"/>
                            </a:lnTo>
                            <a:lnTo>
                              <a:pt x="324" y="267"/>
                            </a:lnTo>
                            <a:lnTo>
                              <a:pt x="320" y="228"/>
                            </a:lnTo>
                            <a:lnTo>
                              <a:pt x="301" y="203"/>
                            </a:lnTo>
                            <a:lnTo>
                              <a:pt x="281" y="190"/>
                            </a:lnTo>
                            <a:lnTo>
                              <a:pt x="262" y="186"/>
                            </a:lnTo>
                            <a:lnTo>
                              <a:pt x="237" y="185"/>
                            </a:lnTo>
                            <a:lnTo>
                              <a:pt x="209" y="198"/>
                            </a:lnTo>
                            <a:lnTo>
                              <a:pt x="189" y="225"/>
                            </a:lnTo>
                            <a:lnTo>
                              <a:pt x="175" y="257"/>
                            </a:lnTo>
                            <a:lnTo>
                              <a:pt x="153" y="281"/>
                            </a:lnTo>
                            <a:lnTo>
                              <a:pt x="128" y="291"/>
                            </a:lnTo>
                            <a:lnTo>
                              <a:pt x="97" y="292"/>
                            </a:lnTo>
                            <a:lnTo>
                              <a:pt x="62" y="294"/>
                            </a:lnTo>
                            <a:lnTo>
                              <a:pt x="41" y="294"/>
                            </a:lnTo>
                            <a:lnTo>
                              <a:pt x="36" y="295"/>
                            </a:lnTo>
                            <a:lnTo>
                              <a:pt x="23" y="275"/>
                            </a:lnTo>
                            <a:lnTo>
                              <a:pt x="9" y="245"/>
                            </a:lnTo>
                            <a:lnTo>
                              <a:pt x="0" y="213"/>
                            </a:lnTo>
                            <a:lnTo>
                              <a:pt x="0" y="180"/>
                            </a:lnTo>
                            <a:lnTo>
                              <a:pt x="3" y="148"/>
                            </a:lnTo>
                            <a:lnTo>
                              <a:pt x="19" y="109"/>
                            </a:lnTo>
                            <a:lnTo>
                              <a:pt x="37" y="72"/>
                            </a:lnTo>
                            <a:lnTo>
                              <a:pt x="59" y="35"/>
                            </a:lnTo>
                            <a:lnTo>
                              <a:pt x="99" y="0"/>
                            </a:lnTo>
                            <a:close/>
                          </a:path>
                        </a:pathLst>
                      </a:custGeom>
                      <a:solidFill>
                        <a:srgbClr val="3f1f00"/>
                      </a:solid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83" name=""/>
                    <p:cNvGrpSpPr/>
                    <p:nvPr/>
                  </p:nvGrpSpPr>
                  <p:grpSpPr>
                    <a:xfrm>
                      <a:off x="3595680" y="4820040"/>
                      <a:ext cx="179640" cy="340200"/>
                      <a:chOff x="3595680" y="4820040"/>
                      <a:chExt cx="179640" cy="340200"/>
                    </a:xfrm>
                  </p:grpSpPr>
                  <p:sp>
                    <p:nvSpPr>
                      <p:cNvPr id="284" name=""/>
                      <p:cNvSpPr/>
                      <p:nvPr/>
                    </p:nvSpPr>
                    <p:spPr>
                      <a:xfrm>
                        <a:off x="3598200" y="4825440"/>
                        <a:ext cx="177120" cy="334800"/>
                      </a:xfrm>
                      <a:custGeom>
                        <a:avLst/>
                        <a:gdLst/>
                        <a:ahLst/>
                        <a:rect l="l" t="t" r="r" b="b"/>
                        <a:pathLst>
                          <a:path w="634" h="1104">
                            <a:moveTo>
                              <a:pt x="0" y="0"/>
                            </a:moveTo>
                            <a:lnTo>
                              <a:pt x="27" y="79"/>
                            </a:lnTo>
                            <a:lnTo>
                              <a:pt x="39" y="170"/>
                            </a:lnTo>
                            <a:lnTo>
                              <a:pt x="56" y="248"/>
                            </a:lnTo>
                            <a:lnTo>
                              <a:pt x="75" y="331"/>
                            </a:lnTo>
                            <a:lnTo>
                              <a:pt x="94" y="405"/>
                            </a:lnTo>
                            <a:lnTo>
                              <a:pt x="141" y="502"/>
                            </a:lnTo>
                            <a:lnTo>
                              <a:pt x="174" y="563"/>
                            </a:lnTo>
                            <a:lnTo>
                              <a:pt x="200" y="636"/>
                            </a:lnTo>
                            <a:lnTo>
                              <a:pt x="216" y="700"/>
                            </a:lnTo>
                            <a:lnTo>
                              <a:pt x="232" y="760"/>
                            </a:lnTo>
                            <a:lnTo>
                              <a:pt x="250" y="840"/>
                            </a:lnTo>
                            <a:lnTo>
                              <a:pt x="261" y="910"/>
                            </a:lnTo>
                            <a:lnTo>
                              <a:pt x="277" y="986"/>
                            </a:lnTo>
                            <a:lnTo>
                              <a:pt x="288" y="1043"/>
                            </a:lnTo>
                            <a:lnTo>
                              <a:pt x="294" y="1066"/>
                            </a:lnTo>
                            <a:lnTo>
                              <a:pt x="313" y="1089"/>
                            </a:lnTo>
                            <a:lnTo>
                              <a:pt x="363" y="1104"/>
                            </a:lnTo>
                            <a:lnTo>
                              <a:pt x="333" y="1098"/>
                            </a:lnTo>
                            <a:lnTo>
                              <a:pt x="388" y="1098"/>
                            </a:lnTo>
                            <a:lnTo>
                              <a:pt x="408" y="1087"/>
                            </a:lnTo>
                            <a:lnTo>
                              <a:pt x="431" y="1062"/>
                            </a:lnTo>
                            <a:lnTo>
                              <a:pt x="456" y="1039"/>
                            </a:lnTo>
                            <a:lnTo>
                              <a:pt x="497" y="1021"/>
                            </a:lnTo>
                            <a:lnTo>
                              <a:pt x="535" y="1019"/>
                            </a:lnTo>
                            <a:lnTo>
                              <a:pt x="572" y="1028"/>
                            </a:lnTo>
                            <a:lnTo>
                              <a:pt x="634" y="1056"/>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95680" y="4820040"/>
                        <a:ext cx="11520" cy="13320"/>
                      </a:xfrm>
                      <a:prstGeom prst="ellipse">
                        <a:avLst/>
                      </a:prstGeom>
                      <a:solidFill>
                        <a:srgbClr val="80808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286" name=""/>
                    <p:cNvSpPr/>
                    <p:nvPr/>
                  </p:nvSpPr>
                  <p:spPr>
                    <a:xfrm>
                      <a:off x="3654360" y="4964400"/>
                      <a:ext cx="5040" cy="69480"/>
                    </a:xfrm>
                    <a:custGeom>
                      <a:avLst/>
                      <a:gdLst/>
                      <a:ahLst/>
                      <a:rect l="l" t="t" r="r" b="b"/>
                      <a:pathLst>
                        <a:path w="16" h="229">
                          <a:moveTo>
                            <a:pt x="0" y="0"/>
                          </a:moveTo>
                          <a:lnTo>
                            <a:pt x="3" y="64"/>
                          </a:lnTo>
                          <a:lnTo>
                            <a:pt x="6" y="135"/>
                          </a:lnTo>
                          <a:lnTo>
                            <a:pt x="16" y="229"/>
                          </a:lnTo>
                        </a:path>
                      </a:pathLst>
                    </a:custGeom>
                    <a:noFill/>
                    <a:ln w="144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87" name=""/>
                  <p:cNvSpPr/>
                  <p:nvPr/>
                </p:nvSpPr>
                <p:spPr>
                  <a:xfrm>
                    <a:off x="3534840" y="5267160"/>
                    <a:ext cx="112320" cy="10080"/>
                  </a:xfrm>
                  <a:custGeom>
                    <a:avLst/>
                    <a:gdLst/>
                    <a:ahLst/>
                    <a:rect l="l" t="t" r="r" b="b"/>
                    <a:pathLst>
                      <a:path w="402" h="35">
                        <a:moveTo>
                          <a:pt x="402" y="0"/>
                        </a:moveTo>
                        <a:lnTo>
                          <a:pt x="304" y="24"/>
                        </a:lnTo>
                        <a:lnTo>
                          <a:pt x="163" y="35"/>
                        </a:lnTo>
                        <a:lnTo>
                          <a:pt x="0" y="35"/>
                        </a:lnTo>
                      </a:path>
                    </a:pathLst>
                  </a:custGeom>
                  <a:noFill/>
                  <a:ln w="64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88" name=""/>
                <p:cNvGrpSpPr/>
                <p:nvPr/>
              </p:nvGrpSpPr>
              <p:grpSpPr>
                <a:xfrm>
                  <a:off x="4648320" y="4800600"/>
                  <a:ext cx="444240" cy="531720"/>
                  <a:chOff x="4648320" y="4800600"/>
                  <a:chExt cx="444240" cy="531720"/>
                </a:xfrm>
              </p:grpSpPr>
              <p:sp>
                <p:nvSpPr>
                  <p:cNvPr id="289" name=""/>
                  <p:cNvSpPr/>
                  <p:nvPr/>
                </p:nvSpPr>
                <p:spPr>
                  <a:xfrm>
                    <a:off x="4663080" y="4950000"/>
                    <a:ext cx="429480" cy="382320"/>
                  </a:xfrm>
                  <a:custGeom>
                    <a:avLst/>
                    <a:gdLst/>
                    <a:ahLst/>
                    <a:rect l="l" t="t" r="r" b="b"/>
                    <a:pathLst>
                      <a:path w="2930" h="2916">
                        <a:moveTo>
                          <a:pt x="1785" y="0"/>
                        </a:moveTo>
                        <a:lnTo>
                          <a:pt x="1856" y="12"/>
                        </a:lnTo>
                        <a:lnTo>
                          <a:pt x="1910" y="107"/>
                        </a:lnTo>
                        <a:lnTo>
                          <a:pt x="2011" y="83"/>
                        </a:lnTo>
                        <a:lnTo>
                          <a:pt x="2113" y="113"/>
                        </a:lnTo>
                        <a:lnTo>
                          <a:pt x="2161" y="209"/>
                        </a:lnTo>
                        <a:lnTo>
                          <a:pt x="2399" y="340"/>
                        </a:lnTo>
                        <a:lnTo>
                          <a:pt x="2568" y="447"/>
                        </a:lnTo>
                        <a:lnTo>
                          <a:pt x="2699" y="561"/>
                        </a:lnTo>
                        <a:lnTo>
                          <a:pt x="2806" y="692"/>
                        </a:lnTo>
                        <a:lnTo>
                          <a:pt x="2885" y="806"/>
                        </a:lnTo>
                        <a:lnTo>
                          <a:pt x="2908" y="984"/>
                        </a:lnTo>
                        <a:lnTo>
                          <a:pt x="2902" y="1164"/>
                        </a:lnTo>
                        <a:lnTo>
                          <a:pt x="2911" y="1385"/>
                        </a:lnTo>
                        <a:lnTo>
                          <a:pt x="2913" y="1565"/>
                        </a:lnTo>
                        <a:lnTo>
                          <a:pt x="2930" y="1798"/>
                        </a:lnTo>
                        <a:lnTo>
                          <a:pt x="2924" y="1935"/>
                        </a:lnTo>
                        <a:lnTo>
                          <a:pt x="2847" y="2109"/>
                        </a:lnTo>
                        <a:lnTo>
                          <a:pt x="2853" y="2157"/>
                        </a:lnTo>
                        <a:lnTo>
                          <a:pt x="2777" y="2369"/>
                        </a:lnTo>
                        <a:lnTo>
                          <a:pt x="2751" y="2389"/>
                        </a:lnTo>
                        <a:lnTo>
                          <a:pt x="2785" y="2916"/>
                        </a:lnTo>
                        <a:lnTo>
                          <a:pt x="879" y="2916"/>
                        </a:lnTo>
                        <a:lnTo>
                          <a:pt x="852" y="2146"/>
                        </a:lnTo>
                        <a:lnTo>
                          <a:pt x="826" y="2012"/>
                        </a:lnTo>
                        <a:lnTo>
                          <a:pt x="729" y="2019"/>
                        </a:lnTo>
                        <a:lnTo>
                          <a:pt x="609" y="2042"/>
                        </a:lnTo>
                        <a:lnTo>
                          <a:pt x="484" y="2025"/>
                        </a:lnTo>
                        <a:lnTo>
                          <a:pt x="418" y="1887"/>
                        </a:lnTo>
                        <a:lnTo>
                          <a:pt x="298" y="1697"/>
                        </a:lnTo>
                        <a:lnTo>
                          <a:pt x="209" y="1409"/>
                        </a:lnTo>
                        <a:lnTo>
                          <a:pt x="108" y="1205"/>
                        </a:lnTo>
                        <a:lnTo>
                          <a:pt x="30" y="1032"/>
                        </a:lnTo>
                        <a:lnTo>
                          <a:pt x="0" y="973"/>
                        </a:lnTo>
                        <a:lnTo>
                          <a:pt x="30" y="871"/>
                        </a:lnTo>
                        <a:lnTo>
                          <a:pt x="89" y="775"/>
                        </a:lnTo>
                        <a:lnTo>
                          <a:pt x="322" y="626"/>
                        </a:lnTo>
                        <a:lnTo>
                          <a:pt x="478" y="645"/>
                        </a:lnTo>
                        <a:lnTo>
                          <a:pt x="543" y="687"/>
                        </a:lnTo>
                        <a:lnTo>
                          <a:pt x="753" y="1080"/>
                        </a:lnTo>
                        <a:lnTo>
                          <a:pt x="865" y="626"/>
                        </a:lnTo>
                        <a:lnTo>
                          <a:pt x="907" y="524"/>
                        </a:lnTo>
                        <a:lnTo>
                          <a:pt x="973" y="465"/>
                        </a:lnTo>
                        <a:lnTo>
                          <a:pt x="1045" y="430"/>
                        </a:lnTo>
                        <a:lnTo>
                          <a:pt x="1164" y="399"/>
                        </a:lnTo>
                        <a:lnTo>
                          <a:pt x="1187" y="315"/>
                        </a:lnTo>
                        <a:lnTo>
                          <a:pt x="1254" y="274"/>
                        </a:lnTo>
                        <a:lnTo>
                          <a:pt x="1785"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827600" y="5004000"/>
                    <a:ext cx="41040" cy="95400"/>
                  </a:xfrm>
                  <a:custGeom>
                    <a:avLst/>
                    <a:gdLst/>
                    <a:ahLst/>
                    <a:rect l="l" t="t" r="r" b="b"/>
                    <a:pathLst>
                      <a:path w="284" h="731">
                        <a:moveTo>
                          <a:pt x="124" y="0"/>
                        </a:moveTo>
                        <a:lnTo>
                          <a:pt x="238" y="17"/>
                        </a:lnTo>
                        <a:lnTo>
                          <a:pt x="284" y="80"/>
                        </a:lnTo>
                        <a:lnTo>
                          <a:pt x="221" y="187"/>
                        </a:lnTo>
                        <a:lnTo>
                          <a:pt x="221" y="249"/>
                        </a:lnTo>
                        <a:lnTo>
                          <a:pt x="221" y="455"/>
                        </a:lnTo>
                        <a:lnTo>
                          <a:pt x="35" y="731"/>
                        </a:lnTo>
                        <a:lnTo>
                          <a:pt x="8" y="527"/>
                        </a:lnTo>
                        <a:lnTo>
                          <a:pt x="0" y="339"/>
                        </a:lnTo>
                        <a:lnTo>
                          <a:pt x="106" y="169"/>
                        </a:lnTo>
                        <a:lnTo>
                          <a:pt x="12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4777560" y="4800600"/>
                    <a:ext cx="161640" cy="200520"/>
                    <a:chOff x="4777560" y="4800600"/>
                    <a:chExt cx="161640" cy="200520"/>
                  </a:xfrm>
                </p:grpSpPr>
                <p:sp>
                  <p:nvSpPr>
                    <p:cNvPr id="292" name=""/>
                    <p:cNvSpPr/>
                    <p:nvPr/>
                  </p:nvSpPr>
                  <p:spPr>
                    <a:xfrm>
                      <a:off x="4784040" y="4800600"/>
                      <a:ext cx="155160" cy="123840"/>
                    </a:xfrm>
                    <a:custGeom>
                      <a:avLst/>
                      <a:gdLst/>
                      <a:ahLst/>
                      <a:rect l="l" t="t" r="r" b="b"/>
                      <a:pathLst>
                        <a:path w="1058" h="943">
                          <a:moveTo>
                            <a:pt x="5" y="326"/>
                          </a:moveTo>
                          <a:lnTo>
                            <a:pt x="0" y="268"/>
                          </a:lnTo>
                          <a:lnTo>
                            <a:pt x="45" y="197"/>
                          </a:lnTo>
                          <a:lnTo>
                            <a:pt x="108" y="131"/>
                          </a:lnTo>
                          <a:lnTo>
                            <a:pt x="193" y="76"/>
                          </a:lnTo>
                          <a:lnTo>
                            <a:pt x="281" y="31"/>
                          </a:lnTo>
                          <a:lnTo>
                            <a:pt x="370" y="5"/>
                          </a:lnTo>
                          <a:lnTo>
                            <a:pt x="514" y="0"/>
                          </a:lnTo>
                          <a:lnTo>
                            <a:pt x="607" y="9"/>
                          </a:lnTo>
                          <a:lnTo>
                            <a:pt x="715" y="36"/>
                          </a:lnTo>
                          <a:lnTo>
                            <a:pt x="816" y="94"/>
                          </a:lnTo>
                          <a:lnTo>
                            <a:pt x="906" y="180"/>
                          </a:lnTo>
                          <a:lnTo>
                            <a:pt x="973" y="263"/>
                          </a:lnTo>
                          <a:lnTo>
                            <a:pt x="1018" y="366"/>
                          </a:lnTo>
                          <a:lnTo>
                            <a:pt x="1041" y="469"/>
                          </a:lnTo>
                          <a:lnTo>
                            <a:pt x="1050" y="582"/>
                          </a:lnTo>
                          <a:lnTo>
                            <a:pt x="1058" y="689"/>
                          </a:lnTo>
                          <a:lnTo>
                            <a:pt x="1041" y="781"/>
                          </a:lnTo>
                          <a:lnTo>
                            <a:pt x="1023" y="843"/>
                          </a:lnTo>
                          <a:lnTo>
                            <a:pt x="987" y="897"/>
                          </a:lnTo>
                          <a:lnTo>
                            <a:pt x="924" y="943"/>
                          </a:lnTo>
                          <a:lnTo>
                            <a:pt x="5" y="326"/>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777560" y="4830120"/>
                      <a:ext cx="151560" cy="171000"/>
                    </a:xfrm>
                    <a:custGeom>
                      <a:avLst/>
                      <a:gdLst/>
                      <a:ahLst/>
                      <a:rect l="l" t="t" r="r" b="b"/>
                      <a:pathLst>
                        <a:path w="1033" h="1305">
                          <a:moveTo>
                            <a:pt x="404" y="10"/>
                          </a:moveTo>
                          <a:lnTo>
                            <a:pt x="303" y="0"/>
                          </a:lnTo>
                          <a:lnTo>
                            <a:pt x="218" y="8"/>
                          </a:lnTo>
                          <a:lnTo>
                            <a:pt x="150" y="25"/>
                          </a:lnTo>
                          <a:lnTo>
                            <a:pt x="109" y="49"/>
                          </a:lnTo>
                          <a:lnTo>
                            <a:pt x="73" y="84"/>
                          </a:lnTo>
                          <a:lnTo>
                            <a:pt x="50" y="117"/>
                          </a:lnTo>
                          <a:lnTo>
                            <a:pt x="19" y="175"/>
                          </a:lnTo>
                          <a:lnTo>
                            <a:pt x="8" y="223"/>
                          </a:lnTo>
                          <a:lnTo>
                            <a:pt x="0" y="269"/>
                          </a:lnTo>
                          <a:lnTo>
                            <a:pt x="3" y="310"/>
                          </a:lnTo>
                          <a:lnTo>
                            <a:pt x="14" y="365"/>
                          </a:lnTo>
                          <a:lnTo>
                            <a:pt x="13" y="412"/>
                          </a:lnTo>
                          <a:lnTo>
                            <a:pt x="5" y="449"/>
                          </a:lnTo>
                          <a:lnTo>
                            <a:pt x="8" y="482"/>
                          </a:lnTo>
                          <a:lnTo>
                            <a:pt x="16" y="509"/>
                          </a:lnTo>
                          <a:lnTo>
                            <a:pt x="41" y="537"/>
                          </a:lnTo>
                          <a:lnTo>
                            <a:pt x="41" y="583"/>
                          </a:lnTo>
                          <a:lnTo>
                            <a:pt x="39" y="618"/>
                          </a:lnTo>
                          <a:lnTo>
                            <a:pt x="36" y="665"/>
                          </a:lnTo>
                          <a:lnTo>
                            <a:pt x="41" y="725"/>
                          </a:lnTo>
                          <a:lnTo>
                            <a:pt x="55" y="771"/>
                          </a:lnTo>
                          <a:lnTo>
                            <a:pt x="87" y="820"/>
                          </a:lnTo>
                          <a:lnTo>
                            <a:pt x="111" y="845"/>
                          </a:lnTo>
                          <a:lnTo>
                            <a:pt x="123" y="872"/>
                          </a:lnTo>
                          <a:lnTo>
                            <a:pt x="137" y="923"/>
                          </a:lnTo>
                          <a:lnTo>
                            <a:pt x="148" y="961"/>
                          </a:lnTo>
                          <a:lnTo>
                            <a:pt x="169" y="988"/>
                          </a:lnTo>
                          <a:lnTo>
                            <a:pt x="175" y="1041"/>
                          </a:lnTo>
                          <a:lnTo>
                            <a:pt x="198" y="1071"/>
                          </a:lnTo>
                          <a:lnTo>
                            <a:pt x="223" y="1082"/>
                          </a:lnTo>
                          <a:lnTo>
                            <a:pt x="255" y="1090"/>
                          </a:lnTo>
                          <a:lnTo>
                            <a:pt x="410" y="1120"/>
                          </a:lnTo>
                          <a:lnTo>
                            <a:pt x="437" y="1199"/>
                          </a:lnTo>
                          <a:lnTo>
                            <a:pt x="450" y="1285"/>
                          </a:lnTo>
                          <a:lnTo>
                            <a:pt x="517" y="1305"/>
                          </a:lnTo>
                          <a:lnTo>
                            <a:pt x="598" y="1262"/>
                          </a:lnTo>
                          <a:lnTo>
                            <a:pt x="807" y="1090"/>
                          </a:lnTo>
                          <a:lnTo>
                            <a:pt x="961" y="1004"/>
                          </a:lnTo>
                          <a:lnTo>
                            <a:pt x="1033" y="963"/>
                          </a:lnTo>
                          <a:lnTo>
                            <a:pt x="1001" y="918"/>
                          </a:lnTo>
                          <a:lnTo>
                            <a:pt x="982" y="876"/>
                          </a:lnTo>
                          <a:lnTo>
                            <a:pt x="970" y="813"/>
                          </a:lnTo>
                          <a:lnTo>
                            <a:pt x="968" y="762"/>
                          </a:lnTo>
                          <a:lnTo>
                            <a:pt x="966" y="708"/>
                          </a:lnTo>
                          <a:lnTo>
                            <a:pt x="959" y="661"/>
                          </a:lnTo>
                          <a:lnTo>
                            <a:pt x="950" y="618"/>
                          </a:lnTo>
                          <a:lnTo>
                            <a:pt x="925" y="575"/>
                          </a:lnTo>
                          <a:lnTo>
                            <a:pt x="932" y="523"/>
                          </a:lnTo>
                          <a:lnTo>
                            <a:pt x="936" y="477"/>
                          </a:lnTo>
                          <a:lnTo>
                            <a:pt x="923" y="414"/>
                          </a:lnTo>
                          <a:lnTo>
                            <a:pt x="900" y="357"/>
                          </a:lnTo>
                          <a:lnTo>
                            <a:pt x="873" y="305"/>
                          </a:lnTo>
                          <a:lnTo>
                            <a:pt x="827" y="290"/>
                          </a:lnTo>
                          <a:lnTo>
                            <a:pt x="747" y="333"/>
                          </a:lnTo>
                          <a:lnTo>
                            <a:pt x="733" y="374"/>
                          </a:lnTo>
                          <a:lnTo>
                            <a:pt x="720" y="449"/>
                          </a:lnTo>
                          <a:lnTo>
                            <a:pt x="658" y="449"/>
                          </a:lnTo>
                          <a:lnTo>
                            <a:pt x="625" y="333"/>
                          </a:lnTo>
                          <a:lnTo>
                            <a:pt x="503" y="248"/>
                          </a:lnTo>
                          <a:lnTo>
                            <a:pt x="559" y="65"/>
                          </a:lnTo>
                          <a:lnTo>
                            <a:pt x="404" y="10"/>
                          </a:lnTo>
                          <a:close/>
                        </a:path>
                      </a:pathLst>
                    </a:custGeom>
                    <a:solidFill>
                      <a:srgbClr val="80400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03480" y="4896000"/>
                      <a:ext cx="19080" cy="5760"/>
                    </a:xfrm>
                    <a:custGeom>
                      <a:avLst/>
                      <a:gdLst/>
                      <a:ahLst/>
                      <a:rect l="l" t="t" r="r" b="b"/>
                      <a:pathLst>
                        <a:path w="134" h="45">
                          <a:moveTo>
                            <a:pt x="18" y="12"/>
                          </a:moveTo>
                          <a:lnTo>
                            <a:pt x="55" y="7"/>
                          </a:lnTo>
                          <a:lnTo>
                            <a:pt x="91" y="11"/>
                          </a:lnTo>
                          <a:lnTo>
                            <a:pt x="134" y="0"/>
                          </a:lnTo>
                          <a:lnTo>
                            <a:pt x="77" y="30"/>
                          </a:lnTo>
                          <a:lnTo>
                            <a:pt x="42" y="45"/>
                          </a:lnTo>
                          <a:lnTo>
                            <a:pt x="25" y="38"/>
                          </a:lnTo>
                          <a:lnTo>
                            <a:pt x="0" y="43"/>
                          </a:lnTo>
                          <a:lnTo>
                            <a:pt x="25" y="30"/>
                          </a:lnTo>
                          <a:lnTo>
                            <a:pt x="18"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5" name=""/>
                    <p:cNvSpPr/>
                    <p:nvPr/>
                  </p:nvSpPr>
                  <p:spPr>
                    <a:xfrm>
                      <a:off x="4780800" y="4901040"/>
                      <a:ext cx="10800" cy="5400"/>
                    </a:xfrm>
                    <a:custGeom>
                      <a:avLst/>
                      <a:gdLst/>
                      <a:ahLst/>
                      <a:rect l="l" t="t" r="r" b="b"/>
                      <a:pathLst>
                        <a:path w="75" h="43">
                          <a:moveTo>
                            <a:pt x="17" y="17"/>
                          </a:moveTo>
                          <a:lnTo>
                            <a:pt x="32" y="5"/>
                          </a:lnTo>
                          <a:lnTo>
                            <a:pt x="56" y="0"/>
                          </a:lnTo>
                          <a:lnTo>
                            <a:pt x="75" y="3"/>
                          </a:lnTo>
                          <a:lnTo>
                            <a:pt x="64" y="33"/>
                          </a:lnTo>
                          <a:lnTo>
                            <a:pt x="35" y="43"/>
                          </a:lnTo>
                          <a:lnTo>
                            <a:pt x="23" y="32"/>
                          </a:lnTo>
                          <a:lnTo>
                            <a:pt x="0" y="43"/>
                          </a:lnTo>
                          <a:lnTo>
                            <a:pt x="17" y="17"/>
                          </a:lnTo>
                          <a:close/>
                        </a:path>
                      </a:pathLst>
                    </a:custGeom>
                    <a:solidFill>
                      <a:srgbClr val="402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6" name=""/>
                    <p:cNvSpPr/>
                    <p:nvPr/>
                  </p:nvSpPr>
                  <p:spPr>
                    <a:xfrm>
                      <a:off x="4793760" y="4933080"/>
                      <a:ext cx="40320" cy="14400"/>
                    </a:xfrm>
                    <a:custGeom>
                      <a:avLst/>
                      <a:gdLst/>
                      <a:ahLst/>
                      <a:rect l="l" t="t" r="r" b="b"/>
                      <a:pathLst>
                        <a:path w="276" h="112">
                          <a:moveTo>
                            <a:pt x="13" y="112"/>
                          </a:moveTo>
                          <a:lnTo>
                            <a:pt x="0" y="79"/>
                          </a:lnTo>
                          <a:lnTo>
                            <a:pt x="6" y="54"/>
                          </a:lnTo>
                          <a:lnTo>
                            <a:pt x="14" y="30"/>
                          </a:lnTo>
                          <a:lnTo>
                            <a:pt x="55" y="35"/>
                          </a:lnTo>
                          <a:lnTo>
                            <a:pt x="75" y="6"/>
                          </a:lnTo>
                          <a:lnTo>
                            <a:pt x="114" y="0"/>
                          </a:lnTo>
                          <a:lnTo>
                            <a:pt x="152" y="3"/>
                          </a:lnTo>
                          <a:lnTo>
                            <a:pt x="187" y="6"/>
                          </a:lnTo>
                          <a:lnTo>
                            <a:pt x="230" y="11"/>
                          </a:lnTo>
                          <a:lnTo>
                            <a:pt x="268" y="20"/>
                          </a:lnTo>
                          <a:lnTo>
                            <a:pt x="276" y="51"/>
                          </a:lnTo>
                          <a:lnTo>
                            <a:pt x="221" y="51"/>
                          </a:lnTo>
                          <a:lnTo>
                            <a:pt x="177" y="48"/>
                          </a:lnTo>
                          <a:lnTo>
                            <a:pt x="135" y="54"/>
                          </a:lnTo>
                          <a:lnTo>
                            <a:pt x="99" y="64"/>
                          </a:lnTo>
                          <a:lnTo>
                            <a:pt x="75" y="84"/>
                          </a:lnTo>
                          <a:lnTo>
                            <a:pt x="35" y="88"/>
                          </a:lnTo>
                          <a:lnTo>
                            <a:pt x="13" y="112"/>
                          </a:lnTo>
                          <a:close/>
                        </a:path>
                      </a:pathLst>
                    </a:custGeom>
                    <a:solidFill>
                      <a:srgbClr val="201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 name=""/>
                    <p:cNvSpPr/>
                    <p:nvPr/>
                  </p:nvSpPr>
                  <p:spPr>
                    <a:xfrm>
                      <a:off x="4798800" y="4942440"/>
                      <a:ext cx="31680" cy="7560"/>
                    </a:xfrm>
                    <a:custGeom>
                      <a:avLst/>
                      <a:gdLst/>
                      <a:ahLst/>
                      <a:rect l="l" t="t" r="r" b="b"/>
                      <a:pathLst>
                        <a:path w="214" h="58">
                          <a:moveTo>
                            <a:pt x="0" y="58"/>
                          </a:moveTo>
                          <a:lnTo>
                            <a:pt x="54" y="44"/>
                          </a:lnTo>
                          <a:lnTo>
                            <a:pt x="81" y="34"/>
                          </a:lnTo>
                          <a:lnTo>
                            <a:pt x="117" y="21"/>
                          </a:lnTo>
                          <a:lnTo>
                            <a:pt x="157" y="14"/>
                          </a:lnTo>
                          <a:lnTo>
                            <a:pt x="214" y="0"/>
                          </a:lnTo>
                          <a:lnTo>
                            <a:pt x="149" y="5"/>
                          </a:lnTo>
                          <a:lnTo>
                            <a:pt x="97" y="16"/>
                          </a:lnTo>
                          <a:lnTo>
                            <a:pt x="53" y="34"/>
                          </a:lnTo>
                          <a:lnTo>
                            <a:pt x="17" y="43"/>
                          </a:lnTo>
                          <a:lnTo>
                            <a:pt x="0" y="58"/>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8" name=""/>
                    <p:cNvSpPr/>
                    <p:nvPr/>
                  </p:nvSpPr>
                  <p:spPr>
                    <a:xfrm>
                      <a:off x="4802040" y="4951440"/>
                      <a:ext cx="21240" cy="5400"/>
                    </a:xfrm>
                    <a:custGeom>
                      <a:avLst/>
                      <a:gdLst/>
                      <a:ahLst/>
                      <a:rect l="l" t="t" r="r" b="b"/>
                      <a:pathLst>
                        <a:path w="148" h="41">
                          <a:moveTo>
                            <a:pt x="0" y="29"/>
                          </a:moveTo>
                          <a:lnTo>
                            <a:pt x="36" y="29"/>
                          </a:lnTo>
                          <a:lnTo>
                            <a:pt x="73" y="23"/>
                          </a:lnTo>
                          <a:lnTo>
                            <a:pt x="148" y="0"/>
                          </a:lnTo>
                          <a:lnTo>
                            <a:pt x="98" y="29"/>
                          </a:lnTo>
                          <a:lnTo>
                            <a:pt x="62" y="39"/>
                          </a:lnTo>
                          <a:lnTo>
                            <a:pt x="27" y="41"/>
                          </a:lnTo>
                          <a:lnTo>
                            <a:pt x="0" y="29"/>
                          </a:lnTo>
                          <a:close/>
                        </a:path>
                      </a:pathLst>
                    </a:custGeom>
                    <a:solidFill>
                      <a:srgbClr val="402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9" name=""/>
                    <p:cNvSpPr/>
                    <p:nvPr/>
                  </p:nvSpPr>
                  <p:spPr>
                    <a:xfrm>
                      <a:off x="4807800" y="4831200"/>
                      <a:ext cx="120960" cy="152280"/>
                    </a:xfrm>
                    <a:custGeom>
                      <a:avLst/>
                      <a:gdLst/>
                      <a:ahLst/>
                      <a:rect l="l" t="t" r="r" b="b"/>
                      <a:pathLst>
                        <a:path w="826" h="1161">
                          <a:moveTo>
                            <a:pt x="136" y="1069"/>
                          </a:moveTo>
                          <a:lnTo>
                            <a:pt x="193" y="1052"/>
                          </a:lnTo>
                          <a:lnTo>
                            <a:pt x="241" y="1022"/>
                          </a:lnTo>
                          <a:lnTo>
                            <a:pt x="287" y="978"/>
                          </a:lnTo>
                          <a:lnTo>
                            <a:pt x="329" y="919"/>
                          </a:lnTo>
                          <a:lnTo>
                            <a:pt x="360" y="857"/>
                          </a:lnTo>
                          <a:lnTo>
                            <a:pt x="372" y="779"/>
                          </a:lnTo>
                          <a:lnTo>
                            <a:pt x="372" y="710"/>
                          </a:lnTo>
                          <a:lnTo>
                            <a:pt x="352" y="674"/>
                          </a:lnTo>
                          <a:lnTo>
                            <a:pt x="325" y="636"/>
                          </a:lnTo>
                          <a:lnTo>
                            <a:pt x="339" y="582"/>
                          </a:lnTo>
                          <a:lnTo>
                            <a:pt x="341" y="528"/>
                          </a:lnTo>
                          <a:lnTo>
                            <a:pt x="324" y="478"/>
                          </a:lnTo>
                          <a:lnTo>
                            <a:pt x="287" y="437"/>
                          </a:lnTo>
                          <a:lnTo>
                            <a:pt x="252" y="410"/>
                          </a:lnTo>
                          <a:lnTo>
                            <a:pt x="206" y="383"/>
                          </a:lnTo>
                          <a:lnTo>
                            <a:pt x="156" y="350"/>
                          </a:lnTo>
                          <a:lnTo>
                            <a:pt x="141" y="296"/>
                          </a:lnTo>
                          <a:lnTo>
                            <a:pt x="137" y="223"/>
                          </a:lnTo>
                          <a:lnTo>
                            <a:pt x="163" y="156"/>
                          </a:lnTo>
                          <a:lnTo>
                            <a:pt x="179" y="95"/>
                          </a:lnTo>
                          <a:lnTo>
                            <a:pt x="195" y="0"/>
                          </a:lnTo>
                          <a:lnTo>
                            <a:pt x="350" y="60"/>
                          </a:lnTo>
                          <a:lnTo>
                            <a:pt x="301" y="243"/>
                          </a:lnTo>
                          <a:lnTo>
                            <a:pt x="419" y="325"/>
                          </a:lnTo>
                          <a:lnTo>
                            <a:pt x="453" y="441"/>
                          </a:lnTo>
                          <a:lnTo>
                            <a:pt x="516" y="440"/>
                          </a:lnTo>
                          <a:lnTo>
                            <a:pt x="524" y="377"/>
                          </a:lnTo>
                          <a:lnTo>
                            <a:pt x="542" y="325"/>
                          </a:lnTo>
                          <a:lnTo>
                            <a:pt x="622" y="283"/>
                          </a:lnTo>
                          <a:lnTo>
                            <a:pt x="665" y="293"/>
                          </a:lnTo>
                          <a:lnTo>
                            <a:pt x="673" y="315"/>
                          </a:lnTo>
                          <a:lnTo>
                            <a:pt x="649" y="358"/>
                          </a:lnTo>
                          <a:lnTo>
                            <a:pt x="655" y="410"/>
                          </a:lnTo>
                          <a:lnTo>
                            <a:pt x="652" y="473"/>
                          </a:lnTo>
                          <a:lnTo>
                            <a:pt x="618" y="506"/>
                          </a:lnTo>
                          <a:lnTo>
                            <a:pt x="618" y="542"/>
                          </a:lnTo>
                          <a:lnTo>
                            <a:pt x="622" y="571"/>
                          </a:lnTo>
                          <a:lnTo>
                            <a:pt x="640" y="601"/>
                          </a:lnTo>
                          <a:lnTo>
                            <a:pt x="668" y="609"/>
                          </a:lnTo>
                          <a:lnTo>
                            <a:pt x="698" y="603"/>
                          </a:lnTo>
                          <a:lnTo>
                            <a:pt x="718" y="574"/>
                          </a:lnTo>
                          <a:lnTo>
                            <a:pt x="742" y="604"/>
                          </a:lnTo>
                          <a:lnTo>
                            <a:pt x="753" y="656"/>
                          </a:lnTo>
                          <a:lnTo>
                            <a:pt x="761" y="705"/>
                          </a:lnTo>
                          <a:lnTo>
                            <a:pt x="763" y="764"/>
                          </a:lnTo>
                          <a:lnTo>
                            <a:pt x="764" y="808"/>
                          </a:lnTo>
                          <a:lnTo>
                            <a:pt x="777" y="872"/>
                          </a:lnTo>
                          <a:lnTo>
                            <a:pt x="794" y="905"/>
                          </a:lnTo>
                          <a:lnTo>
                            <a:pt x="826" y="951"/>
                          </a:lnTo>
                          <a:lnTo>
                            <a:pt x="747" y="1002"/>
                          </a:lnTo>
                          <a:lnTo>
                            <a:pt x="591" y="1090"/>
                          </a:lnTo>
                          <a:lnTo>
                            <a:pt x="580" y="1009"/>
                          </a:lnTo>
                          <a:lnTo>
                            <a:pt x="579" y="943"/>
                          </a:lnTo>
                          <a:lnTo>
                            <a:pt x="587" y="875"/>
                          </a:lnTo>
                          <a:lnTo>
                            <a:pt x="531" y="908"/>
                          </a:lnTo>
                          <a:lnTo>
                            <a:pt x="494" y="951"/>
                          </a:lnTo>
                          <a:lnTo>
                            <a:pt x="479" y="993"/>
                          </a:lnTo>
                          <a:lnTo>
                            <a:pt x="453" y="1066"/>
                          </a:lnTo>
                          <a:lnTo>
                            <a:pt x="419" y="1114"/>
                          </a:lnTo>
                          <a:lnTo>
                            <a:pt x="359" y="1152"/>
                          </a:lnTo>
                          <a:lnTo>
                            <a:pt x="317" y="1161"/>
                          </a:lnTo>
                          <a:lnTo>
                            <a:pt x="282" y="1152"/>
                          </a:lnTo>
                          <a:lnTo>
                            <a:pt x="254" y="1140"/>
                          </a:lnTo>
                          <a:lnTo>
                            <a:pt x="227" y="1112"/>
                          </a:lnTo>
                          <a:lnTo>
                            <a:pt x="204" y="1109"/>
                          </a:lnTo>
                          <a:lnTo>
                            <a:pt x="57" y="1082"/>
                          </a:lnTo>
                          <a:lnTo>
                            <a:pt x="0" y="1065"/>
                          </a:lnTo>
                          <a:lnTo>
                            <a:pt x="82" y="1074"/>
                          </a:lnTo>
                          <a:lnTo>
                            <a:pt x="136" y="1069"/>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798080" y="4881960"/>
                      <a:ext cx="27000" cy="7560"/>
                    </a:xfrm>
                    <a:custGeom>
                      <a:avLst/>
                      <a:gdLst/>
                      <a:ahLst/>
                      <a:rect l="l" t="t" r="r" b="b"/>
                      <a:pathLst>
                        <a:path w="188" h="60">
                          <a:moveTo>
                            <a:pt x="0" y="46"/>
                          </a:moveTo>
                          <a:lnTo>
                            <a:pt x="9" y="60"/>
                          </a:lnTo>
                          <a:lnTo>
                            <a:pt x="39" y="40"/>
                          </a:lnTo>
                          <a:lnTo>
                            <a:pt x="78" y="16"/>
                          </a:lnTo>
                          <a:lnTo>
                            <a:pt x="113" y="11"/>
                          </a:lnTo>
                          <a:lnTo>
                            <a:pt x="188" y="14"/>
                          </a:lnTo>
                          <a:lnTo>
                            <a:pt x="125" y="0"/>
                          </a:lnTo>
                          <a:lnTo>
                            <a:pt x="73" y="2"/>
                          </a:lnTo>
                          <a:lnTo>
                            <a:pt x="27" y="18"/>
                          </a:lnTo>
                          <a:lnTo>
                            <a:pt x="0" y="46"/>
                          </a:lnTo>
                          <a:close/>
                        </a:path>
                      </a:pathLst>
                    </a:custGeom>
                    <a:solidFill>
                      <a:srgbClr val="201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1" name=""/>
                    <p:cNvSpPr/>
                    <p:nvPr/>
                  </p:nvSpPr>
                  <p:spPr>
                    <a:xfrm>
                      <a:off x="4777920" y="4890600"/>
                      <a:ext cx="13320" cy="5400"/>
                    </a:xfrm>
                    <a:custGeom>
                      <a:avLst/>
                      <a:gdLst/>
                      <a:ahLst/>
                      <a:rect l="l" t="t" r="r" b="b"/>
                      <a:pathLst>
                        <a:path w="92" h="42">
                          <a:moveTo>
                            <a:pt x="0" y="27"/>
                          </a:moveTo>
                          <a:lnTo>
                            <a:pt x="31" y="21"/>
                          </a:lnTo>
                          <a:lnTo>
                            <a:pt x="64" y="21"/>
                          </a:lnTo>
                          <a:lnTo>
                            <a:pt x="92" y="42"/>
                          </a:lnTo>
                          <a:lnTo>
                            <a:pt x="76" y="21"/>
                          </a:lnTo>
                          <a:lnTo>
                            <a:pt x="69" y="0"/>
                          </a:lnTo>
                          <a:lnTo>
                            <a:pt x="37" y="4"/>
                          </a:lnTo>
                          <a:lnTo>
                            <a:pt x="0" y="27"/>
                          </a:lnTo>
                          <a:close/>
                        </a:path>
                      </a:pathLst>
                    </a:custGeom>
                    <a:solidFill>
                      <a:srgbClr val="201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2" name=""/>
                    <p:cNvSpPr/>
                    <p:nvPr/>
                  </p:nvSpPr>
                  <p:spPr>
                    <a:xfrm>
                      <a:off x="4784760" y="4898880"/>
                      <a:ext cx="27720" cy="36360"/>
                    </a:xfrm>
                    <a:custGeom>
                      <a:avLst/>
                      <a:gdLst/>
                      <a:ahLst/>
                      <a:rect l="l" t="t" r="r" b="b"/>
                      <a:pathLst>
                        <a:path w="190" h="279">
                          <a:moveTo>
                            <a:pt x="55" y="0"/>
                          </a:moveTo>
                          <a:lnTo>
                            <a:pt x="48" y="58"/>
                          </a:lnTo>
                          <a:lnTo>
                            <a:pt x="32" y="122"/>
                          </a:lnTo>
                          <a:lnTo>
                            <a:pt x="16" y="155"/>
                          </a:lnTo>
                          <a:lnTo>
                            <a:pt x="7" y="179"/>
                          </a:lnTo>
                          <a:lnTo>
                            <a:pt x="5" y="206"/>
                          </a:lnTo>
                          <a:lnTo>
                            <a:pt x="11" y="230"/>
                          </a:lnTo>
                          <a:lnTo>
                            <a:pt x="32" y="254"/>
                          </a:lnTo>
                          <a:lnTo>
                            <a:pt x="55" y="263"/>
                          </a:lnTo>
                          <a:lnTo>
                            <a:pt x="80" y="263"/>
                          </a:lnTo>
                          <a:lnTo>
                            <a:pt x="96" y="254"/>
                          </a:lnTo>
                          <a:lnTo>
                            <a:pt x="102" y="241"/>
                          </a:lnTo>
                          <a:lnTo>
                            <a:pt x="115" y="227"/>
                          </a:lnTo>
                          <a:lnTo>
                            <a:pt x="134" y="222"/>
                          </a:lnTo>
                          <a:lnTo>
                            <a:pt x="163" y="222"/>
                          </a:lnTo>
                          <a:lnTo>
                            <a:pt x="174" y="216"/>
                          </a:lnTo>
                          <a:lnTo>
                            <a:pt x="179" y="202"/>
                          </a:lnTo>
                          <a:lnTo>
                            <a:pt x="171" y="188"/>
                          </a:lnTo>
                          <a:lnTo>
                            <a:pt x="152" y="174"/>
                          </a:lnTo>
                          <a:lnTo>
                            <a:pt x="185" y="187"/>
                          </a:lnTo>
                          <a:lnTo>
                            <a:pt x="190" y="199"/>
                          </a:lnTo>
                          <a:lnTo>
                            <a:pt x="190" y="219"/>
                          </a:lnTo>
                          <a:lnTo>
                            <a:pt x="177" y="230"/>
                          </a:lnTo>
                          <a:lnTo>
                            <a:pt x="157" y="236"/>
                          </a:lnTo>
                          <a:lnTo>
                            <a:pt x="143" y="238"/>
                          </a:lnTo>
                          <a:lnTo>
                            <a:pt x="126" y="254"/>
                          </a:lnTo>
                          <a:lnTo>
                            <a:pt x="115" y="273"/>
                          </a:lnTo>
                          <a:lnTo>
                            <a:pt x="96" y="279"/>
                          </a:lnTo>
                          <a:lnTo>
                            <a:pt x="84" y="277"/>
                          </a:lnTo>
                          <a:lnTo>
                            <a:pt x="64" y="273"/>
                          </a:lnTo>
                          <a:lnTo>
                            <a:pt x="43" y="268"/>
                          </a:lnTo>
                          <a:lnTo>
                            <a:pt x="34" y="265"/>
                          </a:lnTo>
                          <a:lnTo>
                            <a:pt x="23" y="259"/>
                          </a:lnTo>
                          <a:lnTo>
                            <a:pt x="11" y="241"/>
                          </a:lnTo>
                          <a:lnTo>
                            <a:pt x="2" y="230"/>
                          </a:lnTo>
                          <a:lnTo>
                            <a:pt x="0" y="209"/>
                          </a:lnTo>
                          <a:lnTo>
                            <a:pt x="0" y="193"/>
                          </a:lnTo>
                          <a:lnTo>
                            <a:pt x="2" y="174"/>
                          </a:lnTo>
                          <a:lnTo>
                            <a:pt x="13" y="149"/>
                          </a:lnTo>
                          <a:lnTo>
                            <a:pt x="27" y="114"/>
                          </a:lnTo>
                          <a:lnTo>
                            <a:pt x="37" y="81"/>
                          </a:lnTo>
                          <a:lnTo>
                            <a:pt x="55" y="0"/>
                          </a:lnTo>
                          <a:close/>
                        </a:path>
                      </a:pathLst>
                    </a:custGeom>
                    <a:solidFill>
                      <a:srgbClr val="402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a:off x="4798080" y="4920120"/>
                      <a:ext cx="6840" cy="3240"/>
                    </a:xfrm>
                    <a:custGeom>
                      <a:avLst/>
                      <a:gdLst/>
                      <a:ahLst/>
                      <a:rect l="l" t="t" r="r" b="b"/>
                      <a:pathLst>
                        <a:path w="50" h="27">
                          <a:moveTo>
                            <a:pt x="0" y="27"/>
                          </a:moveTo>
                          <a:lnTo>
                            <a:pt x="9" y="0"/>
                          </a:lnTo>
                          <a:lnTo>
                            <a:pt x="21" y="12"/>
                          </a:lnTo>
                          <a:lnTo>
                            <a:pt x="50" y="9"/>
                          </a:lnTo>
                          <a:lnTo>
                            <a:pt x="15" y="21"/>
                          </a:lnTo>
                          <a:lnTo>
                            <a:pt x="0" y="27"/>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4" name=""/>
                    <p:cNvSpPr/>
                    <p:nvPr/>
                  </p:nvSpPr>
                  <p:spPr>
                    <a:xfrm>
                      <a:off x="4813920" y="4922280"/>
                      <a:ext cx="25920" cy="17640"/>
                    </a:xfrm>
                    <a:custGeom>
                      <a:avLst/>
                      <a:gdLst/>
                      <a:ahLst/>
                      <a:rect l="l" t="t" r="r" b="b"/>
                      <a:pathLst>
                        <a:path w="178" h="134">
                          <a:moveTo>
                            <a:pt x="0" y="0"/>
                          </a:moveTo>
                          <a:lnTo>
                            <a:pt x="30" y="24"/>
                          </a:lnTo>
                          <a:lnTo>
                            <a:pt x="56" y="29"/>
                          </a:lnTo>
                          <a:lnTo>
                            <a:pt x="100" y="32"/>
                          </a:lnTo>
                          <a:lnTo>
                            <a:pt x="127" y="42"/>
                          </a:lnTo>
                          <a:lnTo>
                            <a:pt x="151" y="61"/>
                          </a:lnTo>
                          <a:lnTo>
                            <a:pt x="169" y="85"/>
                          </a:lnTo>
                          <a:lnTo>
                            <a:pt x="178" y="112"/>
                          </a:lnTo>
                          <a:lnTo>
                            <a:pt x="178" y="134"/>
                          </a:lnTo>
                          <a:lnTo>
                            <a:pt x="162" y="99"/>
                          </a:lnTo>
                          <a:lnTo>
                            <a:pt x="148" y="77"/>
                          </a:lnTo>
                          <a:lnTo>
                            <a:pt x="130" y="57"/>
                          </a:lnTo>
                          <a:lnTo>
                            <a:pt x="103" y="42"/>
                          </a:lnTo>
                          <a:lnTo>
                            <a:pt x="76" y="37"/>
                          </a:lnTo>
                          <a:lnTo>
                            <a:pt x="35" y="33"/>
                          </a:lnTo>
                          <a:lnTo>
                            <a:pt x="22" y="29"/>
                          </a:lnTo>
                          <a:lnTo>
                            <a:pt x="0" y="0"/>
                          </a:lnTo>
                          <a:close/>
                        </a:path>
                      </a:pathLst>
                    </a:custGeom>
                    <a:solidFill>
                      <a:srgbClr val="402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5" name=""/>
                    <p:cNvSpPr/>
                    <p:nvPr/>
                  </p:nvSpPr>
                  <p:spPr>
                    <a:xfrm>
                      <a:off x="4845960" y="4923720"/>
                      <a:ext cx="4320" cy="14040"/>
                    </a:xfrm>
                    <a:custGeom>
                      <a:avLst/>
                      <a:gdLst/>
                      <a:ahLst/>
                      <a:rect l="l" t="t" r="r" b="b"/>
                      <a:pathLst>
                        <a:path w="31" h="108">
                          <a:moveTo>
                            <a:pt x="15" y="0"/>
                          </a:moveTo>
                          <a:lnTo>
                            <a:pt x="15" y="51"/>
                          </a:lnTo>
                          <a:lnTo>
                            <a:pt x="0" y="108"/>
                          </a:lnTo>
                          <a:lnTo>
                            <a:pt x="25" y="75"/>
                          </a:lnTo>
                          <a:lnTo>
                            <a:pt x="31" y="44"/>
                          </a:lnTo>
                          <a:lnTo>
                            <a:pt x="15" y="0"/>
                          </a:lnTo>
                          <a:close/>
                        </a:path>
                      </a:pathLst>
                    </a:custGeom>
                    <a:solidFill>
                      <a:srgbClr val="402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6" name=""/>
                    <p:cNvSpPr/>
                    <p:nvPr/>
                  </p:nvSpPr>
                  <p:spPr>
                    <a:xfrm>
                      <a:off x="4782960" y="4896360"/>
                      <a:ext cx="7200" cy="2880"/>
                    </a:xfrm>
                    <a:custGeom>
                      <a:avLst/>
                      <a:gdLst/>
                      <a:ahLst/>
                      <a:rect l="l" t="t" r="r" b="b"/>
                      <a:pathLst>
                        <a:path w="51" h="22">
                          <a:moveTo>
                            <a:pt x="51" y="7"/>
                          </a:moveTo>
                          <a:lnTo>
                            <a:pt x="25" y="7"/>
                          </a:lnTo>
                          <a:lnTo>
                            <a:pt x="9" y="17"/>
                          </a:lnTo>
                          <a:lnTo>
                            <a:pt x="0" y="22"/>
                          </a:lnTo>
                          <a:lnTo>
                            <a:pt x="7" y="6"/>
                          </a:lnTo>
                          <a:lnTo>
                            <a:pt x="23" y="0"/>
                          </a:lnTo>
                          <a:lnTo>
                            <a:pt x="51" y="7"/>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7" name=""/>
                    <p:cNvSpPr/>
                    <p:nvPr/>
                  </p:nvSpPr>
                  <p:spPr>
                    <a:xfrm>
                      <a:off x="4804200" y="4891320"/>
                      <a:ext cx="14760" cy="3240"/>
                    </a:xfrm>
                    <a:custGeom>
                      <a:avLst/>
                      <a:gdLst/>
                      <a:ahLst/>
                      <a:rect l="l" t="t" r="r" b="b"/>
                      <a:pathLst>
                        <a:path w="101" h="27">
                          <a:moveTo>
                            <a:pt x="0" y="27"/>
                          </a:moveTo>
                          <a:lnTo>
                            <a:pt x="0" y="10"/>
                          </a:lnTo>
                          <a:lnTo>
                            <a:pt x="37" y="8"/>
                          </a:lnTo>
                          <a:lnTo>
                            <a:pt x="55" y="7"/>
                          </a:lnTo>
                          <a:lnTo>
                            <a:pt x="73" y="7"/>
                          </a:lnTo>
                          <a:lnTo>
                            <a:pt x="101" y="13"/>
                          </a:lnTo>
                          <a:lnTo>
                            <a:pt x="101" y="0"/>
                          </a:lnTo>
                          <a:lnTo>
                            <a:pt x="64" y="0"/>
                          </a:lnTo>
                          <a:lnTo>
                            <a:pt x="30" y="7"/>
                          </a:lnTo>
                          <a:lnTo>
                            <a:pt x="0" y="27"/>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8" name=""/>
                    <p:cNvSpPr/>
                    <p:nvPr/>
                  </p:nvSpPr>
                  <p:spPr>
                    <a:xfrm>
                      <a:off x="4902840" y="4873680"/>
                      <a:ext cx="6840" cy="29520"/>
                    </a:xfrm>
                    <a:custGeom>
                      <a:avLst/>
                      <a:gdLst/>
                      <a:ahLst/>
                      <a:rect l="l" t="t" r="r" b="b"/>
                      <a:pathLst>
                        <a:path w="49" h="224">
                          <a:moveTo>
                            <a:pt x="38" y="224"/>
                          </a:moveTo>
                          <a:lnTo>
                            <a:pt x="14" y="205"/>
                          </a:lnTo>
                          <a:lnTo>
                            <a:pt x="8" y="188"/>
                          </a:lnTo>
                          <a:lnTo>
                            <a:pt x="28" y="172"/>
                          </a:lnTo>
                          <a:lnTo>
                            <a:pt x="34" y="135"/>
                          </a:lnTo>
                          <a:lnTo>
                            <a:pt x="29" y="88"/>
                          </a:lnTo>
                          <a:lnTo>
                            <a:pt x="23" y="59"/>
                          </a:lnTo>
                          <a:lnTo>
                            <a:pt x="0" y="14"/>
                          </a:lnTo>
                          <a:lnTo>
                            <a:pt x="6" y="0"/>
                          </a:lnTo>
                          <a:lnTo>
                            <a:pt x="28" y="41"/>
                          </a:lnTo>
                          <a:lnTo>
                            <a:pt x="40" y="73"/>
                          </a:lnTo>
                          <a:lnTo>
                            <a:pt x="46" y="129"/>
                          </a:lnTo>
                          <a:lnTo>
                            <a:pt x="46" y="166"/>
                          </a:lnTo>
                          <a:lnTo>
                            <a:pt x="49" y="181"/>
                          </a:lnTo>
                          <a:lnTo>
                            <a:pt x="38" y="224"/>
                          </a:lnTo>
                          <a:close/>
                        </a:path>
                      </a:pathLst>
                    </a:custGeom>
                    <a:solidFill>
                      <a:srgbClr val="402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309" name=""/>
                  <p:cNvGrpSpPr/>
                  <p:nvPr/>
                </p:nvGrpSpPr>
                <p:grpSpPr>
                  <a:xfrm>
                    <a:off x="4648320" y="4937040"/>
                    <a:ext cx="93960" cy="123840"/>
                    <a:chOff x="4648320" y="4937040"/>
                    <a:chExt cx="93960" cy="123840"/>
                  </a:xfrm>
                </p:grpSpPr>
                <p:sp>
                  <p:nvSpPr>
                    <p:cNvPr id="310" name=""/>
                    <p:cNvSpPr/>
                    <p:nvPr/>
                  </p:nvSpPr>
                  <p:spPr>
                    <a:xfrm>
                      <a:off x="4648320" y="4937040"/>
                      <a:ext cx="93960" cy="123840"/>
                    </a:xfrm>
                    <a:custGeom>
                      <a:avLst/>
                      <a:gdLst/>
                      <a:ahLst/>
                      <a:rect l="l" t="t" r="r" b="b"/>
                      <a:pathLst>
                        <a:path w="641" h="943">
                          <a:moveTo>
                            <a:pt x="261" y="797"/>
                          </a:moveTo>
                          <a:lnTo>
                            <a:pt x="264" y="864"/>
                          </a:lnTo>
                          <a:lnTo>
                            <a:pt x="280" y="889"/>
                          </a:lnTo>
                          <a:lnTo>
                            <a:pt x="307" y="913"/>
                          </a:lnTo>
                          <a:lnTo>
                            <a:pt x="336" y="931"/>
                          </a:lnTo>
                          <a:lnTo>
                            <a:pt x="367" y="938"/>
                          </a:lnTo>
                          <a:lnTo>
                            <a:pt x="403" y="941"/>
                          </a:lnTo>
                          <a:lnTo>
                            <a:pt x="438" y="943"/>
                          </a:lnTo>
                          <a:lnTo>
                            <a:pt x="479" y="943"/>
                          </a:lnTo>
                          <a:lnTo>
                            <a:pt x="510" y="931"/>
                          </a:lnTo>
                          <a:lnTo>
                            <a:pt x="542" y="907"/>
                          </a:lnTo>
                          <a:lnTo>
                            <a:pt x="569" y="878"/>
                          </a:lnTo>
                          <a:lnTo>
                            <a:pt x="586" y="846"/>
                          </a:lnTo>
                          <a:lnTo>
                            <a:pt x="588" y="808"/>
                          </a:lnTo>
                          <a:lnTo>
                            <a:pt x="564" y="750"/>
                          </a:lnTo>
                          <a:lnTo>
                            <a:pt x="572" y="707"/>
                          </a:lnTo>
                          <a:lnTo>
                            <a:pt x="597" y="665"/>
                          </a:lnTo>
                          <a:lnTo>
                            <a:pt x="618" y="620"/>
                          </a:lnTo>
                          <a:lnTo>
                            <a:pt x="629" y="582"/>
                          </a:lnTo>
                          <a:lnTo>
                            <a:pt x="638" y="556"/>
                          </a:lnTo>
                          <a:lnTo>
                            <a:pt x="641" y="519"/>
                          </a:lnTo>
                          <a:lnTo>
                            <a:pt x="635" y="472"/>
                          </a:lnTo>
                          <a:lnTo>
                            <a:pt x="640" y="423"/>
                          </a:lnTo>
                          <a:lnTo>
                            <a:pt x="635" y="392"/>
                          </a:lnTo>
                          <a:lnTo>
                            <a:pt x="618" y="369"/>
                          </a:lnTo>
                          <a:lnTo>
                            <a:pt x="591" y="341"/>
                          </a:lnTo>
                          <a:lnTo>
                            <a:pt x="570" y="314"/>
                          </a:lnTo>
                          <a:lnTo>
                            <a:pt x="540" y="304"/>
                          </a:lnTo>
                          <a:lnTo>
                            <a:pt x="499" y="271"/>
                          </a:lnTo>
                          <a:lnTo>
                            <a:pt x="474" y="251"/>
                          </a:lnTo>
                          <a:lnTo>
                            <a:pt x="445" y="226"/>
                          </a:lnTo>
                          <a:lnTo>
                            <a:pt x="432" y="193"/>
                          </a:lnTo>
                          <a:lnTo>
                            <a:pt x="420" y="155"/>
                          </a:lnTo>
                          <a:lnTo>
                            <a:pt x="400" y="145"/>
                          </a:lnTo>
                          <a:lnTo>
                            <a:pt x="378" y="149"/>
                          </a:lnTo>
                          <a:lnTo>
                            <a:pt x="357" y="164"/>
                          </a:lnTo>
                          <a:lnTo>
                            <a:pt x="346" y="181"/>
                          </a:lnTo>
                          <a:lnTo>
                            <a:pt x="335" y="230"/>
                          </a:lnTo>
                          <a:lnTo>
                            <a:pt x="301" y="185"/>
                          </a:lnTo>
                          <a:lnTo>
                            <a:pt x="291" y="148"/>
                          </a:lnTo>
                          <a:lnTo>
                            <a:pt x="275" y="121"/>
                          </a:lnTo>
                          <a:lnTo>
                            <a:pt x="259" y="96"/>
                          </a:lnTo>
                          <a:lnTo>
                            <a:pt x="291" y="80"/>
                          </a:lnTo>
                          <a:lnTo>
                            <a:pt x="313" y="60"/>
                          </a:lnTo>
                          <a:lnTo>
                            <a:pt x="316" y="36"/>
                          </a:lnTo>
                          <a:lnTo>
                            <a:pt x="307" y="11"/>
                          </a:lnTo>
                          <a:lnTo>
                            <a:pt x="280" y="0"/>
                          </a:lnTo>
                          <a:lnTo>
                            <a:pt x="244" y="0"/>
                          </a:lnTo>
                          <a:lnTo>
                            <a:pt x="207" y="22"/>
                          </a:lnTo>
                          <a:lnTo>
                            <a:pt x="172" y="30"/>
                          </a:lnTo>
                          <a:lnTo>
                            <a:pt x="146" y="47"/>
                          </a:lnTo>
                          <a:lnTo>
                            <a:pt x="147" y="94"/>
                          </a:lnTo>
                          <a:lnTo>
                            <a:pt x="119" y="101"/>
                          </a:lnTo>
                          <a:lnTo>
                            <a:pt x="89" y="105"/>
                          </a:lnTo>
                          <a:lnTo>
                            <a:pt x="65" y="134"/>
                          </a:lnTo>
                          <a:lnTo>
                            <a:pt x="62" y="164"/>
                          </a:lnTo>
                          <a:lnTo>
                            <a:pt x="68" y="220"/>
                          </a:lnTo>
                          <a:lnTo>
                            <a:pt x="54" y="240"/>
                          </a:lnTo>
                          <a:lnTo>
                            <a:pt x="45" y="262"/>
                          </a:lnTo>
                          <a:lnTo>
                            <a:pt x="56" y="285"/>
                          </a:lnTo>
                          <a:lnTo>
                            <a:pt x="24" y="303"/>
                          </a:lnTo>
                          <a:lnTo>
                            <a:pt x="11" y="330"/>
                          </a:lnTo>
                          <a:lnTo>
                            <a:pt x="11" y="355"/>
                          </a:lnTo>
                          <a:lnTo>
                            <a:pt x="20" y="383"/>
                          </a:lnTo>
                          <a:lnTo>
                            <a:pt x="8" y="406"/>
                          </a:lnTo>
                          <a:lnTo>
                            <a:pt x="0" y="428"/>
                          </a:lnTo>
                          <a:lnTo>
                            <a:pt x="2" y="456"/>
                          </a:lnTo>
                          <a:lnTo>
                            <a:pt x="8" y="477"/>
                          </a:lnTo>
                          <a:lnTo>
                            <a:pt x="27" y="494"/>
                          </a:lnTo>
                          <a:lnTo>
                            <a:pt x="46" y="529"/>
                          </a:lnTo>
                          <a:lnTo>
                            <a:pt x="62" y="584"/>
                          </a:lnTo>
                          <a:lnTo>
                            <a:pt x="73" y="609"/>
                          </a:lnTo>
                          <a:lnTo>
                            <a:pt x="104" y="650"/>
                          </a:lnTo>
                          <a:lnTo>
                            <a:pt x="136" y="665"/>
                          </a:lnTo>
                          <a:lnTo>
                            <a:pt x="170" y="686"/>
                          </a:lnTo>
                          <a:lnTo>
                            <a:pt x="195" y="720"/>
                          </a:lnTo>
                          <a:lnTo>
                            <a:pt x="217" y="755"/>
                          </a:lnTo>
                          <a:lnTo>
                            <a:pt x="237" y="779"/>
                          </a:lnTo>
                          <a:lnTo>
                            <a:pt x="261" y="797"/>
                          </a:lnTo>
                          <a:close/>
                        </a:path>
                      </a:pathLst>
                    </a:custGeom>
                    <a:solidFill>
                      <a:srgbClr val="80400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655520" y="4951800"/>
                      <a:ext cx="45360" cy="59040"/>
                    </a:xfrm>
                    <a:custGeom>
                      <a:avLst/>
                      <a:gdLst/>
                      <a:ahLst/>
                      <a:rect l="l" t="t" r="r" b="b"/>
                      <a:pathLst>
                        <a:path w="309" h="452">
                          <a:moveTo>
                            <a:pt x="116" y="0"/>
                          </a:moveTo>
                          <a:lnTo>
                            <a:pt x="158" y="22"/>
                          </a:lnTo>
                          <a:lnTo>
                            <a:pt x="203" y="68"/>
                          </a:lnTo>
                          <a:lnTo>
                            <a:pt x="228" y="94"/>
                          </a:lnTo>
                          <a:lnTo>
                            <a:pt x="262" y="130"/>
                          </a:lnTo>
                          <a:lnTo>
                            <a:pt x="262" y="160"/>
                          </a:lnTo>
                          <a:lnTo>
                            <a:pt x="253" y="189"/>
                          </a:lnTo>
                          <a:lnTo>
                            <a:pt x="225" y="198"/>
                          </a:lnTo>
                          <a:lnTo>
                            <a:pt x="196" y="189"/>
                          </a:lnTo>
                          <a:lnTo>
                            <a:pt x="176" y="173"/>
                          </a:lnTo>
                          <a:lnTo>
                            <a:pt x="146" y="149"/>
                          </a:lnTo>
                          <a:lnTo>
                            <a:pt x="100" y="122"/>
                          </a:lnTo>
                          <a:lnTo>
                            <a:pt x="68" y="109"/>
                          </a:lnTo>
                          <a:lnTo>
                            <a:pt x="76" y="151"/>
                          </a:lnTo>
                          <a:lnTo>
                            <a:pt x="76" y="182"/>
                          </a:lnTo>
                          <a:lnTo>
                            <a:pt x="155" y="200"/>
                          </a:lnTo>
                          <a:lnTo>
                            <a:pt x="176" y="212"/>
                          </a:lnTo>
                          <a:lnTo>
                            <a:pt x="196" y="227"/>
                          </a:lnTo>
                          <a:lnTo>
                            <a:pt x="230" y="256"/>
                          </a:lnTo>
                          <a:lnTo>
                            <a:pt x="292" y="299"/>
                          </a:lnTo>
                          <a:lnTo>
                            <a:pt x="298" y="323"/>
                          </a:lnTo>
                          <a:lnTo>
                            <a:pt x="279" y="371"/>
                          </a:lnTo>
                          <a:lnTo>
                            <a:pt x="231" y="369"/>
                          </a:lnTo>
                          <a:lnTo>
                            <a:pt x="260" y="385"/>
                          </a:lnTo>
                          <a:lnTo>
                            <a:pt x="262" y="404"/>
                          </a:lnTo>
                          <a:lnTo>
                            <a:pt x="249" y="434"/>
                          </a:lnTo>
                          <a:lnTo>
                            <a:pt x="214" y="439"/>
                          </a:lnTo>
                          <a:lnTo>
                            <a:pt x="155" y="425"/>
                          </a:lnTo>
                          <a:lnTo>
                            <a:pt x="113" y="396"/>
                          </a:lnTo>
                          <a:lnTo>
                            <a:pt x="58" y="385"/>
                          </a:lnTo>
                          <a:lnTo>
                            <a:pt x="0" y="380"/>
                          </a:lnTo>
                          <a:lnTo>
                            <a:pt x="54" y="391"/>
                          </a:lnTo>
                          <a:lnTo>
                            <a:pt x="60" y="409"/>
                          </a:lnTo>
                          <a:lnTo>
                            <a:pt x="43" y="434"/>
                          </a:lnTo>
                          <a:lnTo>
                            <a:pt x="30" y="447"/>
                          </a:lnTo>
                          <a:lnTo>
                            <a:pt x="69" y="428"/>
                          </a:lnTo>
                          <a:lnTo>
                            <a:pt x="86" y="407"/>
                          </a:lnTo>
                          <a:lnTo>
                            <a:pt x="131" y="425"/>
                          </a:lnTo>
                          <a:lnTo>
                            <a:pt x="181" y="443"/>
                          </a:lnTo>
                          <a:lnTo>
                            <a:pt x="228" y="452"/>
                          </a:lnTo>
                          <a:lnTo>
                            <a:pt x="257" y="441"/>
                          </a:lnTo>
                          <a:lnTo>
                            <a:pt x="268" y="420"/>
                          </a:lnTo>
                          <a:lnTo>
                            <a:pt x="268" y="385"/>
                          </a:lnTo>
                          <a:lnTo>
                            <a:pt x="289" y="376"/>
                          </a:lnTo>
                          <a:lnTo>
                            <a:pt x="300" y="360"/>
                          </a:lnTo>
                          <a:lnTo>
                            <a:pt x="309" y="339"/>
                          </a:lnTo>
                          <a:lnTo>
                            <a:pt x="303" y="301"/>
                          </a:lnTo>
                          <a:lnTo>
                            <a:pt x="265" y="272"/>
                          </a:lnTo>
                          <a:lnTo>
                            <a:pt x="249" y="236"/>
                          </a:lnTo>
                          <a:lnTo>
                            <a:pt x="253" y="196"/>
                          </a:lnTo>
                          <a:lnTo>
                            <a:pt x="276" y="171"/>
                          </a:lnTo>
                          <a:lnTo>
                            <a:pt x="276" y="149"/>
                          </a:lnTo>
                          <a:lnTo>
                            <a:pt x="265" y="112"/>
                          </a:lnTo>
                          <a:lnTo>
                            <a:pt x="217" y="65"/>
                          </a:lnTo>
                          <a:lnTo>
                            <a:pt x="169" y="20"/>
                          </a:lnTo>
                          <a:lnTo>
                            <a:pt x="116" y="0"/>
                          </a:lnTo>
                          <a:close/>
                        </a:path>
                      </a:pathLst>
                    </a:custGeom>
                    <a:solidFill>
                      <a:srgbClr val="402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2" name=""/>
                    <p:cNvSpPr/>
                    <p:nvPr/>
                  </p:nvSpPr>
                  <p:spPr>
                    <a:xfrm>
                      <a:off x="4681080" y="4938480"/>
                      <a:ext cx="6120" cy="4680"/>
                    </a:xfrm>
                    <a:custGeom>
                      <a:avLst/>
                      <a:gdLst/>
                      <a:ahLst/>
                      <a:rect l="l" t="t" r="r" b="b"/>
                      <a:pathLst>
                        <a:path w="40" h="36">
                          <a:moveTo>
                            <a:pt x="40" y="0"/>
                          </a:moveTo>
                          <a:lnTo>
                            <a:pt x="23" y="9"/>
                          </a:lnTo>
                          <a:lnTo>
                            <a:pt x="10" y="21"/>
                          </a:lnTo>
                          <a:lnTo>
                            <a:pt x="15" y="36"/>
                          </a:lnTo>
                          <a:lnTo>
                            <a:pt x="0" y="29"/>
                          </a:lnTo>
                          <a:lnTo>
                            <a:pt x="8" y="6"/>
                          </a:lnTo>
                          <a:lnTo>
                            <a:pt x="40"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 name=""/>
                    <p:cNvSpPr/>
                    <p:nvPr/>
                  </p:nvSpPr>
                  <p:spPr>
                    <a:xfrm>
                      <a:off x="4682160" y="4965120"/>
                      <a:ext cx="7560" cy="7200"/>
                    </a:xfrm>
                    <a:custGeom>
                      <a:avLst/>
                      <a:gdLst/>
                      <a:ahLst/>
                      <a:rect l="l" t="t" r="r" b="b"/>
                      <a:pathLst>
                        <a:path w="55" h="56">
                          <a:moveTo>
                            <a:pt x="55" y="11"/>
                          </a:moveTo>
                          <a:lnTo>
                            <a:pt x="27" y="0"/>
                          </a:lnTo>
                          <a:lnTo>
                            <a:pt x="3" y="4"/>
                          </a:lnTo>
                          <a:lnTo>
                            <a:pt x="0" y="24"/>
                          </a:lnTo>
                          <a:lnTo>
                            <a:pt x="6" y="56"/>
                          </a:lnTo>
                          <a:lnTo>
                            <a:pt x="11" y="19"/>
                          </a:lnTo>
                          <a:lnTo>
                            <a:pt x="18" y="11"/>
                          </a:lnTo>
                          <a:lnTo>
                            <a:pt x="55" y="11"/>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4" name=""/>
                    <p:cNvSpPr/>
                    <p:nvPr/>
                  </p:nvSpPr>
                  <p:spPr>
                    <a:xfrm>
                      <a:off x="4688640" y="4991400"/>
                      <a:ext cx="2880" cy="5760"/>
                    </a:xfrm>
                    <a:custGeom>
                      <a:avLst/>
                      <a:gdLst/>
                      <a:ahLst/>
                      <a:rect l="l" t="t" r="r" b="b"/>
                      <a:pathLst>
                        <a:path w="22" h="45">
                          <a:moveTo>
                            <a:pt x="22" y="0"/>
                          </a:moveTo>
                          <a:lnTo>
                            <a:pt x="6" y="3"/>
                          </a:lnTo>
                          <a:lnTo>
                            <a:pt x="0" y="16"/>
                          </a:lnTo>
                          <a:lnTo>
                            <a:pt x="5" y="45"/>
                          </a:lnTo>
                          <a:lnTo>
                            <a:pt x="2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15" name=""/>
                    <p:cNvSpPr/>
                    <p:nvPr/>
                  </p:nvSpPr>
                  <p:spPr>
                    <a:xfrm>
                      <a:off x="4685040" y="5001840"/>
                      <a:ext cx="1440" cy="5040"/>
                    </a:xfrm>
                    <a:custGeom>
                      <a:avLst/>
                      <a:gdLst/>
                      <a:ahLst/>
                      <a:rect l="l" t="t" r="r" b="b"/>
                      <a:pathLst>
                        <a:path w="11" h="38">
                          <a:moveTo>
                            <a:pt x="11" y="0"/>
                          </a:moveTo>
                          <a:lnTo>
                            <a:pt x="0" y="13"/>
                          </a:lnTo>
                          <a:lnTo>
                            <a:pt x="7" y="38"/>
                          </a:lnTo>
                          <a:lnTo>
                            <a:pt x="11"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6" name=""/>
                    <p:cNvSpPr/>
                    <p:nvPr/>
                  </p:nvSpPr>
                  <p:spPr>
                    <a:xfrm>
                      <a:off x="4674600" y="4988520"/>
                      <a:ext cx="18000" cy="12600"/>
                    </a:xfrm>
                    <a:custGeom>
                      <a:avLst/>
                      <a:gdLst/>
                      <a:ahLst/>
                      <a:rect l="l" t="t" r="r" b="b"/>
                      <a:pathLst>
                        <a:path w="125" h="100">
                          <a:moveTo>
                            <a:pt x="0" y="0"/>
                          </a:moveTo>
                          <a:lnTo>
                            <a:pt x="37" y="35"/>
                          </a:lnTo>
                          <a:lnTo>
                            <a:pt x="81" y="65"/>
                          </a:lnTo>
                          <a:lnTo>
                            <a:pt x="105" y="83"/>
                          </a:lnTo>
                          <a:lnTo>
                            <a:pt x="123" y="91"/>
                          </a:lnTo>
                          <a:lnTo>
                            <a:pt x="125" y="100"/>
                          </a:lnTo>
                          <a:lnTo>
                            <a:pt x="102" y="91"/>
                          </a:lnTo>
                          <a:lnTo>
                            <a:pt x="62" y="63"/>
                          </a:lnTo>
                          <a:lnTo>
                            <a:pt x="32" y="41"/>
                          </a:lnTo>
                          <a:lnTo>
                            <a:pt x="4" y="27"/>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
                    <p:cNvSpPr/>
                    <p:nvPr/>
                  </p:nvSpPr>
                  <p:spPr>
                    <a:xfrm>
                      <a:off x="4654800" y="4987800"/>
                      <a:ext cx="14760" cy="2520"/>
                    </a:xfrm>
                    <a:custGeom>
                      <a:avLst/>
                      <a:gdLst/>
                      <a:ahLst/>
                      <a:rect l="l" t="t" r="r" b="b"/>
                      <a:pathLst>
                        <a:path w="101" h="20">
                          <a:moveTo>
                            <a:pt x="0" y="0"/>
                          </a:moveTo>
                          <a:lnTo>
                            <a:pt x="5" y="20"/>
                          </a:lnTo>
                          <a:lnTo>
                            <a:pt x="33" y="13"/>
                          </a:lnTo>
                          <a:lnTo>
                            <a:pt x="101" y="15"/>
                          </a:lnTo>
                          <a:lnTo>
                            <a:pt x="37" y="3"/>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8" name=""/>
                    <p:cNvSpPr/>
                    <p:nvPr/>
                  </p:nvSpPr>
                  <p:spPr>
                    <a:xfrm>
                      <a:off x="4678560" y="4949280"/>
                      <a:ext cx="11160" cy="6120"/>
                    </a:xfrm>
                    <a:custGeom>
                      <a:avLst/>
                      <a:gdLst/>
                      <a:ahLst/>
                      <a:rect l="l" t="t" r="r" b="b"/>
                      <a:pathLst>
                        <a:path w="78" h="47">
                          <a:moveTo>
                            <a:pt x="48" y="0"/>
                          </a:moveTo>
                          <a:lnTo>
                            <a:pt x="30" y="0"/>
                          </a:lnTo>
                          <a:lnTo>
                            <a:pt x="0" y="0"/>
                          </a:lnTo>
                          <a:lnTo>
                            <a:pt x="21" y="12"/>
                          </a:lnTo>
                          <a:lnTo>
                            <a:pt x="62" y="38"/>
                          </a:lnTo>
                          <a:lnTo>
                            <a:pt x="78" y="47"/>
                          </a:lnTo>
                          <a:lnTo>
                            <a:pt x="48" y="0"/>
                          </a:lnTo>
                          <a:close/>
                        </a:path>
                      </a:pathLst>
                    </a:custGeom>
                    <a:solidFill>
                      <a:srgbClr val="402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4697280" y="4965840"/>
                      <a:ext cx="30960" cy="33480"/>
                    </a:xfrm>
                    <a:custGeom>
                      <a:avLst/>
                      <a:gdLst/>
                      <a:ahLst/>
                      <a:rect l="l" t="t" r="r" b="b"/>
                      <a:pathLst>
                        <a:path w="213" h="254">
                          <a:moveTo>
                            <a:pt x="5" y="0"/>
                          </a:moveTo>
                          <a:lnTo>
                            <a:pt x="0" y="8"/>
                          </a:lnTo>
                          <a:lnTo>
                            <a:pt x="10" y="30"/>
                          </a:lnTo>
                          <a:lnTo>
                            <a:pt x="30" y="64"/>
                          </a:lnTo>
                          <a:lnTo>
                            <a:pt x="69" y="114"/>
                          </a:lnTo>
                          <a:lnTo>
                            <a:pt x="100" y="125"/>
                          </a:lnTo>
                          <a:lnTo>
                            <a:pt x="113" y="171"/>
                          </a:lnTo>
                          <a:lnTo>
                            <a:pt x="127" y="195"/>
                          </a:lnTo>
                          <a:lnTo>
                            <a:pt x="175" y="235"/>
                          </a:lnTo>
                          <a:lnTo>
                            <a:pt x="213" y="254"/>
                          </a:lnTo>
                          <a:lnTo>
                            <a:pt x="154" y="233"/>
                          </a:lnTo>
                          <a:lnTo>
                            <a:pt x="116" y="200"/>
                          </a:lnTo>
                          <a:lnTo>
                            <a:pt x="97" y="163"/>
                          </a:lnTo>
                          <a:lnTo>
                            <a:pt x="100" y="211"/>
                          </a:lnTo>
                          <a:lnTo>
                            <a:pt x="107" y="251"/>
                          </a:lnTo>
                          <a:lnTo>
                            <a:pt x="91" y="200"/>
                          </a:lnTo>
                          <a:lnTo>
                            <a:pt x="86" y="171"/>
                          </a:lnTo>
                          <a:lnTo>
                            <a:pt x="86" y="136"/>
                          </a:lnTo>
                          <a:lnTo>
                            <a:pt x="64" y="125"/>
                          </a:lnTo>
                          <a:lnTo>
                            <a:pt x="41" y="100"/>
                          </a:lnTo>
                          <a:lnTo>
                            <a:pt x="14" y="63"/>
                          </a:lnTo>
                          <a:lnTo>
                            <a:pt x="0" y="25"/>
                          </a:lnTo>
                          <a:lnTo>
                            <a:pt x="5" y="0"/>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0" name=""/>
                    <p:cNvSpPr/>
                    <p:nvPr/>
                  </p:nvSpPr>
                  <p:spPr>
                    <a:xfrm>
                      <a:off x="4709880" y="4960080"/>
                      <a:ext cx="3240" cy="11160"/>
                    </a:xfrm>
                    <a:custGeom>
                      <a:avLst/>
                      <a:gdLst/>
                      <a:ahLst/>
                      <a:rect l="l" t="t" r="r" b="b"/>
                      <a:pathLst>
                        <a:path w="25" h="87">
                          <a:moveTo>
                            <a:pt x="0" y="0"/>
                          </a:moveTo>
                          <a:lnTo>
                            <a:pt x="2" y="19"/>
                          </a:lnTo>
                          <a:lnTo>
                            <a:pt x="2" y="48"/>
                          </a:lnTo>
                          <a:lnTo>
                            <a:pt x="2" y="54"/>
                          </a:lnTo>
                          <a:lnTo>
                            <a:pt x="22" y="87"/>
                          </a:lnTo>
                          <a:lnTo>
                            <a:pt x="25" y="78"/>
                          </a:lnTo>
                          <a:lnTo>
                            <a:pt x="9" y="54"/>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 name=""/>
                    <p:cNvSpPr/>
                    <p:nvPr/>
                  </p:nvSpPr>
                  <p:spPr>
                    <a:xfrm>
                      <a:off x="4693680" y="5013360"/>
                      <a:ext cx="40320" cy="47160"/>
                    </a:xfrm>
                    <a:custGeom>
                      <a:avLst/>
                      <a:gdLst/>
                      <a:ahLst/>
                      <a:rect l="l" t="t" r="r" b="b"/>
                      <a:pathLst>
                        <a:path w="278" h="359">
                          <a:moveTo>
                            <a:pt x="78" y="0"/>
                          </a:moveTo>
                          <a:lnTo>
                            <a:pt x="105" y="40"/>
                          </a:lnTo>
                          <a:lnTo>
                            <a:pt x="124" y="86"/>
                          </a:lnTo>
                          <a:lnTo>
                            <a:pt x="124" y="123"/>
                          </a:lnTo>
                          <a:lnTo>
                            <a:pt x="116" y="173"/>
                          </a:lnTo>
                          <a:lnTo>
                            <a:pt x="91" y="207"/>
                          </a:lnTo>
                          <a:lnTo>
                            <a:pt x="65" y="216"/>
                          </a:lnTo>
                          <a:lnTo>
                            <a:pt x="0" y="225"/>
                          </a:lnTo>
                          <a:lnTo>
                            <a:pt x="54" y="232"/>
                          </a:lnTo>
                          <a:lnTo>
                            <a:pt x="129" y="216"/>
                          </a:lnTo>
                          <a:lnTo>
                            <a:pt x="105" y="256"/>
                          </a:lnTo>
                          <a:lnTo>
                            <a:pt x="70" y="280"/>
                          </a:lnTo>
                          <a:lnTo>
                            <a:pt x="27" y="297"/>
                          </a:lnTo>
                          <a:lnTo>
                            <a:pt x="25" y="345"/>
                          </a:lnTo>
                          <a:lnTo>
                            <a:pt x="63" y="354"/>
                          </a:lnTo>
                          <a:lnTo>
                            <a:pt x="107" y="356"/>
                          </a:lnTo>
                          <a:lnTo>
                            <a:pt x="148" y="359"/>
                          </a:lnTo>
                          <a:lnTo>
                            <a:pt x="183" y="356"/>
                          </a:lnTo>
                          <a:lnTo>
                            <a:pt x="209" y="340"/>
                          </a:lnTo>
                          <a:lnTo>
                            <a:pt x="234" y="323"/>
                          </a:lnTo>
                          <a:lnTo>
                            <a:pt x="256" y="297"/>
                          </a:lnTo>
                          <a:lnTo>
                            <a:pt x="278" y="265"/>
                          </a:lnTo>
                          <a:lnTo>
                            <a:pt x="276" y="223"/>
                          </a:lnTo>
                          <a:lnTo>
                            <a:pt x="253" y="169"/>
                          </a:lnTo>
                          <a:lnTo>
                            <a:pt x="262" y="120"/>
                          </a:lnTo>
                          <a:lnTo>
                            <a:pt x="231" y="136"/>
                          </a:lnTo>
                          <a:lnTo>
                            <a:pt x="208" y="137"/>
                          </a:lnTo>
                          <a:lnTo>
                            <a:pt x="181" y="131"/>
                          </a:lnTo>
                          <a:lnTo>
                            <a:pt x="161" y="113"/>
                          </a:lnTo>
                          <a:lnTo>
                            <a:pt x="132" y="65"/>
                          </a:lnTo>
                          <a:lnTo>
                            <a:pt x="110" y="29"/>
                          </a:lnTo>
                          <a:lnTo>
                            <a:pt x="78" y="0"/>
                          </a:lnTo>
                          <a:close/>
                        </a:path>
                      </a:pathLst>
                    </a:custGeom>
                    <a:solidFill>
                      <a:srgbClr val="402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22" name=""/>
                  <p:cNvSpPr/>
                  <p:nvPr/>
                </p:nvSpPr>
                <p:spPr>
                  <a:xfrm>
                    <a:off x="4962600" y="5163120"/>
                    <a:ext cx="72000" cy="101160"/>
                  </a:xfrm>
                  <a:custGeom>
                    <a:avLst/>
                    <a:gdLst/>
                    <a:ahLst/>
                    <a:rect l="l" t="t" r="r" b="b"/>
                    <a:pathLst>
                      <a:path w="493" h="775">
                        <a:moveTo>
                          <a:pt x="0" y="132"/>
                        </a:moveTo>
                        <a:lnTo>
                          <a:pt x="23" y="186"/>
                        </a:lnTo>
                        <a:lnTo>
                          <a:pt x="48" y="275"/>
                        </a:lnTo>
                        <a:lnTo>
                          <a:pt x="71" y="369"/>
                        </a:lnTo>
                        <a:lnTo>
                          <a:pt x="89" y="465"/>
                        </a:lnTo>
                        <a:lnTo>
                          <a:pt x="107" y="536"/>
                        </a:lnTo>
                        <a:lnTo>
                          <a:pt x="130" y="614"/>
                        </a:lnTo>
                        <a:lnTo>
                          <a:pt x="177" y="708"/>
                        </a:lnTo>
                        <a:lnTo>
                          <a:pt x="231" y="775"/>
                        </a:lnTo>
                        <a:lnTo>
                          <a:pt x="243" y="721"/>
                        </a:lnTo>
                        <a:lnTo>
                          <a:pt x="218" y="578"/>
                        </a:lnTo>
                        <a:lnTo>
                          <a:pt x="201" y="411"/>
                        </a:lnTo>
                        <a:lnTo>
                          <a:pt x="225" y="375"/>
                        </a:lnTo>
                        <a:lnTo>
                          <a:pt x="266" y="364"/>
                        </a:lnTo>
                        <a:lnTo>
                          <a:pt x="302" y="369"/>
                        </a:lnTo>
                        <a:lnTo>
                          <a:pt x="350" y="388"/>
                        </a:lnTo>
                        <a:lnTo>
                          <a:pt x="438" y="411"/>
                        </a:lnTo>
                        <a:lnTo>
                          <a:pt x="486" y="406"/>
                        </a:lnTo>
                        <a:lnTo>
                          <a:pt x="493" y="381"/>
                        </a:lnTo>
                        <a:lnTo>
                          <a:pt x="468" y="316"/>
                        </a:lnTo>
                        <a:lnTo>
                          <a:pt x="391" y="250"/>
                        </a:lnTo>
                        <a:lnTo>
                          <a:pt x="302" y="180"/>
                        </a:lnTo>
                        <a:lnTo>
                          <a:pt x="249" y="102"/>
                        </a:lnTo>
                        <a:lnTo>
                          <a:pt x="183" y="31"/>
                        </a:lnTo>
                        <a:lnTo>
                          <a:pt x="130" y="0"/>
                        </a:lnTo>
                        <a:lnTo>
                          <a:pt x="83" y="0"/>
                        </a:lnTo>
                        <a:lnTo>
                          <a:pt x="65" y="25"/>
                        </a:lnTo>
                        <a:lnTo>
                          <a:pt x="89" y="55"/>
                        </a:lnTo>
                        <a:lnTo>
                          <a:pt x="172" y="102"/>
                        </a:lnTo>
                        <a:lnTo>
                          <a:pt x="207" y="161"/>
                        </a:lnTo>
                        <a:lnTo>
                          <a:pt x="279" y="227"/>
                        </a:lnTo>
                        <a:lnTo>
                          <a:pt x="333" y="286"/>
                        </a:lnTo>
                        <a:lnTo>
                          <a:pt x="397" y="322"/>
                        </a:lnTo>
                        <a:lnTo>
                          <a:pt x="314" y="292"/>
                        </a:lnTo>
                        <a:lnTo>
                          <a:pt x="266" y="268"/>
                        </a:lnTo>
                        <a:lnTo>
                          <a:pt x="225" y="244"/>
                        </a:lnTo>
                        <a:lnTo>
                          <a:pt x="159" y="227"/>
                        </a:lnTo>
                        <a:lnTo>
                          <a:pt x="135" y="180"/>
                        </a:lnTo>
                        <a:lnTo>
                          <a:pt x="113" y="109"/>
                        </a:lnTo>
                        <a:lnTo>
                          <a:pt x="77" y="109"/>
                        </a:lnTo>
                        <a:lnTo>
                          <a:pt x="89" y="186"/>
                        </a:lnTo>
                        <a:lnTo>
                          <a:pt x="147" y="281"/>
                        </a:lnTo>
                        <a:lnTo>
                          <a:pt x="153" y="327"/>
                        </a:lnTo>
                        <a:lnTo>
                          <a:pt x="153" y="369"/>
                        </a:lnTo>
                        <a:lnTo>
                          <a:pt x="153" y="423"/>
                        </a:lnTo>
                        <a:lnTo>
                          <a:pt x="153" y="483"/>
                        </a:lnTo>
                        <a:lnTo>
                          <a:pt x="159" y="555"/>
                        </a:lnTo>
                        <a:lnTo>
                          <a:pt x="135" y="442"/>
                        </a:lnTo>
                        <a:lnTo>
                          <a:pt x="113" y="334"/>
                        </a:lnTo>
                        <a:lnTo>
                          <a:pt x="89" y="262"/>
                        </a:lnTo>
                        <a:lnTo>
                          <a:pt x="65" y="186"/>
                        </a:lnTo>
                        <a:lnTo>
                          <a:pt x="0" y="132"/>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000760" y="5221800"/>
                    <a:ext cx="38160" cy="52920"/>
                  </a:xfrm>
                  <a:custGeom>
                    <a:avLst/>
                    <a:gdLst/>
                    <a:ahLst/>
                    <a:rect l="l" t="t" r="r" b="b"/>
                    <a:pathLst>
                      <a:path w="261" h="403">
                        <a:moveTo>
                          <a:pt x="72" y="0"/>
                        </a:moveTo>
                        <a:lnTo>
                          <a:pt x="185" y="89"/>
                        </a:lnTo>
                        <a:lnTo>
                          <a:pt x="232" y="171"/>
                        </a:lnTo>
                        <a:lnTo>
                          <a:pt x="261" y="225"/>
                        </a:lnTo>
                        <a:lnTo>
                          <a:pt x="261" y="273"/>
                        </a:lnTo>
                        <a:lnTo>
                          <a:pt x="243" y="313"/>
                        </a:lnTo>
                        <a:lnTo>
                          <a:pt x="185" y="192"/>
                        </a:lnTo>
                        <a:lnTo>
                          <a:pt x="125" y="138"/>
                        </a:lnTo>
                        <a:lnTo>
                          <a:pt x="72" y="114"/>
                        </a:lnTo>
                        <a:lnTo>
                          <a:pt x="72" y="221"/>
                        </a:lnTo>
                        <a:lnTo>
                          <a:pt x="185" y="385"/>
                        </a:lnTo>
                        <a:lnTo>
                          <a:pt x="95" y="403"/>
                        </a:lnTo>
                        <a:lnTo>
                          <a:pt x="25" y="379"/>
                        </a:lnTo>
                        <a:lnTo>
                          <a:pt x="107" y="358"/>
                        </a:lnTo>
                        <a:lnTo>
                          <a:pt x="25" y="251"/>
                        </a:lnTo>
                        <a:lnTo>
                          <a:pt x="0" y="132"/>
                        </a:lnTo>
                        <a:lnTo>
                          <a:pt x="19" y="7"/>
                        </a:lnTo>
                        <a:lnTo>
                          <a:pt x="72" y="0"/>
                        </a:lnTo>
                        <a:close/>
                      </a:path>
                    </a:pathLst>
                  </a:custGeom>
                  <a:solidFill>
                    <a:srgbClr val="e0e0e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4" name=""/>
                  <p:cNvSpPr/>
                  <p:nvPr/>
                </p:nvSpPr>
                <p:spPr>
                  <a:xfrm>
                    <a:off x="4970880" y="5027040"/>
                    <a:ext cx="104400" cy="222480"/>
                  </a:xfrm>
                  <a:custGeom>
                    <a:avLst/>
                    <a:gdLst/>
                    <a:ahLst/>
                    <a:rect l="l" t="t" r="r" b="b"/>
                    <a:pathLst>
                      <a:path w="714" h="1698">
                        <a:moveTo>
                          <a:pt x="345" y="1489"/>
                        </a:moveTo>
                        <a:lnTo>
                          <a:pt x="416" y="1556"/>
                        </a:lnTo>
                        <a:lnTo>
                          <a:pt x="446" y="1604"/>
                        </a:lnTo>
                        <a:lnTo>
                          <a:pt x="494" y="1652"/>
                        </a:lnTo>
                        <a:lnTo>
                          <a:pt x="494" y="1698"/>
                        </a:lnTo>
                        <a:lnTo>
                          <a:pt x="541" y="1610"/>
                        </a:lnTo>
                        <a:lnTo>
                          <a:pt x="582" y="1534"/>
                        </a:lnTo>
                        <a:lnTo>
                          <a:pt x="624" y="1462"/>
                        </a:lnTo>
                        <a:lnTo>
                          <a:pt x="607" y="1395"/>
                        </a:lnTo>
                        <a:lnTo>
                          <a:pt x="643" y="1408"/>
                        </a:lnTo>
                        <a:lnTo>
                          <a:pt x="695" y="1283"/>
                        </a:lnTo>
                        <a:lnTo>
                          <a:pt x="702" y="1219"/>
                        </a:lnTo>
                        <a:lnTo>
                          <a:pt x="672" y="1183"/>
                        </a:lnTo>
                        <a:lnTo>
                          <a:pt x="654" y="1145"/>
                        </a:lnTo>
                        <a:lnTo>
                          <a:pt x="708" y="1171"/>
                        </a:lnTo>
                        <a:lnTo>
                          <a:pt x="708" y="1027"/>
                        </a:lnTo>
                        <a:lnTo>
                          <a:pt x="714" y="853"/>
                        </a:lnTo>
                        <a:lnTo>
                          <a:pt x="636" y="786"/>
                        </a:lnTo>
                        <a:lnTo>
                          <a:pt x="588" y="734"/>
                        </a:lnTo>
                        <a:lnTo>
                          <a:pt x="565" y="608"/>
                        </a:lnTo>
                        <a:lnTo>
                          <a:pt x="636" y="530"/>
                        </a:lnTo>
                        <a:lnTo>
                          <a:pt x="702" y="446"/>
                        </a:lnTo>
                        <a:lnTo>
                          <a:pt x="714" y="346"/>
                        </a:lnTo>
                        <a:lnTo>
                          <a:pt x="714" y="257"/>
                        </a:lnTo>
                        <a:lnTo>
                          <a:pt x="672" y="161"/>
                        </a:lnTo>
                        <a:lnTo>
                          <a:pt x="618" y="108"/>
                        </a:lnTo>
                        <a:lnTo>
                          <a:pt x="506" y="12"/>
                        </a:lnTo>
                        <a:lnTo>
                          <a:pt x="446" y="0"/>
                        </a:lnTo>
                        <a:lnTo>
                          <a:pt x="351" y="35"/>
                        </a:lnTo>
                        <a:lnTo>
                          <a:pt x="226" y="119"/>
                        </a:lnTo>
                        <a:lnTo>
                          <a:pt x="72" y="269"/>
                        </a:lnTo>
                        <a:lnTo>
                          <a:pt x="12" y="353"/>
                        </a:lnTo>
                        <a:lnTo>
                          <a:pt x="0" y="405"/>
                        </a:lnTo>
                        <a:lnTo>
                          <a:pt x="12" y="446"/>
                        </a:lnTo>
                        <a:lnTo>
                          <a:pt x="48" y="401"/>
                        </a:lnTo>
                        <a:lnTo>
                          <a:pt x="131" y="292"/>
                        </a:lnTo>
                        <a:lnTo>
                          <a:pt x="249" y="203"/>
                        </a:lnTo>
                        <a:lnTo>
                          <a:pt x="375" y="138"/>
                        </a:lnTo>
                        <a:lnTo>
                          <a:pt x="422" y="138"/>
                        </a:lnTo>
                        <a:lnTo>
                          <a:pt x="381" y="179"/>
                        </a:lnTo>
                        <a:lnTo>
                          <a:pt x="274" y="263"/>
                        </a:lnTo>
                        <a:lnTo>
                          <a:pt x="207" y="322"/>
                        </a:lnTo>
                        <a:lnTo>
                          <a:pt x="131" y="401"/>
                        </a:lnTo>
                        <a:lnTo>
                          <a:pt x="77" y="471"/>
                        </a:lnTo>
                        <a:lnTo>
                          <a:pt x="35" y="512"/>
                        </a:lnTo>
                        <a:lnTo>
                          <a:pt x="18" y="566"/>
                        </a:lnTo>
                        <a:lnTo>
                          <a:pt x="0" y="613"/>
                        </a:lnTo>
                        <a:lnTo>
                          <a:pt x="0" y="667"/>
                        </a:lnTo>
                        <a:lnTo>
                          <a:pt x="24" y="680"/>
                        </a:lnTo>
                        <a:lnTo>
                          <a:pt x="156" y="596"/>
                        </a:lnTo>
                        <a:lnTo>
                          <a:pt x="285" y="566"/>
                        </a:lnTo>
                        <a:lnTo>
                          <a:pt x="435" y="578"/>
                        </a:lnTo>
                        <a:lnTo>
                          <a:pt x="362" y="596"/>
                        </a:lnTo>
                        <a:lnTo>
                          <a:pt x="237" y="632"/>
                        </a:lnTo>
                        <a:lnTo>
                          <a:pt x="125" y="680"/>
                        </a:lnTo>
                        <a:lnTo>
                          <a:pt x="54" y="727"/>
                        </a:lnTo>
                        <a:lnTo>
                          <a:pt x="12" y="775"/>
                        </a:lnTo>
                        <a:lnTo>
                          <a:pt x="6" y="841"/>
                        </a:lnTo>
                        <a:lnTo>
                          <a:pt x="6" y="936"/>
                        </a:lnTo>
                        <a:lnTo>
                          <a:pt x="18" y="989"/>
                        </a:lnTo>
                        <a:lnTo>
                          <a:pt x="108" y="1014"/>
                        </a:lnTo>
                        <a:lnTo>
                          <a:pt x="178" y="1056"/>
                        </a:lnTo>
                        <a:lnTo>
                          <a:pt x="213" y="1104"/>
                        </a:lnTo>
                        <a:lnTo>
                          <a:pt x="249" y="1163"/>
                        </a:lnTo>
                        <a:lnTo>
                          <a:pt x="316" y="1223"/>
                        </a:lnTo>
                        <a:lnTo>
                          <a:pt x="387" y="1252"/>
                        </a:lnTo>
                        <a:lnTo>
                          <a:pt x="446" y="1322"/>
                        </a:lnTo>
                        <a:lnTo>
                          <a:pt x="464" y="1364"/>
                        </a:lnTo>
                        <a:lnTo>
                          <a:pt x="500" y="1305"/>
                        </a:lnTo>
                        <a:lnTo>
                          <a:pt x="464" y="1217"/>
                        </a:lnTo>
                        <a:lnTo>
                          <a:pt x="404" y="1181"/>
                        </a:lnTo>
                        <a:lnTo>
                          <a:pt x="320" y="1104"/>
                        </a:lnTo>
                        <a:lnTo>
                          <a:pt x="279" y="1031"/>
                        </a:lnTo>
                        <a:lnTo>
                          <a:pt x="279" y="972"/>
                        </a:lnTo>
                        <a:lnTo>
                          <a:pt x="309" y="954"/>
                        </a:lnTo>
                        <a:lnTo>
                          <a:pt x="375" y="972"/>
                        </a:lnTo>
                        <a:lnTo>
                          <a:pt x="458" y="1043"/>
                        </a:lnTo>
                        <a:lnTo>
                          <a:pt x="470" y="1097"/>
                        </a:lnTo>
                        <a:lnTo>
                          <a:pt x="541" y="1193"/>
                        </a:lnTo>
                        <a:lnTo>
                          <a:pt x="559" y="1299"/>
                        </a:lnTo>
                        <a:lnTo>
                          <a:pt x="529" y="1395"/>
                        </a:lnTo>
                        <a:lnTo>
                          <a:pt x="458" y="1401"/>
                        </a:lnTo>
                        <a:lnTo>
                          <a:pt x="464" y="1437"/>
                        </a:lnTo>
                        <a:lnTo>
                          <a:pt x="464" y="1466"/>
                        </a:lnTo>
                        <a:lnTo>
                          <a:pt x="435" y="1489"/>
                        </a:lnTo>
                        <a:lnTo>
                          <a:pt x="345" y="1489"/>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859280" y="4952880"/>
                    <a:ext cx="80640" cy="68400"/>
                  </a:xfrm>
                  <a:custGeom>
                    <a:avLst/>
                    <a:gdLst/>
                    <a:ahLst/>
                    <a:rect l="l" t="t" r="r" b="b"/>
                    <a:pathLst>
                      <a:path w="552" h="523">
                        <a:moveTo>
                          <a:pt x="0" y="381"/>
                        </a:moveTo>
                        <a:lnTo>
                          <a:pt x="59" y="416"/>
                        </a:lnTo>
                        <a:lnTo>
                          <a:pt x="90" y="469"/>
                        </a:lnTo>
                        <a:lnTo>
                          <a:pt x="107" y="523"/>
                        </a:lnTo>
                        <a:lnTo>
                          <a:pt x="225" y="410"/>
                        </a:lnTo>
                        <a:lnTo>
                          <a:pt x="298" y="321"/>
                        </a:lnTo>
                        <a:lnTo>
                          <a:pt x="386" y="225"/>
                        </a:lnTo>
                        <a:lnTo>
                          <a:pt x="552" y="107"/>
                        </a:lnTo>
                        <a:lnTo>
                          <a:pt x="510" y="6"/>
                        </a:lnTo>
                        <a:lnTo>
                          <a:pt x="487" y="0"/>
                        </a:lnTo>
                        <a:lnTo>
                          <a:pt x="493" y="24"/>
                        </a:lnTo>
                        <a:lnTo>
                          <a:pt x="451" y="65"/>
                        </a:lnTo>
                        <a:lnTo>
                          <a:pt x="321" y="142"/>
                        </a:lnTo>
                        <a:lnTo>
                          <a:pt x="244" y="190"/>
                        </a:lnTo>
                        <a:lnTo>
                          <a:pt x="172" y="244"/>
                        </a:lnTo>
                        <a:lnTo>
                          <a:pt x="84" y="315"/>
                        </a:lnTo>
                        <a:lnTo>
                          <a:pt x="0" y="381"/>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4830120" y="4962240"/>
                    <a:ext cx="156600" cy="156960"/>
                  </a:xfrm>
                  <a:custGeom>
                    <a:avLst/>
                    <a:gdLst/>
                    <a:ahLst/>
                    <a:rect l="l" t="t" r="r" b="b"/>
                    <a:pathLst>
                      <a:path w="1072" h="1197">
                        <a:moveTo>
                          <a:pt x="857" y="0"/>
                        </a:moveTo>
                        <a:lnTo>
                          <a:pt x="952" y="29"/>
                        </a:lnTo>
                        <a:lnTo>
                          <a:pt x="994" y="113"/>
                        </a:lnTo>
                        <a:lnTo>
                          <a:pt x="1025" y="154"/>
                        </a:lnTo>
                        <a:lnTo>
                          <a:pt x="1072" y="173"/>
                        </a:lnTo>
                        <a:lnTo>
                          <a:pt x="1000" y="221"/>
                        </a:lnTo>
                        <a:lnTo>
                          <a:pt x="910" y="314"/>
                        </a:lnTo>
                        <a:lnTo>
                          <a:pt x="851" y="410"/>
                        </a:lnTo>
                        <a:lnTo>
                          <a:pt x="822" y="535"/>
                        </a:lnTo>
                        <a:lnTo>
                          <a:pt x="679" y="481"/>
                        </a:lnTo>
                        <a:lnTo>
                          <a:pt x="560" y="476"/>
                        </a:lnTo>
                        <a:lnTo>
                          <a:pt x="572" y="518"/>
                        </a:lnTo>
                        <a:lnTo>
                          <a:pt x="602" y="589"/>
                        </a:lnTo>
                        <a:lnTo>
                          <a:pt x="489" y="644"/>
                        </a:lnTo>
                        <a:lnTo>
                          <a:pt x="393" y="774"/>
                        </a:lnTo>
                        <a:lnTo>
                          <a:pt x="292" y="864"/>
                        </a:lnTo>
                        <a:lnTo>
                          <a:pt x="209" y="952"/>
                        </a:lnTo>
                        <a:lnTo>
                          <a:pt x="137" y="1030"/>
                        </a:lnTo>
                        <a:lnTo>
                          <a:pt x="78" y="1113"/>
                        </a:lnTo>
                        <a:lnTo>
                          <a:pt x="30" y="1197"/>
                        </a:lnTo>
                        <a:lnTo>
                          <a:pt x="0" y="1113"/>
                        </a:lnTo>
                        <a:lnTo>
                          <a:pt x="47" y="1036"/>
                        </a:lnTo>
                        <a:lnTo>
                          <a:pt x="143" y="904"/>
                        </a:lnTo>
                        <a:lnTo>
                          <a:pt x="203" y="828"/>
                        </a:lnTo>
                        <a:lnTo>
                          <a:pt x="286" y="667"/>
                        </a:lnTo>
                        <a:lnTo>
                          <a:pt x="363" y="542"/>
                        </a:lnTo>
                        <a:lnTo>
                          <a:pt x="422" y="452"/>
                        </a:lnTo>
                        <a:lnTo>
                          <a:pt x="560" y="326"/>
                        </a:lnTo>
                        <a:lnTo>
                          <a:pt x="698" y="233"/>
                        </a:lnTo>
                        <a:lnTo>
                          <a:pt x="833" y="113"/>
                        </a:lnTo>
                        <a:lnTo>
                          <a:pt x="857"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861440" y="4970160"/>
                    <a:ext cx="83880" cy="89280"/>
                  </a:xfrm>
                  <a:custGeom>
                    <a:avLst/>
                    <a:gdLst/>
                    <a:ahLst/>
                    <a:rect l="l" t="t" r="r" b="b"/>
                    <a:pathLst>
                      <a:path w="571" h="683">
                        <a:moveTo>
                          <a:pt x="554" y="0"/>
                        </a:moveTo>
                        <a:lnTo>
                          <a:pt x="571" y="35"/>
                        </a:lnTo>
                        <a:lnTo>
                          <a:pt x="547" y="71"/>
                        </a:lnTo>
                        <a:lnTo>
                          <a:pt x="452" y="148"/>
                        </a:lnTo>
                        <a:lnTo>
                          <a:pt x="346" y="231"/>
                        </a:lnTo>
                        <a:lnTo>
                          <a:pt x="262" y="302"/>
                        </a:lnTo>
                        <a:lnTo>
                          <a:pt x="208" y="362"/>
                        </a:lnTo>
                        <a:lnTo>
                          <a:pt x="115" y="469"/>
                        </a:lnTo>
                        <a:lnTo>
                          <a:pt x="0" y="683"/>
                        </a:lnTo>
                        <a:lnTo>
                          <a:pt x="13" y="545"/>
                        </a:lnTo>
                        <a:lnTo>
                          <a:pt x="13" y="463"/>
                        </a:lnTo>
                        <a:lnTo>
                          <a:pt x="54" y="380"/>
                        </a:lnTo>
                        <a:lnTo>
                          <a:pt x="79" y="421"/>
                        </a:lnTo>
                        <a:lnTo>
                          <a:pt x="138" y="386"/>
                        </a:lnTo>
                        <a:lnTo>
                          <a:pt x="220" y="291"/>
                        </a:lnTo>
                        <a:lnTo>
                          <a:pt x="292" y="219"/>
                        </a:lnTo>
                        <a:lnTo>
                          <a:pt x="375" y="113"/>
                        </a:lnTo>
                        <a:lnTo>
                          <a:pt x="440" y="65"/>
                        </a:lnTo>
                        <a:lnTo>
                          <a:pt x="554"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8" name=""/>
                  <p:cNvSpPr/>
                  <p:nvPr/>
                </p:nvSpPr>
                <p:spPr>
                  <a:xfrm>
                    <a:off x="4836240" y="4987080"/>
                    <a:ext cx="200520" cy="182880"/>
                  </a:xfrm>
                  <a:custGeom>
                    <a:avLst/>
                    <a:gdLst/>
                    <a:ahLst/>
                    <a:rect l="l" t="t" r="r" b="b"/>
                    <a:pathLst>
                      <a:path w="1370" h="1394">
                        <a:moveTo>
                          <a:pt x="59" y="1149"/>
                        </a:moveTo>
                        <a:lnTo>
                          <a:pt x="24" y="1114"/>
                        </a:lnTo>
                        <a:lnTo>
                          <a:pt x="0" y="1025"/>
                        </a:lnTo>
                        <a:lnTo>
                          <a:pt x="0" y="1007"/>
                        </a:lnTo>
                        <a:lnTo>
                          <a:pt x="95" y="875"/>
                        </a:lnTo>
                        <a:lnTo>
                          <a:pt x="172" y="787"/>
                        </a:lnTo>
                        <a:lnTo>
                          <a:pt x="239" y="714"/>
                        </a:lnTo>
                        <a:lnTo>
                          <a:pt x="328" y="643"/>
                        </a:lnTo>
                        <a:lnTo>
                          <a:pt x="411" y="560"/>
                        </a:lnTo>
                        <a:lnTo>
                          <a:pt x="470" y="470"/>
                        </a:lnTo>
                        <a:lnTo>
                          <a:pt x="608" y="428"/>
                        </a:lnTo>
                        <a:lnTo>
                          <a:pt x="530" y="292"/>
                        </a:lnTo>
                        <a:lnTo>
                          <a:pt x="608" y="298"/>
                        </a:lnTo>
                        <a:lnTo>
                          <a:pt x="798" y="380"/>
                        </a:lnTo>
                        <a:lnTo>
                          <a:pt x="810" y="274"/>
                        </a:lnTo>
                        <a:lnTo>
                          <a:pt x="858" y="178"/>
                        </a:lnTo>
                        <a:lnTo>
                          <a:pt x="965" y="47"/>
                        </a:lnTo>
                        <a:lnTo>
                          <a:pt x="1054" y="0"/>
                        </a:lnTo>
                        <a:lnTo>
                          <a:pt x="1150" y="65"/>
                        </a:lnTo>
                        <a:lnTo>
                          <a:pt x="1370" y="250"/>
                        </a:lnTo>
                        <a:lnTo>
                          <a:pt x="1340" y="274"/>
                        </a:lnTo>
                        <a:lnTo>
                          <a:pt x="1215" y="287"/>
                        </a:lnTo>
                        <a:lnTo>
                          <a:pt x="1066" y="339"/>
                        </a:lnTo>
                        <a:lnTo>
                          <a:pt x="965" y="440"/>
                        </a:lnTo>
                        <a:lnTo>
                          <a:pt x="900" y="572"/>
                        </a:lnTo>
                        <a:lnTo>
                          <a:pt x="869" y="685"/>
                        </a:lnTo>
                        <a:lnTo>
                          <a:pt x="882" y="727"/>
                        </a:lnTo>
                        <a:lnTo>
                          <a:pt x="917" y="768"/>
                        </a:lnTo>
                        <a:lnTo>
                          <a:pt x="894" y="810"/>
                        </a:lnTo>
                        <a:lnTo>
                          <a:pt x="876" y="894"/>
                        </a:lnTo>
                        <a:lnTo>
                          <a:pt x="869" y="965"/>
                        </a:lnTo>
                        <a:lnTo>
                          <a:pt x="876" y="996"/>
                        </a:lnTo>
                        <a:lnTo>
                          <a:pt x="888" y="1019"/>
                        </a:lnTo>
                        <a:lnTo>
                          <a:pt x="869" y="1173"/>
                        </a:lnTo>
                        <a:lnTo>
                          <a:pt x="888" y="1275"/>
                        </a:lnTo>
                        <a:lnTo>
                          <a:pt x="894" y="1323"/>
                        </a:lnTo>
                        <a:lnTo>
                          <a:pt x="876" y="1340"/>
                        </a:lnTo>
                        <a:lnTo>
                          <a:pt x="882" y="1394"/>
                        </a:lnTo>
                        <a:lnTo>
                          <a:pt x="846" y="1358"/>
                        </a:lnTo>
                        <a:lnTo>
                          <a:pt x="823" y="1358"/>
                        </a:lnTo>
                        <a:lnTo>
                          <a:pt x="786" y="1376"/>
                        </a:lnTo>
                        <a:lnTo>
                          <a:pt x="727" y="1298"/>
                        </a:lnTo>
                        <a:lnTo>
                          <a:pt x="685" y="1245"/>
                        </a:lnTo>
                        <a:lnTo>
                          <a:pt x="625" y="1245"/>
                        </a:lnTo>
                        <a:lnTo>
                          <a:pt x="541" y="1245"/>
                        </a:lnTo>
                        <a:lnTo>
                          <a:pt x="476" y="1191"/>
                        </a:lnTo>
                        <a:lnTo>
                          <a:pt x="363" y="1179"/>
                        </a:lnTo>
                        <a:lnTo>
                          <a:pt x="328" y="1191"/>
                        </a:lnTo>
                        <a:lnTo>
                          <a:pt x="281" y="1156"/>
                        </a:lnTo>
                        <a:lnTo>
                          <a:pt x="220" y="1131"/>
                        </a:lnTo>
                        <a:lnTo>
                          <a:pt x="101" y="1120"/>
                        </a:lnTo>
                        <a:lnTo>
                          <a:pt x="59" y="1149"/>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995360" y="4987080"/>
                    <a:ext cx="93960" cy="239040"/>
                  </a:xfrm>
                  <a:custGeom>
                    <a:avLst/>
                    <a:gdLst/>
                    <a:ahLst/>
                    <a:rect l="l" t="t" r="r" b="b"/>
                    <a:pathLst>
                      <a:path w="643" h="1824">
                        <a:moveTo>
                          <a:pt x="0" y="0"/>
                        </a:moveTo>
                        <a:lnTo>
                          <a:pt x="310" y="250"/>
                        </a:lnTo>
                        <a:lnTo>
                          <a:pt x="333" y="268"/>
                        </a:lnTo>
                        <a:lnTo>
                          <a:pt x="394" y="315"/>
                        </a:lnTo>
                        <a:lnTo>
                          <a:pt x="505" y="417"/>
                        </a:lnTo>
                        <a:lnTo>
                          <a:pt x="535" y="476"/>
                        </a:lnTo>
                        <a:lnTo>
                          <a:pt x="570" y="541"/>
                        </a:lnTo>
                        <a:lnTo>
                          <a:pt x="589" y="655"/>
                        </a:lnTo>
                        <a:lnTo>
                          <a:pt x="583" y="739"/>
                        </a:lnTo>
                        <a:lnTo>
                          <a:pt x="589" y="894"/>
                        </a:lnTo>
                        <a:lnTo>
                          <a:pt x="589" y="1019"/>
                        </a:lnTo>
                        <a:lnTo>
                          <a:pt x="576" y="1174"/>
                        </a:lnTo>
                        <a:lnTo>
                          <a:pt x="576" y="1366"/>
                        </a:lnTo>
                        <a:lnTo>
                          <a:pt x="570" y="1496"/>
                        </a:lnTo>
                        <a:lnTo>
                          <a:pt x="564" y="1597"/>
                        </a:lnTo>
                        <a:lnTo>
                          <a:pt x="477" y="1793"/>
                        </a:lnTo>
                        <a:lnTo>
                          <a:pt x="511" y="1812"/>
                        </a:lnTo>
                        <a:lnTo>
                          <a:pt x="583" y="1663"/>
                        </a:lnTo>
                        <a:lnTo>
                          <a:pt x="595" y="1585"/>
                        </a:lnTo>
                        <a:lnTo>
                          <a:pt x="595" y="1448"/>
                        </a:lnTo>
                        <a:lnTo>
                          <a:pt x="612" y="1561"/>
                        </a:lnTo>
                        <a:lnTo>
                          <a:pt x="612" y="1639"/>
                        </a:lnTo>
                        <a:lnTo>
                          <a:pt x="535" y="1818"/>
                        </a:lnTo>
                        <a:lnTo>
                          <a:pt x="559" y="1824"/>
                        </a:lnTo>
                        <a:lnTo>
                          <a:pt x="643" y="1639"/>
                        </a:lnTo>
                        <a:lnTo>
                          <a:pt x="643" y="1543"/>
                        </a:lnTo>
                        <a:lnTo>
                          <a:pt x="630" y="1442"/>
                        </a:lnTo>
                        <a:lnTo>
                          <a:pt x="618" y="1324"/>
                        </a:lnTo>
                        <a:lnTo>
                          <a:pt x="618" y="1192"/>
                        </a:lnTo>
                        <a:lnTo>
                          <a:pt x="624" y="1025"/>
                        </a:lnTo>
                        <a:lnTo>
                          <a:pt x="614" y="874"/>
                        </a:lnTo>
                        <a:lnTo>
                          <a:pt x="614" y="743"/>
                        </a:lnTo>
                        <a:lnTo>
                          <a:pt x="626" y="701"/>
                        </a:lnTo>
                        <a:lnTo>
                          <a:pt x="608" y="588"/>
                        </a:lnTo>
                        <a:lnTo>
                          <a:pt x="584" y="510"/>
                        </a:lnTo>
                        <a:lnTo>
                          <a:pt x="548" y="451"/>
                        </a:lnTo>
                        <a:lnTo>
                          <a:pt x="489" y="380"/>
                        </a:lnTo>
                        <a:lnTo>
                          <a:pt x="449" y="326"/>
                        </a:lnTo>
                        <a:lnTo>
                          <a:pt x="323" y="213"/>
                        </a:lnTo>
                        <a:lnTo>
                          <a:pt x="257" y="159"/>
                        </a:lnTo>
                        <a:lnTo>
                          <a:pt x="190" y="107"/>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836240" y="4992480"/>
                    <a:ext cx="7200" cy="27720"/>
                  </a:xfrm>
                  <a:custGeom>
                    <a:avLst/>
                    <a:gdLst/>
                    <a:ahLst/>
                    <a:rect l="l" t="t" r="r" b="b"/>
                    <a:pathLst>
                      <a:path w="51" h="211">
                        <a:moveTo>
                          <a:pt x="11" y="0"/>
                        </a:moveTo>
                        <a:lnTo>
                          <a:pt x="22" y="53"/>
                        </a:lnTo>
                        <a:lnTo>
                          <a:pt x="51" y="76"/>
                        </a:lnTo>
                        <a:lnTo>
                          <a:pt x="35" y="211"/>
                        </a:lnTo>
                        <a:lnTo>
                          <a:pt x="0" y="118"/>
                        </a:lnTo>
                        <a:lnTo>
                          <a:pt x="0" y="87"/>
                        </a:lnTo>
                        <a:lnTo>
                          <a:pt x="11"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1" name=""/>
                  <p:cNvSpPr/>
                  <p:nvPr/>
                </p:nvSpPr>
                <p:spPr>
                  <a:xfrm>
                    <a:off x="4809960" y="5004360"/>
                    <a:ext cx="30240" cy="100440"/>
                  </a:xfrm>
                  <a:custGeom>
                    <a:avLst/>
                    <a:gdLst/>
                    <a:ahLst/>
                    <a:rect l="l" t="t" r="r" b="b"/>
                    <a:pathLst>
                      <a:path w="206" h="768">
                        <a:moveTo>
                          <a:pt x="158" y="0"/>
                        </a:moveTo>
                        <a:lnTo>
                          <a:pt x="171" y="95"/>
                        </a:lnTo>
                        <a:lnTo>
                          <a:pt x="206" y="167"/>
                        </a:lnTo>
                        <a:lnTo>
                          <a:pt x="141" y="274"/>
                        </a:lnTo>
                        <a:lnTo>
                          <a:pt x="112" y="315"/>
                        </a:lnTo>
                        <a:lnTo>
                          <a:pt x="105" y="387"/>
                        </a:lnTo>
                        <a:lnTo>
                          <a:pt x="141" y="720"/>
                        </a:lnTo>
                        <a:lnTo>
                          <a:pt x="130" y="768"/>
                        </a:lnTo>
                        <a:lnTo>
                          <a:pt x="105" y="701"/>
                        </a:lnTo>
                        <a:lnTo>
                          <a:pt x="82" y="649"/>
                        </a:lnTo>
                        <a:lnTo>
                          <a:pt x="53" y="630"/>
                        </a:lnTo>
                        <a:lnTo>
                          <a:pt x="12" y="285"/>
                        </a:lnTo>
                        <a:lnTo>
                          <a:pt x="88" y="232"/>
                        </a:lnTo>
                        <a:lnTo>
                          <a:pt x="0" y="213"/>
                        </a:lnTo>
                        <a:lnTo>
                          <a:pt x="29" y="102"/>
                        </a:lnTo>
                        <a:lnTo>
                          <a:pt x="48" y="30"/>
                        </a:lnTo>
                        <a:lnTo>
                          <a:pt x="158"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88720" y="5009040"/>
                    <a:ext cx="24840" cy="81000"/>
                  </a:xfrm>
                  <a:custGeom>
                    <a:avLst/>
                    <a:gdLst/>
                    <a:ahLst/>
                    <a:rect l="l" t="t" r="r" b="b"/>
                    <a:pathLst>
                      <a:path w="171" h="620">
                        <a:moveTo>
                          <a:pt x="171" y="578"/>
                        </a:moveTo>
                        <a:lnTo>
                          <a:pt x="135" y="322"/>
                        </a:lnTo>
                        <a:lnTo>
                          <a:pt x="135" y="239"/>
                        </a:lnTo>
                        <a:lnTo>
                          <a:pt x="165" y="214"/>
                        </a:lnTo>
                        <a:lnTo>
                          <a:pt x="124" y="197"/>
                        </a:lnTo>
                        <a:lnTo>
                          <a:pt x="147" y="102"/>
                        </a:lnTo>
                        <a:lnTo>
                          <a:pt x="171" y="0"/>
                        </a:lnTo>
                        <a:lnTo>
                          <a:pt x="113" y="54"/>
                        </a:lnTo>
                        <a:lnTo>
                          <a:pt x="53" y="115"/>
                        </a:lnTo>
                        <a:lnTo>
                          <a:pt x="77" y="262"/>
                        </a:lnTo>
                        <a:lnTo>
                          <a:pt x="37" y="155"/>
                        </a:lnTo>
                        <a:lnTo>
                          <a:pt x="18" y="208"/>
                        </a:lnTo>
                        <a:lnTo>
                          <a:pt x="37" y="232"/>
                        </a:lnTo>
                        <a:lnTo>
                          <a:pt x="37" y="291"/>
                        </a:lnTo>
                        <a:lnTo>
                          <a:pt x="18" y="375"/>
                        </a:lnTo>
                        <a:lnTo>
                          <a:pt x="6" y="465"/>
                        </a:lnTo>
                        <a:lnTo>
                          <a:pt x="0" y="518"/>
                        </a:lnTo>
                        <a:lnTo>
                          <a:pt x="12" y="572"/>
                        </a:lnTo>
                        <a:lnTo>
                          <a:pt x="31" y="620"/>
                        </a:lnTo>
                        <a:lnTo>
                          <a:pt x="18" y="536"/>
                        </a:lnTo>
                        <a:lnTo>
                          <a:pt x="25" y="448"/>
                        </a:lnTo>
                        <a:lnTo>
                          <a:pt x="42" y="375"/>
                        </a:lnTo>
                        <a:lnTo>
                          <a:pt x="53" y="364"/>
                        </a:lnTo>
                        <a:lnTo>
                          <a:pt x="95" y="352"/>
                        </a:lnTo>
                        <a:lnTo>
                          <a:pt x="119" y="381"/>
                        </a:lnTo>
                        <a:lnTo>
                          <a:pt x="171" y="578"/>
                        </a:lnTo>
                        <a:close/>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5052240" y="5224320"/>
                    <a:ext cx="26640" cy="34200"/>
                  </a:xfrm>
                  <a:custGeom>
                    <a:avLst/>
                    <a:gdLst/>
                    <a:ahLst/>
                    <a:rect l="l" t="t" r="r" b="b"/>
                    <a:pathLst>
                      <a:path w="182" h="261">
                        <a:moveTo>
                          <a:pt x="0" y="172"/>
                        </a:moveTo>
                        <a:lnTo>
                          <a:pt x="47" y="201"/>
                        </a:lnTo>
                        <a:lnTo>
                          <a:pt x="100" y="261"/>
                        </a:lnTo>
                        <a:lnTo>
                          <a:pt x="182" y="70"/>
                        </a:lnTo>
                        <a:lnTo>
                          <a:pt x="106" y="19"/>
                        </a:lnTo>
                        <a:lnTo>
                          <a:pt x="76" y="0"/>
                        </a:lnTo>
                        <a:lnTo>
                          <a:pt x="0" y="172"/>
                        </a:lnTo>
                        <a:close/>
                      </a:path>
                    </a:pathLst>
                  </a:cu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 name=""/>
                  <p:cNvSpPr/>
                  <p:nvPr/>
                </p:nvSpPr>
                <p:spPr>
                  <a:xfrm>
                    <a:off x="4794480" y="5178960"/>
                    <a:ext cx="271080" cy="151200"/>
                  </a:xfrm>
                  <a:custGeom>
                    <a:avLst/>
                    <a:gdLst/>
                    <a:ahLst/>
                    <a:rect l="l" t="t" r="r" b="b"/>
                    <a:pathLst>
                      <a:path w="1852" h="1156">
                        <a:moveTo>
                          <a:pt x="220" y="66"/>
                        </a:moveTo>
                        <a:lnTo>
                          <a:pt x="101" y="0"/>
                        </a:lnTo>
                        <a:lnTo>
                          <a:pt x="59" y="150"/>
                        </a:lnTo>
                        <a:lnTo>
                          <a:pt x="42" y="309"/>
                        </a:lnTo>
                        <a:lnTo>
                          <a:pt x="17" y="524"/>
                        </a:lnTo>
                        <a:lnTo>
                          <a:pt x="11" y="769"/>
                        </a:lnTo>
                        <a:lnTo>
                          <a:pt x="0" y="1150"/>
                        </a:lnTo>
                        <a:lnTo>
                          <a:pt x="155" y="1156"/>
                        </a:lnTo>
                        <a:lnTo>
                          <a:pt x="155" y="989"/>
                        </a:lnTo>
                        <a:lnTo>
                          <a:pt x="161" y="721"/>
                        </a:lnTo>
                        <a:lnTo>
                          <a:pt x="178" y="506"/>
                        </a:lnTo>
                        <a:lnTo>
                          <a:pt x="197" y="357"/>
                        </a:lnTo>
                        <a:lnTo>
                          <a:pt x="220" y="370"/>
                        </a:lnTo>
                        <a:lnTo>
                          <a:pt x="190" y="644"/>
                        </a:lnTo>
                        <a:lnTo>
                          <a:pt x="184" y="823"/>
                        </a:lnTo>
                        <a:lnTo>
                          <a:pt x="172" y="989"/>
                        </a:lnTo>
                        <a:lnTo>
                          <a:pt x="178" y="1156"/>
                        </a:lnTo>
                        <a:lnTo>
                          <a:pt x="637" y="1156"/>
                        </a:lnTo>
                        <a:lnTo>
                          <a:pt x="613" y="1019"/>
                        </a:lnTo>
                        <a:lnTo>
                          <a:pt x="565" y="805"/>
                        </a:lnTo>
                        <a:lnTo>
                          <a:pt x="565" y="685"/>
                        </a:lnTo>
                        <a:lnTo>
                          <a:pt x="624" y="834"/>
                        </a:lnTo>
                        <a:lnTo>
                          <a:pt x="666" y="1025"/>
                        </a:lnTo>
                        <a:lnTo>
                          <a:pt x="714" y="1150"/>
                        </a:lnTo>
                        <a:lnTo>
                          <a:pt x="1234" y="1156"/>
                        </a:lnTo>
                        <a:lnTo>
                          <a:pt x="1197" y="1054"/>
                        </a:lnTo>
                        <a:lnTo>
                          <a:pt x="1150" y="899"/>
                        </a:lnTo>
                        <a:lnTo>
                          <a:pt x="1197" y="952"/>
                        </a:lnTo>
                        <a:lnTo>
                          <a:pt x="1359" y="1096"/>
                        </a:lnTo>
                        <a:lnTo>
                          <a:pt x="1482" y="1156"/>
                        </a:lnTo>
                        <a:lnTo>
                          <a:pt x="1835" y="1156"/>
                        </a:lnTo>
                        <a:lnTo>
                          <a:pt x="1781" y="1073"/>
                        </a:lnTo>
                        <a:lnTo>
                          <a:pt x="1680" y="917"/>
                        </a:lnTo>
                        <a:lnTo>
                          <a:pt x="1656" y="823"/>
                        </a:lnTo>
                        <a:lnTo>
                          <a:pt x="1704" y="905"/>
                        </a:lnTo>
                        <a:lnTo>
                          <a:pt x="1764" y="983"/>
                        </a:lnTo>
                        <a:lnTo>
                          <a:pt x="1852" y="1078"/>
                        </a:lnTo>
                        <a:lnTo>
                          <a:pt x="1852" y="941"/>
                        </a:lnTo>
                        <a:lnTo>
                          <a:pt x="1758" y="823"/>
                        </a:lnTo>
                        <a:lnTo>
                          <a:pt x="1716" y="692"/>
                        </a:lnTo>
                        <a:lnTo>
                          <a:pt x="1710" y="650"/>
                        </a:lnTo>
                        <a:lnTo>
                          <a:pt x="1733" y="692"/>
                        </a:lnTo>
                        <a:lnTo>
                          <a:pt x="1787" y="792"/>
                        </a:lnTo>
                        <a:lnTo>
                          <a:pt x="1848" y="875"/>
                        </a:lnTo>
                        <a:lnTo>
                          <a:pt x="1835" y="709"/>
                        </a:lnTo>
                        <a:lnTo>
                          <a:pt x="1841" y="650"/>
                        </a:lnTo>
                        <a:lnTo>
                          <a:pt x="1829" y="608"/>
                        </a:lnTo>
                        <a:lnTo>
                          <a:pt x="1746" y="548"/>
                        </a:lnTo>
                        <a:lnTo>
                          <a:pt x="1698" y="602"/>
                        </a:lnTo>
                        <a:lnTo>
                          <a:pt x="1645" y="698"/>
                        </a:lnTo>
                        <a:lnTo>
                          <a:pt x="1597" y="757"/>
                        </a:lnTo>
                        <a:lnTo>
                          <a:pt x="1501" y="769"/>
                        </a:lnTo>
                        <a:lnTo>
                          <a:pt x="1417" y="775"/>
                        </a:lnTo>
                        <a:lnTo>
                          <a:pt x="1299" y="733"/>
                        </a:lnTo>
                        <a:lnTo>
                          <a:pt x="1144" y="692"/>
                        </a:lnTo>
                        <a:lnTo>
                          <a:pt x="923" y="614"/>
                        </a:lnTo>
                        <a:lnTo>
                          <a:pt x="720" y="531"/>
                        </a:lnTo>
                        <a:lnTo>
                          <a:pt x="155" y="322"/>
                        </a:lnTo>
                        <a:lnTo>
                          <a:pt x="190" y="150"/>
                        </a:lnTo>
                        <a:lnTo>
                          <a:pt x="220" y="6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83680" y="5170320"/>
                    <a:ext cx="20880" cy="115560"/>
                  </a:xfrm>
                  <a:custGeom>
                    <a:avLst/>
                    <a:gdLst/>
                    <a:ahLst/>
                    <a:rect l="l" t="t" r="r" b="b"/>
                    <a:pathLst>
                      <a:path w="142" h="881">
                        <a:moveTo>
                          <a:pt x="59" y="881"/>
                        </a:moveTo>
                        <a:lnTo>
                          <a:pt x="65" y="637"/>
                        </a:lnTo>
                        <a:lnTo>
                          <a:pt x="72" y="518"/>
                        </a:lnTo>
                        <a:lnTo>
                          <a:pt x="53" y="374"/>
                        </a:lnTo>
                        <a:lnTo>
                          <a:pt x="83" y="285"/>
                        </a:lnTo>
                        <a:lnTo>
                          <a:pt x="106" y="148"/>
                        </a:lnTo>
                        <a:lnTo>
                          <a:pt x="142" y="71"/>
                        </a:lnTo>
                        <a:lnTo>
                          <a:pt x="95" y="23"/>
                        </a:lnTo>
                        <a:lnTo>
                          <a:pt x="0" y="0"/>
                        </a:lnTo>
                        <a:lnTo>
                          <a:pt x="36" y="95"/>
                        </a:lnTo>
                        <a:lnTo>
                          <a:pt x="6" y="196"/>
                        </a:lnTo>
                        <a:lnTo>
                          <a:pt x="19" y="226"/>
                        </a:lnTo>
                        <a:lnTo>
                          <a:pt x="13" y="309"/>
                        </a:lnTo>
                        <a:lnTo>
                          <a:pt x="13" y="339"/>
                        </a:lnTo>
                        <a:lnTo>
                          <a:pt x="25" y="404"/>
                        </a:lnTo>
                        <a:lnTo>
                          <a:pt x="47" y="494"/>
                        </a:lnTo>
                        <a:lnTo>
                          <a:pt x="47" y="596"/>
                        </a:lnTo>
                        <a:lnTo>
                          <a:pt x="59" y="88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805640" y="5241600"/>
                    <a:ext cx="5040" cy="18360"/>
                  </a:xfrm>
                  <a:prstGeom prst="ellipse">
                    <a:avLst/>
                  </a:prstGeom>
                  <a:solidFill>
                    <a:srgbClr val="c0c0c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7" name=""/>
                  <p:cNvSpPr/>
                  <p:nvPr/>
                </p:nvSpPr>
                <p:spPr>
                  <a:xfrm>
                    <a:off x="5060880" y="5098680"/>
                    <a:ext cx="12600" cy="31320"/>
                  </a:xfrm>
                  <a:custGeom>
                    <a:avLst/>
                    <a:gdLst/>
                    <a:ahLst/>
                    <a:rect l="l" t="t" r="r" b="b"/>
                    <a:pathLst>
                      <a:path w="88" h="242">
                        <a:moveTo>
                          <a:pt x="88" y="0"/>
                        </a:moveTo>
                        <a:lnTo>
                          <a:pt x="13" y="60"/>
                        </a:lnTo>
                        <a:lnTo>
                          <a:pt x="0" y="118"/>
                        </a:lnTo>
                        <a:lnTo>
                          <a:pt x="35" y="183"/>
                        </a:lnTo>
                        <a:lnTo>
                          <a:pt x="88" y="242"/>
                        </a:lnTo>
                        <a:lnTo>
                          <a:pt x="88" y="0"/>
                        </a:lnTo>
                        <a:close/>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8" name=""/>
                  <p:cNvSpPr/>
                  <p:nvPr/>
                </p:nvSpPr>
                <p:spPr>
                  <a:xfrm>
                    <a:off x="4668480" y="5051520"/>
                    <a:ext cx="15120" cy="26280"/>
                  </a:xfrm>
                  <a:custGeom>
                    <a:avLst/>
                    <a:gdLst/>
                    <a:ahLst/>
                    <a:rect l="l" t="t" r="r" b="b"/>
                    <a:pathLst>
                      <a:path w="106" h="200">
                        <a:moveTo>
                          <a:pt x="106" y="0"/>
                        </a:moveTo>
                        <a:lnTo>
                          <a:pt x="59" y="52"/>
                        </a:lnTo>
                        <a:lnTo>
                          <a:pt x="19" y="112"/>
                        </a:lnTo>
                        <a:lnTo>
                          <a:pt x="6" y="158"/>
                        </a:lnTo>
                        <a:lnTo>
                          <a:pt x="0" y="200"/>
                        </a:lnTo>
                        <a:lnTo>
                          <a:pt x="53" y="200"/>
                        </a:lnTo>
                        <a:lnTo>
                          <a:pt x="106" y="194"/>
                        </a:lnTo>
                        <a:lnTo>
                          <a:pt x="106" y="118"/>
                        </a:lnTo>
                        <a:lnTo>
                          <a:pt x="106" y="0"/>
                        </a:lnTo>
                        <a:close/>
                      </a:path>
                    </a:pathLst>
                  </a:custGeom>
                  <a:solidFill>
                    <a:srgbClr val="e0e0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9" name=""/>
                  <p:cNvSpPr/>
                  <p:nvPr/>
                </p:nvSpPr>
                <p:spPr>
                  <a:xfrm>
                    <a:off x="4686120" y="5056200"/>
                    <a:ext cx="37440" cy="19800"/>
                  </a:xfrm>
                  <a:custGeom>
                    <a:avLst/>
                    <a:gdLst/>
                    <a:ahLst/>
                    <a:rect l="l" t="t" r="r" b="b"/>
                    <a:pathLst>
                      <a:path w="259" h="152">
                        <a:moveTo>
                          <a:pt x="0" y="0"/>
                        </a:moveTo>
                        <a:lnTo>
                          <a:pt x="5" y="99"/>
                        </a:lnTo>
                        <a:lnTo>
                          <a:pt x="5" y="146"/>
                        </a:lnTo>
                        <a:lnTo>
                          <a:pt x="17" y="152"/>
                        </a:lnTo>
                        <a:lnTo>
                          <a:pt x="76" y="140"/>
                        </a:lnTo>
                        <a:lnTo>
                          <a:pt x="183" y="105"/>
                        </a:lnTo>
                        <a:lnTo>
                          <a:pt x="259" y="35"/>
                        </a:lnTo>
                        <a:lnTo>
                          <a:pt x="171" y="51"/>
                        </a:lnTo>
                        <a:lnTo>
                          <a:pt x="93" y="40"/>
                        </a:lnTo>
                        <a:lnTo>
                          <a:pt x="82" y="116"/>
                        </a:lnTo>
                        <a:lnTo>
                          <a:pt x="59" y="122"/>
                        </a:lnTo>
                        <a:lnTo>
                          <a:pt x="70" y="40"/>
                        </a:lnTo>
                        <a:lnTo>
                          <a:pt x="0" y="0"/>
                        </a:lnTo>
                        <a:close/>
                      </a:path>
                    </a:pathLst>
                  </a:custGeom>
                  <a:solidFill>
                    <a:srgbClr val="e0e0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0" name=""/>
                  <p:cNvSpPr/>
                  <p:nvPr/>
                </p:nvSpPr>
                <p:spPr>
                  <a:xfrm>
                    <a:off x="4672080" y="5042160"/>
                    <a:ext cx="112320" cy="169200"/>
                  </a:xfrm>
                  <a:custGeom>
                    <a:avLst/>
                    <a:gdLst/>
                    <a:ahLst/>
                    <a:rect l="l" t="t" r="r" b="b"/>
                    <a:pathLst>
                      <a:path w="767" h="1293">
                        <a:moveTo>
                          <a:pt x="458" y="0"/>
                        </a:moveTo>
                        <a:lnTo>
                          <a:pt x="446" y="73"/>
                        </a:lnTo>
                        <a:lnTo>
                          <a:pt x="363" y="180"/>
                        </a:lnTo>
                        <a:lnTo>
                          <a:pt x="302" y="240"/>
                        </a:lnTo>
                        <a:lnTo>
                          <a:pt x="195" y="276"/>
                        </a:lnTo>
                        <a:lnTo>
                          <a:pt x="65" y="311"/>
                        </a:lnTo>
                        <a:lnTo>
                          <a:pt x="0" y="311"/>
                        </a:lnTo>
                        <a:lnTo>
                          <a:pt x="35" y="411"/>
                        </a:lnTo>
                        <a:lnTo>
                          <a:pt x="142" y="531"/>
                        </a:lnTo>
                        <a:lnTo>
                          <a:pt x="214" y="567"/>
                        </a:lnTo>
                        <a:lnTo>
                          <a:pt x="225" y="609"/>
                        </a:lnTo>
                        <a:lnTo>
                          <a:pt x="237" y="680"/>
                        </a:lnTo>
                        <a:lnTo>
                          <a:pt x="219" y="758"/>
                        </a:lnTo>
                        <a:lnTo>
                          <a:pt x="237" y="907"/>
                        </a:lnTo>
                        <a:lnTo>
                          <a:pt x="260" y="966"/>
                        </a:lnTo>
                        <a:lnTo>
                          <a:pt x="333" y="919"/>
                        </a:lnTo>
                        <a:lnTo>
                          <a:pt x="381" y="853"/>
                        </a:lnTo>
                        <a:lnTo>
                          <a:pt x="423" y="776"/>
                        </a:lnTo>
                        <a:lnTo>
                          <a:pt x="465" y="692"/>
                        </a:lnTo>
                        <a:lnTo>
                          <a:pt x="500" y="758"/>
                        </a:lnTo>
                        <a:lnTo>
                          <a:pt x="465" y="835"/>
                        </a:lnTo>
                        <a:lnTo>
                          <a:pt x="446" y="912"/>
                        </a:lnTo>
                        <a:lnTo>
                          <a:pt x="398" y="995"/>
                        </a:lnTo>
                        <a:lnTo>
                          <a:pt x="356" y="1061"/>
                        </a:lnTo>
                        <a:lnTo>
                          <a:pt x="350" y="1103"/>
                        </a:lnTo>
                        <a:lnTo>
                          <a:pt x="392" y="1199"/>
                        </a:lnTo>
                        <a:lnTo>
                          <a:pt x="440" y="1276"/>
                        </a:lnTo>
                        <a:lnTo>
                          <a:pt x="482" y="1293"/>
                        </a:lnTo>
                        <a:lnTo>
                          <a:pt x="559" y="1293"/>
                        </a:lnTo>
                        <a:lnTo>
                          <a:pt x="612" y="1287"/>
                        </a:lnTo>
                        <a:lnTo>
                          <a:pt x="683" y="1281"/>
                        </a:lnTo>
                        <a:lnTo>
                          <a:pt x="750" y="1281"/>
                        </a:lnTo>
                        <a:lnTo>
                          <a:pt x="744" y="1193"/>
                        </a:lnTo>
                        <a:lnTo>
                          <a:pt x="767" y="1091"/>
                        </a:lnTo>
                        <a:lnTo>
                          <a:pt x="750" y="966"/>
                        </a:lnTo>
                        <a:lnTo>
                          <a:pt x="671" y="931"/>
                        </a:lnTo>
                        <a:lnTo>
                          <a:pt x="696" y="1037"/>
                        </a:lnTo>
                        <a:lnTo>
                          <a:pt x="696" y="1097"/>
                        </a:lnTo>
                        <a:lnTo>
                          <a:pt x="690" y="1199"/>
                        </a:lnTo>
                        <a:lnTo>
                          <a:pt x="671" y="1222"/>
                        </a:lnTo>
                        <a:lnTo>
                          <a:pt x="666" y="1132"/>
                        </a:lnTo>
                        <a:lnTo>
                          <a:pt x="666" y="1019"/>
                        </a:lnTo>
                        <a:lnTo>
                          <a:pt x="648" y="895"/>
                        </a:lnTo>
                        <a:lnTo>
                          <a:pt x="635" y="978"/>
                        </a:lnTo>
                        <a:lnTo>
                          <a:pt x="624" y="1109"/>
                        </a:lnTo>
                        <a:lnTo>
                          <a:pt x="600" y="1193"/>
                        </a:lnTo>
                        <a:lnTo>
                          <a:pt x="600" y="1103"/>
                        </a:lnTo>
                        <a:lnTo>
                          <a:pt x="618" y="966"/>
                        </a:lnTo>
                        <a:lnTo>
                          <a:pt x="612" y="889"/>
                        </a:lnTo>
                        <a:lnTo>
                          <a:pt x="571" y="1025"/>
                        </a:lnTo>
                        <a:lnTo>
                          <a:pt x="559" y="1103"/>
                        </a:lnTo>
                        <a:lnTo>
                          <a:pt x="488" y="1151"/>
                        </a:lnTo>
                        <a:lnTo>
                          <a:pt x="542" y="1067"/>
                        </a:lnTo>
                        <a:lnTo>
                          <a:pt x="565" y="954"/>
                        </a:lnTo>
                        <a:lnTo>
                          <a:pt x="583" y="871"/>
                        </a:lnTo>
                        <a:lnTo>
                          <a:pt x="524" y="978"/>
                        </a:lnTo>
                        <a:lnTo>
                          <a:pt x="476" y="1013"/>
                        </a:lnTo>
                        <a:lnTo>
                          <a:pt x="517" y="943"/>
                        </a:lnTo>
                        <a:lnTo>
                          <a:pt x="548" y="877"/>
                        </a:lnTo>
                        <a:lnTo>
                          <a:pt x="548" y="829"/>
                        </a:lnTo>
                        <a:lnTo>
                          <a:pt x="524" y="776"/>
                        </a:lnTo>
                        <a:lnTo>
                          <a:pt x="500" y="728"/>
                        </a:lnTo>
                        <a:lnTo>
                          <a:pt x="476" y="686"/>
                        </a:lnTo>
                        <a:lnTo>
                          <a:pt x="482" y="638"/>
                        </a:lnTo>
                        <a:lnTo>
                          <a:pt x="488" y="620"/>
                        </a:lnTo>
                        <a:lnTo>
                          <a:pt x="469" y="555"/>
                        </a:lnTo>
                        <a:lnTo>
                          <a:pt x="494" y="507"/>
                        </a:lnTo>
                        <a:lnTo>
                          <a:pt x="494" y="423"/>
                        </a:lnTo>
                        <a:lnTo>
                          <a:pt x="446" y="507"/>
                        </a:lnTo>
                        <a:lnTo>
                          <a:pt x="417" y="573"/>
                        </a:lnTo>
                        <a:lnTo>
                          <a:pt x="356" y="662"/>
                        </a:lnTo>
                        <a:lnTo>
                          <a:pt x="386" y="573"/>
                        </a:lnTo>
                        <a:lnTo>
                          <a:pt x="440" y="483"/>
                        </a:lnTo>
                        <a:lnTo>
                          <a:pt x="469" y="406"/>
                        </a:lnTo>
                        <a:lnTo>
                          <a:pt x="494" y="369"/>
                        </a:lnTo>
                        <a:lnTo>
                          <a:pt x="494" y="299"/>
                        </a:lnTo>
                        <a:lnTo>
                          <a:pt x="482" y="251"/>
                        </a:lnTo>
                        <a:lnTo>
                          <a:pt x="482" y="215"/>
                        </a:lnTo>
                        <a:lnTo>
                          <a:pt x="494" y="168"/>
                        </a:lnTo>
                        <a:lnTo>
                          <a:pt x="524" y="132"/>
                        </a:lnTo>
                        <a:lnTo>
                          <a:pt x="506" y="84"/>
                        </a:lnTo>
                        <a:lnTo>
                          <a:pt x="458"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713840" y="5143320"/>
                    <a:ext cx="24840" cy="38880"/>
                  </a:xfrm>
                  <a:custGeom>
                    <a:avLst/>
                    <a:gdLst/>
                    <a:ahLst/>
                    <a:rect l="l" t="t" r="r" b="b"/>
                    <a:pathLst>
                      <a:path w="171" h="296">
                        <a:moveTo>
                          <a:pt x="171" y="0"/>
                        </a:moveTo>
                        <a:lnTo>
                          <a:pt x="106" y="106"/>
                        </a:lnTo>
                        <a:lnTo>
                          <a:pt x="47" y="172"/>
                        </a:lnTo>
                        <a:lnTo>
                          <a:pt x="0" y="214"/>
                        </a:lnTo>
                        <a:lnTo>
                          <a:pt x="36" y="296"/>
                        </a:lnTo>
                        <a:lnTo>
                          <a:pt x="89" y="195"/>
                        </a:lnTo>
                        <a:lnTo>
                          <a:pt x="106" y="148"/>
                        </a:lnTo>
                        <a:lnTo>
                          <a:pt x="171" y="0"/>
                        </a:lnTo>
                        <a:close/>
                      </a:path>
                    </a:pathLst>
                  </a:custGeom>
                  <a:solidFill>
                    <a:srgbClr val="e0e0e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2" name=""/>
                  <p:cNvSpPr/>
                  <p:nvPr/>
                </p:nvSpPr>
                <p:spPr>
                  <a:xfrm>
                    <a:off x="4687560" y="5114160"/>
                    <a:ext cx="11520" cy="23760"/>
                  </a:xfrm>
                  <a:custGeom>
                    <a:avLst/>
                    <a:gdLst/>
                    <a:ahLst/>
                    <a:rect l="l" t="t" r="r" b="b"/>
                    <a:pathLst>
                      <a:path w="81" h="183">
                        <a:moveTo>
                          <a:pt x="0" y="0"/>
                        </a:moveTo>
                        <a:lnTo>
                          <a:pt x="40" y="29"/>
                        </a:lnTo>
                        <a:lnTo>
                          <a:pt x="75" y="65"/>
                        </a:lnTo>
                        <a:lnTo>
                          <a:pt x="81" y="124"/>
                        </a:lnTo>
                        <a:lnTo>
                          <a:pt x="81" y="183"/>
                        </a:lnTo>
                        <a:lnTo>
                          <a:pt x="0" y="0"/>
                        </a:lnTo>
                        <a:close/>
                      </a:path>
                    </a:pathLst>
                  </a:custGeom>
                  <a:solidFill>
                    <a:srgbClr val="e0e0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3" name=""/>
                  <p:cNvSpPr/>
                  <p:nvPr/>
                </p:nvSpPr>
                <p:spPr>
                  <a:xfrm>
                    <a:off x="4683240" y="4944240"/>
                    <a:ext cx="28440" cy="30960"/>
                  </a:xfrm>
                  <a:custGeom>
                    <a:avLst/>
                    <a:gdLst/>
                    <a:ahLst/>
                    <a:rect l="l" t="t" r="r" b="b"/>
                    <a:pathLst>
                      <a:path w="194" h="235">
                        <a:moveTo>
                          <a:pt x="95" y="0"/>
                        </a:moveTo>
                        <a:lnTo>
                          <a:pt x="0" y="56"/>
                        </a:lnTo>
                        <a:lnTo>
                          <a:pt x="98" y="235"/>
                        </a:lnTo>
                        <a:lnTo>
                          <a:pt x="126" y="235"/>
                        </a:lnTo>
                        <a:lnTo>
                          <a:pt x="158" y="226"/>
                        </a:lnTo>
                        <a:lnTo>
                          <a:pt x="180" y="208"/>
                        </a:lnTo>
                        <a:lnTo>
                          <a:pt x="194" y="181"/>
                        </a:lnTo>
                        <a:lnTo>
                          <a:pt x="95" y="0"/>
                        </a:lnTo>
                        <a:close/>
                      </a:path>
                    </a:pathLst>
                  </a:custGeom>
                  <a:solidFill>
                    <a:srgbClr val="808080"/>
                  </a:solidFill>
                  <a:ln w="46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344" name=""/>
                  <p:cNvGrpSpPr/>
                  <p:nvPr/>
                </p:nvGrpSpPr>
                <p:grpSpPr>
                  <a:xfrm>
                    <a:off x="4762080" y="5047920"/>
                    <a:ext cx="36720" cy="30240"/>
                    <a:chOff x="4762080" y="5047920"/>
                    <a:chExt cx="36720" cy="30240"/>
                  </a:xfrm>
                </p:grpSpPr>
                <p:sp>
                  <p:nvSpPr>
                    <p:cNvPr id="345" name=""/>
                    <p:cNvSpPr/>
                    <p:nvPr/>
                  </p:nvSpPr>
                  <p:spPr>
                    <a:xfrm>
                      <a:off x="4788360" y="5060520"/>
                      <a:ext cx="5040" cy="17640"/>
                    </a:xfrm>
                    <a:custGeom>
                      <a:avLst/>
                      <a:gdLst/>
                      <a:ahLst/>
                      <a:rect l="l" t="t" r="r" b="b"/>
                      <a:pathLst>
                        <a:path w="38" h="134">
                          <a:moveTo>
                            <a:pt x="9" y="0"/>
                          </a:moveTo>
                          <a:lnTo>
                            <a:pt x="38" y="49"/>
                          </a:lnTo>
                          <a:lnTo>
                            <a:pt x="36" y="94"/>
                          </a:lnTo>
                          <a:lnTo>
                            <a:pt x="14" y="128"/>
                          </a:lnTo>
                          <a:lnTo>
                            <a:pt x="0" y="134"/>
                          </a:lnTo>
                          <a:lnTo>
                            <a:pt x="0" y="56"/>
                          </a:lnTo>
                          <a:lnTo>
                            <a:pt x="9" y="0"/>
                          </a:lnTo>
                          <a:close/>
                        </a:path>
                      </a:pathLst>
                    </a:custGeom>
                    <a:solidFill>
                      <a:srgbClr val="80808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 name=""/>
                    <p:cNvSpPr/>
                    <p:nvPr/>
                  </p:nvSpPr>
                  <p:spPr>
                    <a:xfrm>
                      <a:off x="4762080" y="5047920"/>
                      <a:ext cx="36720" cy="23400"/>
                    </a:xfrm>
                    <a:custGeom>
                      <a:avLst/>
                      <a:gdLst/>
                      <a:ahLst/>
                      <a:rect l="l" t="t" r="r" b="b"/>
                      <a:pathLst>
                        <a:path w="253" h="177">
                          <a:moveTo>
                            <a:pt x="196" y="27"/>
                          </a:moveTo>
                          <a:lnTo>
                            <a:pt x="253" y="0"/>
                          </a:lnTo>
                          <a:lnTo>
                            <a:pt x="239" y="60"/>
                          </a:lnTo>
                          <a:lnTo>
                            <a:pt x="0" y="177"/>
                          </a:lnTo>
                          <a:lnTo>
                            <a:pt x="22" y="103"/>
                          </a:lnTo>
                          <a:lnTo>
                            <a:pt x="196" y="27"/>
                          </a:lnTo>
                          <a:close/>
                        </a:path>
                      </a:pathLst>
                    </a:custGeom>
                    <a:solidFill>
                      <a:srgbClr val="808080"/>
                    </a:solidFill>
                    <a:ln w="46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347" name=""/>
                  <p:cNvGrpSpPr/>
                  <p:nvPr/>
                </p:nvGrpSpPr>
                <p:grpSpPr>
                  <a:xfrm>
                    <a:off x="4744440" y="5040000"/>
                    <a:ext cx="114480" cy="152280"/>
                    <a:chOff x="4744440" y="5040000"/>
                    <a:chExt cx="114480" cy="152280"/>
                  </a:xfrm>
                </p:grpSpPr>
                <p:sp>
                  <p:nvSpPr>
                    <p:cNvPr id="348" name=""/>
                    <p:cNvSpPr/>
                    <p:nvPr/>
                  </p:nvSpPr>
                  <p:spPr>
                    <a:xfrm>
                      <a:off x="4744440" y="5040000"/>
                      <a:ext cx="114480" cy="152280"/>
                    </a:xfrm>
                    <a:custGeom>
                      <a:avLst/>
                      <a:gdLst/>
                      <a:ahLst/>
                      <a:rect l="l" t="t" r="r" b="b"/>
                      <a:pathLst>
                        <a:path w="783" h="1162">
                          <a:moveTo>
                            <a:pt x="622" y="1162"/>
                          </a:moveTo>
                          <a:lnTo>
                            <a:pt x="546" y="1091"/>
                          </a:lnTo>
                          <a:lnTo>
                            <a:pt x="450" y="1039"/>
                          </a:lnTo>
                          <a:lnTo>
                            <a:pt x="390" y="1001"/>
                          </a:lnTo>
                          <a:lnTo>
                            <a:pt x="286" y="979"/>
                          </a:lnTo>
                          <a:lnTo>
                            <a:pt x="197" y="925"/>
                          </a:lnTo>
                          <a:lnTo>
                            <a:pt x="148" y="881"/>
                          </a:lnTo>
                          <a:lnTo>
                            <a:pt x="81" y="808"/>
                          </a:lnTo>
                          <a:lnTo>
                            <a:pt x="27" y="735"/>
                          </a:lnTo>
                          <a:lnTo>
                            <a:pt x="3" y="710"/>
                          </a:lnTo>
                          <a:lnTo>
                            <a:pt x="0" y="673"/>
                          </a:lnTo>
                          <a:lnTo>
                            <a:pt x="16" y="635"/>
                          </a:lnTo>
                          <a:lnTo>
                            <a:pt x="5" y="576"/>
                          </a:lnTo>
                          <a:lnTo>
                            <a:pt x="27" y="537"/>
                          </a:lnTo>
                          <a:lnTo>
                            <a:pt x="16" y="499"/>
                          </a:lnTo>
                          <a:lnTo>
                            <a:pt x="11" y="468"/>
                          </a:lnTo>
                          <a:lnTo>
                            <a:pt x="18" y="443"/>
                          </a:lnTo>
                          <a:lnTo>
                            <a:pt x="22" y="383"/>
                          </a:lnTo>
                          <a:lnTo>
                            <a:pt x="25" y="335"/>
                          </a:lnTo>
                          <a:lnTo>
                            <a:pt x="14" y="266"/>
                          </a:lnTo>
                          <a:lnTo>
                            <a:pt x="7" y="229"/>
                          </a:lnTo>
                          <a:lnTo>
                            <a:pt x="16" y="195"/>
                          </a:lnTo>
                          <a:lnTo>
                            <a:pt x="34" y="166"/>
                          </a:lnTo>
                          <a:lnTo>
                            <a:pt x="63" y="146"/>
                          </a:lnTo>
                          <a:lnTo>
                            <a:pt x="92" y="111"/>
                          </a:lnTo>
                          <a:lnTo>
                            <a:pt x="106" y="92"/>
                          </a:lnTo>
                          <a:lnTo>
                            <a:pt x="133" y="78"/>
                          </a:lnTo>
                          <a:lnTo>
                            <a:pt x="155" y="67"/>
                          </a:lnTo>
                          <a:lnTo>
                            <a:pt x="184" y="70"/>
                          </a:lnTo>
                          <a:lnTo>
                            <a:pt x="199" y="83"/>
                          </a:lnTo>
                          <a:lnTo>
                            <a:pt x="199" y="109"/>
                          </a:lnTo>
                          <a:lnTo>
                            <a:pt x="188" y="130"/>
                          </a:lnTo>
                          <a:lnTo>
                            <a:pt x="155" y="184"/>
                          </a:lnTo>
                          <a:lnTo>
                            <a:pt x="134" y="226"/>
                          </a:lnTo>
                          <a:lnTo>
                            <a:pt x="148" y="318"/>
                          </a:lnTo>
                          <a:lnTo>
                            <a:pt x="168" y="275"/>
                          </a:lnTo>
                          <a:lnTo>
                            <a:pt x="182" y="233"/>
                          </a:lnTo>
                          <a:lnTo>
                            <a:pt x="180" y="195"/>
                          </a:lnTo>
                          <a:lnTo>
                            <a:pt x="188" y="158"/>
                          </a:lnTo>
                          <a:lnTo>
                            <a:pt x="209" y="119"/>
                          </a:lnTo>
                          <a:lnTo>
                            <a:pt x="221" y="72"/>
                          </a:lnTo>
                          <a:lnTo>
                            <a:pt x="242" y="33"/>
                          </a:lnTo>
                          <a:lnTo>
                            <a:pt x="262" y="8"/>
                          </a:lnTo>
                          <a:lnTo>
                            <a:pt x="286" y="0"/>
                          </a:lnTo>
                          <a:lnTo>
                            <a:pt x="316" y="7"/>
                          </a:lnTo>
                          <a:lnTo>
                            <a:pt x="322" y="27"/>
                          </a:lnTo>
                          <a:lnTo>
                            <a:pt x="325" y="56"/>
                          </a:lnTo>
                          <a:lnTo>
                            <a:pt x="321" y="83"/>
                          </a:lnTo>
                          <a:lnTo>
                            <a:pt x="311" y="113"/>
                          </a:lnTo>
                          <a:lnTo>
                            <a:pt x="302" y="152"/>
                          </a:lnTo>
                          <a:lnTo>
                            <a:pt x="296" y="204"/>
                          </a:lnTo>
                          <a:lnTo>
                            <a:pt x="296" y="258"/>
                          </a:lnTo>
                          <a:lnTo>
                            <a:pt x="294" y="307"/>
                          </a:lnTo>
                          <a:lnTo>
                            <a:pt x="298" y="331"/>
                          </a:lnTo>
                          <a:lnTo>
                            <a:pt x="314" y="365"/>
                          </a:lnTo>
                          <a:lnTo>
                            <a:pt x="330" y="394"/>
                          </a:lnTo>
                          <a:lnTo>
                            <a:pt x="365" y="404"/>
                          </a:lnTo>
                          <a:lnTo>
                            <a:pt x="347" y="343"/>
                          </a:lnTo>
                          <a:lnTo>
                            <a:pt x="338" y="301"/>
                          </a:lnTo>
                          <a:lnTo>
                            <a:pt x="336" y="264"/>
                          </a:lnTo>
                          <a:lnTo>
                            <a:pt x="338" y="229"/>
                          </a:lnTo>
                          <a:lnTo>
                            <a:pt x="343" y="199"/>
                          </a:lnTo>
                          <a:lnTo>
                            <a:pt x="352" y="170"/>
                          </a:lnTo>
                          <a:lnTo>
                            <a:pt x="360" y="147"/>
                          </a:lnTo>
                          <a:lnTo>
                            <a:pt x="376" y="136"/>
                          </a:lnTo>
                          <a:lnTo>
                            <a:pt x="401" y="135"/>
                          </a:lnTo>
                          <a:lnTo>
                            <a:pt x="414" y="147"/>
                          </a:lnTo>
                          <a:lnTo>
                            <a:pt x="419" y="172"/>
                          </a:lnTo>
                          <a:lnTo>
                            <a:pt x="422" y="209"/>
                          </a:lnTo>
                          <a:lnTo>
                            <a:pt x="433" y="234"/>
                          </a:lnTo>
                          <a:lnTo>
                            <a:pt x="441" y="266"/>
                          </a:lnTo>
                          <a:lnTo>
                            <a:pt x="441" y="302"/>
                          </a:lnTo>
                          <a:lnTo>
                            <a:pt x="461" y="352"/>
                          </a:lnTo>
                          <a:lnTo>
                            <a:pt x="499" y="378"/>
                          </a:lnTo>
                          <a:lnTo>
                            <a:pt x="526" y="400"/>
                          </a:lnTo>
                          <a:lnTo>
                            <a:pt x="540" y="432"/>
                          </a:lnTo>
                          <a:lnTo>
                            <a:pt x="558" y="470"/>
                          </a:lnTo>
                          <a:lnTo>
                            <a:pt x="562" y="510"/>
                          </a:lnTo>
                          <a:lnTo>
                            <a:pt x="589" y="574"/>
                          </a:lnTo>
                          <a:lnTo>
                            <a:pt x="600" y="596"/>
                          </a:lnTo>
                          <a:lnTo>
                            <a:pt x="613" y="631"/>
                          </a:lnTo>
                          <a:lnTo>
                            <a:pt x="625" y="708"/>
                          </a:lnTo>
                          <a:lnTo>
                            <a:pt x="709" y="775"/>
                          </a:lnTo>
                          <a:lnTo>
                            <a:pt x="783" y="818"/>
                          </a:lnTo>
                          <a:lnTo>
                            <a:pt x="622" y="1162"/>
                          </a:lnTo>
                          <a:close/>
                        </a:path>
                      </a:pathLst>
                    </a:custGeom>
                    <a:solidFill>
                      <a:srgbClr val="80400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757400" y="5049360"/>
                      <a:ext cx="15480" cy="44280"/>
                    </a:xfrm>
                    <a:custGeom>
                      <a:avLst/>
                      <a:gdLst/>
                      <a:ahLst/>
                      <a:rect l="l" t="t" r="r" b="b"/>
                      <a:pathLst>
                        <a:path w="107" h="340">
                          <a:moveTo>
                            <a:pt x="85" y="0"/>
                          </a:moveTo>
                          <a:lnTo>
                            <a:pt x="78" y="32"/>
                          </a:lnTo>
                          <a:lnTo>
                            <a:pt x="64" y="65"/>
                          </a:lnTo>
                          <a:lnTo>
                            <a:pt x="40" y="61"/>
                          </a:lnTo>
                          <a:lnTo>
                            <a:pt x="51" y="72"/>
                          </a:lnTo>
                          <a:lnTo>
                            <a:pt x="40" y="104"/>
                          </a:lnTo>
                          <a:lnTo>
                            <a:pt x="25" y="118"/>
                          </a:lnTo>
                          <a:lnTo>
                            <a:pt x="0" y="118"/>
                          </a:lnTo>
                          <a:lnTo>
                            <a:pt x="11" y="140"/>
                          </a:lnTo>
                          <a:lnTo>
                            <a:pt x="9" y="186"/>
                          </a:lnTo>
                          <a:lnTo>
                            <a:pt x="11" y="227"/>
                          </a:lnTo>
                          <a:lnTo>
                            <a:pt x="14" y="262"/>
                          </a:lnTo>
                          <a:lnTo>
                            <a:pt x="22" y="297"/>
                          </a:lnTo>
                          <a:lnTo>
                            <a:pt x="27" y="327"/>
                          </a:lnTo>
                          <a:lnTo>
                            <a:pt x="43" y="340"/>
                          </a:lnTo>
                          <a:lnTo>
                            <a:pt x="41" y="305"/>
                          </a:lnTo>
                          <a:lnTo>
                            <a:pt x="46" y="272"/>
                          </a:lnTo>
                          <a:lnTo>
                            <a:pt x="57" y="248"/>
                          </a:lnTo>
                          <a:lnTo>
                            <a:pt x="48" y="194"/>
                          </a:lnTo>
                          <a:lnTo>
                            <a:pt x="41" y="154"/>
                          </a:lnTo>
                          <a:lnTo>
                            <a:pt x="57" y="123"/>
                          </a:lnTo>
                          <a:lnTo>
                            <a:pt x="73" y="96"/>
                          </a:lnTo>
                          <a:lnTo>
                            <a:pt x="83" y="75"/>
                          </a:lnTo>
                          <a:lnTo>
                            <a:pt x="107" y="40"/>
                          </a:lnTo>
                          <a:lnTo>
                            <a:pt x="105" y="10"/>
                          </a:lnTo>
                          <a:lnTo>
                            <a:pt x="85" y="0"/>
                          </a:lnTo>
                          <a:close/>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0" name=""/>
                    <p:cNvSpPr/>
                    <p:nvPr/>
                  </p:nvSpPr>
                  <p:spPr>
                    <a:xfrm>
                      <a:off x="4770720" y="5089320"/>
                      <a:ext cx="6840" cy="14760"/>
                    </a:xfrm>
                    <a:custGeom>
                      <a:avLst/>
                      <a:gdLst/>
                      <a:ahLst/>
                      <a:rect l="l" t="t" r="r" b="b"/>
                      <a:pathLst>
                        <a:path w="47" h="114">
                          <a:moveTo>
                            <a:pt x="0" y="0"/>
                          </a:moveTo>
                          <a:lnTo>
                            <a:pt x="2" y="37"/>
                          </a:lnTo>
                          <a:lnTo>
                            <a:pt x="23" y="86"/>
                          </a:lnTo>
                          <a:lnTo>
                            <a:pt x="47" y="114"/>
                          </a:lnTo>
                          <a:lnTo>
                            <a:pt x="34" y="59"/>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 name=""/>
                    <p:cNvSpPr/>
                    <p:nvPr/>
                  </p:nvSpPr>
                  <p:spPr>
                    <a:xfrm>
                      <a:off x="4746600" y="5110200"/>
                      <a:ext cx="10440" cy="9360"/>
                    </a:xfrm>
                    <a:custGeom>
                      <a:avLst/>
                      <a:gdLst/>
                      <a:ahLst/>
                      <a:rect l="l" t="t" r="r" b="b"/>
                      <a:pathLst>
                        <a:path w="71" h="70">
                          <a:moveTo>
                            <a:pt x="14" y="0"/>
                          </a:moveTo>
                          <a:lnTo>
                            <a:pt x="32" y="28"/>
                          </a:lnTo>
                          <a:lnTo>
                            <a:pt x="71" y="70"/>
                          </a:lnTo>
                          <a:lnTo>
                            <a:pt x="28" y="50"/>
                          </a:lnTo>
                          <a:lnTo>
                            <a:pt x="0" y="23"/>
                          </a:lnTo>
                          <a:lnTo>
                            <a:pt x="14" y="0"/>
                          </a:lnTo>
                          <a:close/>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4751640" y="5098680"/>
                      <a:ext cx="5760" cy="6480"/>
                    </a:xfrm>
                    <a:custGeom>
                      <a:avLst/>
                      <a:gdLst/>
                      <a:ahLst/>
                      <a:rect l="l" t="t" r="r" b="b"/>
                      <a:pathLst>
                        <a:path w="38" h="52">
                          <a:moveTo>
                            <a:pt x="0" y="0"/>
                          </a:moveTo>
                          <a:lnTo>
                            <a:pt x="0" y="21"/>
                          </a:lnTo>
                          <a:lnTo>
                            <a:pt x="8" y="44"/>
                          </a:lnTo>
                          <a:lnTo>
                            <a:pt x="38" y="52"/>
                          </a:lnTo>
                          <a:lnTo>
                            <a:pt x="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3" name=""/>
                    <p:cNvSpPr/>
                    <p:nvPr/>
                  </p:nvSpPr>
                  <p:spPr>
                    <a:xfrm>
                      <a:off x="4780440" y="5043960"/>
                      <a:ext cx="8280" cy="1800"/>
                    </a:xfrm>
                    <a:custGeom>
                      <a:avLst/>
                      <a:gdLst/>
                      <a:ahLst/>
                      <a:rect l="l" t="t" r="r" b="b"/>
                      <a:pathLst>
                        <a:path w="57" h="14">
                          <a:moveTo>
                            <a:pt x="0" y="14"/>
                          </a:moveTo>
                          <a:lnTo>
                            <a:pt x="29" y="12"/>
                          </a:lnTo>
                          <a:lnTo>
                            <a:pt x="52" y="5"/>
                          </a:lnTo>
                          <a:lnTo>
                            <a:pt x="57" y="0"/>
                          </a:lnTo>
                          <a:lnTo>
                            <a:pt x="0" y="14"/>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a:off x="4779000" y="5042160"/>
                      <a:ext cx="19800" cy="55440"/>
                    </a:xfrm>
                    <a:custGeom>
                      <a:avLst/>
                      <a:gdLst/>
                      <a:ahLst/>
                      <a:rect l="l" t="t" r="r" b="b"/>
                      <a:pathLst>
                        <a:path w="139" h="423">
                          <a:moveTo>
                            <a:pt x="83" y="0"/>
                          </a:moveTo>
                          <a:lnTo>
                            <a:pt x="89" y="28"/>
                          </a:lnTo>
                          <a:lnTo>
                            <a:pt x="84" y="58"/>
                          </a:lnTo>
                          <a:lnTo>
                            <a:pt x="75" y="85"/>
                          </a:lnTo>
                          <a:lnTo>
                            <a:pt x="69" y="113"/>
                          </a:lnTo>
                          <a:lnTo>
                            <a:pt x="62" y="144"/>
                          </a:lnTo>
                          <a:lnTo>
                            <a:pt x="58" y="182"/>
                          </a:lnTo>
                          <a:lnTo>
                            <a:pt x="58" y="211"/>
                          </a:lnTo>
                          <a:lnTo>
                            <a:pt x="59" y="264"/>
                          </a:lnTo>
                          <a:lnTo>
                            <a:pt x="58" y="307"/>
                          </a:lnTo>
                          <a:lnTo>
                            <a:pt x="89" y="374"/>
                          </a:lnTo>
                          <a:lnTo>
                            <a:pt x="126" y="382"/>
                          </a:lnTo>
                          <a:lnTo>
                            <a:pt x="139" y="423"/>
                          </a:lnTo>
                          <a:lnTo>
                            <a:pt x="94" y="396"/>
                          </a:lnTo>
                          <a:lnTo>
                            <a:pt x="67" y="387"/>
                          </a:lnTo>
                          <a:lnTo>
                            <a:pt x="27" y="347"/>
                          </a:lnTo>
                          <a:lnTo>
                            <a:pt x="30" y="312"/>
                          </a:lnTo>
                          <a:lnTo>
                            <a:pt x="16" y="280"/>
                          </a:lnTo>
                          <a:lnTo>
                            <a:pt x="0" y="274"/>
                          </a:lnTo>
                          <a:lnTo>
                            <a:pt x="19" y="229"/>
                          </a:lnTo>
                          <a:lnTo>
                            <a:pt x="27" y="187"/>
                          </a:lnTo>
                          <a:lnTo>
                            <a:pt x="27" y="155"/>
                          </a:lnTo>
                          <a:lnTo>
                            <a:pt x="19" y="144"/>
                          </a:lnTo>
                          <a:lnTo>
                            <a:pt x="45" y="138"/>
                          </a:lnTo>
                          <a:lnTo>
                            <a:pt x="51" y="106"/>
                          </a:lnTo>
                          <a:lnTo>
                            <a:pt x="56" y="66"/>
                          </a:lnTo>
                          <a:lnTo>
                            <a:pt x="70" y="36"/>
                          </a:lnTo>
                          <a:lnTo>
                            <a:pt x="83"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 name=""/>
                    <p:cNvSpPr/>
                    <p:nvPr/>
                  </p:nvSpPr>
                  <p:spPr>
                    <a:xfrm>
                      <a:off x="4796280" y="5061600"/>
                      <a:ext cx="24120" cy="32400"/>
                    </a:xfrm>
                    <a:custGeom>
                      <a:avLst/>
                      <a:gdLst/>
                      <a:ahLst/>
                      <a:rect l="l" t="t" r="r" b="b"/>
                      <a:pathLst>
                        <a:path w="165" h="248">
                          <a:moveTo>
                            <a:pt x="27" y="0"/>
                          </a:moveTo>
                          <a:lnTo>
                            <a:pt x="30" y="17"/>
                          </a:lnTo>
                          <a:lnTo>
                            <a:pt x="36" y="31"/>
                          </a:lnTo>
                          <a:lnTo>
                            <a:pt x="57" y="38"/>
                          </a:lnTo>
                          <a:lnTo>
                            <a:pt x="70" y="49"/>
                          </a:lnTo>
                          <a:lnTo>
                            <a:pt x="75" y="68"/>
                          </a:lnTo>
                          <a:lnTo>
                            <a:pt x="84" y="89"/>
                          </a:lnTo>
                          <a:lnTo>
                            <a:pt x="84" y="103"/>
                          </a:lnTo>
                          <a:lnTo>
                            <a:pt x="84" y="138"/>
                          </a:lnTo>
                          <a:lnTo>
                            <a:pt x="106" y="187"/>
                          </a:lnTo>
                          <a:lnTo>
                            <a:pt x="129" y="197"/>
                          </a:lnTo>
                          <a:lnTo>
                            <a:pt x="165" y="230"/>
                          </a:lnTo>
                          <a:lnTo>
                            <a:pt x="103" y="200"/>
                          </a:lnTo>
                          <a:lnTo>
                            <a:pt x="78" y="210"/>
                          </a:lnTo>
                          <a:lnTo>
                            <a:pt x="38" y="248"/>
                          </a:lnTo>
                          <a:lnTo>
                            <a:pt x="11" y="230"/>
                          </a:lnTo>
                          <a:lnTo>
                            <a:pt x="0" y="187"/>
                          </a:lnTo>
                          <a:lnTo>
                            <a:pt x="0" y="144"/>
                          </a:lnTo>
                          <a:lnTo>
                            <a:pt x="16" y="113"/>
                          </a:lnTo>
                          <a:lnTo>
                            <a:pt x="43" y="103"/>
                          </a:lnTo>
                          <a:lnTo>
                            <a:pt x="17" y="103"/>
                          </a:lnTo>
                          <a:lnTo>
                            <a:pt x="3" y="111"/>
                          </a:lnTo>
                          <a:lnTo>
                            <a:pt x="31" y="90"/>
                          </a:lnTo>
                          <a:lnTo>
                            <a:pt x="38" y="68"/>
                          </a:lnTo>
                          <a:lnTo>
                            <a:pt x="30" y="42"/>
                          </a:lnTo>
                          <a:lnTo>
                            <a:pt x="22" y="33"/>
                          </a:lnTo>
                          <a:lnTo>
                            <a:pt x="27" y="0"/>
                          </a:lnTo>
                          <a:close/>
                        </a:path>
                      </a:pathLst>
                    </a:custGeom>
                    <a:solidFill>
                      <a:srgbClr val="402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6" name=""/>
                    <p:cNvSpPr/>
                    <p:nvPr/>
                  </p:nvSpPr>
                  <p:spPr>
                    <a:xfrm>
                      <a:off x="4812120" y="5095800"/>
                      <a:ext cx="46440" cy="65880"/>
                    </a:xfrm>
                    <a:custGeom>
                      <a:avLst/>
                      <a:gdLst/>
                      <a:ahLst/>
                      <a:rect l="l" t="t" r="r" b="b"/>
                      <a:pathLst>
                        <a:path w="317" h="504">
                          <a:moveTo>
                            <a:pt x="266" y="504"/>
                          </a:moveTo>
                          <a:lnTo>
                            <a:pt x="317" y="392"/>
                          </a:lnTo>
                          <a:lnTo>
                            <a:pt x="243" y="348"/>
                          </a:lnTo>
                          <a:lnTo>
                            <a:pt x="159" y="285"/>
                          </a:lnTo>
                          <a:lnTo>
                            <a:pt x="151" y="209"/>
                          </a:lnTo>
                          <a:lnTo>
                            <a:pt x="135" y="165"/>
                          </a:lnTo>
                          <a:lnTo>
                            <a:pt x="94" y="87"/>
                          </a:lnTo>
                          <a:lnTo>
                            <a:pt x="97" y="56"/>
                          </a:lnTo>
                          <a:lnTo>
                            <a:pt x="79" y="18"/>
                          </a:lnTo>
                          <a:lnTo>
                            <a:pt x="78" y="68"/>
                          </a:lnTo>
                          <a:lnTo>
                            <a:pt x="67" y="92"/>
                          </a:lnTo>
                          <a:lnTo>
                            <a:pt x="62" y="54"/>
                          </a:lnTo>
                          <a:lnTo>
                            <a:pt x="51" y="16"/>
                          </a:lnTo>
                          <a:lnTo>
                            <a:pt x="38" y="0"/>
                          </a:lnTo>
                          <a:lnTo>
                            <a:pt x="43" y="27"/>
                          </a:lnTo>
                          <a:lnTo>
                            <a:pt x="43" y="60"/>
                          </a:lnTo>
                          <a:lnTo>
                            <a:pt x="40" y="92"/>
                          </a:lnTo>
                          <a:lnTo>
                            <a:pt x="0" y="81"/>
                          </a:lnTo>
                          <a:lnTo>
                            <a:pt x="13" y="106"/>
                          </a:lnTo>
                          <a:lnTo>
                            <a:pt x="15" y="158"/>
                          </a:lnTo>
                          <a:lnTo>
                            <a:pt x="15" y="219"/>
                          </a:lnTo>
                          <a:lnTo>
                            <a:pt x="4" y="246"/>
                          </a:lnTo>
                          <a:lnTo>
                            <a:pt x="38" y="252"/>
                          </a:lnTo>
                          <a:lnTo>
                            <a:pt x="90" y="260"/>
                          </a:lnTo>
                          <a:lnTo>
                            <a:pt x="131" y="290"/>
                          </a:lnTo>
                          <a:lnTo>
                            <a:pt x="132" y="328"/>
                          </a:lnTo>
                          <a:lnTo>
                            <a:pt x="148" y="369"/>
                          </a:lnTo>
                          <a:lnTo>
                            <a:pt x="266" y="504"/>
                          </a:lnTo>
                          <a:close/>
                        </a:path>
                      </a:pathLst>
                    </a:custGeom>
                    <a:solidFill>
                      <a:srgbClr val="402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 name=""/>
                    <p:cNvSpPr/>
                    <p:nvPr/>
                  </p:nvSpPr>
                  <p:spPr>
                    <a:xfrm>
                      <a:off x="4811040" y="5159880"/>
                      <a:ext cx="35640" cy="17280"/>
                    </a:xfrm>
                    <a:custGeom>
                      <a:avLst/>
                      <a:gdLst/>
                      <a:ahLst/>
                      <a:rect l="l" t="t" r="r" b="b"/>
                      <a:pathLst>
                        <a:path w="246" h="131">
                          <a:moveTo>
                            <a:pt x="0" y="0"/>
                          </a:moveTo>
                          <a:lnTo>
                            <a:pt x="75" y="27"/>
                          </a:lnTo>
                          <a:lnTo>
                            <a:pt x="136" y="51"/>
                          </a:lnTo>
                          <a:lnTo>
                            <a:pt x="246" y="89"/>
                          </a:lnTo>
                          <a:lnTo>
                            <a:pt x="217" y="131"/>
                          </a:lnTo>
                          <a:lnTo>
                            <a:pt x="163" y="84"/>
                          </a:lnTo>
                          <a:lnTo>
                            <a:pt x="73" y="46"/>
                          </a:lnTo>
                          <a:lnTo>
                            <a:pt x="0" y="0"/>
                          </a:lnTo>
                          <a:close/>
                        </a:path>
                      </a:pathLst>
                    </a:custGeom>
                    <a:solidFill>
                      <a:srgbClr val="402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8" name=""/>
                    <p:cNvSpPr/>
                    <p:nvPr/>
                  </p:nvSpPr>
                  <p:spPr>
                    <a:xfrm>
                      <a:off x="4757400" y="5128200"/>
                      <a:ext cx="31320" cy="21960"/>
                    </a:xfrm>
                    <a:custGeom>
                      <a:avLst/>
                      <a:gdLst/>
                      <a:ahLst/>
                      <a:rect l="l" t="t" r="r" b="b"/>
                      <a:pathLst>
                        <a:path w="216" h="169">
                          <a:moveTo>
                            <a:pt x="0" y="0"/>
                          </a:moveTo>
                          <a:lnTo>
                            <a:pt x="51" y="55"/>
                          </a:lnTo>
                          <a:lnTo>
                            <a:pt x="91" y="91"/>
                          </a:lnTo>
                          <a:lnTo>
                            <a:pt x="216" y="169"/>
                          </a:lnTo>
                          <a:lnTo>
                            <a:pt x="99" y="121"/>
                          </a:lnTo>
                          <a:lnTo>
                            <a:pt x="44" y="71"/>
                          </a:lnTo>
                          <a:lnTo>
                            <a:pt x="0" y="0"/>
                          </a:lnTo>
                          <a:close/>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 name=""/>
                    <p:cNvSpPr/>
                    <p:nvPr/>
                  </p:nvSpPr>
                  <p:spPr>
                    <a:xfrm>
                      <a:off x="4772520" y="5118120"/>
                      <a:ext cx="24120" cy="8640"/>
                    </a:xfrm>
                    <a:custGeom>
                      <a:avLst/>
                      <a:gdLst/>
                      <a:ahLst/>
                      <a:rect l="l" t="t" r="r" b="b"/>
                      <a:pathLst>
                        <a:path w="164" h="65">
                          <a:moveTo>
                            <a:pt x="0" y="0"/>
                          </a:moveTo>
                          <a:lnTo>
                            <a:pt x="64" y="0"/>
                          </a:lnTo>
                          <a:lnTo>
                            <a:pt x="111" y="17"/>
                          </a:lnTo>
                          <a:lnTo>
                            <a:pt x="164" y="65"/>
                          </a:lnTo>
                          <a:lnTo>
                            <a:pt x="102" y="28"/>
                          </a:lnTo>
                          <a:lnTo>
                            <a:pt x="0"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0" name=""/>
                    <p:cNvSpPr/>
                    <p:nvPr/>
                  </p:nvSpPr>
                  <p:spPr>
                    <a:xfrm>
                      <a:off x="4776480" y="5157000"/>
                      <a:ext cx="36720" cy="11160"/>
                    </a:xfrm>
                    <a:custGeom>
                      <a:avLst/>
                      <a:gdLst/>
                      <a:ahLst/>
                      <a:rect l="l" t="t" r="r" b="b"/>
                      <a:pathLst>
                        <a:path w="251" h="87">
                          <a:moveTo>
                            <a:pt x="0" y="0"/>
                          </a:moveTo>
                          <a:lnTo>
                            <a:pt x="85" y="43"/>
                          </a:lnTo>
                          <a:lnTo>
                            <a:pt x="143" y="54"/>
                          </a:lnTo>
                          <a:lnTo>
                            <a:pt x="229" y="74"/>
                          </a:lnTo>
                          <a:lnTo>
                            <a:pt x="251" y="87"/>
                          </a:lnTo>
                          <a:lnTo>
                            <a:pt x="211" y="76"/>
                          </a:lnTo>
                          <a:lnTo>
                            <a:pt x="134" y="64"/>
                          </a:lnTo>
                          <a:lnTo>
                            <a:pt x="57" y="46"/>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61" name=""/>
                  <p:cNvGrpSpPr/>
                  <p:nvPr/>
                </p:nvGrpSpPr>
                <p:grpSpPr>
                  <a:xfrm>
                    <a:off x="4686120" y="4947120"/>
                    <a:ext cx="90360" cy="112680"/>
                    <a:chOff x="4686120" y="4947120"/>
                    <a:chExt cx="90360" cy="112680"/>
                  </a:xfrm>
                </p:grpSpPr>
                <p:sp>
                  <p:nvSpPr>
                    <p:cNvPr id="362" name=""/>
                    <p:cNvSpPr/>
                    <p:nvPr/>
                  </p:nvSpPr>
                  <p:spPr>
                    <a:xfrm>
                      <a:off x="4686120" y="4947120"/>
                      <a:ext cx="23400" cy="25920"/>
                    </a:xfrm>
                    <a:custGeom>
                      <a:avLst/>
                      <a:gdLst/>
                      <a:ahLst/>
                      <a:rect l="l" t="t" r="r" b="b"/>
                      <a:pathLst>
                        <a:path w="161" h="200">
                          <a:moveTo>
                            <a:pt x="0" y="41"/>
                          </a:moveTo>
                          <a:lnTo>
                            <a:pt x="44" y="28"/>
                          </a:lnTo>
                          <a:lnTo>
                            <a:pt x="77" y="0"/>
                          </a:lnTo>
                          <a:lnTo>
                            <a:pt x="161" y="157"/>
                          </a:lnTo>
                          <a:lnTo>
                            <a:pt x="147" y="175"/>
                          </a:lnTo>
                          <a:lnTo>
                            <a:pt x="125" y="190"/>
                          </a:lnTo>
                          <a:lnTo>
                            <a:pt x="86" y="200"/>
                          </a:lnTo>
                          <a:lnTo>
                            <a:pt x="0" y="41"/>
                          </a:lnTo>
                          <a:close/>
                        </a:path>
                      </a:pathLst>
                    </a:custGeom>
                    <a:solidFill>
                      <a:srgbClr val="c0c0c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3" name=""/>
                    <p:cNvSpPr/>
                    <p:nvPr/>
                  </p:nvSpPr>
                  <p:spPr>
                    <a:xfrm flipH="1" flipV="1">
                      <a:off x="4707360" y="4974120"/>
                      <a:ext cx="19800" cy="23760"/>
                    </a:xfrm>
                    <a:prstGeom prst="line">
                      <a:avLst/>
                    </a:prstGeom>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64" name=""/>
                    <p:cNvGrpSpPr/>
                    <p:nvPr/>
                  </p:nvGrpSpPr>
                  <p:grpSpPr>
                    <a:xfrm>
                      <a:off x="4722120" y="4993200"/>
                      <a:ext cx="54360" cy="66600"/>
                      <a:chOff x="4722120" y="4993200"/>
                      <a:chExt cx="54360" cy="66600"/>
                    </a:xfrm>
                  </p:grpSpPr>
                  <p:sp>
                    <p:nvSpPr>
                      <p:cNvPr id="365" name=""/>
                      <p:cNvSpPr/>
                      <p:nvPr/>
                    </p:nvSpPr>
                    <p:spPr>
                      <a:xfrm>
                        <a:off x="4722120" y="4993200"/>
                        <a:ext cx="54360" cy="66600"/>
                      </a:xfrm>
                      <a:custGeom>
                        <a:avLst/>
                        <a:gdLst/>
                        <a:ahLst/>
                        <a:rect l="l" t="t" r="r" b="b"/>
                        <a:pathLst>
                          <a:path w="373" h="509">
                            <a:moveTo>
                              <a:pt x="340" y="509"/>
                            </a:moveTo>
                            <a:lnTo>
                              <a:pt x="0" y="49"/>
                            </a:lnTo>
                            <a:lnTo>
                              <a:pt x="9" y="32"/>
                            </a:lnTo>
                            <a:lnTo>
                              <a:pt x="21" y="13"/>
                            </a:lnTo>
                            <a:lnTo>
                              <a:pt x="43" y="5"/>
                            </a:lnTo>
                            <a:lnTo>
                              <a:pt x="70" y="0"/>
                            </a:lnTo>
                            <a:lnTo>
                              <a:pt x="373" y="414"/>
                            </a:lnTo>
                            <a:lnTo>
                              <a:pt x="361" y="470"/>
                            </a:lnTo>
                            <a:lnTo>
                              <a:pt x="340" y="509"/>
                            </a:lnTo>
                            <a:close/>
                          </a:path>
                        </a:pathLst>
                      </a:custGeom>
                      <a:solidFill>
                        <a:srgbClr val="808080"/>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 name=""/>
                      <p:cNvSpPr/>
                      <p:nvPr/>
                    </p:nvSpPr>
                    <p:spPr>
                      <a:xfrm>
                        <a:off x="4724280" y="4995720"/>
                        <a:ext cx="51120" cy="61560"/>
                      </a:xfrm>
                      <a:custGeom>
                        <a:avLst/>
                        <a:gdLst/>
                        <a:ahLst/>
                        <a:rect l="l" t="t" r="r" b="b"/>
                        <a:pathLst>
                          <a:path w="346" h="469">
                            <a:moveTo>
                              <a:pt x="0" y="30"/>
                            </a:moveTo>
                            <a:lnTo>
                              <a:pt x="29" y="22"/>
                            </a:lnTo>
                            <a:lnTo>
                              <a:pt x="49" y="0"/>
                            </a:lnTo>
                            <a:lnTo>
                              <a:pt x="346" y="398"/>
                            </a:lnTo>
                            <a:lnTo>
                              <a:pt x="324" y="469"/>
                            </a:lnTo>
                            <a:lnTo>
                              <a:pt x="0" y="30"/>
                            </a:lnTo>
                            <a:close/>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sp>
                <p:nvSpPr>
                  <p:cNvPr id="367" name=""/>
                  <p:cNvSpPr/>
                  <p:nvPr/>
                </p:nvSpPr>
                <p:spPr>
                  <a:xfrm>
                    <a:off x="4819680" y="5137200"/>
                    <a:ext cx="183240" cy="138600"/>
                  </a:xfrm>
                  <a:custGeom>
                    <a:avLst/>
                    <a:gdLst/>
                    <a:ahLst/>
                    <a:rect l="l" t="t" r="r" b="b"/>
                    <a:pathLst>
                      <a:path w="1251" h="1059">
                        <a:moveTo>
                          <a:pt x="215" y="0"/>
                        </a:moveTo>
                        <a:lnTo>
                          <a:pt x="203" y="77"/>
                        </a:lnTo>
                        <a:lnTo>
                          <a:pt x="161" y="227"/>
                        </a:lnTo>
                        <a:lnTo>
                          <a:pt x="119" y="356"/>
                        </a:lnTo>
                        <a:lnTo>
                          <a:pt x="66" y="435"/>
                        </a:lnTo>
                        <a:lnTo>
                          <a:pt x="0" y="607"/>
                        </a:lnTo>
                        <a:lnTo>
                          <a:pt x="198" y="691"/>
                        </a:lnTo>
                        <a:lnTo>
                          <a:pt x="215" y="667"/>
                        </a:lnTo>
                        <a:lnTo>
                          <a:pt x="227" y="703"/>
                        </a:lnTo>
                        <a:lnTo>
                          <a:pt x="596" y="839"/>
                        </a:lnTo>
                        <a:lnTo>
                          <a:pt x="906" y="946"/>
                        </a:lnTo>
                        <a:lnTo>
                          <a:pt x="1103" y="1013"/>
                        </a:lnTo>
                        <a:lnTo>
                          <a:pt x="1251" y="1059"/>
                        </a:lnTo>
                        <a:lnTo>
                          <a:pt x="1168" y="982"/>
                        </a:lnTo>
                        <a:lnTo>
                          <a:pt x="1078" y="863"/>
                        </a:lnTo>
                        <a:lnTo>
                          <a:pt x="1024" y="757"/>
                        </a:lnTo>
                        <a:lnTo>
                          <a:pt x="977" y="632"/>
                        </a:lnTo>
                        <a:lnTo>
                          <a:pt x="953" y="518"/>
                        </a:lnTo>
                        <a:lnTo>
                          <a:pt x="940" y="368"/>
                        </a:lnTo>
                        <a:lnTo>
                          <a:pt x="965" y="285"/>
                        </a:lnTo>
                        <a:lnTo>
                          <a:pt x="947" y="257"/>
                        </a:lnTo>
                        <a:lnTo>
                          <a:pt x="924" y="273"/>
                        </a:lnTo>
                        <a:lnTo>
                          <a:pt x="889" y="333"/>
                        </a:lnTo>
                        <a:lnTo>
                          <a:pt x="870" y="393"/>
                        </a:lnTo>
                        <a:lnTo>
                          <a:pt x="853" y="303"/>
                        </a:lnTo>
                        <a:lnTo>
                          <a:pt x="853" y="232"/>
                        </a:lnTo>
                        <a:lnTo>
                          <a:pt x="817" y="155"/>
                        </a:lnTo>
                        <a:lnTo>
                          <a:pt x="793" y="137"/>
                        </a:lnTo>
                        <a:lnTo>
                          <a:pt x="739" y="131"/>
                        </a:lnTo>
                        <a:lnTo>
                          <a:pt x="751" y="179"/>
                        </a:lnTo>
                        <a:lnTo>
                          <a:pt x="776" y="291"/>
                        </a:lnTo>
                        <a:lnTo>
                          <a:pt x="751" y="327"/>
                        </a:lnTo>
                        <a:lnTo>
                          <a:pt x="715" y="303"/>
                        </a:lnTo>
                        <a:lnTo>
                          <a:pt x="697" y="244"/>
                        </a:lnTo>
                        <a:lnTo>
                          <a:pt x="667" y="148"/>
                        </a:lnTo>
                        <a:lnTo>
                          <a:pt x="632" y="107"/>
                        </a:lnTo>
                        <a:lnTo>
                          <a:pt x="536" y="89"/>
                        </a:lnTo>
                        <a:lnTo>
                          <a:pt x="441" y="71"/>
                        </a:lnTo>
                        <a:lnTo>
                          <a:pt x="519" y="131"/>
                        </a:lnTo>
                        <a:lnTo>
                          <a:pt x="548" y="203"/>
                        </a:lnTo>
                        <a:lnTo>
                          <a:pt x="561" y="303"/>
                        </a:lnTo>
                        <a:lnTo>
                          <a:pt x="561" y="345"/>
                        </a:lnTo>
                        <a:lnTo>
                          <a:pt x="536" y="375"/>
                        </a:lnTo>
                        <a:lnTo>
                          <a:pt x="477" y="362"/>
                        </a:lnTo>
                        <a:lnTo>
                          <a:pt x="483" y="303"/>
                        </a:lnTo>
                        <a:lnTo>
                          <a:pt x="465" y="209"/>
                        </a:lnTo>
                        <a:lnTo>
                          <a:pt x="429" y="107"/>
                        </a:lnTo>
                        <a:lnTo>
                          <a:pt x="399" y="71"/>
                        </a:lnTo>
                        <a:lnTo>
                          <a:pt x="358" y="48"/>
                        </a:lnTo>
                        <a:lnTo>
                          <a:pt x="215"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68" name=""/>
            <p:cNvGrpSpPr/>
            <p:nvPr/>
          </p:nvGrpSpPr>
          <p:grpSpPr>
            <a:xfrm>
              <a:off x="914400" y="3392640"/>
              <a:ext cx="7077240" cy="1119960"/>
              <a:chOff x="914400" y="3392640"/>
              <a:chExt cx="7077240" cy="1119960"/>
            </a:xfrm>
          </p:grpSpPr>
          <p:sp>
            <p:nvSpPr>
              <p:cNvPr id="369" name=""/>
              <p:cNvSpPr/>
              <p:nvPr/>
            </p:nvSpPr>
            <p:spPr>
              <a:xfrm>
                <a:off x="914400" y="3687840"/>
                <a:ext cx="1600200" cy="397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pacity</a:t>
                </a:r>
                <a:endParaRPr b="0" lang="en-US" sz="2000" spc="-1" strike="noStrike">
                  <a:solidFill>
                    <a:srgbClr val="000000"/>
                  </a:solidFill>
                  <a:latin typeface="Times New Roman"/>
                </a:endParaRPr>
              </a:p>
            </p:txBody>
          </p:sp>
          <p:sp>
            <p:nvSpPr>
              <p:cNvPr id="370" name=""/>
              <p:cNvSpPr/>
              <p:nvPr/>
            </p:nvSpPr>
            <p:spPr>
              <a:xfrm>
                <a:off x="5153040" y="3505320"/>
                <a:ext cx="2838600" cy="100728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or undersupply of care providers, hospitals, insurers. </a:t>
                </a:r>
                <a:endParaRPr b="0" lang="en-US" sz="2000" spc="-1" strike="noStrike">
                  <a:solidFill>
                    <a:srgbClr val="000000"/>
                  </a:solidFill>
                  <a:latin typeface="Times New Roman"/>
                </a:endParaRPr>
              </a:p>
            </p:txBody>
          </p:sp>
          <p:grpSp>
            <p:nvGrpSpPr>
              <p:cNvPr id="371" name=""/>
              <p:cNvGrpSpPr/>
              <p:nvPr/>
            </p:nvGrpSpPr>
            <p:grpSpPr>
              <a:xfrm>
                <a:off x="3198960" y="3392640"/>
                <a:ext cx="1838160" cy="944280"/>
                <a:chOff x="3198960" y="3392640"/>
                <a:chExt cx="1838160" cy="944280"/>
              </a:xfrm>
            </p:grpSpPr>
            <p:pic>
              <p:nvPicPr>
                <p:cNvPr id="372" name="" descr=""/>
                <p:cNvPicPr/>
                <p:nvPr/>
              </p:nvPicPr>
              <p:blipFill>
                <a:blip r:embed="rId6"/>
                <a:stretch/>
              </p:blipFill>
              <p:spPr>
                <a:xfrm>
                  <a:off x="3260880" y="3621240"/>
                  <a:ext cx="504720" cy="469800"/>
                </a:xfrm>
                <a:prstGeom prst="rect">
                  <a:avLst/>
                </a:prstGeom>
                <a:ln w="0">
                  <a:noFill/>
                </a:ln>
              </p:spPr>
            </p:pic>
            <p:grpSp>
              <p:nvGrpSpPr>
                <p:cNvPr id="373" name=""/>
                <p:cNvGrpSpPr/>
                <p:nvPr/>
              </p:nvGrpSpPr>
              <p:grpSpPr>
                <a:xfrm>
                  <a:off x="3198960" y="3730680"/>
                  <a:ext cx="290520" cy="309240"/>
                  <a:chOff x="3198960" y="3730680"/>
                  <a:chExt cx="290520" cy="309240"/>
                </a:xfrm>
              </p:grpSpPr>
              <p:grpSp>
                <p:nvGrpSpPr>
                  <p:cNvPr id="374" name=""/>
                  <p:cNvGrpSpPr/>
                  <p:nvPr/>
                </p:nvGrpSpPr>
                <p:grpSpPr>
                  <a:xfrm>
                    <a:off x="3198960" y="3730680"/>
                    <a:ext cx="290520" cy="309240"/>
                    <a:chOff x="3198960" y="3730680"/>
                    <a:chExt cx="290520" cy="309240"/>
                  </a:xfrm>
                </p:grpSpPr>
                <p:grpSp>
                  <p:nvGrpSpPr>
                    <p:cNvPr id="375" name=""/>
                    <p:cNvGrpSpPr/>
                    <p:nvPr/>
                  </p:nvGrpSpPr>
                  <p:grpSpPr>
                    <a:xfrm>
                      <a:off x="3456720" y="3936240"/>
                      <a:ext cx="32760" cy="23760"/>
                      <a:chOff x="3456720" y="3936240"/>
                      <a:chExt cx="32760" cy="23760"/>
                    </a:xfrm>
                  </p:grpSpPr>
                  <p:sp>
                    <p:nvSpPr>
                      <p:cNvPr id="376" name=""/>
                      <p:cNvSpPr/>
                      <p:nvPr/>
                    </p:nvSpPr>
                    <p:spPr>
                      <a:xfrm>
                        <a:off x="3456720" y="3939840"/>
                        <a:ext cx="22320" cy="20160"/>
                      </a:xfrm>
                      <a:custGeom>
                        <a:avLst/>
                        <a:gdLst/>
                        <a:ahLst/>
                        <a:rect l="l" t="t" r="r" b="b"/>
                        <a:pathLst>
                          <a:path w="17" h="17">
                            <a:moveTo>
                              <a:pt x="16" y="0"/>
                            </a:moveTo>
                            <a:lnTo>
                              <a:pt x="0" y="5"/>
                            </a:lnTo>
                            <a:lnTo>
                              <a:pt x="0" y="12"/>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7" name=""/>
                      <p:cNvSpPr/>
                      <p:nvPr/>
                    </p:nvSpPr>
                    <p:spPr>
                      <a:xfrm>
                        <a:off x="3479040" y="3936240"/>
                        <a:ext cx="10440" cy="11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378" name=""/>
                    <p:cNvGrpSpPr/>
                    <p:nvPr/>
                  </p:nvGrpSpPr>
                  <p:grpSpPr>
                    <a:xfrm>
                      <a:off x="3198960" y="3730680"/>
                      <a:ext cx="265320" cy="309240"/>
                      <a:chOff x="3198960" y="3730680"/>
                      <a:chExt cx="265320" cy="309240"/>
                    </a:xfrm>
                  </p:grpSpPr>
                  <p:grpSp>
                    <p:nvGrpSpPr>
                      <p:cNvPr id="379" name=""/>
                      <p:cNvGrpSpPr/>
                      <p:nvPr/>
                    </p:nvGrpSpPr>
                    <p:grpSpPr>
                      <a:xfrm>
                        <a:off x="3394800" y="3929400"/>
                        <a:ext cx="69480" cy="56160"/>
                        <a:chOff x="3394800" y="3929400"/>
                        <a:chExt cx="69480" cy="56160"/>
                      </a:xfrm>
                    </p:grpSpPr>
                    <p:sp>
                      <p:nvSpPr>
                        <p:cNvPr id="380" name=""/>
                        <p:cNvSpPr/>
                        <p:nvPr/>
                      </p:nvSpPr>
                      <p:spPr>
                        <a:xfrm>
                          <a:off x="3430080" y="3929400"/>
                          <a:ext cx="24840" cy="20160"/>
                        </a:xfrm>
                        <a:custGeom>
                          <a:avLst/>
                          <a:gdLst/>
                          <a:ahLst/>
                          <a:rect l="l" t="t" r="r" b="b"/>
                          <a:pathLst>
                            <a:path w="19" h="17">
                              <a:moveTo>
                                <a:pt x="0" y="14"/>
                              </a:moveTo>
                              <a:lnTo>
                                <a:pt x="6" y="8"/>
                              </a:lnTo>
                              <a:lnTo>
                                <a:pt x="12" y="1"/>
                              </a:lnTo>
                              <a:lnTo>
                                <a:pt x="15" y="0"/>
                              </a:lnTo>
                              <a:lnTo>
                                <a:pt x="17" y="0"/>
                              </a:lnTo>
                              <a:lnTo>
                                <a:pt x="18" y="1"/>
                              </a:lnTo>
                              <a:lnTo>
                                <a:pt x="18" y="3"/>
                              </a:lnTo>
                              <a:lnTo>
                                <a:pt x="18" y="5"/>
                              </a:lnTo>
                              <a:lnTo>
                                <a:pt x="17" y="7"/>
                              </a:lnTo>
                              <a:lnTo>
                                <a:pt x="17" y="8"/>
                              </a:lnTo>
                              <a:lnTo>
                                <a:pt x="15" y="12"/>
                              </a:lnTo>
                              <a:lnTo>
                                <a:pt x="12"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1" name=""/>
                        <p:cNvSpPr/>
                        <p:nvPr/>
                      </p:nvSpPr>
                      <p:spPr>
                        <a:xfrm>
                          <a:off x="3394800" y="3935160"/>
                          <a:ext cx="69480" cy="50400"/>
                        </a:xfrm>
                        <a:custGeom>
                          <a:avLst/>
                          <a:gdLst/>
                          <a:ahLst/>
                          <a:rect l="l" t="t" r="r" b="b"/>
                          <a:pathLst>
                            <a:path w="53" h="42">
                              <a:moveTo>
                                <a:pt x="0" y="21"/>
                              </a:moveTo>
                              <a:lnTo>
                                <a:pt x="7" y="18"/>
                              </a:lnTo>
                              <a:lnTo>
                                <a:pt x="14" y="15"/>
                              </a:lnTo>
                              <a:lnTo>
                                <a:pt x="17" y="13"/>
                              </a:lnTo>
                              <a:lnTo>
                                <a:pt x="19" y="10"/>
                              </a:lnTo>
                              <a:lnTo>
                                <a:pt x="22" y="6"/>
                              </a:lnTo>
                              <a:lnTo>
                                <a:pt x="25" y="4"/>
                              </a:lnTo>
                              <a:lnTo>
                                <a:pt x="29" y="1"/>
                              </a:lnTo>
                              <a:lnTo>
                                <a:pt x="34" y="0"/>
                              </a:lnTo>
                              <a:lnTo>
                                <a:pt x="38" y="0"/>
                              </a:lnTo>
                              <a:lnTo>
                                <a:pt x="43" y="0"/>
                              </a:lnTo>
                              <a:lnTo>
                                <a:pt x="47" y="1"/>
                              </a:lnTo>
                              <a:lnTo>
                                <a:pt x="49" y="2"/>
                              </a:lnTo>
                              <a:lnTo>
                                <a:pt x="50" y="4"/>
                              </a:lnTo>
                              <a:lnTo>
                                <a:pt x="50" y="6"/>
                              </a:lnTo>
                              <a:lnTo>
                                <a:pt x="50" y="7"/>
                              </a:lnTo>
                              <a:lnTo>
                                <a:pt x="49" y="9"/>
                              </a:lnTo>
                              <a:lnTo>
                                <a:pt x="44" y="9"/>
                              </a:lnTo>
                              <a:lnTo>
                                <a:pt x="48" y="9"/>
                              </a:lnTo>
                              <a:lnTo>
                                <a:pt x="50" y="9"/>
                              </a:lnTo>
                              <a:lnTo>
                                <a:pt x="51" y="10"/>
                              </a:lnTo>
                              <a:lnTo>
                                <a:pt x="52" y="12"/>
                              </a:lnTo>
                              <a:lnTo>
                                <a:pt x="52" y="14"/>
                              </a:lnTo>
                              <a:lnTo>
                                <a:pt x="51" y="16"/>
                              </a:lnTo>
                              <a:lnTo>
                                <a:pt x="50" y="17"/>
                              </a:lnTo>
                              <a:lnTo>
                                <a:pt x="48" y="17"/>
                              </a:lnTo>
                              <a:lnTo>
                                <a:pt x="45" y="17"/>
                              </a:lnTo>
                              <a:lnTo>
                                <a:pt x="48" y="17"/>
                              </a:lnTo>
                              <a:lnTo>
                                <a:pt x="49" y="18"/>
                              </a:lnTo>
                              <a:lnTo>
                                <a:pt x="51" y="18"/>
                              </a:lnTo>
                              <a:lnTo>
                                <a:pt x="51" y="20"/>
                              </a:lnTo>
                              <a:lnTo>
                                <a:pt x="51" y="21"/>
                              </a:lnTo>
                              <a:lnTo>
                                <a:pt x="50" y="23"/>
                              </a:lnTo>
                              <a:lnTo>
                                <a:pt x="48" y="24"/>
                              </a:lnTo>
                              <a:lnTo>
                                <a:pt x="46" y="26"/>
                              </a:lnTo>
                              <a:lnTo>
                                <a:pt x="47" y="25"/>
                              </a:lnTo>
                              <a:lnTo>
                                <a:pt x="49" y="24"/>
                              </a:lnTo>
                              <a:lnTo>
                                <a:pt x="50" y="24"/>
                              </a:lnTo>
                              <a:lnTo>
                                <a:pt x="51" y="26"/>
                              </a:lnTo>
                              <a:lnTo>
                                <a:pt x="49" y="28"/>
                              </a:lnTo>
                              <a:lnTo>
                                <a:pt x="48" y="29"/>
                              </a:lnTo>
                              <a:lnTo>
                                <a:pt x="45" y="31"/>
                              </a:lnTo>
                              <a:lnTo>
                                <a:pt x="41" y="32"/>
                              </a:lnTo>
                              <a:lnTo>
                                <a:pt x="37" y="32"/>
                              </a:lnTo>
                              <a:lnTo>
                                <a:pt x="32" y="32"/>
                              </a:lnTo>
                              <a:lnTo>
                                <a:pt x="28" y="31"/>
                              </a:lnTo>
                              <a:lnTo>
                                <a:pt x="22" y="32"/>
                              </a:lnTo>
                              <a:lnTo>
                                <a:pt x="16" y="35"/>
                              </a:lnTo>
                              <a:lnTo>
                                <a:pt x="10" y="39"/>
                              </a:lnTo>
                              <a:lnTo>
                                <a:pt x="6" y="41"/>
                              </a:lnTo>
                              <a:lnTo>
                                <a:pt x="0" y="21"/>
                              </a:lnTo>
                            </a:path>
                          </a:pathLst>
                        </a:custGeom>
                        <a:solidFill>
                          <a:srgbClr val="ffbfb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382" name=""/>
                      <p:cNvSpPr/>
                      <p:nvPr/>
                    </p:nvSpPr>
                    <p:spPr>
                      <a:xfrm>
                        <a:off x="3336840" y="3847320"/>
                        <a:ext cx="22320" cy="82800"/>
                      </a:xfrm>
                      <a:custGeom>
                        <a:avLst/>
                        <a:gdLst/>
                        <a:ahLst/>
                        <a:rect l="l" t="t" r="r" b="b"/>
                        <a:pathLst>
                          <a:path w="17" h="69">
                            <a:moveTo>
                              <a:pt x="4" y="0"/>
                            </a:moveTo>
                            <a:lnTo>
                              <a:pt x="3" y="5"/>
                            </a:lnTo>
                            <a:lnTo>
                              <a:pt x="2" y="9"/>
                            </a:lnTo>
                            <a:lnTo>
                              <a:pt x="0" y="12"/>
                            </a:lnTo>
                            <a:lnTo>
                              <a:pt x="2" y="14"/>
                            </a:lnTo>
                            <a:lnTo>
                              <a:pt x="3" y="16"/>
                            </a:lnTo>
                            <a:lnTo>
                              <a:pt x="5" y="18"/>
                            </a:lnTo>
                            <a:lnTo>
                              <a:pt x="8" y="18"/>
                            </a:lnTo>
                            <a:lnTo>
                              <a:pt x="6" y="21"/>
                            </a:lnTo>
                            <a:lnTo>
                              <a:pt x="6" y="25"/>
                            </a:lnTo>
                            <a:lnTo>
                              <a:pt x="3" y="32"/>
                            </a:lnTo>
                            <a:lnTo>
                              <a:pt x="9" y="68"/>
                            </a:lnTo>
                            <a:lnTo>
                              <a:pt x="11" y="53"/>
                            </a:lnTo>
                            <a:lnTo>
                              <a:pt x="13" y="44"/>
                            </a:lnTo>
                            <a:lnTo>
                              <a:pt x="14" y="37"/>
                            </a:lnTo>
                            <a:lnTo>
                              <a:pt x="14" y="29"/>
                            </a:lnTo>
                            <a:lnTo>
                              <a:pt x="16" y="23"/>
                            </a:lnTo>
                            <a:lnTo>
                              <a:pt x="16" y="19"/>
                            </a:lnTo>
                            <a:lnTo>
                              <a:pt x="14" y="18"/>
                            </a:lnTo>
                            <a:lnTo>
                              <a:pt x="12" y="16"/>
                            </a:lnTo>
                            <a:lnTo>
                              <a:pt x="11" y="15"/>
                            </a:lnTo>
                            <a:lnTo>
                              <a:pt x="11" y="12"/>
                            </a:lnTo>
                            <a:lnTo>
                              <a:pt x="10" y="8"/>
                            </a:lnTo>
                            <a:lnTo>
                              <a:pt x="8" y="4"/>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 name=""/>
                      <p:cNvSpPr/>
                      <p:nvPr/>
                    </p:nvSpPr>
                    <p:spPr>
                      <a:xfrm>
                        <a:off x="3293280" y="3804120"/>
                        <a:ext cx="50040" cy="70920"/>
                      </a:xfrm>
                      <a:custGeom>
                        <a:avLst/>
                        <a:gdLst/>
                        <a:ahLst/>
                        <a:rect l="l" t="t" r="r" b="b"/>
                        <a:pathLst>
                          <a:path w="38" h="59">
                            <a:moveTo>
                              <a:pt x="7" y="0"/>
                            </a:moveTo>
                            <a:lnTo>
                              <a:pt x="0" y="12"/>
                            </a:lnTo>
                            <a:lnTo>
                              <a:pt x="7" y="17"/>
                            </a:lnTo>
                            <a:lnTo>
                              <a:pt x="15" y="25"/>
                            </a:lnTo>
                            <a:lnTo>
                              <a:pt x="23" y="36"/>
                            </a:lnTo>
                            <a:lnTo>
                              <a:pt x="28" y="48"/>
                            </a:lnTo>
                            <a:lnTo>
                              <a:pt x="31" y="58"/>
                            </a:lnTo>
                            <a:lnTo>
                              <a:pt x="31" y="53"/>
                            </a:lnTo>
                            <a:lnTo>
                              <a:pt x="35" y="44"/>
                            </a:lnTo>
                            <a:lnTo>
                              <a:pt x="36" y="40"/>
                            </a:lnTo>
                            <a:lnTo>
                              <a:pt x="37" y="36"/>
                            </a:lnTo>
                            <a:lnTo>
                              <a:pt x="37" y="34"/>
                            </a:lnTo>
                            <a:lnTo>
                              <a:pt x="33" y="28"/>
                            </a:lnTo>
                            <a:lnTo>
                              <a:pt x="27" y="20"/>
                            </a:lnTo>
                            <a:lnTo>
                              <a:pt x="18" y="12"/>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4" name=""/>
                      <p:cNvSpPr/>
                      <p:nvPr/>
                    </p:nvSpPr>
                    <p:spPr>
                      <a:xfrm>
                        <a:off x="3297240" y="3730680"/>
                        <a:ext cx="104040" cy="120240"/>
                      </a:xfrm>
                      <a:custGeom>
                        <a:avLst/>
                        <a:gdLst/>
                        <a:ahLst/>
                        <a:rect l="l" t="t" r="r" b="b"/>
                        <a:pathLst>
                          <a:path w="79" h="100">
                            <a:moveTo>
                              <a:pt x="62" y="10"/>
                            </a:moveTo>
                            <a:lnTo>
                              <a:pt x="55" y="6"/>
                            </a:lnTo>
                            <a:lnTo>
                              <a:pt x="49" y="3"/>
                            </a:lnTo>
                            <a:lnTo>
                              <a:pt x="42" y="1"/>
                            </a:lnTo>
                            <a:lnTo>
                              <a:pt x="35" y="0"/>
                            </a:lnTo>
                            <a:lnTo>
                              <a:pt x="28" y="1"/>
                            </a:lnTo>
                            <a:lnTo>
                              <a:pt x="21" y="2"/>
                            </a:lnTo>
                            <a:lnTo>
                              <a:pt x="14" y="7"/>
                            </a:lnTo>
                            <a:lnTo>
                              <a:pt x="7" y="15"/>
                            </a:lnTo>
                            <a:lnTo>
                              <a:pt x="3" y="22"/>
                            </a:lnTo>
                            <a:lnTo>
                              <a:pt x="1" y="30"/>
                            </a:lnTo>
                            <a:lnTo>
                              <a:pt x="0" y="37"/>
                            </a:lnTo>
                            <a:lnTo>
                              <a:pt x="1" y="44"/>
                            </a:lnTo>
                            <a:lnTo>
                              <a:pt x="4" y="48"/>
                            </a:lnTo>
                            <a:lnTo>
                              <a:pt x="4" y="53"/>
                            </a:lnTo>
                            <a:lnTo>
                              <a:pt x="3" y="61"/>
                            </a:lnTo>
                            <a:lnTo>
                              <a:pt x="3" y="63"/>
                            </a:lnTo>
                            <a:lnTo>
                              <a:pt x="14" y="73"/>
                            </a:lnTo>
                            <a:lnTo>
                              <a:pt x="26" y="84"/>
                            </a:lnTo>
                            <a:lnTo>
                              <a:pt x="35" y="96"/>
                            </a:lnTo>
                            <a:lnTo>
                              <a:pt x="36" y="97"/>
                            </a:lnTo>
                            <a:lnTo>
                              <a:pt x="39" y="98"/>
                            </a:lnTo>
                            <a:lnTo>
                              <a:pt x="42" y="99"/>
                            </a:lnTo>
                            <a:lnTo>
                              <a:pt x="45" y="98"/>
                            </a:lnTo>
                            <a:lnTo>
                              <a:pt x="48" y="98"/>
                            </a:lnTo>
                            <a:lnTo>
                              <a:pt x="51" y="99"/>
                            </a:lnTo>
                            <a:lnTo>
                              <a:pt x="53" y="99"/>
                            </a:lnTo>
                            <a:lnTo>
                              <a:pt x="55" y="99"/>
                            </a:lnTo>
                            <a:lnTo>
                              <a:pt x="57" y="98"/>
                            </a:lnTo>
                            <a:lnTo>
                              <a:pt x="58" y="97"/>
                            </a:lnTo>
                            <a:lnTo>
                              <a:pt x="59" y="95"/>
                            </a:lnTo>
                            <a:lnTo>
                              <a:pt x="59" y="92"/>
                            </a:lnTo>
                            <a:lnTo>
                              <a:pt x="59" y="87"/>
                            </a:lnTo>
                            <a:lnTo>
                              <a:pt x="60" y="87"/>
                            </a:lnTo>
                            <a:lnTo>
                              <a:pt x="62" y="87"/>
                            </a:lnTo>
                            <a:lnTo>
                              <a:pt x="61" y="85"/>
                            </a:lnTo>
                            <a:lnTo>
                              <a:pt x="60" y="83"/>
                            </a:lnTo>
                            <a:lnTo>
                              <a:pt x="64" y="83"/>
                            </a:lnTo>
                            <a:lnTo>
                              <a:pt x="65" y="82"/>
                            </a:lnTo>
                            <a:lnTo>
                              <a:pt x="65" y="80"/>
                            </a:lnTo>
                            <a:lnTo>
                              <a:pt x="65" y="76"/>
                            </a:lnTo>
                            <a:lnTo>
                              <a:pt x="68" y="77"/>
                            </a:lnTo>
                            <a:lnTo>
                              <a:pt x="70" y="78"/>
                            </a:lnTo>
                            <a:lnTo>
                              <a:pt x="72" y="78"/>
                            </a:lnTo>
                            <a:lnTo>
                              <a:pt x="74" y="77"/>
                            </a:lnTo>
                            <a:lnTo>
                              <a:pt x="75" y="74"/>
                            </a:lnTo>
                            <a:lnTo>
                              <a:pt x="74" y="69"/>
                            </a:lnTo>
                            <a:lnTo>
                              <a:pt x="72" y="64"/>
                            </a:lnTo>
                            <a:lnTo>
                              <a:pt x="71" y="58"/>
                            </a:lnTo>
                            <a:lnTo>
                              <a:pt x="72" y="56"/>
                            </a:lnTo>
                            <a:lnTo>
                              <a:pt x="74" y="55"/>
                            </a:lnTo>
                            <a:lnTo>
                              <a:pt x="75" y="55"/>
                            </a:lnTo>
                            <a:lnTo>
                              <a:pt x="77" y="53"/>
                            </a:lnTo>
                            <a:lnTo>
                              <a:pt x="77" y="48"/>
                            </a:lnTo>
                            <a:lnTo>
                              <a:pt x="78" y="44"/>
                            </a:lnTo>
                            <a:lnTo>
                              <a:pt x="78" y="39"/>
                            </a:lnTo>
                            <a:lnTo>
                              <a:pt x="78" y="33"/>
                            </a:lnTo>
                            <a:lnTo>
                              <a:pt x="77" y="29"/>
                            </a:lnTo>
                            <a:lnTo>
                              <a:pt x="75" y="25"/>
                            </a:lnTo>
                            <a:lnTo>
                              <a:pt x="72" y="22"/>
                            </a:lnTo>
                            <a:lnTo>
                              <a:pt x="67" y="15"/>
                            </a:lnTo>
                            <a:lnTo>
                              <a:pt x="62" y="1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398760" y="3947400"/>
                        <a:ext cx="22320" cy="40680"/>
                      </a:xfrm>
                      <a:custGeom>
                        <a:avLst/>
                        <a:gdLst/>
                        <a:ahLst/>
                        <a:rect l="l" t="t" r="r" b="b"/>
                        <a:pathLst>
                          <a:path w="17" h="34">
                            <a:moveTo>
                              <a:pt x="1" y="2"/>
                            </a:moveTo>
                            <a:lnTo>
                              <a:pt x="12" y="0"/>
                            </a:lnTo>
                            <a:lnTo>
                              <a:pt x="16" y="32"/>
                            </a:lnTo>
                            <a:lnTo>
                              <a:pt x="8" y="33"/>
                            </a:lnTo>
                            <a:lnTo>
                              <a:pt x="0" y="33"/>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86" name=""/>
                      <p:cNvSpPr/>
                      <p:nvPr/>
                    </p:nvSpPr>
                    <p:spPr>
                      <a:xfrm>
                        <a:off x="3198960" y="3809880"/>
                        <a:ext cx="207360" cy="230040"/>
                      </a:xfrm>
                      <a:custGeom>
                        <a:avLst/>
                        <a:gdLst/>
                        <a:ahLst/>
                        <a:rect l="l" t="t" r="r" b="b"/>
                        <a:pathLst>
                          <a:path w="158" h="191">
                            <a:moveTo>
                              <a:pt x="72" y="0"/>
                            </a:moveTo>
                            <a:lnTo>
                              <a:pt x="67" y="12"/>
                            </a:lnTo>
                            <a:lnTo>
                              <a:pt x="54" y="23"/>
                            </a:lnTo>
                            <a:lnTo>
                              <a:pt x="49" y="30"/>
                            </a:lnTo>
                            <a:lnTo>
                              <a:pt x="39" y="46"/>
                            </a:lnTo>
                            <a:lnTo>
                              <a:pt x="31" y="59"/>
                            </a:lnTo>
                            <a:lnTo>
                              <a:pt x="23" y="81"/>
                            </a:lnTo>
                            <a:lnTo>
                              <a:pt x="16" y="98"/>
                            </a:lnTo>
                            <a:lnTo>
                              <a:pt x="11" y="118"/>
                            </a:lnTo>
                            <a:lnTo>
                              <a:pt x="7" y="138"/>
                            </a:lnTo>
                            <a:lnTo>
                              <a:pt x="3" y="161"/>
                            </a:lnTo>
                            <a:lnTo>
                              <a:pt x="0" y="190"/>
                            </a:lnTo>
                            <a:lnTo>
                              <a:pt x="122" y="190"/>
                            </a:lnTo>
                            <a:lnTo>
                              <a:pt x="120" y="178"/>
                            </a:lnTo>
                            <a:lnTo>
                              <a:pt x="119" y="169"/>
                            </a:lnTo>
                            <a:lnTo>
                              <a:pt x="119" y="158"/>
                            </a:lnTo>
                            <a:lnTo>
                              <a:pt x="139" y="152"/>
                            </a:lnTo>
                            <a:lnTo>
                              <a:pt x="157" y="151"/>
                            </a:lnTo>
                            <a:lnTo>
                              <a:pt x="155" y="140"/>
                            </a:lnTo>
                            <a:lnTo>
                              <a:pt x="153" y="123"/>
                            </a:lnTo>
                            <a:lnTo>
                              <a:pt x="154" y="113"/>
                            </a:lnTo>
                            <a:lnTo>
                              <a:pt x="140" y="117"/>
                            </a:lnTo>
                            <a:lnTo>
                              <a:pt x="133" y="118"/>
                            </a:lnTo>
                            <a:lnTo>
                              <a:pt x="125" y="119"/>
                            </a:lnTo>
                            <a:lnTo>
                              <a:pt x="121" y="121"/>
                            </a:lnTo>
                            <a:lnTo>
                              <a:pt x="117" y="103"/>
                            </a:lnTo>
                            <a:lnTo>
                              <a:pt x="114" y="84"/>
                            </a:lnTo>
                            <a:lnTo>
                              <a:pt x="111" y="67"/>
                            </a:lnTo>
                            <a:lnTo>
                              <a:pt x="107" y="58"/>
                            </a:lnTo>
                            <a:lnTo>
                              <a:pt x="106" y="52"/>
                            </a:lnTo>
                            <a:lnTo>
                              <a:pt x="103" y="44"/>
                            </a:lnTo>
                            <a:lnTo>
                              <a:pt x="99" y="34"/>
                            </a:lnTo>
                            <a:lnTo>
                              <a:pt x="96" y="29"/>
                            </a:lnTo>
                            <a:lnTo>
                              <a:pt x="94" y="24"/>
                            </a:lnTo>
                            <a:lnTo>
                              <a:pt x="90" y="19"/>
                            </a:lnTo>
                            <a:lnTo>
                              <a:pt x="85" y="12"/>
                            </a:lnTo>
                            <a:lnTo>
                              <a:pt x="79" y="6"/>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297240" y="3744000"/>
                        <a:ext cx="63000" cy="45360"/>
                      </a:xfrm>
                      <a:custGeom>
                        <a:avLst/>
                        <a:gdLst/>
                        <a:ahLst/>
                        <a:rect l="l" t="t" r="r" b="b"/>
                        <a:pathLst>
                          <a:path w="48" h="38">
                            <a:moveTo>
                              <a:pt x="11" y="0"/>
                            </a:moveTo>
                            <a:lnTo>
                              <a:pt x="13" y="1"/>
                            </a:lnTo>
                            <a:lnTo>
                              <a:pt x="14" y="2"/>
                            </a:lnTo>
                            <a:lnTo>
                              <a:pt x="16" y="2"/>
                            </a:lnTo>
                            <a:lnTo>
                              <a:pt x="18" y="3"/>
                            </a:lnTo>
                            <a:lnTo>
                              <a:pt x="20" y="5"/>
                            </a:lnTo>
                            <a:lnTo>
                              <a:pt x="23" y="7"/>
                            </a:lnTo>
                            <a:lnTo>
                              <a:pt x="28" y="10"/>
                            </a:lnTo>
                            <a:lnTo>
                              <a:pt x="34" y="13"/>
                            </a:lnTo>
                            <a:lnTo>
                              <a:pt x="39" y="15"/>
                            </a:lnTo>
                            <a:lnTo>
                              <a:pt x="43" y="15"/>
                            </a:lnTo>
                            <a:lnTo>
                              <a:pt x="46" y="20"/>
                            </a:lnTo>
                            <a:lnTo>
                              <a:pt x="47" y="24"/>
                            </a:lnTo>
                            <a:lnTo>
                              <a:pt x="47" y="29"/>
                            </a:lnTo>
                            <a:lnTo>
                              <a:pt x="46" y="32"/>
                            </a:lnTo>
                            <a:lnTo>
                              <a:pt x="44" y="36"/>
                            </a:lnTo>
                            <a:lnTo>
                              <a:pt x="36" y="33"/>
                            </a:lnTo>
                            <a:lnTo>
                              <a:pt x="36" y="29"/>
                            </a:lnTo>
                            <a:lnTo>
                              <a:pt x="34" y="25"/>
                            </a:lnTo>
                            <a:lnTo>
                              <a:pt x="31" y="24"/>
                            </a:lnTo>
                            <a:lnTo>
                              <a:pt x="29" y="23"/>
                            </a:lnTo>
                            <a:lnTo>
                              <a:pt x="27" y="23"/>
                            </a:lnTo>
                            <a:lnTo>
                              <a:pt x="23" y="25"/>
                            </a:lnTo>
                            <a:lnTo>
                              <a:pt x="21" y="28"/>
                            </a:lnTo>
                            <a:lnTo>
                              <a:pt x="19" y="32"/>
                            </a:lnTo>
                            <a:lnTo>
                              <a:pt x="17" y="35"/>
                            </a:lnTo>
                            <a:lnTo>
                              <a:pt x="14" y="36"/>
                            </a:lnTo>
                            <a:lnTo>
                              <a:pt x="11" y="36"/>
                            </a:lnTo>
                            <a:lnTo>
                              <a:pt x="7" y="36"/>
                            </a:lnTo>
                            <a:lnTo>
                              <a:pt x="4" y="36"/>
                            </a:lnTo>
                            <a:lnTo>
                              <a:pt x="4" y="37"/>
                            </a:lnTo>
                            <a:lnTo>
                              <a:pt x="3" y="35"/>
                            </a:lnTo>
                            <a:lnTo>
                              <a:pt x="1" y="30"/>
                            </a:lnTo>
                            <a:lnTo>
                              <a:pt x="0" y="27"/>
                            </a:lnTo>
                            <a:lnTo>
                              <a:pt x="0" y="22"/>
                            </a:lnTo>
                            <a:lnTo>
                              <a:pt x="0" y="18"/>
                            </a:lnTo>
                            <a:lnTo>
                              <a:pt x="2" y="13"/>
                            </a:lnTo>
                            <a:lnTo>
                              <a:pt x="4" y="9"/>
                            </a:lnTo>
                            <a:lnTo>
                              <a:pt x="6" y="4"/>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388" name=""/>
                    <p:cNvGrpSpPr/>
                    <p:nvPr/>
                  </p:nvGrpSpPr>
                  <p:grpSpPr>
                    <a:xfrm>
                      <a:off x="3331440" y="3781080"/>
                      <a:ext cx="95760" cy="167400"/>
                      <a:chOff x="3331440" y="3781080"/>
                      <a:chExt cx="95760" cy="167400"/>
                    </a:xfrm>
                  </p:grpSpPr>
                  <p:sp>
                    <p:nvSpPr>
                      <p:cNvPr id="389" name=""/>
                      <p:cNvSpPr/>
                      <p:nvPr/>
                    </p:nvSpPr>
                    <p:spPr>
                      <a:xfrm>
                        <a:off x="3331440" y="3781080"/>
                        <a:ext cx="95760" cy="167400"/>
                      </a:xfrm>
                      <a:custGeom>
                        <a:avLst/>
                        <a:gdLst/>
                        <a:ahLst/>
                        <a:rect l="l" t="t" r="r" b="b"/>
                        <a:pathLst>
                          <a:path w="73" h="139">
                            <a:moveTo>
                              <a:pt x="0" y="0"/>
                            </a:moveTo>
                            <a:lnTo>
                              <a:pt x="3" y="10"/>
                            </a:lnTo>
                            <a:lnTo>
                              <a:pt x="4" y="21"/>
                            </a:lnTo>
                            <a:lnTo>
                              <a:pt x="6" y="31"/>
                            </a:lnTo>
                            <a:lnTo>
                              <a:pt x="8" y="41"/>
                            </a:lnTo>
                            <a:lnTo>
                              <a:pt x="11" y="50"/>
                            </a:lnTo>
                            <a:lnTo>
                              <a:pt x="16" y="63"/>
                            </a:lnTo>
                            <a:lnTo>
                              <a:pt x="19" y="71"/>
                            </a:lnTo>
                            <a:lnTo>
                              <a:pt x="23" y="80"/>
                            </a:lnTo>
                            <a:lnTo>
                              <a:pt x="24" y="88"/>
                            </a:lnTo>
                            <a:lnTo>
                              <a:pt x="26" y="95"/>
                            </a:lnTo>
                            <a:lnTo>
                              <a:pt x="28" y="105"/>
                            </a:lnTo>
                            <a:lnTo>
                              <a:pt x="29" y="114"/>
                            </a:lnTo>
                            <a:lnTo>
                              <a:pt x="31" y="123"/>
                            </a:lnTo>
                            <a:lnTo>
                              <a:pt x="33" y="131"/>
                            </a:lnTo>
                            <a:lnTo>
                              <a:pt x="33" y="133"/>
                            </a:lnTo>
                            <a:lnTo>
                              <a:pt x="36" y="136"/>
                            </a:lnTo>
                            <a:lnTo>
                              <a:pt x="41" y="138"/>
                            </a:lnTo>
                            <a:lnTo>
                              <a:pt x="38" y="137"/>
                            </a:lnTo>
                            <a:lnTo>
                              <a:pt x="44" y="137"/>
                            </a:lnTo>
                            <a:lnTo>
                              <a:pt x="46" y="136"/>
                            </a:lnTo>
                            <a:lnTo>
                              <a:pt x="49" y="133"/>
                            </a:lnTo>
                            <a:lnTo>
                              <a:pt x="51" y="130"/>
                            </a:lnTo>
                            <a:lnTo>
                              <a:pt x="56" y="128"/>
                            </a:lnTo>
                            <a:lnTo>
                              <a:pt x="61" y="128"/>
                            </a:lnTo>
                            <a:lnTo>
                              <a:pt x="64" y="128"/>
                            </a:lnTo>
                            <a:lnTo>
                              <a:pt x="72"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333960" y="3782160"/>
                        <a:ext cx="1008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391" name=""/>
                    <p:cNvSpPr/>
                    <p:nvPr/>
                  </p:nvSpPr>
                  <p:spPr>
                    <a:xfrm>
                      <a:off x="3360600" y="3849840"/>
                      <a:ext cx="22320" cy="36000"/>
                    </a:xfrm>
                    <a:custGeom>
                      <a:avLst/>
                      <a:gdLst/>
                      <a:ahLst/>
                      <a:rect l="l" t="t" r="r" b="b"/>
                      <a:pathLst>
                        <a:path w="17" h="30">
                          <a:moveTo>
                            <a:pt x="0" y="0"/>
                          </a:moveTo>
                          <a:lnTo>
                            <a:pt x="8" y="9"/>
                          </a:lnTo>
                          <a:lnTo>
                            <a:pt x="8" y="17"/>
                          </a:lnTo>
                          <a:lnTo>
                            <a:pt x="16" y="29"/>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392" name=""/>
                  <p:cNvSpPr/>
                  <p:nvPr/>
                </p:nvSpPr>
                <p:spPr>
                  <a:xfrm>
                    <a:off x="3297240" y="4000320"/>
                    <a:ext cx="60480" cy="20160"/>
                  </a:xfrm>
                  <a:custGeom>
                    <a:avLst/>
                    <a:gdLst/>
                    <a:ahLst/>
                    <a:rect l="l" t="t" r="r" b="b"/>
                    <a:pathLst>
                      <a:path w="46" h="17">
                        <a:moveTo>
                          <a:pt x="45" y="0"/>
                        </a:moveTo>
                        <a:lnTo>
                          <a:pt x="34" y="9"/>
                        </a:lnTo>
                        <a:lnTo>
                          <a:pt x="18"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393" name=""/>
                <p:cNvGrpSpPr/>
                <p:nvPr/>
              </p:nvGrpSpPr>
              <p:grpSpPr>
                <a:xfrm>
                  <a:off x="3765600" y="3559320"/>
                  <a:ext cx="668880" cy="518400"/>
                  <a:chOff x="3765600" y="3559320"/>
                  <a:chExt cx="668880" cy="518400"/>
                </a:xfrm>
              </p:grpSpPr>
              <p:grpSp>
                <p:nvGrpSpPr>
                  <p:cNvPr id="394" name=""/>
                  <p:cNvGrpSpPr/>
                  <p:nvPr/>
                </p:nvGrpSpPr>
                <p:grpSpPr>
                  <a:xfrm>
                    <a:off x="3954600" y="3559320"/>
                    <a:ext cx="290880" cy="345600"/>
                    <a:chOff x="3954600" y="3559320"/>
                    <a:chExt cx="290880" cy="345600"/>
                  </a:xfrm>
                </p:grpSpPr>
                <p:grpSp>
                  <p:nvGrpSpPr>
                    <p:cNvPr id="395" name=""/>
                    <p:cNvGrpSpPr/>
                    <p:nvPr/>
                  </p:nvGrpSpPr>
                  <p:grpSpPr>
                    <a:xfrm>
                      <a:off x="4213080" y="3788640"/>
                      <a:ext cx="32400" cy="24840"/>
                      <a:chOff x="4213080" y="3788640"/>
                      <a:chExt cx="32400" cy="24840"/>
                    </a:xfrm>
                  </p:grpSpPr>
                  <p:sp>
                    <p:nvSpPr>
                      <p:cNvPr id="396" name=""/>
                      <p:cNvSpPr/>
                      <p:nvPr/>
                    </p:nvSpPr>
                    <p:spPr>
                      <a:xfrm>
                        <a:off x="4213080" y="37933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97" name=""/>
                      <p:cNvSpPr/>
                      <p:nvPr/>
                    </p:nvSpPr>
                    <p:spPr>
                      <a:xfrm>
                        <a:off x="4235040" y="37886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98" name=""/>
                    <p:cNvGrpSpPr/>
                    <p:nvPr/>
                  </p:nvGrpSpPr>
                  <p:grpSpPr>
                    <a:xfrm>
                      <a:off x="3954600" y="3559320"/>
                      <a:ext cx="266040" cy="345600"/>
                      <a:chOff x="3954600" y="3559320"/>
                      <a:chExt cx="266040" cy="345600"/>
                    </a:xfrm>
                  </p:grpSpPr>
                  <p:grpSp>
                    <p:nvGrpSpPr>
                      <p:cNvPr id="399" name=""/>
                      <p:cNvGrpSpPr/>
                      <p:nvPr/>
                    </p:nvGrpSpPr>
                    <p:grpSpPr>
                      <a:xfrm>
                        <a:off x="4150080" y="3782520"/>
                        <a:ext cx="70560" cy="61920"/>
                        <a:chOff x="4150080" y="3782520"/>
                        <a:chExt cx="70560" cy="61920"/>
                      </a:xfrm>
                    </p:grpSpPr>
                    <p:sp>
                      <p:nvSpPr>
                        <p:cNvPr id="400" name=""/>
                        <p:cNvSpPr/>
                        <p:nvPr/>
                      </p:nvSpPr>
                      <p:spPr>
                        <a:xfrm>
                          <a:off x="4186440" y="378252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1" name=""/>
                        <p:cNvSpPr/>
                        <p:nvPr/>
                      </p:nvSpPr>
                      <p:spPr>
                        <a:xfrm>
                          <a:off x="4150080" y="378936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02" name=""/>
                      <p:cNvSpPr/>
                      <p:nvPr/>
                    </p:nvSpPr>
                    <p:spPr>
                      <a:xfrm>
                        <a:off x="4093560" y="369000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048920" y="36410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04" name=""/>
                      <p:cNvSpPr/>
                      <p:nvPr/>
                    </p:nvSpPr>
                    <p:spPr>
                      <a:xfrm>
                        <a:off x="4052520" y="355932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155120" y="380304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6" name=""/>
                      <p:cNvSpPr/>
                      <p:nvPr/>
                    </p:nvSpPr>
                    <p:spPr>
                      <a:xfrm>
                        <a:off x="3954600" y="364788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052520" y="35737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08" name=""/>
                    <p:cNvGrpSpPr/>
                    <p:nvPr/>
                  </p:nvGrpSpPr>
                  <p:grpSpPr>
                    <a:xfrm>
                      <a:off x="4087080" y="3615480"/>
                      <a:ext cx="96840" cy="188280"/>
                      <a:chOff x="4087080" y="3615480"/>
                      <a:chExt cx="96840" cy="188280"/>
                    </a:xfrm>
                  </p:grpSpPr>
                  <p:sp>
                    <p:nvSpPr>
                      <p:cNvPr id="409" name=""/>
                      <p:cNvSpPr/>
                      <p:nvPr/>
                    </p:nvSpPr>
                    <p:spPr>
                      <a:xfrm>
                        <a:off x="4087080" y="3615480"/>
                        <a:ext cx="9684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089600" y="3616560"/>
                        <a:ext cx="1008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411" name=""/>
                    <p:cNvSpPr/>
                    <p:nvPr/>
                  </p:nvSpPr>
                  <p:spPr>
                    <a:xfrm>
                      <a:off x="4117320" y="369252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12" name=""/>
                  <p:cNvSpPr/>
                  <p:nvPr/>
                </p:nvSpPr>
                <p:spPr>
                  <a:xfrm>
                    <a:off x="4052880" y="386208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413" name=""/>
                  <p:cNvGrpSpPr/>
                  <p:nvPr/>
                </p:nvGrpSpPr>
                <p:grpSpPr>
                  <a:xfrm>
                    <a:off x="3765600" y="3674520"/>
                    <a:ext cx="290880" cy="345600"/>
                    <a:chOff x="3765600" y="3674520"/>
                    <a:chExt cx="290880" cy="345600"/>
                  </a:xfrm>
                </p:grpSpPr>
                <p:grpSp>
                  <p:nvGrpSpPr>
                    <p:cNvPr id="414" name=""/>
                    <p:cNvGrpSpPr/>
                    <p:nvPr/>
                  </p:nvGrpSpPr>
                  <p:grpSpPr>
                    <a:xfrm>
                      <a:off x="4024080" y="3903840"/>
                      <a:ext cx="32400" cy="24840"/>
                      <a:chOff x="4024080" y="3903840"/>
                      <a:chExt cx="32400" cy="24840"/>
                    </a:xfrm>
                  </p:grpSpPr>
                  <p:sp>
                    <p:nvSpPr>
                      <p:cNvPr id="415" name=""/>
                      <p:cNvSpPr/>
                      <p:nvPr/>
                    </p:nvSpPr>
                    <p:spPr>
                      <a:xfrm>
                        <a:off x="4024080" y="39085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6" name=""/>
                      <p:cNvSpPr/>
                      <p:nvPr/>
                    </p:nvSpPr>
                    <p:spPr>
                      <a:xfrm>
                        <a:off x="4046040" y="39038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17" name=""/>
                    <p:cNvGrpSpPr/>
                    <p:nvPr/>
                  </p:nvGrpSpPr>
                  <p:grpSpPr>
                    <a:xfrm>
                      <a:off x="3765600" y="3674520"/>
                      <a:ext cx="266040" cy="345600"/>
                      <a:chOff x="3765600" y="3674520"/>
                      <a:chExt cx="266040" cy="345600"/>
                    </a:xfrm>
                  </p:grpSpPr>
                  <p:grpSp>
                    <p:nvGrpSpPr>
                      <p:cNvPr id="418" name=""/>
                      <p:cNvGrpSpPr/>
                      <p:nvPr/>
                    </p:nvGrpSpPr>
                    <p:grpSpPr>
                      <a:xfrm>
                        <a:off x="3961080" y="3897720"/>
                        <a:ext cx="70560" cy="62280"/>
                        <a:chOff x="3961080" y="3897720"/>
                        <a:chExt cx="70560" cy="62280"/>
                      </a:xfrm>
                    </p:grpSpPr>
                    <p:sp>
                      <p:nvSpPr>
                        <p:cNvPr id="419" name=""/>
                        <p:cNvSpPr/>
                        <p:nvPr/>
                      </p:nvSpPr>
                      <p:spPr>
                        <a:xfrm>
                          <a:off x="3997440" y="389772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0" name=""/>
                        <p:cNvSpPr/>
                        <p:nvPr/>
                      </p:nvSpPr>
                      <p:spPr>
                        <a:xfrm>
                          <a:off x="3961080" y="390492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21" name=""/>
                      <p:cNvSpPr/>
                      <p:nvPr/>
                    </p:nvSpPr>
                    <p:spPr>
                      <a:xfrm>
                        <a:off x="3904560" y="380556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859920" y="37562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23" name=""/>
                      <p:cNvSpPr/>
                      <p:nvPr/>
                    </p:nvSpPr>
                    <p:spPr>
                      <a:xfrm>
                        <a:off x="3863520" y="367452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966120" y="391824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5" name=""/>
                      <p:cNvSpPr/>
                      <p:nvPr/>
                    </p:nvSpPr>
                    <p:spPr>
                      <a:xfrm>
                        <a:off x="3765600" y="376308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863520" y="36889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27" name=""/>
                    <p:cNvGrpSpPr/>
                    <p:nvPr/>
                  </p:nvGrpSpPr>
                  <p:grpSpPr>
                    <a:xfrm>
                      <a:off x="3898080" y="3730680"/>
                      <a:ext cx="96840" cy="188640"/>
                      <a:chOff x="3898080" y="3730680"/>
                      <a:chExt cx="96840" cy="188640"/>
                    </a:xfrm>
                  </p:grpSpPr>
                  <p:sp>
                    <p:nvSpPr>
                      <p:cNvPr id="428" name=""/>
                      <p:cNvSpPr/>
                      <p:nvPr/>
                    </p:nvSpPr>
                    <p:spPr>
                      <a:xfrm>
                        <a:off x="3898080" y="3730680"/>
                        <a:ext cx="96840" cy="18864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900600" y="3731760"/>
                        <a:ext cx="1008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430" name=""/>
                    <p:cNvSpPr/>
                    <p:nvPr/>
                  </p:nvSpPr>
                  <p:spPr>
                    <a:xfrm>
                      <a:off x="3928320" y="3807720"/>
                      <a:ext cx="22320" cy="3924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31" name=""/>
                  <p:cNvSpPr/>
                  <p:nvPr/>
                </p:nvSpPr>
                <p:spPr>
                  <a:xfrm>
                    <a:off x="3863880" y="397728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432" name=""/>
                  <p:cNvGrpSpPr/>
                  <p:nvPr/>
                </p:nvGrpSpPr>
                <p:grpSpPr>
                  <a:xfrm>
                    <a:off x="4143600" y="3732120"/>
                    <a:ext cx="290880" cy="345600"/>
                    <a:chOff x="4143600" y="3732120"/>
                    <a:chExt cx="290880" cy="345600"/>
                  </a:xfrm>
                </p:grpSpPr>
                <p:grpSp>
                  <p:nvGrpSpPr>
                    <p:cNvPr id="433" name=""/>
                    <p:cNvGrpSpPr/>
                    <p:nvPr/>
                  </p:nvGrpSpPr>
                  <p:grpSpPr>
                    <a:xfrm>
                      <a:off x="4402080" y="3961440"/>
                      <a:ext cx="32400" cy="24840"/>
                      <a:chOff x="4402080" y="3961440"/>
                      <a:chExt cx="32400" cy="24840"/>
                    </a:xfrm>
                  </p:grpSpPr>
                  <p:sp>
                    <p:nvSpPr>
                      <p:cNvPr id="434" name=""/>
                      <p:cNvSpPr/>
                      <p:nvPr/>
                    </p:nvSpPr>
                    <p:spPr>
                      <a:xfrm>
                        <a:off x="4402080" y="39661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5" name=""/>
                      <p:cNvSpPr/>
                      <p:nvPr/>
                    </p:nvSpPr>
                    <p:spPr>
                      <a:xfrm>
                        <a:off x="4424040" y="39614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36" name=""/>
                    <p:cNvGrpSpPr/>
                    <p:nvPr/>
                  </p:nvGrpSpPr>
                  <p:grpSpPr>
                    <a:xfrm>
                      <a:off x="4143600" y="3732120"/>
                      <a:ext cx="266040" cy="345600"/>
                      <a:chOff x="4143600" y="3732120"/>
                      <a:chExt cx="266040" cy="345600"/>
                    </a:xfrm>
                  </p:grpSpPr>
                  <p:grpSp>
                    <p:nvGrpSpPr>
                      <p:cNvPr id="437" name=""/>
                      <p:cNvGrpSpPr/>
                      <p:nvPr/>
                    </p:nvGrpSpPr>
                    <p:grpSpPr>
                      <a:xfrm>
                        <a:off x="4339080" y="3955320"/>
                        <a:ext cx="70560" cy="61920"/>
                        <a:chOff x="4339080" y="3955320"/>
                        <a:chExt cx="70560" cy="61920"/>
                      </a:xfrm>
                    </p:grpSpPr>
                    <p:sp>
                      <p:nvSpPr>
                        <p:cNvPr id="438" name=""/>
                        <p:cNvSpPr/>
                        <p:nvPr/>
                      </p:nvSpPr>
                      <p:spPr>
                        <a:xfrm>
                          <a:off x="4375440" y="395532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9" name=""/>
                        <p:cNvSpPr/>
                        <p:nvPr/>
                      </p:nvSpPr>
                      <p:spPr>
                        <a:xfrm>
                          <a:off x="4339080" y="396216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40" name=""/>
                      <p:cNvSpPr/>
                      <p:nvPr/>
                    </p:nvSpPr>
                    <p:spPr>
                      <a:xfrm>
                        <a:off x="4282560" y="386280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237920" y="38138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2" name=""/>
                      <p:cNvSpPr/>
                      <p:nvPr/>
                    </p:nvSpPr>
                    <p:spPr>
                      <a:xfrm>
                        <a:off x="4241520" y="373212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344120" y="397584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4" name=""/>
                      <p:cNvSpPr/>
                      <p:nvPr/>
                    </p:nvSpPr>
                    <p:spPr>
                      <a:xfrm>
                        <a:off x="4143600" y="382068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241520" y="37465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46" name=""/>
                    <p:cNvGrpSpPr/>
                    <p:nvPr/>
                  </p:nvGrpSpPr>
                  <p:grpSpPr>
                    <a:xfrm>
                      <a:off x="4276080" y="3788280"/>
                      <a:ext cx="96840" cy="188280"/>
                      <a:chOff x="4276080" y="3788280"/>
                      <a:chExt cx="96840" cy="188280"/>
                    </a:xfrm>
                  </p:grpSpPr>
                  <p:sp>
                    <p:nvSpPr>
                      <p:cNvPr id="447" name=""/>
                      <p:cNvSpPr/>
                      <p:nvPr/>
                    </p:nvSpPr>
                    <p:spPr>
                      <a:xfrm>
                        <a:off x="4276080" y="3788280"/>
                        <a:ext cx="9684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278600" y="3789360"/>
                        <a:ext cx="1008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449" name=""/>
                    <p:cNvSpPr/>
                    <p:nvPr/>
                  </p:nvSpPr>
                  <p:spPr>
                    <a:xfrm>
                      <a:off x="4306320" y="386532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50" name=""/>
                  <p:cNvSpPr/>
                  <p:nvPr/>
                </p:nvSpPr>
                <p:spPr>
                  <a:xfrm>
                    <a:off x="4242240" y="403488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pic>
              <p:nvPicPr>
                <p:cNvPr id="451" name="" descr=""/>
                <p:cNvPicPr/>
                <p:nvPr/>
              </p:nvPicPr>
              <p:blipFill>
                <a:blip r:embed="rId7"/>
                <a:stretch/>
              </p:blipFill>
              <p:spPr>
                <a:xfrm>
                  <a:off x="3533760" y="3808440"/>
                  <a:ext cx="465120" cy="376200"/>
                </a:xfrm>
                <a:prstGeom prst="rect">
                  <a:avLst/>
                </a:prstGeom>
                <a:ln w="0">
                  <a:noFill/>
                </a:ln>
              </p:spPr>
            </p:pic>
            <p:grpSp>
              <p:nvGrpSpPr>
                <p:cNvPr id="452" name=""/>
                <p:cNvGrpSpPr/>
                <p:nvPr/>
              </p:nvGrpSpPr>
              <p:grpSpPr>
                <a:xfrm>
                  <a:off x="3262320" y="3903840"/>
                  <a:ext cx="288360" cy="308880"/>
                  <a:chOff x="3262320" y="3903840"/>
                  <a:chExt cx="288360" cy="308880"/>
                </a:xfrm>
              </p:grpSpPr>
              <p:grpSp>
                <p:nvGrpSpPr>
                  <p:cNvPr id="453" name=""/>
                  <p:cNvGrpSpPr/>
                  <p:nvPr/>
                </p:nvGrpSpPr>
                <p:grpSpPr>
                  <a:xfrm>
                    <a:off x="3262320" y="3903840"/>
                    <a:ext cx="288360" cy="308880"/>
                    <a:chOff x="3262320" y="3903840"/>
                    <a:chExt cx="288360" cy="308880"/>
                  </a:xfrm>
                </p:grpSpPr>
                <p:grpSp>
                  <p:nvGrpSpPr>
                    <p:cNvPr id="454" name=""/>
                    <p:cNvGrpSpPr/>
                    <p:nvPr/>
                  </p:nvGrpSpPr>
                  <p:grpSpPr>
                    <a:xfrm>
                      <a:off x="3518640" y="4109400"/>
                      <a:ext cx="32040" cy="23760"/>
                      <a:chOff x="3518640" y="4109400"/>
                      <a:chExt cx="32040" cy="23760"/>
                    </a:xfrm>
                  </p:grpSpPr>
                  <p:sp>
                    <p:nvSpPr>
                      <p:cNvPr id="455" name=""/>
                      <p:cNvSpPr/>
                      <p:nvPr/>
                    </p:nvSpPr>
                    <p:spPr>
                      <a:xfrm>
                        <a:off x="3518640" y="4113000"/>
                        <a:ext cx="21960" cy="20160"/>
                      </a:xfrm>
                      <a:custGeom>
                        <a:avLst/>
                        <a:gdLst/>
                        <a:ahLst/>
                        <a:rect l="l" t="t" r="r" b="b"/>
                        <a:pathLst>
                          <a:path w="17" h="17">
                            <a:moveTo>
                              <a:pt x="16" y="0"/>
                            </a:moveTo>
                            <a:lnTo>
                              <a:pt x="0" y="5"/>
                            </a:lnTo>
                            <a:lnTo>
                              <a:pt x="0" y="12"/>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6" name=""/>
                      <p:cNvSpPr/>
                      <p:nvPr/>
                    </p:nvSpPr>
                    <p:spPr>
                      <a:xfrm>
                        <a:off x="3540600" y="4109400"/>
                        <a:ext cx="10080" cy="11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457" name=""/>
                    <p:cNvGrpSpPr/>
                    <p:nvPr/>
                  </p:nvGrpSpPr>
                  <p:grpSpPr>
                    <a:xfrm>
                      <a:off x="3262320" y="3903840"/>
                      <a:ext cx="263520" cy="308880"/>
                      <a:chOff x="3262320" y="3903840"/>
                      <a:chExt cx="263520" cy="308880"/>
                    </a:xfrm>
                  </p:grpSpPr>
                  <p:grpSp>
                    <p:nvGrpSpPr>
                      <p:cNvPr id="458" name=""/>
                      <p:cNvGrpSpPr/>
                      <p:nvPr/>
                    </p:nvGrpSpPr>
                    <p:grpSpPr>
                      <a:xfrm>
                        <a:off x="3456720" y="4102200"/>
                        <a:ext cx="69120" cy="55800"/>
                        <a:chOff x="3456720" y="4102200"/>
                        <a:chExt cx="69120" cy="55800"/>
                      </a:xfrm>
                    </p:grpSpPr>
                    <p:sp>
                      <p:nvSpPr>
                        <p:cNvPr id="459" name=""/>
                        <p:cNvSpPr/>
                        <p:nvPr/>
                      </p:nvSpPr>
                      <p:spPr>
                        <a:xfrm>
                          <a:off x="3492000" y="4102200"/>
                          <a:ext cx="24480" cy="20160"/>
                        </a:xfrm>
                        <a:custGeom>
                          <a:avLst/>
                          <a:gdLst/>
                          <a:ahLst/>
                          <a:rect l="l" t="t" r="r" b="b"/>
                          <a:pathLst>
                            <a:path w="19" h="17">
                              <a:moveTo>
                                <a:pt x="0" y="14"/>
                              </a:moveTo>
                              <a:lnTo>
                                <a:pt x="6" y="8"/>
                              </a:lnTo>
                              <a:lnTo>
                                <a:pt x="12" y="1"/>
                              </a:lnTo>
                              <a:lnTo>
                                <a:pt x="15" y="0"/>
                              </a:lnTo>
                              <a:lnTo>
                                <a:pt x="17" y="0"/>
                              </a:lnTo>
                              <a:lnTo>
                                <a:pt x="18" y="1"/>
                              </a:lnTo>
                              <a:lnTo>
                                <a:pt x="18" y="3"/>
                              </a:lnTo>
                              <a:lnTo>
                                <a:pt x="18" y="5"/>
                              </a:lnTo>
                              <a:lnTo>
                                <a:pt x="17" y="7"/>
                              </a:lnTo>
                              <a:lnTo>
                                <a:pt x="17" y="8"/>
                              </a:lnTo>
                              <a:lnTo>
                                <a:pt x="15" y="12"/>
                              </a:lnTo>
                              <a:lnTo>
                                <a:pt x="12"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0" name=""/>
                        <p:cNvSpPr/>
                        <p:nvPr/>
                      </p:nvSpPr>
                      <p:spPr>
                        <a:xfrm>
                          <a:off x="3456720" y="4107960"/>
                          <a:ext cx="69120" cy="50040"/>
                        </a:xfrm>
                        <a:custGeom>
                          <a:avLst/>
                          <a:gdLst/>
                          <a:ahLst/>
                          <a:rect l="l" t="t" r="r" b="b"/>
                          <a:pathLst>
                            <a:path w="53" h="42">
                              <a:moveTo>
                                <a:pt x="0" y="21"/>
                              </a:moveTo>
                              <a:lnTo>
                                <a:pt x="7" y="18"/>
                              </a:lnTo>
                              <a:lnTo>
                                <a:pt x="14" y="15"/>
                              </a:lnTo>
                              <a:lnTo>
                                <a:pt x="17" y="13"/>
                              </a:lnTo>
                              <a:lnTo>
                                <a:pt x="19" y="10"/>
                              </a:lnTo>
                              <a:lnTo>
                                <a:pt x="22" y="6"/>
                              </a:lnTo>
                              <a:lnTo>
                                <a:pt x="25" y="4"/>
                              </a:lnTo>
                              <a:lnTo>
                                <a:pt x="29" y="1"/>
                              </a:lnTo>
                              <a:lnTo>
                                <a:pt x="34" y="0"/>
                              </a:lnTo>
                              <a:lnTo>
                                <a:pt x="38" y="0"/>
                              </a:lnTo>
                              <a:lnTo>
                                <a:pt x="43" y="0"/>
                              </a:lnTo>
                              <a:lnTo>
                                <a:pt x="47" y="1"/>
                              </a:lnTo>
                              <a:lnTo>
                                <a:pt x="49" y="2"/>
                              </a:lnTo>
                              <a:lnTo>
                                <a:pt x="50" y="4"/>
                              </a:lnTo>
                              <a:lnTo>
                                <a:pt x="50" y="6"/>
                              </a:lnTo>
                              <a:lnTo>
                                <a:pt x="50" y="7"/>
                              </a:lnTo>
                              <a:lnTo>
                                <a:pt x="49" y="9"/>
                              </a:lnTo>
                              <a:lnTo>
                                <a:pt x="44" y="9"/>
                              </a:lnTo>
                              <a:lnTo>
                                <a:pt x="48" y="9"/>
                              </a:lnTo>
                              <a:lnTo>
                                <a:pt x="50" y="9"/>
                              </a:lnTo>
                              <a:lnTo>
                                <a:pt x="51" y="10"/>
                              </a:lnTo>
                              <a:lnTo>
                                <a:pt x="52" y="12"/>
                              </a:lnTo>
                              <a:lnTo>
                                <a:pt x="52" y="14"/>
                              </a:lnTo>
                              <a:lnTo>
                                <a:pt x="51" y="16"/>
                              </a:lnTo>
                              <a:lnTo>
                                <a:pt x="50" y="17"/>
                              </a:lnTo>
                              <a:lnTo>
                                <a:pt x="48" y="17"/>
                              </a:lnTo>
                              <a:lnTo>
                                <a:pt x="45" y="17"/>
                              </a:lnTo>
                              <a:lnTo>
                                <a:pt x="48" y="17"/>
                              </a:lnTo>
                              <a:lnTo>
                                <a:pt x="49" y="18"/>
                              </a:lnTo>
                              <a:lnTo>
                                <a:pt x="51" y="18"/>
                              </a:lnTo>
                              <a:lnTo>
                                <a:pt x="51" y="20"/>
                              </a:lnTo>
                              <a:lnTo>
                                <a:pt x="51" y="21"/>
                              </a:lnTo>
                              <a:lnTo>
                                <a:pt x="50" y="23"/>
                              </a:lnTo>
                              <a:lnTo>
                                <a:pt x="48" y="24"/>
                              </a:lnTo>
                              <a:lnTo>
                                <a:pt x="46" y="26"/>
                              </a:lnTo>
                              <a:lnTo>
                                <a:pt x="47" y="25"/>
                              </a:lnTo>
                              <a:lnTo>
                                <a:pt x="49" y="24"/>
                              </a:lnTo>
                              <a:lnTo>
                                <a:pt x="50" y="24"/>
                              </a:lnTo>
                              <a:lnTo>
                                <a:pt x="51" y="26"/>
                              </a:lnTo>
                              <a:lnTo>
                                <a:pt x="49" y="28"/>
                              </a:lnTo>
                              <a:lnTo>
                                <a:pt x="48" y="29"/>
                              </a:lnTo>
                              <a:lnTo>
                                <a:pt x="45" y="31"/>
                              </a:lnTo>
                              <a:lnTo>
                                <a:pt x="41" y="32"/>
                              </a:lnTo>
                              <a:lnTo>
                                <a:pt x="37" y="32"/>
                              </a:lnTo>
                              <a:lnTo>
                                <a:pt x="32" y="32"/>
                              </a:lnTo>
                              <a:lnTo>
                                <a:pt x="28" y="31"/>
                              </a:lnTo>
                              <a:lnTo>
                                <a:pt x="22" y="32"/>
                              </a:lnTo>
                              <a:lnTo>
                                <a:pt x="16" y="35"/>
                              </a:lnTo>
                              <a:lnTo>
                                <a:pt x="10" y="39"/>
                              </a:lnTo>
                              <a:lnTo>
                                <a:pt x="6" y="41"/>
                              </a:lnTo>
                              <a:lnTo>
                                <a:pt x="0" y="21"/>
                              </a:lnTo>
                            </a:path>
                          </a:pathLst>
                        </a:custGeom>
                        <a:solidFill>
                          <a:srgbClr val="ffbfb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61" name=""/>
                      <p:cNvSpPr/>
                      <p:nvPr/>
                    </p:nvSpPr>
                    <p:spPr>
                      <a:xfrm>
                        <a:off x="3399120" y="4020480"/>
                        <a:ext cx="21960" cy="82800"/>
                      </a:xfrm>
                      <a:custGeom>
                        <a:avLst/>
                        <a:gdLst/>
                        <a:ahLst/>
                        <a:rect l="l" t="t" r="r" b="b"/>
                        <a:pathLst>
                          <a:path w="17" h="69">
                            <a:moveTo>
                              <a:pt x="4" y="0"/>
                            </a:moveTo>
                            <a:lnTo>
                              <a:pt x="3" y="5"/>
                            </a:lnTo>
                            <a:lnTo>
                              <a:pt x="2" y="9"/>
                            </a:lnTo>
                            <a:lnTo>
                              <a:pt x="0" y="12"/>
                            </a:lnTo>
                            <a:lnTo>
                              <a:pt x="2" y="14"/>
                            </a:lnTo>
                            <a:lnTo>
                              <a:pt x="3" y="16"/>
                            </a:lnTo>
                            <a:lnTo>
                              <a:pt x="5" y="18"/>
                            </a:lnTo>
                            <a:lnTo>
                              <a:pt x="8" y="18"/>
                            </a:lnTo>
                            <a:lnTo>
                              <a:pt x="6" y="21"/>
                            </a:lnTo>
                            <a:lnTo>
                              <a:pt x="6" y="25"/>
                            </a:lnTo>
                            <a:lnTo>
                              <a:pt x="3" y="32"/>
                            </a:lnTo>
                            <a:lnTo>
                              <a:pt x="9" y="68"/>
                            </a:lnTo>
                            <a:lnTo>
                              <a:pt x="11" y="53"/>
                            </a:lnTo>
                            <a:lnTo>
                              <a:pt x="13" y="44"/>
                            </a:lnTo>
                            <a:lnTo>
                              <a:pt x="14" y="37"/>
                            </a:lnTo>
                            <a:lnTo>
                              <a:pt x="14" y="29"/>
                            </a:lnTo>
                            <a:lnTo>
                              <a:pt x="16" y="23"/>
                            </a:lnTo>
                            <a:lnTo>
                              <a:pt x="16" y="19"/>
                            </a:lnTo>
                            <a:lnTo>
                              <a:pt x="14" y="18"/>
                            </a:lnTo>
                            <a:lnTo>
                              <a:pt x="12" y="16"/>
                            </a:lnTo>
                            <a:lnTo>
                              <a:pt x="11" y="15"/>
                            </a:lnTo>
                            <a:lnTo>
                              <a:pt x="11" y="12"/>
                            </a:lnTo>
                            <a:lnTo>
                              <a:pt x="10" y="8"/>
                            </a:lnTo>
                            <a:lnTo>
                              <a:pt x="8" y="4"/>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2" name=""/>
                      <p:cNvSpPr/>
                      <p:nvPr/>
                    </p:nvSpPr>
                    <p:spPr>
                      <a:xfrm>
                        <a:off x="3356280" y="3976920"/>
                        <a:ext cx="49320" cy="70920"/>
                      </a:xfrm>
                      <a:custGeom>
                        <a:avLst/>
                        <a:gdLst/>
                        <a:ahLst/>
                        <a:rect l="l" t="t" r="r" b="b"/>
                        <a:pathLst>
                          <a:path w="38" h="59">
                            <a:moveTo>
                              <a:pt x="7" y="0"/>
                            </a:moveTo>
                            <a:lnTo>
                              <a:pt x="0" y="12"/>
                            </a:lnTo>
                            <a:lnTo>
                              <a:pt x="7" y="17"/>
                            </a:lnTo>
                            <a:lnTo>
                              <a:pt x="15" y="25"/>
                            </a:lnTo>
                            <a:lnTo>
                              <a:pt x="23" y="36"/>
                            </a:lnTo>
                            <a:lnTo>
                              <a:pt x="28" y="48"/>
                            </a:lnTo>
                            <a:lnTo>
                              <a:pt x="31" y="58"/>
                            </a:lnTo>
                            <a:lnTo>
                              <a:pt x="31" y="53"/>
                            </a:lnTo>
                            <a:lnTo>
                              <a:pt x="35" y="44"/>
                            </a:lnTo>
                            <a:lnTo>
                              <a:pt x="36" y="40"/>
                            </a:lnTo>
                            <a:lnTo>
                              <a:pt x="37" y="36"/>
                            </a:lnTo>
                            <a:lnTo>
                              <a:pt x="37" y="34"/>
                            </a:lnTo>
                            <a:lnTo>
                              <a:pt x="33" y="28"/>
                            </a:lnTo>
                            <a:lnTo>
                              <a:pt x="27" y="20"/>
                            </a:lnTo>
                            <a:lnTo>
                              <a:pt x="18" y="12"/>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 name=""/>
                      <p:cNvSpPr/>
                      <p:nvPr/>
                    </p:nvSpPr>
                    <p:spPr>
                      <a:xfrm>
                        <a:off x="3360240" y="3903840"/>
                        <a:ext cx="103320" cy="120240"/>
                      </a:xfrm>
                      <a:custGeom>
                        <a:avLst/>
                        <a:gdLst/>
                        <a:ahLst/>
                        <a:rect l="l" t="t" r="r" b="b"/>
                        <a:pathLst>
                          <a:path w="79" h="100">
                            <a:moveTo>
                              <a:pt x="62" y="10"/>
                            </a:moveTo>
                            <a:lnTo>
                              <a:pt x="55" y="6"/>
                            </a:lnTo>
                            <a:lnTo>
                              <a:pt x="49" y="3"/>
                            </a:lnTo>
                            <a:lnTo>
                              <a:pt x="42" y="1"/>
                            </a:lnTo>
                            <a:lnTo>
                              <a:pt x="35" y="0"/>
                            </a:lnTo>
                            <a:lnTo>
                              <a:pt x="28" y="1"/>
                            </a:lnTo>
                            <a:lnTo>
                              <a:pt x="21" y="2"/>
                            </a:lnTo>
                            <a:lnTo>
                              <a:pt x="14" y="7"/>
                            </a:lnTo>
                            <a:lnTo>
                              <a:pt x="7" y="15"/>
                            </a:lnTo>
                            <a:lnTo>
                              <a:pt x="3" y="22"/>
                            </a:lnTo>
                            <a:lnTo>
                              <a:pt x="1" y="30"/>
                            </a:lnTo>
                            <a:lnTo>
                              <a:pt x="0" y="37"/>
                            </a:lnTo>
                            <a:lnTo>
                              <a:pt x="1" y="44"/>
                            </a:lnTo>
                            <a:lnTo>
                              <a:pt x="4" y="48"/>
                            </a:lnTo>
                            <a:lnTo>
                              <a:pt x="4" y="53"/>
                            </a:lnTo>
                            <a:lnTo>
                              <a:pt x="3" y="61"/>
                            </a:lnTo>
                            <a:lnTo>
                              <a:pt x="3" y="63"/>
                            </a:lnTo>
                            <a:lnTo>
                              <a:pt x="14" y="73"/>
                            </a:lnTo>
                            <a:lnTo>
                              <a:pt x="26" y="84"/>
                            </a:lnTo>
                            <a:lnTo>
                              <a:pt x="35" y="96"/>
                            </a:lnTo>
                            <a:lnTo>
                              <a:pt x="36" y="97"/>
                            </a:lnTo>
                            <a:lnTo>
                              <a:pt x="39" y="98"/>
                            </a:lnTo>
                            <a:lnTo>
                              <a:pt x="42" y="99"/>
                            </a:lnTo>
                            <a:lnTo>
                              <a:pt x="45" y="98"/>
                            </a:lnTo>
                            <a:lnTo>
                              <a:pt x="48" y="98"/>
                            </a:lnTo>
                            <a:lnTo>
                              <a:pt x="51" y="99"/>
                            </a:lnTo>
                            <a:lnTo>
                              <a:pt x="53" y="99"/>
                            </a:lnTo>
                            <a:lnTo>
                              <a:pt x="55" y="99"/>
                            </a:lnTo>
                            <a:lnTo>
                              <a:pt x="57" y="98"/>
                            </a:lnTo>
                            <a:lnTo>
                              <a:pt x="58" y="97"/>
                            </a:lnTo>
                            <a:lnTo>
                              <a:pt x="59" y="95"/>
                            </a:lnTo>
                            <a:lnTo>
                              <a:pt x="59" y="92"/>
                            </a:lnTo>
                            <a:lnTo>
                              <a:pt x="59" y="87"/>
                            </a:lnTo>
                            <a:lnTo>
                              <a:pt x="60" y="87"/>
                            </a:lnTo>
                            <a:lnTo>
                              <a:pt x="62" y="87"/>
                            </a:lnTo>
                            <a:lnTo>
                              <a:pt x="61" y="85"/>
                            </a:lnTo>
                            <a:lnTo>
                              <a:pt x="60" y="83"/>
                            </a:lnTo>
                            <a:lnTo>
                              <a:pt x="64" y="83"/>
                            </a:lnTo>
                            <a:lnTo>
                              <a:pt x="65" y="82"/>
                            </a:lnTo>
                            <a:lnTo>
                              <a:pt x="65" y="80"/>
                            </a:lnTo>
                            <a:lnTo>
                              <a:pt x="65" y="76"/>
                            </a:lnTo>
                            <a:lnTo>
                              <a:pt x="68" y="77"/>
                            </a:lnTo>
                            <a:lnTo>
                              <a:pt x="70" y="78"/>
                            </a:lnTo>
                            <a:lnTo>
                              <a:pt x="72" y="78"/>
                            </a:lnTo>
                            <a:lnTo>
                              <a:pt x="74" y="77"/>
                            </a:lnTo>
                            <a:lnTo>
                              <a:pt x="75" y="74"/>
                            </a:lnTo>
                            <a:lnTo>
                              <a:pt x="74" y="69"/>
                            </a:lnTo>
                            <a:lnTo>
                              <a:pt x="72" y="64"/>
                            </a:lnTo>
                            <a:lnTo>
                              <a:pt x="71" y="58"/>
                            </a:lnTo>
                            <a:lnTo>
                              <a:pt x="72" y="56"/>
                            </a:lnTo>
                            <a:lnTo>
                              <a:pt x="74" y="55"/>
                            </a:lnTo>
                            <a:lnTo>
                              <a:pt x="75" y="55"/>
                            </a:lnTo>
                            <a:lnTo>
                              <a:pt x="77" y="53"/>
                            </a:lnTo>
                            <a:lnTo>
                              <a:pt x="77" y="48"/>
                            </a:lnTo>
                            <a:lnTo>
                              <a:pt x="78" y="44"/>
                            </a:lnTo>
                            <a:lnTo>
                              <a:pt x="78" y="39"/>
                            </a:lnTo>
                            <a:lnTo>
                              <a:pt x="78" y="33"/>
                            </a:lnTo>
                            <a:lnTo>
                              <a:pt x="77" y="29"/>
                            </a:lnTo>
                            <a:lnTo>
                              <a:pt x="75" y="25"/>
                            </a:lnTo>
                            <a:lnTo>
                              <a:pt x="72" y="22"/>
                            </a:lnTo>
                            <a:lnTo>
                              <a:pt x="67" y="15"/>
                            </a:lnTo>
                            <a:lnTo>
                              <a:pt x="62" y="1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461040" y="4120200"/>
                        <a:ext cx="21960" cy="40680"/>
                      </a:xfrm>
                      <a:custGeom>
                        <a:avLst/>
                        <a:gdLst/>
                        <a:ahLst/>
                        <a:rect l="l" t="t" r="r" b="b"/>
                        <a:pathLst>
                          <a:path w="17" h="34">
                            <a:moveTo>
                              <a:pt x="1" y="2"/>
                            </a:moveTo>
                            <a:lnTo>
                              <a:pt x="12" y="0"/>
                            </a:lnTo>
                            <a:lnTo>
                              <a:pt x="16" y="32"/>
                            </a:lnTo>
                            <a:lnTo>
                              <a:pt x="8" y="33"/>
                            </a:lnTo>
                            <a:lnTo>
                              <a:pt x="0" y="33"/>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65" name=""/>
                      <p:cNvSpPr/>
                      <p:nvPr/>
                    </p:nvSpPr>
                    <p:spPr>
                      <a:xfrm>
                        <a:off x="3262320" y="3983040"/>
                        <a:ext cx="206280" cy="229680"/>
                      </a:xfrm>
                      <a:custGeom>
                        <a:avLst/>
                        <a:gdLst/>
                        <a:ahLst/>
                        <a:rect l="l" t="t" r="r" b="b"/>
                        <a:pathLst>
                          <a:path w="158" h="191">
                            <a:moveTo>
                              <a:pt x="72" y="0"/>
                            </a:moveTo>
                            <a:lnTo>
                              <a:pt x="67" y="12"/>
                            </a:lnTo>
                            <a:lnTo>
                              <a:pt x="54" y="23"/>
                            </a:lnTo>
                            <a:lnTo>
                              <a:pt x="49" y="30"/>
                            </a:lnTo>
                            <a:lnTo>
                              <a:pt x="39" y="46"/>
                            </a:lnTo>
                            <a:lnTo>
                              <a:pt x="31" y="59"/>
                            </a:lnTo>
                            <a:lnTo>
                              <a:pt x="23" y="81"/>
                            </a:lnTo>
                            <a:lnTo>
                              <a:pt x="16" y="98"/>
                            </a:lnTo>
                            <a:lnTo>
                              <a:pt x="11" y="118"/>
                            </a:lnTo>
                            <a:lnTo>
                              <a:pt x="7" y="138"/>
                            </a:lnTo>
                            <a:lnTo>
                              <a:pt x="3" y="161"/>
                            </a:lnTo>
                            <a:lnTo>
                              <a:pt x="0" y="190"/>
                            </a:lnTo>
                            <a:lnTo>
                              <a:pt x="122" y="190"/>
                            </a:lnTo>
                            <a:lnTo>
                              <a:pt x="120" y="178"/>
                            </a:lnTo>
                            <a:lnTo>
                              <a:pt x="119" y="169"/>
                            </a:lnTo>
                            <a:lnTo>
                              <a:pt x="119" y="158"/>
                            </a:lnTo>
                            <a:lnTo>
                              <a:pt x="139" y="152"/>
                            </a:lnTo>
                            <a:lnTo>
                              <a:pt x="157" y="151"/>
                            </a:lnTo>
                            <a:lnTo>
                              <a:pt x="155" y="140"/>
                            </a:lnTo>
                            <a:lnTo>
                              <a:pt x="153" y="123"/>
                            </a:lnTo>
                            <a:lnTo>
                              <a:pt x="154" y="113"/>
                            </a:lnTo>
                            <a:lnTo>
                              <a:pt x="140" y="117"/>
                            </a:lnTo>
                            <a:lnTo>
                              <a:pt x="133" y="118"/>
                            </a:lnTo>
                            <a:lnTo>
                              <a:pt x="125" y="119"/>
                            </a:lnTo>
                            <a:lnTo>
                              <a:pt x="121" y="121"/>
                            </a:lnTo>
                            <a:lnTo>
                              <a:pt x="117" y="103"/>
                            </a:lnTo>
                            <a:lnTo>
                              <a:pt x="114" y="84"/>
                            </a:lnTo>
                            <a:lnTo>
                              <a:pt x="111" y="67"/>
                            </a:lnTo>
                            <a:lnTo>
                              <a:pt x="107" y="58"/>
                            </a:lnTo>
                            <a:lnTo>
                              <a:pt x="106" y="52"/>
                            </a:lnTo>
                            <a:lnTo>
                              <a:pt x="103" y="44"/>
                            </a:lnTo>
                            <a:lnTo>
                              <a:pt x="99" y="34"/>
                            </a:lnTo>
                            <a:lnTo>
                              <a:pt x="96" y="29"/>
                            </a:lnTo>
                            <a:lnTo>
                              <a:pt x="94" y="24"/>
                            </a:lnTo>
                            <a:lnTo>
                              <a:pt x="90" y="19"/>
                            </a:lnTo>
                            <a:lnTo>
                              <a:pt x="85" y="12"/>
                            </a:lnTo>
                            <a:lnTo>
                              <a:pt x="79" y="6"/>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360240" y="3917160"/>
                        <a:ext cx="62640" cy="45360"/>
                      </a:xfrm>
                      <a:custGeom>
                        <a:avLst/>
                        <a:gdLst/>
                        <a:ahLst/>
                        <a:rect l="l" t="t" r="r" b="b"/>
                        <a:pathLst>
                          <a:path w="48" h="38">
                            <a:moveTo>
                              <a:pt x="11" y="0"/>
                            </a:moveTo>
                            <a:lnTo>
                              <a:pt x="13" y="1"/>
                            </a:lnTo>
                            <a:lnTo>
                              <a:pt x="14" y="2"/>
                            </a:lnTo>
                            <a:lnTo>
                              <a:pt x="16" y="2"/>
                            </a:lnTo>
                            <a:lnTo>
                              <a:pt x="18" y="3"/>
                            </a:lnTo>
                            <a:lnTo>
                              <a:pt x="20" y="5"/>
                            </a:lnTo>
                            <a:lnTo>
                              <a:pt x="23" y="7"/>
                            </a:lnTo>
                            <a:lnTo>
                              <a:pt x="28" y="10"/>
                            </a:lnTo>
                            <a:lnTo>
                              <a:pt x="34" y="13"/>
                            </a:lnTo>
                            <a:lnTo>
                              <a:pt x="39" y="15"/>
                            </a:lnTo>
                            <a:lnTo>
                              <a:pt x="43" y="15"/>
                            </a:lnTo>
                            <a:lnTo>
                              <a:pt x="46" y="20"/>
                            </a:lnTo>
                            <a:lnTo>
                              <a:pt x="47" y="24"/>
                            </a:lnTo>
                            <a:lnTo>
                              <a:pt x="47" y="29"/>
                            </a:lnTo>
                            <a:lnTo>
                              <a:pt x="46" y="32"/>
                            </a:lnTo>
                            <a:lnTo>
                              <a:pt x="44" y="36"/>
                            </a:lnTo>
                            <a:lnTo>
                              <a:pt x="36" y="33"/>
                            </a:lnTo>
                            <a:lnTo>
                              <a:pt x="36" y="29"/>
                            </a:lnTo>
                            <a:lnTo>
                              <a:pt x="34" y="25"/>
                            </a:lnTo>
                            <a:lnTo>
                              <a:pt x="31" y="24"/>
                            </a:lnTo>
                            <a:lnTo>
                              <a:pt x="29" y="23"/>
                            </a:lnTo>
                            <a:lnTo>
                              <a:pt x="27" y="23"/>
                            </a:lnTo>
                            <a:lnTo>
                              <a:pt x="23" y="25"/>
                            </a:lnTo>
                            <a:lnTo>
                              <a:pt x="21" y="28"/>
                            </a:lnTo>
                            <a:lnTo>
                              <a:pt x="19" y="32"/>
                            </a:lnTo>
                            <a:lnTo>
                              <a:pt x="17" y="35"/>
                            </a:lnTo>
                            <a:lnTo>
                              <a:pt x="14" y="36"/>
                            </a:lnTo>
                            <a:lnTo>
                              <a:pt x="11" y="36"/>
                            </a:lnTo>
                            <a:lnTo>
                              <a:pt x="7" y="36"/>
                            </a:lnTo>
                            <a:lnTo>
                              <a:pt x="4" y="36"/>
                            </a:lnTo>
                            <a:lnTo>
                              <a:pt x="4" y="37"/>
                            </a:lnTo>
                            <a:lnTo>
                              <a:pt x="3" y="35"/>
                            </a:lnTo>
                            <a:lnTo>
                              <a:pt x="1" y="30"/>
                            </a:lnTo>
                            <a:lnTo>
                              <a:pt x="0" y="27"/>
                            </a:lnTo>
                            <a:lnTo>
                              <a:pt x="0" y="22"/>
                            </a:lnTo>
                            <a:lnTo>
                              <a:pt x="0" y="18"/>
                            </a:lnTo>
                            <a:lnTo>
                              <a:pt x="2" y="13"/>
                            </a:lnTo>
                            <a:lnTo>
                              <a:pt x="4" y="9"/>
                            </a:lnTo>
                            <a:lnTo>
                              <a:pt x="6" y="4"/>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7" name=""/>
                    <p:cNvGrpSpPr/>
                    <p:nvPr/>
                  </p:nvGrpSpPr>
                  <p:grpSpPr>
                    <a:xfrm>
                      <a:off x="3394440" y="3954240"/>
                      <a:ext cx="95400" cy="167040"/>
                      <a:chOff x="3394440" y="3954240"/>
                      <a:chExt cx="95400" cy="167040"/>
                    </a:xfrm>
                  </p:grpSpPr>
                  <p:sp>
                    <p:nvSpPr>
                      <p:cNvPr id="468" name=""/>
                      <p:cNvSpPr/>
                      <p:nvPr/>
                    </p:nvSpPr>
                    <p:spPr>
                      <a:xfrm>
                        <a:off x="3394440" y="3954240"/>
                        <a:ext cx="95400" cy="167040"/>
                      </a:xfrm>
                      <a:custGeom>
                        <a:avLst/>
                        <a:gdLst/>
                        <a:ahLst/>
                        <a:rect l="l" t="t" r="r" b="b"/>
                        <a:pathLst>
                          <a:path w="73" h="139">
                            <a:moveTo>
                              <a:pt x="0" y="0"/>
                            </a:moveTo>
                            <a:lnTo>
                              <a:pt x="3" y="10"/>
                            </a:lnTo>
                            <a:lnTo>
                              <a:pt x="4" y="21"/>
                            </a:lnTo>
                            <a:lnTo>
                              <a:pt x="6" y="31"/>
                            </a:lnTo>
                            <a:lnTo>
                              <a:pt x="8" y="41"/>
                            </a:lnTo>
                            <a:lnTo>
                              <a:pt x="11" y="50"/>
                            </a:lnTo>
                            <a:lnTo>
                              <a:pt x="16" y="63"/>
                            </a:lnTo>
                            <a:lnTo>
                              <a:pt x="19" y="71"/>
                            </a:lnTo>
                            <a:lnTo>
                              <a:pt x="23" y="80"/>
                            </a:lnTo>
                            <a:lnTo>
                              <a:pt x="24" y="88"/>
                            </a:lnTo>
                            <a:lnTo>
                              <a:pt x="26" y="95"/>
                            </a:lnTo>
                            <a:lnTo>
                              <a:pt x="28" y="105"/>
                            </a:lnTo>
                            <a:lnTo>
                              <a:pt x="29" y="114"/>
                            </a:lnTo>
                            <a:lnTo>
                              <a:pt x="31" y="123"/>
                            </a:lnTo>
                            <a:lnTo>
                              <a:pt x="33" y="131"/>
                            </a:lnTo>
                            <a:lnTo>
                              <a:pt x="33" y="133"/>
                            </a:lnTo>
                            <a:lnTo>
                              <a:pt x="36" y="136"/>
                            </a:lnTo>
                            <a:lnTo>
                              <a:pt x="41" y="138"/>
                            </a:lnTo>
                            <a:lnTo>
                              <a:pt x="38" y="137"/>
                            </a:lnTo>
                            <a:lnTo>
                              <a:pt x="44" y="137"/>
                            </a:lnTo>
                            <a:lnTo>
                              <a:pt x="46" y="136"/>
                            </a:lnTo>
                            <a:lnTo>
                              <a:pt x="49" y="133"/>
                            </a:lnTo>
                            <a:lnTo>
                              <a:pt x="51" y="130"/>
                            </a:lnTo>
                            <a:lnTo>
                              <a:pt x="56" y="128"/>
                            </a:lnTo>
                            <a:lnTo>
                              <a:pt x="61" y="128"/>
                            </a:lnTo>
                            <a:lnTo>
                              <a:pt x="64" y="128"/>
                            </a:lnTo>
                            <a:lnTo>
                              <a:pt x="72"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396960" y="3955320"/>
                        <a:ext cx="1008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470" name=""/>
                    <p:cNvSpPr/>
                    <p:nvPr/>
                  </p:nvSpPr>
                  <p:spPr>
                    <a:xfrm>
                      <a:off x="3423240" y="4023000"/>
                      <a:ext cx="21960" cy="36000"/>
                    </a:xfrm>
                    <a:custGeom>
                      <a:avLst/>
                      <a:gdLst/>
                      <a:ahLst/>
                      <a:rect l="l" t="t" r="r" b="b"/>
                      <a:pathLst>
                        <a:path w="17" h="30">
                          <a:moveTo>
                            <a:pt x="0" y="0"/>
                          </a:moveTo>
                          <a:lnTo>
                            <a:pt x="8" y="9"/>
                          </a:lnTo>
                          <a:lnTo>
                            <a:pt x="8" y="17"/>
                          </a:lnTo>
                          <a:lnTo>
                            <a:pt x="16" y="29"/>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471" name=""/>
                  <p:cNvSpPr/>
                  <p:nvPr/>
                </p:nvSpPr>
                <p:spPr>
                  <a:xfrm>
                    <a:off x="3360240" y="4173120"/>
                    <a:ext cx="60120" cy="20160"/>
                  </a:xfrm>
                  <a:custGeom>
                    <a:avLst/>
                    <a:gdLst/>
                    <a:ahLst/>
                    <a:rect l="l" t="t" r="r" b="b"/>
                    <a:pathLst>
                      <a:path w="46" h="17">
                        <a:moveTo>
                          <a:pt x="45" y="0"/>
                        </a:moveTo>
                        <a:lnTo>
                          <a:pt x="34" y="9"/>
                        </a:lnTo>
                        <a:lnTo>
                          <a:pt x="18"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472" name=""/>
                <p:cNvGrpSpPr/>
                <p:nvPr/>
              </p:nvGrpSpPr>
              <p:grpSpPr>
                <a:xfrm>
                  <a:off x="3917880" y="3711600"/>
                  <a:ext cx="668880" cy="518400"/>
                  <a:chOff x="3917880" y="3711600"/>
                  <a:chExt cx="668880" cy="518400"/>
                </a:xfrm>
              </p:grpSpPr>
              <p:grpSp>
                <p:nvGrpSpPr>
                  <p:cNvPr id="473" name=""/>
                  <p:cNvGrpSpPr/>
                  <p:nvPr/>
                </p:nvGrpSpPr>
                <p:grpSpPr>
                  <a:xfrm>
                    <a:off x="4106880" y="3711600"/>
                    <a:ext cx="290880" cy="345600"/>
                    <a:chOff x="4106880" y="3711600"/>
                    <a:chExt cx="290880" cy="345600"/>
                  </a:xfrm>
                </p:grpSpPr>
                <p:grpSp>
                  <p:nvGrpSpPr>
                    <p:cNvPr id="474" name=""/>
                    <p:cNvGrpSpPr/>
                    <p:nvPr/>
                  </p:nvGrpSpPr>
                  <p:grpSpPr>
                    <a:xfrm>
                      <a:off x="4365360" y="3940920"/>
                      <a:ext cx="32400" cy="24840"/>
                      <a:chOff x="4365360" y="3940920"/>
                      <a:chExt cx="32400" cy="24840"/>
                    </a:xfrm>
                  </p:grpSpPr>
                  <p:sp>
                    <p:nvSpPr>
                      <p:cNvPr id="475" name=""/>
                      <p:cNvSpPr/>
                      <p:nvPr/>
                    </p:nvSpPr>
                    <p:spPr>
                      <a:xfrm>
                        <a:off x="4365360" y="394560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6" name=""/>
                      <p:cNvSpPr/>
                      <p:nvPr/>
                    </p:nvSpPr>
                    <p:spPr>
                      <a:xfrm>
                        <a:off x="4387320" y="394092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77" name=""/>
                    <p:cNvGrpSpPr/>
                    <p:nvPr/>
                  </p:nvGrpSpPr>
                  <p:grpSpPr>
                    <a:xfrm>
                      <a:off x="4106880" y="3711600"/>
                      <a:ext cx="266040" cy="345600"/>
                      <a:chOff x="4106880" y="3711600"/>
                      <a:chExt cx="266040" cy="345600"/>
                    </a:xfrm>
                  </p:grpSpPr>
                  <p:grpSp>
                    <p:nvGrpSpPr>
                      <p:cNvPr id="478" name=""/>
                      <p:cNvGrpSpPr/>
                      <p:nvPr/>
                    </p:nvGrpSpPr>
                    <p:grpSpPr>
                      <a:xfrm>
                        <a:off x="4302360" y="3934800"/>
                        <a:ext cx="70560" cy="61920"/>
                        <a:chOff x="4302360" y="3934800"/>
                        <a:chExt cx="70560" cy="61920"/>
                      </a:xfrm>
                    </p:grpSpPr>
                    <p:sp>
                      <p:nvSpPr>
                        <p:cNvPr id="479" name=""/>
                        <p:cNvSpPr/>
                        <p:nvPr/>
                      </p:nvSpPr>
                      <p:spPr>
                        <a:xfrm>
                          <a:off x="4338720" y="393480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0" name=""/>
                        <p:cNvSpPr/>
                        <p:nvPr/>
                      </p:nvSpPr>
                      <p:spPr>
                        <a:xfrm>
                          <a:off x="4302360" y="394164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81" name=""/>
                      <p:cNvSpPr/>
                      <p:nvPr/>
                    </p:nvSpPr>
                    <p:spPr>
                      <a:xfrm>
                        <a:off x="4245840" y="384228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01200" y="379332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83" name=""/>
                      <p:cNvSpPr/>
                      <p:nvPr/>
                    </p:nvSpPr>
                    <p:spPr>
                      <a:xfrm>
                        <a:off x="4204800" y="371160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307400" y="395532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5" name=""/>
                      <p:cNvSpPr/>
                      <p:nvPr/>
                    </p:nvSpPr>
                    <p:spPr>
                      <a:xfrm>
                        <a:off x="4106880" y="380016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204800" y="372600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87" name=""/>
                    <p:cNvGrpSpPr/>
                    <p:nvPr/>
                  </p:nvGrpSpPr>
                  <p:grpSpPr>
                    <a:xfrm>
                      <a:off x="4239360" y="3767760"/>
                      <a:ext cx="96840" cy="188280"/>
                      <a:chOff x="4239360" y="3767760"/>
                      <a:chExt cx="96840" cy="188280"/>
                    </a:xfrm>
                  </p:grpSpPr>
                  <p:sp>
                    <p:nvSpPr>
                      <p:cNvPr id="488" name=""/>
                      <p:cNvSpPr/>
                      <p:nvPr/>
                    </p:nvSpPr>
                    <p:spPr>
                      <a:xfrm>
                        <a:off x="4239360" y="3767760"/>
                        <a:ext cx="9684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241880" y="3768840"/>
                        <a:ext cx="1008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490" name=""/>
                    <p:cNvSpPr/>
                    <p:nvPr/>
                  </p:nvSpPr>
                  <p:spPr>
                    <a:xfrm>
                      <a:off x="4269600" y="384480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91" name=""/>
                  <p:cNvSpPr/>
                  <p:nvPr/>
                </p:nvSpPr>
                <p:spPr>
                  <a:xfrm>
                    <a:off x="4205160" y="401436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492" name=""/>
                  <p:cNvGrpSpPr/>
                  <p:nvPr/>
                </p:nvGrpSpPr>
                <p:grpSpPr>
                  <a:xfrm>
                    <a:off x="3917880" y="3826800"/>
                    <a:ext cx="290880" cy="345600"/>
                    <a:chOff x="3917880" y="3826800"/>
                    <a:chExt cx="290880" cy="345600"/>
                  </a:xfrm>
                </p:grpSpPr>
                <p:grpSp>
                  <p:nvGrpSpPr>
                    <p:cNvPr id="493" name=""/>
                    <p:cNvGrpSpPr/>
                    <p:nvPr/>
                  </p:nvGrpSpPr>
                  <p:grpSpPr>
                    <a:xfrm>
                      <a:off x="4176360" y="4056120"/>
                      <a:ext cx="32400" cy="24840"/>
                      <a:chOff x="4176360" y="4056120"/>
                      <a:chExt cx="32400" cy="24840"/>
                    </a:xfrm>
                  </p:grpSpPr>
                  <p:sp>
                    <p:nvSpPr>
                      <p:cNvPr id="494" name=""/>
                      <p:cNvSpPr/>
                      <p:nvPr/>
                    </p:nvSpPr>
                    <p:spPr>
                      <a:xfrm>
                        <a:off x="4176360" y="406080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5" name=""/>
                      <p:cNvSpPr/>
                      <p:nvPr/>
                    </p:nvSpPr>
                    <p:spPr>
                      <a:xfrm>
                        <a:off x="4198320" y="405612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96" name=""/>
                    <p:cNvGrpSpPr/>
                    <p:nvPr/>
                  </p:nvGrpSpPr>
                  <p:grpSpPr>
                    <a:xfrm>
                      <a:off x="3917880" y="3826800"/>
                      <a:ext cx="266040" cy="345600"/>
                      <a:chOff x="3917880" y="3826800"/>
                      <a:chExt cx="266040" cy="345600"/>
                    </a:xfrm>
                  </p:grpSpPr>
                  <p:grpSp>
                    <p:nvGrpSpPr>
                      <p:cNvPr id="497" name=""/>
                      <p:cNvGrpSpPr/>
                      <p:nvPr/>
                    </p:nvGrpSpPr>
                    <p:grpSpPr>
                      <a:xfrm>
                        <a:off x="4113360" y="4050000"/>
                        <a:ext cx="70560" cy="62280"/>
                        <a:chOff x="4113360" y="4050000"/>
                        <a:chExt cx="70560" cy="62280"/>
                      </a:xfrm>
                    </p:grpSpPr>
                    <p:sp>
                      <p:nvSpPr>
                        <p:cNvPr id="498" name=""/>
                        <p:cNvSpPr/>
                        <p:nvPr/>
                      </p:nvSpPr>
                      <p:spPr>
                        <a:xfrm>
                          <a:off x="4149720" y="405000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9" name=""/>
                        <p:cNvSpPr/>
                        <p:nvPr/>
                      </p:nvSpPr>
                      <p:spPr>
                        <a:xfrm>
                          <a:off x="4113360" y="405720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500" name=""/>
                      <p:cNvSpPr/>
                      <p:nvPr/>
                    </p:nvSpPr>
                    <p:spPr>
                      <a:xfrm>
                        <a:off x="4056840" y="395784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012200" y="390852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2" name=""/>
                      <p:cNvSpPr/>
                      <p:nvPr/>
                    </p:nvSpPr>
                    <p:spPr>
                      <a:xfrm>
                        <a:off x="4015800" y="382680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118400" y="407052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4" name=""/>
                      <p:cNvSpPr/>
                      <p:nvPr/>
                    </p:nvSpPr>
                    <p:spPr>
                      <a:xfrm>
                        <a:off x="3917880" y="391536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015800" y="384120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06" name=""/>
                    <p:cNvGrpSpPr/>
                    <p:nvPr/>
                  </p:nvGrpSpPr>
                  <p:grpSpPr>
                    <a:xfrm>
                      <a:off x="4050360" y="3882960"/>
                      <a:ext cx="96840" cy="188640"/>
                      <a:chOff x="4050360" y="3882960"/>
                      <a:chExt cx="96840" cy="188640"/>
                    </a:xfrm>
                  </p:grpSpPr>
                  <p:sp>
                    <p:nvSpPr>
                      <p:cNvPr id="507" name=""/>
                      <p:cNvSpPr/>
                      <p:nvPr/>
                    </p:nvSpPr>
                    <p:spPr>
                      <a:xfrm>
                        <a:off x="4050360" y="3882960"/>
                        <a:ext cx="96840" cy="18864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052880" y="3884040"/>
                        <a:ext cx="1008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509" name=""/>
                    <p:cNvSpPr/>
                    <p:nvPr/>
                  </p:nvSpPr>
                  <p:spPr>
                    <a:xfrm>
                      <a:off x="4080600" y="3960000"/>
                      <a:ext cx="22320" cy="3924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510" name=""/>
                  <p:cNvSpPr/>
                  <p:nvPr/>
                </p:nvSpPr>
                <p:spPr>
                  <a:xfrm>
                    <a:off x="4016160" y="412956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511" name=""/>
                  <p:cNvGrpSpPr/>
                  <p:nvPr/>
                </p:nvGrpSpPr>
                <p:grpSpPr>
                  <a:xfrm>
                    <a:off x="4295880" y="3884400"/>
                    <a:ext cx="290880" cy="345600"/>
                    <a:chOff x="4295880" y="3884400"/>
                    <a:chExt cx="290880" cy="345600"/>
                  </a:xfrm>
                </p:grpSpPr>
                <p:grpSp>
                  <p:nvGrpSpPr>
                    <p:cNvPr id="512" name=""/>
                    <p:cNvGrpSpPr/>
                    <p:nvPr/>
                  </p:nvGrpSpPr>
                  <p:grpSpPr>
                    <a:xfrm>
                      <a:off x="4554360" y="4113720"/>
                      <a:ext cx="32400" cy="24840"/>
                      <a:chOff x="4554360" y="4113720"/>
                      <a:chExt cx="32400" cy="24840"/>
                    </a:xfrm>
                  </p:grpSpPr>
                  <p:sp>
                    <p:nvSpPr>
                      <p:cNvPr id="513" name=""/>
                      <p:cNvSpPr/>
                      <p:nvPr/>
                    </p:nvSpPr>
                    <p:spPr>
                      <a:xfrm>
                        <a:off x="4554360" y="411840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4" name=""/>
                      <p:cNvSpPr/>
                      <p:nvPr/>
                    </p:nvSpPr>
                    <p:spPr>
                      <a:xfrm>
                        <a:off x="4576320" y="411372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515" name=""/>
                    <p:cNvGrpSpPr/>
                    <p:nvPr/>
                  </p:nvGrpSpPr>
                  <p:grpSpPr>
                    <a:xfrm>
                      <a:off x="4295880" y="3884400"/>
                      <a:ext cx="266040" cy="345600"/>
                      <a:chOff x="4295880" y="3884400"/>
                      <a:chExt cx="266040" cy="345600"/>
                    </a:xfrm>
                  </p:grpSpPr>
                  <p:grpSp>
                    <p:nvGrpSpPr>
                      <p:cNvPr id="516" name=""/>
                      <p:cNvGrpSpPr/>
                      <p:nvPr/>
                    </p:nvGrpSpPr>
                    <p:grpSpPr>
                      <a:xfrm>
                        <a:off x="4491360" y="4107600"/>
                        <a:ext cx="70560" cy="61920"/>
                        <a:chOff x="4491360" y="4107600"/>
                        <a:chExt cx="70560" cy="61920"/>
                      </a:xfrm>
                    </p:grpSpPr>
                    <p:sp>
                      <p:nvSpPr>
                        <p:cNvPr id="517" name=""/>
                        <p:cNvSpPr/>
                        <p:nvPr/>
                      </p:nvSpPr>
                      <p:spPr>
                        <a:xfrm>
                          <a:off x="4527720" y="410760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8" name=""/>
                        <p:cNvSpPr/>
                        <p:nvPr/>
                      </p:nvSpPr>
                      <p:spPr>
                        <a:xfrm>
                          <a:off x="4491360" y="411444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519" name=""/>
                      <p:cNvSpPr/>
                      <p:nvPr/>
                    </p:nvSpPr>
                    <p:spPr>
                      <a:xfrm>
                        <a:off x="4434840" y="401508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390200" y="396612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21" name=""/>
                      <p:cNvSpPr/>
                      <p:nvPr/>
                    </p:nvSpPr>
                    <p:spPr>
                      <a:xfrm>
                        <a:off x="4393800" y="388440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496400" y="412812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3" name=""/>
                      <p:cNvSpPr/>
                      <p:nvPr/>
                    </p:nvSpPr>
                    <p:spPr>
                      <a:xfrm>
                        <a:off x="4295880" y="397296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393800" y="389880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25" name=""/>
                    <p:cNvGrpSpPr/>
                    <p:nvPr/>
                  </p:nvGrpSpPr>
                  <p:grpSpPr>
                    <a:xfrm>
                      <a:off x="4428360" y="3940560"/>
                      <a:ext cx="96840" cy="188280"/>
                      <a:chOff x="4428360" y="3940560"/>
                      <a:chExt cx="96840" cy="188280"/>
                    </a:xfrm>
                  </p:grpSpPr>
                  <p:sp>
                    <p:nvSpPr>
                      <p:cNvPr id="526" name=""/>
                      <p:cNvSpPr/>
                      <p:nvPr/>
                    </p:nvSpPr>
                    <p:spPr>
                      <a:xfrm>
                        <a:off x="4428360" y="3940560"/>
                        <a:ext cx="9684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430880" y="3941640"/>
                        <a:ext cx="1008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528" name=""/>
                    <p:cNvSpPr/>
                    <p:nvPr/>
                  </p:nvSpPr>
                  <p:spPr>
                    <a:xfrm>
                      <a:off x="4458600" y="401760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29" name=""/>
                  <p:cNvSpPr/>
                  <p:nvPr/>
                </p:nvSpPr>
                <p:spPr>
                  <a:xfrm>
                    <a:off x="4394520" y="418716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530" name=""/>
                <p:cNvSpPr/>
                <p:nvPr/>
              </p:nvSpPr>
              <p:spPr>
                <a:xfrm>
                  <a:off x="4325760" y="3579840"/>
                  <a:ext cx="61920" cy="2052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531" name=""/>
                <p:cNvGrpSpPr/>
                <p:nvPr/>
              </p:nvGrpSpPr>
              <p:grpSpPr>
                <a:xfrm>
                  <a:off x="4038480" y="3392640"/>
                  <a:ext cx="291960" cy="345600"/>
                  <a:chOff x="4038480" y="3392640"/>
                  <a:chExt cx="291960" cy="345600"/>
                </a:xfrm>
              </p:grpSpPr>
              <p:grpSp>
                <p:nvGrpSpPr>
                  <p:cNvPr id="532" name=""/>
                  <p:cNvGrpSpPr/>
                  <p:nvPr/>
                </p:nvGrpSpPr>
                <p:grpSpPr>
                  <a:xfrm>
                    <a:off x="4297680" y="3621960"/>
                    <a:ext cx="32760" cy="24840"/>
                    <a:chOff x="4297680" y="3621960"/>
                    <a:chExt cx="32760" cy="24840"/>
                  </a:xfrm>
                </p:grpSpPr>
                <p:sp>
                  <p:nvSpPr>
                    <p:cNvPr id="533" name=""/>
                    <p:cNvSpPr/>
                    <p:nvPr/>
                  </p:nvSpPr>
                  <p:spPr>
                    <a:xfrm>
                      <a:off x="4297680" y="3626640"/>
                      <a:ext cx="2232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4" name=""/>
                    <p:cNvSpPr/>
                    <p:nvPr/>
                  </p:nvSpPr>
                  <p:spPr>
                    <a:xfrm>
                      <a:off x="4320000" y="362196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535" name=""/>
                  <p:cNvGrpSpPr/>
                  <p:nvPr/>
                </p:nvGrpSpPr>
                <p:grpSpPr>
                  <a:xfrm>
                    <a:off x="4038480" y="3392640"/>
                    <a:ext cx="266760" cy="345600"/>
                    <a:chOff x="4038480" y="3392640"/>
                    <a:chExt cx="266760" cy="345600"/>
                  </a:xfrm>
                </p:grpSpPr>
                <p:grpSp>
                  <p:nvGrpSpPr>
                    <p:cNvPr id="536" name=""/>
                    <p:cNvGrpSpPr/>
                    <p:nvPr/>
                  </p:nvGrpSpPr>
                  <p:grpSpPr>
                    <a:xfrm>
                      <a:off x="4234320" y="3615840"/>
                      <a:ext cx="70920" cy="62280"/>
                      <a:chOff x="4234320" y="3615840"/>
                      <a:chExt cx="70920" cy="62280"/>
                    </a:xfrm>
                  </p:grpSpPr>
                  <p:sp>
                    <p:nvSpPr>
                      <p:cNvPr id="537" name=""/>
                      <p:cNvSpPr/>
                      <p:nvPr/>
                    </p:nvSpPr>
                    <p:spPr>
                      <a:xfrm>
                        <a:off x="4270680" y="3615840"/>
                        <a:ext cx="2376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8" name=""/>
                      <p:cNvSpPr/>
                      <p:nvPr/>
                    </p:nvSpPr>
                    <p:spPr>
                      <a:xfrm>
                        <a:off x="4234320" y="3623040"/>
                        <a:ext cx="7092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539" name=""/>
                    <p:cNvSpPr/>
                    <p:nvPr/>
                  </p:nvSpPr>
                  <p:spPr>
                    <a:xfrm>
                      <a:off x="4177800" y="352368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132800" y="347436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41" name=""/>
                    <p:cNvSpPr/>
                    <p:nvPr/>
                  </p:nvSpPr>
                  <p:spPr>
                    <a:xfrm>
                      <a:off x="4136760" y="3392640"/>
                      <a:ext cx="10404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239360" y="363636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3" name=""/>
                    <p:cNvSpPr/>
                    <p:nvPr/>
                  </p:nvSpPr>
                  <p:spPr>
                    <a:xfrm>
                      <a:off x="4038480" y="3481200"/>
                      <a:ext cx="20772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136760" y="340704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45" name=""/>
                  <p:cNvGrpSpPr/>
                  <p:nvPr/>
                </p:nvGrpSpPr>
                <p:grpSpPr>
                  <a:xfrm>
                    <a:off x="4171320" y="3448800"/>
                    <a:ext cx="97200" cy="188640"/>
                    <a:chOff x="4171320" y="3448800"/>
                    <a:chExt cx="97200" cy="188640"/>
                  </a:xfrm>
                </p:grpSpPr>
                <p:sp>
                  <p:nvSpPr>
                    <p:cNvPr id="546" name=""/>
                    <p:cNvSpPr/>
                    <p:nvPr/>
                  </p:nvSpPr>
                  <p:spPr>
                    <a:xfrm>
                      <a:off x="4171320" y="3448800"/>
                      <a:ext cx="97200" cy="18864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173840" y="3449880"/>
                      <a:ext cx="1044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548" name=""/>
                  <p:cNvSpPr/>
                  <p:nvPr/>
                </p:nvSpPr>
                <p:spPr>
                  <a:xfrm>
                    <a:off x="4201560" y="3525840"/>
                    <a:ext cx="22320" cy="3924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549" name=""/>
                <p:cNvSpPr/>
                <p:nvPr/>
              </p:nvSpPr>
              <p:spPr>
                <a:xfrm>
                  <a:off x="4137120" y="3693960"/>
                  <a:ext cx="61920" cy="2088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550" name=""/>
                <p:cNvGrpSpPr/>
                <p:nvPr/>
              </p:nvGrpSpPr>
              <p:grpSpPr>
                <a:xfrm>
                  <a:off x="4416480" y="3449520"/>
                  <a:ext cx="291240" cy="346320"/>
                  <a:chOff x="4416480" y="3449520"/>
                  <a:chExt cx="291240" cy="346320"/>
                </a:xfrm>
              </p:grpSpPr>
              <p:grpSp>
                <p:nvGrpSpPr>
                  <p:cNvPr id="551" name=""/>
                  <p:cNvGrpSpPr/>
                  <p:nvPr/>
                </p:nvGrpSpPr>
                <p:grpSpPr>
                  <a:xfrm>
                    <a:off x="4675320" y="3678840"/>
                    <a:ext cx="32400" cy="24840"/>
                    <a:chOff x="4675320" y="3678840"/>
                    <a:chExt cx="32400" cy="24840"/>
                  </a:xfrm>
                </p:grpSpPr>
                <p:sp>
                  <p:nvSpPr>
                    <p:cNvPr id="552" name=""/>
                    <p:cNvSpPr/>
                    <p:nvPr/>
                  </p:nvSpPr>
                  <p:spPr>
                    <a:xfrm>
                      <a:off x="4675320" y="36835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53" name=""/>
                    <p:cNvSpPr/>
                    <p:nvPr/>
                  </p:nvSpPr>
                  <p:spPr>
                    <a:xfrm>
                      <a:off x="4697280" y="36788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554" name=""/>
                  <p:cNvGrpSpPr/>
                  <p:nvPr/>
                </p:nvGrpSpPr>
                <p:grpSpPr>
                  <a:xfrm>
                    <a:off x="4416480" y="3449520"/>
                    <a:ext cx="266760" cy="346320"/>
                    <a:chOff x="4416480" y="3449520"/>
                    <a:chExt cx="266760" cy="346320"/>
                  </a:xfrm>
                </p:grpSpPr>
                <p:grpSp>
                  <p:nvGrpSpPr>
                    <p:cNvPr id="555" name=""/>
                    <p:cNvGrpSpPr/>
                    <p:nvPr/>
                  </p:nvGrpSpPr>
                  <p:grpSpPr>
                    <a:xfrm>
                      <a:off x="4612320" y="3673080"/>
                      <a:ext cx="70920" cy="61920"/>
                      <a:chOff x="4612320" y="3673080"/>
                      <a:chExt cx="70920" cy="61920"/>
                    </a:xfrm>
                  </p:grpSpPr>
                  <p:sp>
                    <p:nvSpPr>
                      <p:cNvPr id="556" name=""/>
                      <p:cNvSpPr/>
                      <p:nvPr/>
                    </p:nvSpPr>
                    <p:spPr>
                      <a:xfrm>
                        <a:off x="4648680" y="3673080"/>
                        <a:ext cx="2376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57" name=""/>
                      <p:cNvSpPr/>
                      <p:nvPr/>
                    </p:nvSpPr>
                    <p:spPr>
                      <a:xfrm>
                        <a:off x="4612320" y="3679920"/>
                        <a:ext cx="7092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558" name=""/>
                    <p:cNvSpPr/>
                    <p:nvPr/>
                  </p:nvSpPr>
                  <p:spPr>
                    <a:xfrm>
                      <a:off x="4555440" y="358020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510800" y="35312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60" name=""/>
                    <p:cNvSpPr/>
                    <p:nvPr/>
                  </p:nvSpPr>
                  <p:spPr>
                    <a:xfrm>
                      <a:off x="4514760" y="3449520"/>
                      <a:ext cx="104040" cy="13464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617360" y="369360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2" name=""/>
                    <p:cNvSpPr/>
                    <p:nvPr/>
                  </p:nvSpPr>
                  <p:spPr>
                    <a:xfrm>
                      <a:off x="4416480" y="3538440"/>
                      <a:ext cx="207360" cy="25740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514760" y="34639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64" name=""/>
                  <p:cNvGrpSpPr/>
                  <p:nvPr/>
                </p:nvGrpSpPr>
                <p:grpSpPr>
                  <a:xfrm>
                    <a:off x="4548960" y="3505680"/>
                    <a:ext cx="97200" cy="188640"/>
                    <a:chOff x="4548960" y="3505680"/>
                    <a:chExt cx="97200" cy="188640"/>
                  </a:xfrm>
                </p:grpSpPr>
                <p:sp>
                  <p:nvSpPr>
                    <p:cNvPr id="565" name=""/>
                    <p:cNvSpPr/>
                    <p:nvPr/>
                  </p:nvSpPr>
                  <p:spPr>
                    <a:xfrm>
                      <a:off x="4548960" y="3505680"/>
                      <a:ext cx="97200" cy="18864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551480" y="3506760"/>
                      <a:ext cx="1044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567" name=""/>
                  <p:cNvSpPr/>
                  <p:nvPr/>
                </p:nvSpPr>
                <p:spPr>
                  <a:xfrm>
                    <a:off x="4579560" y="358272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68" name=""/>
                <p:cNvSpPr/>
                <p:nvPr/>
              </p:nvSpPr>
              <p:spPr>
                <a:xfrm>
                  <a:off x="4514760" y="3753000"/>
                  <a:ext cx="61920" cy="2052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pic>
              <p:nvPicPr>
                <p:cNvPr id="569" name="" descr=""/>
                <p:cNvPicPr/>
                <p:nvPr/>
              </p:nvPicPr>
              <p:blipFill>
                <a:blip r:embed="rId8"/>
                <a:stretch/>
              </p:blipFill>
              <p:spPr>
                <a:xfrm>
                  <a:off x="3686040" y="3960720"/>
                  <a:ext cx="465120" cy="376200"/>
                </a:xfrm>
                <a:prstGeom prst="rect">
                  <a:avLst/>
                </a:prstGeom>
                <a:ln w="0">
                  <a:noFill/>
                </a:ln>
              </p:spPr>
            </p:pic>
            <p:pic>
              <p:nvPicPr>
                <p:cNvPr id="570" name="" descr=""/>
                <p:cNvPicPr/>
                <p:nvPr/>
              </p:nvPicPr>
              <p:blipFill>
                <a:blip r:embed="rId9"/>
                <a:stretch/>
              </p:blipFill>
              <p:spPr>
                <a:xfrm>
                  <a:off x="4572000" y="3886200"/>
                  <a:ext cx="465120" cy="376200"/>
                </a:xfrm>
                <a:prstGeom prst="rect">
                  <a:avLst/>
                </a:prstGeom>
                <a:ln w="0">
                  <a:noFill/>
                </a:ln>
              </p:spPr>
            </p:pic>
          </p:grpSp>
        </p:grpSp>
      </p:grpSp>
      <p:sp>
        <p:nvSpPr>
          <p:cNvPr id="571" name=""/>
          <p:cNvSpPr/>
          <p:nvPr/>
        </p:nvSpPr>
        <p:spPr>
          <a:xfrm>
            <a:off x="3693960" y="623088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447920" y="5773680"/>
            <a:ext cx="15764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 name=""/>
          <p:cNvGrpSpPr/>
          <p:nvPr/>
        </p:nvGrpSpPr>
        <p:grpSpPr>
          <a:xfrm>
            <a:off x="914400" y="5510160"/>
            <a:ext cx="7124760" cy="890640"/>
            <a:chOff x="914400" y="5510160"/>
            <a:chExt cx="7124760" cy="890640"/>
          </a:xfrm>
        </p:grpSpPr>
        <p:sp>
          <p:nvSpPr>
            <p:cNvPr id="574" name=""/>
            <p:cNvSpPr/>
            <p:nvPr/>
          </p:nvSpPr>
          <p:spPr>
            <a:xfrm>
              <a:off x="5200560" y="5653080"/>
              <a:ext cx="2838600" cy="39744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uninsured</a:t>
              </a:r>
              <a:endParaRPr b="0" lang="en-US" sz="2000" spc="-1" strike="noStrike">
                <a:solidFill>
                  <a:srgbClr val="000000"/>
                </a:solidFill>
                <a:latin typeface="Times New Roman"/>
              </a:endParaRPr>
            </a:p>
          </p:txBody>
        </p:sp>
        <p:sp>
          <p:nvSpPr>
            <p:cNvPr id="575" name=""/>
            <p:cNvSpPr/>
            <p:nvPr/>
          </p:nvSpPr>
          <p:spPr>
            <a:xfrm>
              <a:off x="914400" y="5715000"/>
              <a:ext cx="1600200" cy="397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ss</a:t>
              </a:r>
              <a:endParaRPr b="0" lang="en-US" sz="2000" spc="-1" strike="noStrike">
                <a:solidFill>
                  <a:srgbClr val="000000"/>
                </a:solidFill>
                <a:latin typeface="Times New Roman"/>
              </a:endParaRPr>
            </a:p>
          </p:txBody>
        </p:sp>
        <p:pic>
          <p:nvPicPr>
            <p:cNvPr id="576" name="" descr=""/>
            <p:cNvPicPr/>
            <p:nvPr/>
          </p:nvPicPr>
          <p:blipFill>
            <a:blip r:embed="rId10"/>
            <a:stretch/>
          </p:blipFill>
          <p:spPr>
            <a:xfrm>
              <a:off x="3660840" y="5510160"/>
              <a:ext cx="906480" cy="890640"/>
            </a:xfrm>
            <a:prstGeom prst="rect">
              <a:avLst/>
            </a:prstGeom>
            <a:ln w="0">
              <a:noFill/>
            </a:ln>
          </p:spPr>
        </p:pic>
      </p:grpSp>
      <p:sp>
        <p:nvSpPr>
          <p:cNvPr id="4" name="PlaceHolder 3"/>
          <p:cNvSpPr>
            <a:spLocks noGrp="1"/>
          </p:cNvSpPr>
          <p:nvPr>
            <p:ph type="sldNum" idx="1"/>
          </p:nvPr>
        </p:nvSpPr>
        <p:spPr/>
        <p:txBody>
          <a:bodyPr/>
          <a:p>
            <a:fld id="{6CAC2EC5-49BF-4F17-BB84-B107342B0AB8}" type="slidenum">
              <a:t>25</a:t>
            </a:fld>
          </a:p>
        </p:txBody>
      </p:sp>
    </p:spTree>
  </p:cSld>
  <p:transition>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inued Disequilibrium in Health Care</a:t>
            </a:r>
            <a:endParaRPr b="1" lang="en-US" sz="4000" spc="-1" strike="noStrike">
              <a:solidFill>
                <a:srgbClr val="000000"/>
              </a:solidFill>
              <a:latin typeface="Times New Roman"/>
            </a:endParaRPr>
          </a:p>
        </p:txBody>
      </p:sp>
      <p:graphicFrame>
        <p:nvGraphicFramePr>
          <p:cNvPr id="578" name=""/>
          <p:cNvGraphicFramePr/>
          <p:nvPr/>
        </p:nvGraphicFramePr>
        <p:xfrm>
          <a:off x="990720" y="1371600"/>
          <a:ext cx="7010280" cy="4676760"/>
        </p:xfrm>
        <a:graphic>
          <a:graphicData uri="http://schemas.openxmlformats.org/presentationml/2006/ole">
            <p:oleObj r:id="rId1" spid="">
              <p:embed/>
              <p:pic>
                <p:nvPicPr>
                  <p:cNvPr id="579" name="" descr=""/>
                  <p:cNvPicPr/>
                  <p:nvPr/>
                </p:nvPicPr>
                <p:blipFill>
                  <a:blip r:embed="rId2"/>
                  <a:stretch/>
                </p:blipFill>
                <p:spPr>
                  <a:xfrm>
                    <a:off x="990720" y="1371600"/>
                    <a:ext cx="7010280" cy="4676760"/>
                  </a:xfrm>
                  <a:prstGeom prst="rect">
                    <a:avLst/>
                  </a:prstGeom>
                  <a:ln w="0">
                    <a:noFill/>
                  </a:ln>
                </p:spPr>
              </p:pic>
            </p:oleObj>
          </a:graphicData>
        </a:graphic>
      </p:graphicFrame>
      <p:sp>
        <p:nvSpPr>
          <p:cNvPr id="580" name="PlaceHolder 2"/>
          <p:cNvSpPr>
            <a:spLocks noGrp="1"/>
          </p:cNvSpPr>
          <p:nvPr>
            <p:ph/>
          </p:nvPr>
        </p:nvSpPr>
        <p:spPr>
          <a:xfrm>
            <a:off x="0" y="121932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1" name=""/>
          <p:cNvSpPr/>
          <p:nvPr/>
        </p:nvSpPr>
        <p:spPr>
          <a:xfrm>
            <a:off x="3693960" y="628344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867280" y="5943600"/>
            <a:ext cx="31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HHS, </a:t>
            </a:r>
            <a:r>
              <a:rPr b="1" lang="en-US" sz="900" spc="-1" strike="noStrike">
                <a:solidFill>
                  <a:srgbClr val="000000"/>
                </a:solidFill>
                <a:latin typeface="Arial"/>
                <a:ea typeface="Arial"/>
              </a:rPr>
              <a:t>CMS, www.cms.hhs.gov/statistics/nhe/default.asp</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7134E147-9521-4256-9183-98456306BB34}" type="slidenum">
              <a:t>26</a:t>
            </a:fld>
          </a:p>
        </p:txBody>
      </p:sp>
    </p:spTree>
  </p:cSld>
  <p:transition>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inued Disequilibrium in Health Care</a:t>
            </a:r>
            <a:endParaRPr b="1" lang="en-US" sz="4000" spc="-1" strike="noStrike">
              <a:solidFill>
                <a:srgbClr val="000000"/>
              </a:solidFill>
              <a:latin typeface="Times New Roman"/>
            </a:endParaRPr>
          </a:p>
        </p:txBody>
      </p:sp>
      <p:graphicFrame>
        <p:nvGraphicFramePr>
          <p:cNvPr id="584" name=""/>
          <p:cNvGraphicFramePr/>
          <p:nvPr/>
        </p:nvGraphicFramePr>
        <p:xfrm>
          <a:off x="685800" y="1981080"/>
          <a:ext cx="7772400" cy="3456000"/>
        </p:xfrm>
        <a:graphic>
          <a:graphicData uri="http://schemas.openxmlformats.org/presentationml/2006/ole">
            <p:oleObj r:id="rId1" spid="">
              <p:embed/>
              <p:pic>
                <p:nvPicPr>
                  <p:cNvPr id="585" name="" descr=""/>
                  <p:cNvPicPr/>
                  <p:nvPr/>
                </p:nvPicPr>
                <p:blipFill>
                  <a:blip r:embed="rId2"/>
                  <a:stretch/>
                </p:blipFill>
                <p:spPr>
                  <a:xfrm>
                    <a:off x="685800" y="1981080"/>
                    <a:ext cx="7772400" cy="3456000"/>
                  </a:xfrm>
                  <a:prstGeom prst="rect">
                    <a:avLst/>
                  </a:prstGeom>
                  <a:ln w="0">
                    <a:noFill/>
                  </a:ln>
                </p:spPr>
              </p:pic>
            </p:oleObj>
          </a:graphicData>
        </a:graphic>
      </p:graphicFrame>
      <p:sp>
        <p:nvSpPr>
          <p:cNvPr id="586" name="PlaceHolder 2"/>
          <p:cNvSpPr>
            <a:spLocks noGrp="1"/>
          </p:cNvSpPr>
          <p:nvPr>
            <p:ph/>
          </p:nvPr>
        </p:nvSpPr>
        <p:spPr>
          <a:xfrm>
            <a:off x="0" y="121932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
          <p:cNvSpPr/>
          <p:nvPr/>
        </p:nvSpPr>
        <p:spPr>
          <a:xfrm>
            <a:off x="1676520" y="6283440"/>
            <a:ext cx="15764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93960" y="628344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638680" y="5715000"/>
            <a:ext cx="3114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t>
            </a:r>
            <a:r>
              <a:rPr b="1" lang="en-US" sz="900" spc="-1" strike="noStrike">
                <a:solidFill>
                  <a:srgbClr val="000000"/>
                </a:solidFill>
                <a:latin typeface="Arial"/>
                <a:ea typeface="Arial"/>
              </a:rPr>
              <a:t>OECD, Health Reports, 2001.</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99F168D9-0878-45AC-ACBE-24ACB8FD764D}" type="slidenum">
              <a:t>27</a:t>
            </a:fld>
          </a:p>
        </p:txBody>
      </p:sp>
    </p:spTree>
  </p:cSld>
  <p:transition>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457200" y="304920"/>
            <a:ext cx="81532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inued Disequilibrium in Health Care</a:t>
            </a:r>
            <a:endParaRPr b="1" lang="en-US" sz="3600" spc="-1" strike="noStrike">
              <a:solidFill>
                <a:srgbClr val="000000"/>
              </a:solidFill>
              <a:latin typeface="Times New Roman"/>
            </a:endParaRPr>
          </a:p>
        </p:txBody>
      </p:sp>
      <p:graphicFrame>
        <p:nvGraphicFramePr>
          <p:cNvPr id="592" name=""/>
          <p:cNvGraphicFramePr/>
          <p:nvPr/>
        </p:nvGraphicFramePr>
        <p:xfrm>
          <a:off x="457200" y="1600200"/>
          <a:ext cx="7900920" cy="4243320"/>
        </p:xfrm>
        <a:graphic>
          <a:graphicData uri="http://schemas.openxmlformats.org/presentationml/2006/ole">
            <p:oleObj r:id="rId1" spid="">
              <p:embed/>
              <p:pic>
                <p:nvPicPr>
                  <p:cNvPr id="593" name="" descr=""/>
                  <p:cNvPicPr/>
                  <p:nvPr/>
                </p:nvPicPr>
                <p:blipFill>
                  <a:blip r:embed="rId2"/>
                  <a:stretch/>
                </p:blipFill>
                <p:spPr>
                  <a:xfrm>
                    <a:off x="457200" y="1600200"/>
                    <a:ext cx="7900920" cy="4243320"/>
                  </a:xfrm>
                  <a:prstGeom prst="rect">
                    <a:avLst/>
                  </a:prstGeom>
                  <a:ln w="0">
                    <a:noFill/>
                  </a:ln>
                </p:spPr>
              </p:pic>
            </p:oleObj>
          </a:graphicData>
        </a:graphic>
      </p:graphicFrame>
      <p:sp>
        <p:nvSpPr>
          <p:cNvPr id="594" name=""/>
          <p:cNvSpPr/>
          <p:nvPr/>
        </p:nvSpPr>
        <p:spPr>
          <a:xfrm>
            <a:off x="609480" y="6019920"/>
            <a:ext cx="563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DC, NCHS, Health United States, 2003, p331.</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2524906F-8E81-4342-BE13-D6BB5287C031}" type="slidenum">
              <a:t>28</a:t>
            </a:fld>
          </a:p>
        </p:txBody>
      </p:sp>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War for Talent</a:t>
            </a:r>
            <a:endParaRPr b="1" lang="en-US" sz="4000" spc="-1" strike="noStrike">
              <a:solidFill>
                <a:srgbClr val="000000"/>
              </a:solidFill>
              <a:latin typeface="Times New Roman"/>
            </a:endParaRPr>
          </a:p>
        </p:txBody>
      </p:sp>
      <p:graphicFrame>
        <p:nvGraphicFramePr>
          <p:cNvPr id="596" name=""/>
          <p:cNvGraphicFramePr/>
          <p:nvPr/>
        </p:nvGraphicFramePr>
        <p:xfrm>
          <a:off x="762120" y="1371600"/>
          <a:ext cx="7848360" cy="5029200"/>
        </p:xfrm>
        <a:graphic>
          <a:graphicData uri="http://schemas.openxmlformats.org/presentationml/2006/ole">
            <p:oleObj r:id="rId1" spid="">
              <p:embed/>
              <p:pic>
                <p:nvPicPr>
                  <p:cNvPr id="597" name="" descr=""/>
                  <p:cNvPicPr/>
                  <p:nvPr/>
                </p:nvPicPr>
                <p:blipFill>
                  <a:blip r:embed="rId2"/>
                  <a:stretch/>
                </p:blipFill>
                <p:spPr>
                  <a:xfrm>
                    <a:off x="762120" y="1371600"/>
                    <a:ext cx="7848360" cy="5029200"/>
                  </a:xfrm>
                  <a:prstGeom prst="rect">
                    <a:avLst/>
                  </a:prstGeom>
                  <a:ln w="0">
                    <a:noFill/>
                  </a:ln>
                </p:spPr>
              </p:pic>
            </p:oleObj>
          </a:graphicData>
        </a:graphic>
      </p:graphicFrame>
      <p:sp>
        <p:nvSpPr>
          <p:cNvPr id="3" name="PlaceHolder 2"/>
          <p:cNvSpPr>
            <a:spLocks noGrp="1"/>
          </p:cNvSpPr>
          <p:nvPr>
            <p:ph type="sldNum" idx="1"/>
          </p:nvPr>
        </p:nvSpPr>
        <p:spPr/>
        <p:txBody>
          <a:bodyPr/>
          <a:p>
            <a:fld id="{94FC3C0E-B5F8-4C01-8417-28FD679B4DD7}" type="slidenum">
              <a:t>29</a:t>
            </a:fld>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 I.</a:t>
            </a:r>
            <a:br>
              <a:rPr sz="4000"/>
            </a:br>
            <a:r>
              <a:rPr b="1" lang="en-US" sz="4000" spc="-1" strike="noStrike">
                <a:solidFill>
                  <a:srgbClr val="000000"/>
                </a:solidFill>
                <a:latin typeface="Times New Roman"/>
              </a:rPr>
              <a:t>Broad Trends Affecting the Health Care Workforce </a:t>
            </a:r>
            <a:endParaRPr b="1"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demographics</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ing epidemiology</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disparity and cost</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innovations</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ization</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from supply to market driven health syste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E3911A0-11AD-4D85-ADC7-B887F8C28D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id This Emerge?</a:t>
            </a:r>
            <a:endParaRPr b="1" lang="en-US" sz="4000" spc="-1" strike="noStrike">
              <a:solidFill>
                <a:srgbClr val="000000"/>
              </a:solidFill>
              <a:latin typeface="Times New Roman"/>
            </a:endParaRPr>
          </a:p>
        </p:txBody>
      </p:sp>
      <p:sp>
        <p:nvSpPr>
          <p:cNvPr id="5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a:t>
            </a:r>
            <a:endParaRPr b="0" lang="en-US" sz="28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antly expanding health system</a:t>
            </a:r>
            <a:endParaRPr b="0" lang="en-US" sz="20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reement on mission and structure</a:t>
            </a:r>
            <a:endParaRPr b="0" lang="en-US" sz="20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r and shared patterns of action</a:t>
            </a:r>
            <a:endParaRPr b="0" lang="en-US" sz="20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ttle accountability </a:t>
            </a:r>
            <a:r>
              <a:rPr b="0" lang="en-US" sz="2000" spc="-1" strike="noStrike">
                <a:solidFill>
                  <a:srgbClr val="000000"/>
                </a:solidFill>
                <a:latin typeface="Book Antiqua"/>
              </a:rPr>
              <a:t>―</a:t>
            </a:r>
            <a:r>
              <a:rPr b="0" lang="en-US" sz="2000" spc="-1" strike="noStrike">
                <a:solidFill>
                  <a:srgbClr val="000000"/>
                </a:solidFill>
                <a:latin typeface="Times New Roman"/>
              </a:rPr>
              <a:t> cost or quality</a:t>
            </a:r>
            <a:endParaRPr b="0" lang="en-US" sz="20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ts of stability</a:t>
            </a:r>
            <a:endParaRPr b="0" lang="en-US" sz="2000" spc="-1" strike="noStrike">
              <a:solidFill>
                <a:srgbClr val="000000"/>
              </a:solidFill>
              <a:latin typeface="Times New Roman"/>
            </a:endParaRPr>
          </a:p>
          <a:p>
            <a:pPr marL="34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5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
          <p:cNvSpPr/>
          <p:nvPr/>
        </p:nvSpPr>
        <p:spPr>
          <a:xfrm>
            <a:off x="685800" y="4495680"/>
            <a:ext cx="746748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ition from simple and independent to complex and highly interdependen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AFC8D6-8836-4137-8C25-7B75785F2115}" type="slidenum">
              <a:t>30</a:t>
            </a:fld>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driving the issue?</a:t>
            </a:r>
            <a:endParaRPr b="1" lang="en-US" sz="4000" spc="-1" strike="noStrike">
              <a:solidFill>
                <a:srgbClr val="000000"/>
              </a:solidFill>
              <a:latin typeface="Times New Roman"/>
            </a:endParaRPr>
          </a:p>
        </p:txBody>
      </p:sp>
      <p:sp>
        <p:nvSpPr>
          <p:cNvPr id="602" name="PlaceHolder 2"/>
          <p:cNvSpPr>
            <a:spLocks noGrp="1"/>
          </p:cNvSpPr>
          <p:nvPr>
            <p:ph/>
          </p:nvPr>
        </p:nvSpPr>
        <p:spPr>
          <a:xfrm>
            <a:off x="609120" y="1828440"/>
            <a:ext cx="434340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d care delivery system and institutions</a:t>
            </a:r>
            <a:endParaRPr b="0" lang="en-US" sz="24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hter resources</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k of direction</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er demands</a:t>
            </a:r>
            <a:endParaRPr b="0" lang="en-US" sz="2000" spc="-1" strike="noStrike">
              <a:solidFill>
                <a:srgbClr val="000000"/>
              </a:solidFill>
              <a:latin typeface="Times New Roman"/>
            </a:endParaRPr>
          </a:p>
          <a:p>
            <a:pPr lvl="2" marL="1143000" indent="-228600">
              <a:lnSpc>
                <a:spcPct val="4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a:t>
            </a:r>
            <a:endParaRPr b="0" lang="en-US" sz="1800" spc="-1" strike="noStrike">
              <a:solidFill>
                <a:srgbClr val="000000"/>
              </a:solidFill>
              <a:latin typeface="Times New Roman"/>
            </a:endParaRPr>
          </a:p>
          <a:p>
            <a:pPr lvl="2" marL="1143000" indent="-228600">
              <a:lnSpc>
                <a:spcPct val="4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cuts </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certainty</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ability to adapt and change rapidly</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lf-born revolution</a:t>
            </a:r>
            <a:endParaRPr b="0" lang="en-US" sz="20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3" name=""/>
          <p:cNvGraphicFramePr/>
          <p:nvPr/>
        </p:nvGraphicFramePr>
        <p:xfrm>
          <a:off x="5181480" y="2590920"/>
          <a:ext cx="3009960" cy="3124080"/>
        </p:xfrm>
        <a:graphic>
          <a:graphicData uri="http://schemas.openxmlformats.org/presentationml/2006/ole">
            <p:oleObj r:id="rId1" spid="">
              <p:embed/>
              <p:pic>
                <p:nvPicPr>
                  <p:cNvPr id="604" name="" descr=""/>
                  <p:cNvPicPr/>
                  <p:nvPr/>
                </p:nvPicPr>
                <p:blipFill>
                  <a:blip r:embed="rId2"/>
                  <a:stretch/>
                </p:blipFill>
                <p:spPr>
                  <a:xfrm>
                    <a:off x="5181480" y="2590920"/>
                    <a:ext cx="3009960" cy="3124080"/>
                  </a:xfrm>
                  <a:prstGeom prst="rect">
                    <a:avLst/>
                  </a:prstGeom>
                  <a:ln w="0">
                    <a:noFill/>
                  </a:ln>
                </p:spPr>
              </p:pic>
            </p:oleObj>
          </a:graphicData>
        </a:graphic>
      </p:graphicFrame>
      <p:sp>
        <p:nvSpPr>
          <p:cNvPr id="4" name="PlaceHolder 3"/>
          <p:cNvSpPr>
            <a:spLocks noGrp="1"/>
          </p:cNvSpPr>
          <p:nvPr>
            <p:ph type="sldNum" idx="1"/>
          </p:nvPr>
        </p:nvSpPr>
        <p:spPr/>
        <p:txBody>
          <a:bodyPr/>
          <a:p>
            <a:fld id="{ECA221F3-B7DF-4B1B-A8DB-C94CFC0F50AC}" type="slidenum">
              <a:t>31</a:t>
            </a:fld>
          </a:p>
        </p:txBody>
      </p:sp>
    </p:spTree>
  </p:cSld>
  <p:transition>
    <p:wedg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02">
                                            <p:txEl>
                                              <p:pRg st="0" end="0"/>
                                            </p:txEl>
                                          </p:spTgt>
                                        </p:tgtEl>
                                        <p:attrNameLst>
                                          <p:attrName>style.visibility</p:attrName>
                                        </p:attrNameLst>
                                      </p:cBhvr>
                                      <p:to>
                                        <p:strVal val="visible"/>
                                      </p:to>
                                    </p:set>
                                    <p:anim calcmode="lin" valueType="num">
                                      <p:cBhvr additive="base">
                                        <p:cTn id="43" dur="500" fill="hold"/>
                                        <p:tgtEl>
                                          <p:spTgt spid="602">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02">
                                            <p:txEl>
                                              <p:pRg st="0" end="0"/>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02">
                                            <p:txEl>
                                              <p:pRg st="1" end="1"/>
                                            </p:txEl>
                                          </p:spTgt>
                                        </p:tgtEl>
                                        <p:attrNameLst>
                                          <p:attrName>style.visibility</p:attrName>
                                        </p:attrNameLst>
                                      </p:cBhvr>
                                      <p:to>
                                        <p:strVal val="visible"/>
                                      </p:to>
                                    </p:set>
                                    <p:anim calcmode="lin" valueType="num">
                                      <p:cBhvr additive="base">
                                        <p:cTn id="47" dur="500" fill="hold"/>
                                        <p:tgtEl>
                                          <p:spTgt spid="60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02">
                                            <p:txEl>
                                              <p:pRg st="1" end="1"/>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602">
                                            <p:txEl>
                                              <p:pRg st="2" end="2"/>
                                            </p:txEl>
                                          </p:spTgt>
                                        </p:tgtEl>
                                        <p:attrNameLst>
                                          <p:attrName>style.visibility</p:attrName>
                                        </p:attrNameLst>
                                      </p:cBhvr>
                                      <p:to>
                                        <p:strVal val="visible"/>
                                      </p:to>
                                    </p:set>
                                    <p:anim calcmode="lin" valueType="num">
                                      <p:cBhvr additive="base">
                                        <p:cTn id="51" dur="500" fill="hold"/>
                                        <p:tgtEl>
                                          <p:spTgt spid="6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602">
                                            <p:txEl>
                                              <p:pRg st="3" end="3"/>
                                            </p:txEl>
                                          </p:spTgt>
                                        </p:tgtEl>
                                        <p:attrNameLst>
                                          <p:attrName>style.visibility</p:attrName>
                                        </p:attrNameLst>
                                      </p:cBhvr>
                                      <p:to>
                                        <p:strVal val="visible"/>
                                      </p:to>
                                    </p:set>
                                    <p:anim calcmode="lin" valueType="num">
                                      <p:cBhvr additive="base">
                                        <p:cTn id="55" dur="500" fill="hold"/>
                                        <p:tgtEl>
                                          <p:spTgt spid="6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602">
                                            <p:txEl>
                                              <p:pRg st="4" end="4"/>
                                            </p:txEl>
                                          </p:spTgt>
                                        </p:tgtEl>
                                        <p:attrNameLst>
                                          <p:attrName>style.visibility</p:attrName>
                                        </p:attrNameLst>
                                      </p:cBhvr>
                                      <p:to>
                                        <p:strVal val="visible"/>
                                      </p:to>
                                    </p:set>
                                    <p:anim calcmode="lin" valueType="num">
                                      <p:cBhvr additive="base">
                                        <p:cTn id="59" dur="500" fill="hold"/>
                                        <p:tgtEl>
                                          <p:spTgt spid="6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602">
                                            <p:txEl>
                                              <p:pRg st="5" end="5"/>
                                            </p:txEl>
                                          </p:spTgt>
                                        </p:tgtEl>
                                        <p:attrNameLst>
                                          <p:attrName>style.visibility</p:attrName>
                                        </p:attrNameLst>
                                      </p:cBhvr>
                                      <p:to>
                                        <p:strVal val="visible"/>
                                      </p:to>
                                    </p:set>
                                    <p:anim calcmode="lin" valueType="num">
                                      <p:cBhvr additive="base">
                                        <p:cTn id="63" dur="500" fill="hold"/>
                                        <p:tgtEl>
                                          <p:spTgt spid="6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02">
                                            <p:txEl>
                                              <p:pRg st="5" end="5"/>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02">
                                            <p:txEl>
                                              <p:pRg st="6" end="6"/>
                                            </p:txEl>
                                          </p:spTgt>
                                        </p:tgtEl>
                                        <p:attrNameLst>
                                          <p:attrName>style.visibility</p:attrName>
                                        </p:attrNameLst>
                                      </p:cBhvr>
                                      <p:to>
                                        <p:strVal val="visible"/>
                                      </p:to>
                                    </p:set>
                                    <p:anim calcmode="lin" valueType="num">
                                      <p:cBhvr additive="base">
                                        <p:cTn id="67" dur="500" fill="hold"/>
                                        <p:tgtEl>
                                          <p:spTgt spid="602">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02">
                                            <p:txEl>
                                              <p:pRg st="6" end="6"/>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02">
                                            <p:txEl>
                                              <p:pRg st="7" end="7"/>
                                            </p:txEl>
                                          </p:spTgt>
                                        </p:tgtEl>
                                        <p:attrNameLst>
                                          <p:attrName>style.visibility</p:attrName>
                                        </p:attrNameLst>
                                      </p:cBhvr>
                                      <p:to>
                                        <p:strVal val="visible"/>
                                      </p:to>
                                    </p:set>
                                    <p:anim calcmode="lin" valueType="num">
                                      <p:cBhvr additive="base">
                                        <p:cTn id="71" dur="500" fill="hold"/>
                                        <p:tgtEl>
                                          <p:spTgt spid="602">
                                            <p:txEl>
                                              <p:pRg st="7" end="7"/>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02">
                                            <p:txEl>
                                              <p:pRg st="7" end="7"/>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02">
                                            <p:txEl>
                                              <p:pRg st="8" end="8"/>
                                            </p:txEl>
                                          </p:spTgt>
                                        </p:tgtEl>
                                        <p:attrNameLst>
                                          <p:attrName>style.visibility</p:attrName>
                                        </p:attrNameLst>
                                      </p:cBhvr>
                                      <p:to>
                                        <p:strVal val="visible"/>
                                      </p:to>
                                    </p:set>
                                    <p:anim calcmode="lin" valueType="num">
                                      <p:cBhvr additive="base">
                                        <p:cTn id="75" dur="500" fill="hold"/>
                                        <p:tgtEl>
                                          <p:spTgt spid="602">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02">
                                            <p:txEl>
                                              <p:pRg st="8" end="8"/>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602">
                                            <p:txEl>
                                              <p:pRg st="9" end="9"/>
                                            </p:txEl>
                                          </p:spTgt>
                                        </p:tgtEl>
                                        <p:attrNameLst>
                                          <p:attrName>style.visibility</p:attrName>
                                        </p:attrNameLst>
                                      </p:cBhvr>
                                      <p:to>
                                        <p:strVal val="visible"/>
                                      </p:to>
                                    </p:set>
                                    <p:anim calcmode="lin" valueType="num">
                                      <p:cBhvr additive="base">
                                        <p:cTn id="79" dur="500" fill="hold"/>
                                        <p:tgtEl>
                                          <p:spTgt spid="602">
                                            <p:txEl>
                                              <p:pRg st="9" end="9"/>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0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driving the issue?</a:t>
            </a:r>
            <a:endParaRPr b="1" lang="en-US" sz="4000" spc="-1" strike="noStrike">
              <a:solidFill>
                <a:srgbClr val="000000"/>
              </a:solidFill>
              <a:latin typeface="Times New Roman"/>
            </a:endParaRPr>
          </a:p>
        </p:txBody>
      </p:sp>
      <p:sp>
        <p:nvSpPr>
          <p:cNvPr id="6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ing nature of work</a:t>
            </a:r>
            <a:endParaRPr b="0" lang="en-US" sz="3200" spc="-1" strike="noStrike">
              <a:solidFill>
                <a:srgbClr val="000000"/>
              </a:solidFill>
              <a:latin typeface="Times New Roman"/>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er</a:t>
            </a:r>
            <a:endParaRPr b="0" lang="en-US" sz="2800" spc="-1" strike="noStrike">
              <a:solidFill>
                <a:srgbClr val="000000"/>
              </a:solidFill>
              <a:latin typeface="Times New Roman"/>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ter</a:t>
            </a:r>
            <a:endParaRPr b="0" lang="en-US" sz="2800" spc="-1" strike="noStrike">
              <a:solidFill>
                <a:srgbClr val="000000"/>
              </a:solidFill>
              <a:latin typeface="Times New Roman"/>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l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
          <p:cNvSpPr/>
          <p:nvPr/>
        </p:nvSpPr>
        <p:spPr>
          <a:xfrm>
            <a:off x="5562720" y="2133720"/>
            <a:ext cx="2762280" cy="2684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marL="235080" indent="-235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ends</a:t>
            </a:r>
            <a:endParaRPr b="0" lang="en-US" sz="2400" spc="-1" strike="noStrike">
              <a:solidFill>
                <a:srgbClr val="000000"/>
              </a:solidFill>
              <a:latin typeface="Times New Roman"/>
            </a:endParaRPr>
          </a:p>
          <a:p>
            <a:pPr marL="235080" indent="-235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 economy</a:t>
            </a:r>
            <a:endParaRPr b="0" lang="en-US" sz="2400" spc="-1" strike="noStrike">
              <a:solidFill>
                <a:srgbClr val="000000"/>
              </a:solidFill>
              <a:latin typeface="Times New Roman"/>
            </a:endParaRPr>
          </a:p>
          <a:p>
            <a:pPr marL="235080" indent="-235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y</a:t>
            </a:r>
            <a:endParaRPr b="0" lang="en-US" sz="2400" spc="-1" strike="noStrike">
              <a:solidFill>
                <a:srgbClr val="000000"/>
              </a:solidFill>
              <a:latin typeface="Times New Roman"/>
            </a:endParaRPr>
          </a:p>
          <a:p>
            <a:pPr marL="235080" indent="-235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ization</a:t>
            </a:r>
            <a:endParaRPr b="0" lang="en-US" sz="2400" spc="-1" strike="noStrike">
              <a:solidFill>
                <a:srgbClr val="000000"/>
              </a:solidFill>
              <a:latin typeface="Times New Roman"/>
            </a:endParaRPr>
          </a:p>
          <a:p>
            <a:pPr marL="235080" indent="-235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ing valu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0BB9B70-B8CA-43A6-B9A9-F00D7E397C2A}" type="slidenum">
              <a:t>32</a:t>
            </a:fld>
          </a:p>
        </p:txBody>
      </p:sp>
    </p:spTree>
  </p:cSld>
  <p:transition>
    <p:wedg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6">
                                            <p:txEl>
                                              <p:pRg st="0" end="0"/>
                                            </p:txEl>
                                          </p:spTgt>
                                        </p:tgtEl>
                                        <p:attrNameLst>
                                          <p:attrName>style.visibility</p:attrName>
                                        </p:attrNameLst>
                                      </p:cBhvr>
                                      <p:to>
                                        <p:strVal val="visible"/>
                                      </p:to>
                                    </p:set>
                                    <p:anim calcmode="lin" valueType="num">
                                      <p:cBhvr additive="base">
                                        <p:cTn id="87" dur="5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6">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606">
                                            <p:txEl>
                                              <p:pRg st="1" end="1"/>
                                            </p:txEl>
                                          </p:spTgt>
                                        </p:tgtEl>
                                        <p:attrNameLst>
                                          <p:attrName>style.visibility</p:attrName>
                                        </p:attrNameLst>
                                      </p:cBhvr>
                                      <p:to>
                                        <p:strVal val="visible"/>
                                      </p:to>
                                    </p:set>
                                    <p:anim calcmode="lin" valueType="num">
                                      <p:cBhvr additive="base">
                                        <p:cTn id="91" dur="500" fill="hold"/>
                                        <p:tgtEl>
                                          <p:spTgt spid="606">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06">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606">
                                            <p:txEl>
                                              <p:pRg st="2" end="2"/>
                                            </p:txEl>
                                          </p:spTgt>
                                        </p:tgtEl>
                                        <p:attrNameLst>
                                          <p:attrName>style.visibility</p:attrName>
                                        </p:attrNameLst>
                                      </p:cBhvr>
                                      <p:to>
                                        <p:strVal val="visible"/>
                                      </p:to>
                                    </p:set>
                                    <p:anim calcmode="lin" valueType="num">
                                      <p:cBhvr additive="base">
                                        <p:cTn id="95" dur="500" fill="hold"/>
                                        <p:tgtEl>
                                          <p:spTgt spid="606">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06">
                                            <p:txEl>
                                              <p:pRg st="2" end="2"/>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606">
                                            <p:txEl>
                                              <p:pRg st="3" end="3"/>
                                            </p:txEl>
                                          </p:spTgt>
                                        </p:tgtEl>
                                        <p:attrNameLst>
                                          <p:attrName>style.visibility</p:attrName>
                                        </p:attrNameLst>
                                      </p:cBhvr>
                                      <p:to>
                                        <p:strVal val="visible"/>
                                      </p:to>
                                    </p:set>
                                    <p:anim calcmode="lin" valueType="num">
                                      <p:cBhvr additive="base">
                                        <p:cTn id="99" dur="500" fill="hold"/>
                                        <p:tgtEl>
                                          <p:spTgt spid="606">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driving the issue?</a:t>
            </a:r>
            <a:endParaRPr b="1" lang="en-US" sz="4000" spc="-1" strike="noStrike">
              <a:solidFill>
                <a:srgbClr val="000000"/>
              </a:solidFill>
              <a:latin typeface="Times New Roman"/>
            </a:endParaRPr>
          </a:p>
        </p:txBody>
      </p:sp>
      <p:sp>
        <p:nvSpPr>
          <p:cNvPr id="6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demographics</a:t>
            </a:r>
            <a:endParaRPr b="0" lang="en-US" sz="2800" spc="-1" strike="noStrike">
              <a:solidFill>
                <a:srgbClr val="000000"/>
              </a:solidFill>
              <a:latin typeface="Times New Roman"/>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ce/ethnicity</a:t>
            </a:r>
            <a:endParaRPr b="0" lang="en-US" sz="2400" spc="-1" strike="noStrike">
              <a:solidFill>
                <a:srgbClr val="000000"/>
              </a:solidFill>
              <a:latin typeface="Times New Roman"/>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ing population</a:t>
            </a:r>
            <a:endParaRPr b="0" lang="en-US" sz="24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values</a:t>
            </a:r>
            <a:endParaRPr b="0" lang="en-US" sz="2800" spc="-1" strike="noStrike">
              <a:solidFill>
                <a:srgbClr val="000000"/>
              </a:solidFill>
              <a:latin typeface="Times New Roman"/>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men in labor market</a:t>
            </a:r>
            <a:endParaRPr b="0" lang="en-US" sz="2400" spc="-1" strike="noStrike">
              <a:solidFill>
                <a:srgbClr val="000000"/>
              </a:solidFill>
              <a:latin typeface="Times New Roman"/>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X worker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10" name=""/>
          <p:cNvGraphicFramePr/>
          <p:nvPr/>
        </p:nvGraphicFramePr>
        <p:xfrm>
          <a:off x="5862600" y="2362320"/>
          <a:ext cx="2290680" cy="1652400"/>
        </p:xfrm>
        <a:graphic>
          <a:graphicData uri="http://schemas.openxmlformats.org/presentationml/2006/ole">
            <p:oleObj progId="Word.Document.12" r:id="rId1" spid="">
              <p:embed/>
              <p:pic>
                <p:nvPicPr>
                  <p:cNvPr id="611" name="" descr=""/>
                  <p:cNvPicPr/>
                  <p:nvPr/>
                </p:nvPicPr>
                <p:blipFill>
                  <a:blip r:embed="rId2"/>
                  <a:stretch/>
                </p:blipFill>
                <p:spPr>
                  <a:xfrm>
                    <a:off x="5862600" y="2362320"/>
                    <a:ext cx="2290680" cy="1652400"/>
                  </a:xfrm>
                  <a:prstGeom prst="rect">
                    <a:avLst/>
                  </a:prstGeom>
                  <a:ln w="0">
                    <a:noFill/>
                  </a:ln>
                </p:spPr>
              </p:pic>
            </p:oleObj>
          </a:graphicData>
        </a:graphic>
      </p:graphicFrame>
      <p:sp>
        <p:nvSpPr>
          <p:cNvPr id="4" name="PlaceHolder 3"/>
          <p:cNvSpPr>
            <a:spLocks noGrp="1"/>
          </p:cNvSpPr>
          <p:nvPr>
            <p:ph type="sldNum" idx="1"/>
          </p:nvPr>
        </p:nvSpPr>
        <p:spPr/>
        <p:txBody>
          <a:bodyPr/>
          <a:p>
            <a:fld id="{0FFA6EB9-6B93-4C35-8C05-BDEEB560D0A8}" type="slidenum">
              <a:t>33</a:t>
            </a:fld>
          </a:p>
        </p:txBody>
      </p:sp>
    </p:spTree>
  </p:cSld>
  <p:transition>
    <p:wedg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09">
                                            <p:txEl>
                                              <p:pRg st="0" end="0"/>
                                            </p:txEl>
                                          </p:spTgt>
                                        </p:tgtEl>
                                        <p:attrNameLst>
                                          <p:attrName>style.visibility</p:attrName>
                                        </p:attrNameLst>
                                      </p:cBhvr>
                                      <p:to>
                                        <p:strVal val="visible"/>
                                      </p:to>
                                    </p:set>
                                    <p:anim calcmode="lin" valueType="num">
                                      <p:cBhvr additive="base">
                                        <p:cTn id="107" dur="500" fill="hold"/>
                                        <p:tgtEl>
                                          <p:spTgt spid="609">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09">
                                            <p:txEl>
                                              <p:pRg st="0" end="0"/>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609">
                                            <p:txEl>
                                              <p:pRg st="1" end="1"/>
                                            </p:txEl>
                                          </p:spTgt>
                                        </p:tgtEl>
                                        <p:attrNameLst>
                                          <p:attrName>style.visibility</p:attrName>
                                        </p:attrNameLst>
                                      </p:cBhvr>
                                      <p:to>
                                        <p:strVal val="visible"/>
                                      </p:to>
                                    </p:set>
                                    <p:anim calcmode="lin" valueType="num">
                                      <p:cBhvr additive="base">
                                        <p:cTn id="111" dur="500" fill="hold"/>
                                        <p:tgtEl>
                                          <p:spTgt spid="609">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609">
                                            <p:txEl>
                                              <p:pRg st="1" end="1"/>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609">
                                            <p:txEl>
                                              <p:pRg st="2" end="2"/>
                                            </p:txEl>
                                          </p:spTgt>
                                        </p:tgtEl>
                                        <p:attrNameLst>
                                          <p:attrName>style.visibility</p:attrName>
                                        </p:attrNameLst>
                                      </p:cBhvr>
                                      <p:to>
                                        <p:strVal val="visible"/>
                                      </p:to>
                                    </p:set>
                                    <p:anim calcmode="lin" valueType="num">
                                      <p:cBhvr additive="base">
                                        <p:cTn id="115" dur="500" fill="hold"/>
                                        <p:tgtEl>
                                          <p:spTgt spid="609">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09">
                                            <p:txEl>
                                              <p:pRg st="3" end="3"/>
                                            </p:txEl>
                                          </p:spTgt>
                                        </p:tgtEl>
                                        <p:attrNameLst>
                                          <p:attrName>style.visibility</p:attrName>
                                        </p:attrNameLst>
                                      </p:cBhvr>
                                      <p:to>
                                        <p:strVal val="visible"/>
                                      </p:to>
                                    </p:set>
                                    <p:anim calcmode="lin" valueType="num">
                                      <p:cBhvr additive="base">
                                        <p:cTn id="121" dur="500" fill="hold"/>
                                        <p:tgtEl>
                                          <p:spTgt spid="609">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09">
                                            <p:txEl>
                                              <p:pRg st="3" end="3"/>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609">
                                            <p:txEl>
                                              <p:pRg st="4" end="4"/>
                                            </p:txEl>
                                          </p:spTgt>
                                        </p:tgtEl>
                                        <p:attrNameLst>
                                          <p:attrName>style.visibility</p:attrName>
                                        </p:attrNameLst>
                                      </p:cBhvr>
                                      <p:to>
                                        <p:strVal val="visible"/>
                                      </p:to>
                                    </p:set>
                                    <p:anim calcmode="lin" valueType="num">
                                      <p:cBhvr additive="base">
                                        <p:cTn id="125" dur="500" fill="hold"/>
                                        <p:tgtEl>
                                          <p:spTgt spid="609">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09">
                                            <p:txEl>
                                              <p:pRg st="4" end="4"/>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609">
                                            <p:txEl>
                                              <p:pRg st="5" end="5"/>
                                            </p:txEl>
                                          </p:spTgt>
                                        </p:tgtEl>
                                        <p:attrNameLst>
                                          <p:attrName>style.visibility</p:attrName>
                                        </p:attrNameLst>
                                      </p:cBhvr>
                                      <p:to>
                                        <p:strVal val="visible"/>
                                      </p:to>
                                    </p:set>
                                    <p:anim calcmode="lin" valueType="num">
                                      <p:cBhvr additive="base">
                                        <p:cTn id="129" dur="500" fill="hold"/>
                                        <p:tgtEl>
                                          <p:spTgt spid="609">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 Values</a:t>
            </a:r>
            <a:endParaRPr b="1" lang="en-US" sz="4000" spc="-1" strike="noStrike">
              <a:solidFill>
                <a:srgbClr val="000000"/>
              </a:solidFill>
              <a:latin typeface="Times New Roman"/>
            </a:endParaRPr>
          </a:p>
        </p:txBody>
      </p:sp>
      <p:sp>
        <p:nvSpPr>
          <p:cNvPr id="61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Genera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Desire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oriented</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institutional</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hierarchical</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le, change welcoming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ty</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kill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of work</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Imag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is on strike, laid-off, or “angels of mercy”</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cold, unresponsive institution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is stressful, highly structured, and un-fun</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d to a professional career, not open to chang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380880" y="1752480"/>
            <a:ext cx="424836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572000" y="3657600"/>
            <a:ext cx="39243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4D8CAC85-C441-4D24-A122-AD42A275961B}" type="slidenum">
              <a:t>34</a:t>
            </a:fld>
          </a:p>
        </p:txBody>
      </p:sp>
    </p:spTree>
  </p:cSld>
  <p:transition>
    <p:wedg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endCondLst>
                                    <p:cond evt="begin"/>
                                  </p:endCondLst>
                                  <p:childTnLst>
                                    <p:set>
                                      <p:cBhvr>
                                        <p:cTn id="136" dur="1" fill="hold">
                                          <p:stCondLst>
                                            <p:cond delay="0"/>
                                          </p:stCondLst>
                                        </p:cTn>
                                        <p:tgtEl>
                                          <p:spTgt spid="615"/>
                                        </p:tgtEl>
                                        <p:attrNameLst>
                                          <p:attrName>style.visibility</p:attrName>
                                        </p:attrNameLst>
                                      </p:cBhvr>
                                      <p:to>
                                        <p:strVal val="visible"/>
                                      </p:to>
                                    </p:set>
                                    <p:anim calcmode="lin" valueType="num">
                                      <p:cBhvr additive="base">
                                        <p:cTn id="137" dur="500" fill="hold"/>
                                        <p:tgtEl>
                                          <p:spTgt spid="615"/>
                                        </p:tgtEl>
                                        <p:attrNameLst>
                                          <p:attrName>ppt_x</p:attrName>
                                        </p:attrNameLst>
                                      </p:cBhvr>
                                      <p:tavLst>
                                        <p:tav tm="0">
                                          <p:val>
                                            <p:strVal val="0-#ppt_w/2"/>
                                          </p:val>
                                        </p:tav>
                                        <p:tav tm="100000">
                                          <p:val>
                                            <p:strVal val="#ppt_x"/>
                                          </p:val>
                                        </p:tav>
                                      </p:tavLst>
                                    </p:anim>
                                    <p:anim calcmode="lin" valueType="num">
                                      <p:cBhvr additive="base">
                                        <p:cTn id="138"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endCondLst>
                                    <p:cond evt="begin"/>
                                  </p:endCondLst>
                                  <p:childTnLst>
                                    <p:set>
                                      <p:cBhvr>
                                        <p:cTn id="142" dur="1" fill="hold">
                                          <p:stCondLst>
                                            <p:cond delay="0"/>
                                          </p:stCondLst>
                                        </p:cTn>
                                        <p:tgtEl>
                                          <p:spTgt spid="616"/>
                                        </p:tgtEl>
                                        <p:attrNameLst>
                                          <p:attrName>style.visibility</p:attrName>
                                        </p:attrNameLst>
                                      </p:cBhvr>
                                      <p:to>
                                        <p:strVal val="visible"/>
                                      </p:to>
                                    </p:set>
                                    <p:anim calcmode="lin" valueType="num">
                                      <p:cBhvr additive="base">
                                        <p:cTn id="143" dur="500" fill="hold"/>
                                        <p:tgtEl>
                                          <p:spTgt spid="616"/>
                                        </p:tgtEl>
                                        <p:attrNameLst>
                                          <p:attrName>ppt_x</p:attrName>
                                        </p:attrNameLst>
                                      </p:cBhvr>
                                      <p:tavLst>
                                        <p:tav tm="0">
                                          <p:val>
                                            <p:strVal val="0-#ppt_w/2"/>
                                          </p:val>
                                        </p:tav>
                                        <p:tav tm="100000">
                                          <p:val>
                                            <p:strVal val="#ppt_x"/>
                                          </p:val>
                                        </p:tav>
                                      </p:tavLst>
                                    </p:anim>
                                    <p:anim calcmode="lin" valueType="num">
                                      <p:cBhvr additive="base">
                                        <p:cTn id="144" dur="500" fill="hold"/>
                                        <p:tgtEl>
                                          <p:spTgt spid="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4560" y="24379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rPr>
              <a:t>Unimaginative</a:t>
            </a:r>
            <a:br>
              <a:rPr sz="4400"/>
            </a:br>
            <a:r>
              <a:rPr b="1" lang="en-US" sz="4400" spc="-1" strike="noStrike">
                <a:solidFill>
                  <a:srgbClr val="000000"/>
                </a:solidFill>
                <a:latin typeface="Times New Roman"/>
              </a:rPr>
              <a:t>scopes of practice</a:t>
            </a:r>
            <a:br>
              <a:rPr sz="4400"/>
            </a:br>
            <a:r>
              <a:rPr b="1" lang="en-US" sz="4400" spc="-1" strike="noStrike">
                <a:solidFill>
                  <a:srgbClr val="000000"/>
                </a:solidFill>
                <a:latin typeface="Times New Roman"/>
              </a:rPr>
              <a:t>and professional models</a:t>
            </a:r>
            <a:br>
              <a:rPr sz="4400"/>
            </a:br>
            <a:r>
              <a:rPr b="1" lang="en-US" sz="4400" spc="-1" strike="noStrike">
                <a:solidFill>
                  <a:srgbClr val="000000"/>
                </a:solidFill>
                <a:latin typeface="Times New Roman"/>
              </a:rPr>
              <a:t>are </a:t>
            </a:r>
            <a:br>
              <a:rPr sz="4400"/>
            </a:br>
            <a:r>
              <a:rPr b="1" lang="en-US" sz="4400" spc="-1" strike="noStrike">
                <a:solidFill>
                  <a:srgbClr val="000000"/>
                </a:solidFill>
                <a:latin typeface="Times New Roman"/>
              </a:rPr>
              <a:t>absolutely crippling!!!</a:t>
            </a:r>
            <a:endParaRPr b="1"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896DCBF-A362-404C-8DF3-6FA3BA204E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eware</a:t>
            </a:r>
            <a:r>
              <a:rPr b="1" lang="en-US" sz="4000" spc="-1" strike="noStrike">
                <a:solidFill>
                  <a:srgbClr val="000000"/>
                </a:solidFill>
                <a:latin typeface="Times New Roman"/>
              </a:rPr>
              <a:t> Professional Interests:</a:t>
            </a:r>
            <a:endParaRPr b="1" lang="en-US" sz="4000" spc="-1" strike="noStrike">
              <a:solidFill>
                <a:srgbClr val="000000"/>
              </a:solidFill>
              <a:latin typeface="Times New Roman"/>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history is guided by the interests of individual profession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health concerns are secondary</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s are accepted reluctantly</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ld mentality pervades everything</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ture of health care should NOT be determined by internecine struggl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e subject to the same demographic, social, and economic pressur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8A5FF48-A346-4C1F-836E-10036010C082}" type="slidenum">
              <a:t>36</a:t>
            </a:fld>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t>
            </a:r>
            <a:endParaRPr b="1" lang="en-US" sz="4000" spc="-1" strike="noStrike">
              <a:solidFill>
                <a:srgbClr val="000000"/>
              </a:solidFill>
              <a:latin typeface="Times New Roman"/>
            </a:endParaRPr>
          </a:p>
        </p:txBody>
      </p:sp>
      <p:sp>
        <p:nvSpPr>
          <p:cNvPr id="621" name="PlaceHolder 2"/>
          <p:cNvSpPr>
            <a:spLocks noGrp="1"/>
          </p:cNvSpPr>
          <p:nvPr>
            <p:ph/>
          </p:nvPr>
        </p:nvSpPr>
        <p:spPr>
          <a:xfrm>
            <a:off x="380520" y="1523520"/>
            <a:ext cx="44197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Times New Roman"/>
              </a:rPr>
              <a:t>Professions (Science)</a:t>
            </a:r>
            <a:endParaRPr b="0" lang="en-US" sz="2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es society by application of knowledge</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s exclusive control of system</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come myopic and reductionist</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come self-interested</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re reactionar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PlaceHolder 3"/>
          <p:cNvSpPr>
            <a:spLocks noGrp="1"/>
          </p:cNvSpPr>
          <p:nvPr>
            <p:ph/>
          </p:nvPr>
        </p:nvSpPr>
        <p:spPr>
          <a:xfrm>
            <a:off x="4723920" y="1523880"/>
            <a:ext cx="441972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Times New Roman"/>
              </a:rPr>
              <a:t>Community (Consumers)</a:t>
            </a:r>
            <a:endParaRPr b="0" lang="en-US" sz="26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s publicly defined social outcom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consumer satisfactio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s to balance cost of care with real and opportunity cost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informed but autonomous</a:t>
            </a:r>
            <a:r>
              <a:rPr b="0" lang="en-US" sz="2000" spc="-1" strike="noStrike">
                <a:solidFill>
                  <a:srgbClr val="000000"/>
                </a:solidFill>
                <a:latin typeface="Times New Roman"/>
              </a:rPr>
              <a:t> </a:t>
            </a:r>
            <a:r>
              <a:rPr b="0" lang="en-US" sz="2400" spc="-1" strike="noStrike">
                <a:solidFill>
                  <a:srgbClr val="000000"/>
                </a:solidFill>
                <a:latin typeface="Times New Roman"/>
              </a:rPr>
              <a:t>decision making</a:t>
            </a:r>
            <a:endParaRPr b="0" lang="en-US" sz="2400" spc="-1" strike="noStrike">
              <a:solidFill>
                <a:srgbClr val="000000"/>
              </a:solidFill>
              <a:latin typeface="Times New Roman"/>
            </a:endParaRPr>
          </a:p>
        </p:txBody>
      </p:sp>
      <p:graphicFrame>
        <p:nvGraphicFramePr>
          <p:cNvPr id="623" name=""/>
          <p:cNvGraphicFramePr/>
          <p:nvPr/>
        </p:nvGraphicFramePr>
        <p:xfrm>
          <a:off x="7162920" y="0"/>
          <a:ext cx="1523880" cy="1496880"/>
        </p:xfrm>
        <a:graphic>
          <a:graphicData uri="http://schemas.openxmlformats.org/presentationml/2006/ole">
            <p:oleObj r:id="rId1" spid="">
              <p:embed/>
              <p:pic>
                <p:nvPicPr>
                  <p:cNvPr id="624" name="" descr=""/>
                  <p:cNvPicPr/>
                  <p:nvPr/>
                </p:nvPicPr>
                <p:blipFill>
                  <a:blip r:embed="rId2"/>
                  <a:stretch/>
                </p:blipFill>
                <p:spPr>
                  <a:xfrm>
                    <a:off x="7162920" y="0"/>
                    <a:ext cx="1523880" cy="1496880"/>
                  </a:xfrm>
                  <a:prstGeom prst="rect">
                    <a:avLst/>
                  </a:prstGeom>
                  <a:ln w="0">
                    <a:noFill/>
                  </a:ln>
                </p:spPr>
              </p:pic>
            </p:oleObj>
          </a:graphicData>
        </a:graphic>
      </p:graphicFrame>
      <p:sp>
        <p:nvSpPr>
          <p:cNvPr id="5" name="PlaceHolder 4"/>
          <p:cNvSpPr>
            <a:spLocks noGrp="1"/>
          </p:cNvSpPr>
          <p:nvPr>
            <p:ph type="sldNum" idx="1"/>
          </p:nvPr>
        </p:nvSpPr>
        <p:spPr/>
        <p:txBody>
          <a:bodyPr/>
          <a:p>
            <a:fld id="{55668884-B312-47F5-A7A7-50908E3C9F05}" type="slidenum">
              <a:t>37</a:t>
            </a:fld>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 </a:t>
            </a:r>
            <a:r>
              <a:rPr b="1" lang="en-US" sz="3200" spc="-1" strike="noStrike">
                <a:solidFill>
                  <a:srgbClr val="000000"/>
                </a:solidFill>
                <a:latin typeface="Times New Roman"/>
              </a:rPr>
              <a:t>(cont.)</a:t>
            </a:r>
            <a:endParaRPr b="1" lang="en-US" sz="3200" spc="-1" strike="noStrike">
              <a:solidFill>
                <a:srgbClr val="000000"/>
              </a:solidFill>
              <a:latin typeface="Times New Roman"/>
            </a:endParaRPr>
          </a:p>
        </p:txBody>
      </p:sp>
      <p:sp>
        <p:nvSpPr>
          <p:cNvPr id="626" name="PlaceHolder 2"/>
          <p:cNvSpPr>
            <a:spLocks noGrp="1"/>
          </p:cNvSpPr>
          <p:nvPr>
            <p:ph/>
          </p:nvPr>
        </p:nvSpPr>
        <p:spPr>
          <a:xfrm>
            <a:off x="304920" y="1219320"/>
            <a:ext cx="4419360" cy="4876560"/>
          </a:xfrm>
          <a:prstGeom prst="rect">
            <a:avLst/>
          </a:prstGeom>
          <a:noFill/>
          <a:ln w="0">
            <a:noFill/>
          </a:ln>
        </p:spPr>
        <p:txBody>
          <a:bodyPr lIns="90000" rIns="90000" tIns="46800" bIns="46800" anchor="t">
            <a:normAutofit fontScale="97000"/>
          </a:bodyPr>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Times New Roman"/>
              </a:rPr>
              <a:t>Markets (Profit)</a:t>
            </a:r>
            <a:endParaRPr b="0" lang="en-US" sz="30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 resources efficiently if not brutally</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iven by potential profits, entrepreneurial zeal</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able market failure </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generate unpalatable externalities</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in many social enterprises, but suspect in health car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7" name="PlaceHolder 3"/>
          <p:cNvSpPr>
            <a:spLocks noGrp="1"/>
          </p:cNvSpPr>
          <p:nvPr>
            <p:ph/>
          </p:nvPr>
        </p:nvSpPr>
        <p:spPr>
          <a:xfrm>
            <a:off x="4876560" y="1219320"/>
            <a:ext cx="42670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Times New Roman"/>
              </a:rPr>
              <a:t>Policy (Cost)</a:t>
            </a:r>
            <a:endParaRPr b="0" lang="en-US" sz="30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s market failur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cost reductio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s to distribute justice by expanding car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expert knowledge, run through a political ringer</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w and reductionis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 descr=""/>
          <p:cNvPicPr/>
          <p:nvPr/>
        </p:nvPicPr>
        <p:blipFill>
          <a:blip r:embed="rId1"/>
          <a:stretch/>
        </p:blipFill>
        <p:spPr>
          <a:xfrm>
            <a:off x="7515360" y="174600"/>
            <a:ext cx="1090440" cy="1371600"/>
          </a:xfrm>
          <a:prstGeom prst="rect">
            <a:avLst/>
          </a:prstGeom>
          <a:ln w="0">
            <a:noFill/>
          </a:ln>
        </p:spPr>
      </p:pic>
      <p:sp>
        <p:nvSpPr>
          <p:cNvPr id="5" name="PlaceHolder 4"/>
          <p:cNvSpPr>
            <a:spLocks noGrp="1"/>
          </p:cNvSpPr>
          <p:nvPr>
            <p:ph type="sldNum" idx="1"/>
          </p:nvPr>
        </p:nvSpPr>
        <p:spPr/>
        <p:txBody>
          <a:bodyPr/>
          <a:p>
            <a:fld id="{EAF140BA-B86E-4A37-B291-BC89B863E6D6}" type="slidenum">
              <a:t>38</a:t>
            </a:fld>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0" y="685800"/>
            <a:ext cx="9144000" cy="571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ition Dynamics in Health Care</a:t>
            </a:r>
            <a:br>
              <a:rPr sz="4000"/>
            </a:br>
            <a:r>
              <a:rPr b="1" lang="en-US" sz="3200" spc="-1" strike="noStrike">
                <a:solidFill>
                  <a:srgbClr val="000000"/>
                </a:solidFill>
                <a:latin typeface="Times New Roman"/>
              </a:rPr>
              <a:t>Can our professional models survive?</a:t>
            </a:r>
            <a:endParaRPr b="1" lang="en-US" sz="3200" spc="-1" strike="noStrike">
              <a:solidFill>
                <a:srgbClr val="000000"/>
              </a:solidFill>
              <a:latin typeface="Times New Roman"/>
            </a:endParaRPr>
          </a:p>
        </p:txBody>
      </p:sp>
      <p:sp>
        <p:nvSpPr>
          <p:cNvPr id="632" name=""/>
          <p:cNvSpPr/>
          <p:nvPr/>
        </p:nvSpPr>
        <p:spPr>
          <a:xfrm>
            <a:off x="838080" y="1447920"/>
            <a:ext cx="7548840" cy="447732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unaware ----------------------</a:t>
            </a:r>
            <a:r>
              <a:rPr b="1" lang="en-US" sz="2400" spc="-1" strike="noStrike">
                <a:solidFill>
                  <a:srgbClr val="000000"/>
                </a:solidFill>
                <a:latin typeface="Times New Roman"/>
              </a:rPr>
              <a:t>	</a:t>
            </a:r>
            <a:r>
              <a:rPr b="1" lang="en-US" sz="2400" spc="-1" strike="noStrike">
                <a:solidFill>
                  <a:srgbClr val="ff6600"/>
                </a:solidFill>
                <a:latin typeface="Times New Roman"/>
              </a:rPr>
              <a:t>Cost accountable</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ically driven</a:t>
            </a:r>
            <a:r>
              <a:rPr b="1" lang="en-US" sz="2400" spc="-1" strike="noStrike">
                <a:solidFill>
                  <a:srgbClr val="ccccff"/>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ff6600"/>
                </a:solidFill>
                <a:latin typeface="Times New Roman"/>
              </a:rPr>
              <a:t>Humanely balanced</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 based ------------------</a:t>
            </a:r>
            <a:r>
              <a:rPr b="1" lang="en-US" sz="2400" spc="-1" strike="noStrike">
                <a:solidFill>
                  <a:srgbClr val="ccccff"/>
                </a:solidFill>
                <a:latin typeface="Times New Roman"/>
              </a:rPr>
              <a:t>	</a:t>
            </a:r>
            <a:r>
              <a:rPr b="1" lang="en-US" sz="2400" spc="-1" strike="noStrike">
                <a:solidFill>
                  <a:srgbClr val="ff6600"/>
                </a:solidFill>
                <a:latin typeface="Times New Roman"/>
              </a:rPr>
              <a:t>Community focused</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ional ------------------------</a:t>
            </a:r>
            <a:r>
              <a:rPr b="1" lang="en-US" sz="2400" spc="-1" strike="noStrike">
                <a:solidFill>
                  <a:srgbClr val="000000"/>
                </a:solidFill>
                <a:latin typeface="Times New Roman"/>
              </a:rPr>
              <a:t>	</a:t>
            </a:r>
            <a:r>
              <a:rPr b="1" lang="en-US" sz="2400" spc="-1" strike="noStrike">
                <a:solidFill>
                  <a:srgbClr val="ff6600"/>
                </a:solidFill>
                <a:latin typeface="Times New Roman"/>
              </a:rPr>
              <a:t>Managerial</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a:t>
            </a:r>
            <a:r>
              <a:rPr b="1" lang="en-US" sz="2400" spc="-1" strike="noStrike">
                <a:solidFill>
                  <a:srgbClr val="000000"/>
                </a:solidFill>
                <a:latin typeface="Times New Roman"/>
              </a:rPr>
              <a:t>	</a:t>
            </a:r>
            <a:r>
              <a:rPr b="1" lang="en-US" sz="2400" spc="-1" strike="noStrike">
                <a:solidFill>
                  <a:srgbClr val="ff6600"/>
                </a:solidFill>
                <a:latin typeface="Times New Roman"/>
              </a:rPr>
              <a:t>Population</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Acute --------------------------------</a:t>
            </a:r>
            <a:r>
              <a:rPr b="1" lang="en-US" sz="2400" spc="-1" strike="noStrike">
                <a:solidFill>
                  <a:srgbClr val="ccccff"/>
                </a:solidFill>
                <a:latin typeface="Times New Roman"/>
              </a:rPr>
              <a:t>	</a:t>
            </a:r>
            <a:r>
              <a:rPr b="1" lang="en-US" sz="2400" spc="-1" strike="noStrike">
                <a:solidFill>
                  <a:srgbClr val="ff6600"/>
                </a:solidFill>
                <a:latin typeface="Times New Roman"/>
              </a:rPr>
              <a:t>Chronic</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ment --------------------------</a:t>
            </a:r>
            <a:r>
              <a:rPr b="1" lang="en-US" sz="2400" spc="-1" strike="noStrike">
                <a:solidFill>
                  <a:srgbClr val="000000"/>
                </a:solidFill>
                <a:latin typeface="Times New Roman"/>
              </a:rPr>
              <a:t>	</a:t>
            </a:r>
            <a:r>
              <a:rPr b="1" lang="en-US" sz="2400" spc="-1" strike="noStrike">
                <a:solidFill>
                  <a:srgbClr val="ff6600"/>
                </a:solidFill>
                <a:latin typeface="Times New Roman"/>
              </a:rPr>
              <a:t>Management/prevention</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provider --------------</a:t>
            </a:r>
            <a:r>
              <a:rPr b="1" lang="en-US" sz="2400" spc="-1" strike="noStrike">
                <a:solidFill>
                  <a:srgbClr val="000000"/>
                </a:solidFill>
                <a:latin typeface="Times New Roman"/>
              </a:rPr>
              <a:t>	</a:t>
            </a:r>
            <a:r>
              <a:rPr b="1" lang="en-US" sz="2400" spc="-1" strike="noStrike">
                <a:solidFill>
                  <a:srgbClr val="ff6600"/>
                </a:solidFill>
                <a:latin typeface="Times New Roman"/>
              </a:rPr>
              <a:t>Team </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ition -----------------------</a:t>
            </a:r>
            <a:r>
              <a:rPr b="1" lang="en-US" sz="2400" spc="-1" strike="noStrike">
                <a:solidFill>
                  <a:srgbClr val="000000"/>
                </a:solidFill>
                <a:latin typeface="Times New Roman"/>
              </a:rPr>
              <a:t>	</a:t>
            </a:r>
            <a:r>
              <a:rPr b="1" lang="en-US" sz="2400" spc="-1" strike="noStrike">
                <a:solidFill>
                  <a:srgbClr val="ff6600"/>
                </a:solidFill>
                <a:latin typeface="Times New Roman"/>
              </a:rPr>
              <a:t>Cooperation</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Disaggregated ----------------------</a:t>
            </a:r>
            <a:r>
              <a:rPr b="1" lang="en-US" sz="2400" spc="-1" strike="noStrike">
                <a:solidFill>
                  <a:srgbClr val="000000"/>
                </a:solidFill>
                <a:latin typeface="Times New Roman"/>
              </a:rPr>
              <a:t>	</a:t>
            </a:r>
            <a:r>
              <a:rPr b="1" lang="en-US" sz="2400" spc="-1" strike="noStrike">
                <a:solidFill>
                  <a:srgbClr val="ff6600"/>
                </a:solidFill>
                <a:latin typeface="Times New Roman"/>
              </a:rPr>
              <a:t>Integrated</a:t>
            </a:r>
            <a:endParaRPr b="0" lang="en-US" sz="2400" spc="-1" strike="noStrike">
              <a:solidFill>
                <a:srgbClr val="000000"/>
              </a:solidFill>
              <a:latin typeface="Times New Roman"/>
            </a:endParaRPr>
          </a:p>
        </p:txBody>
      </p:sp>
      <p:sp>
        <p:nvSpPr>
          <p:cNvPr id="633" name=""/>
          <p:cNvSpPr/>
          <p:nvPr/>
        </p:nvSpPr>
        <p:spPr>
          <a:xfrm>
            <a:off x="608040" y="5943600"/>
            <a:ext cx="361800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ew Health Professions Commission, 1991,1993.</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9F6F874A-1AED-4940-90AB-0B3A0E2FB3D9}" type="slidenum">
              <a:t>39</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mography </a:t>
            </a:r>
            <a:r>
              <a:rPr b="1" lang="en-US" sz="4400" spc="-1" strike="noStrike">
                <a:solidFill>
                  <a:srgbClr val="000000"/>
                </a:solidFill>
                <a:latin typeface="Book Antiqua"/>
              </a:rPr>
              <a:t>―</a:t>
            </a:r>
            <a:r>
              <a:rPr b="1" lang="en-US" sz="4400" spc="-1" strike="noStrike">
                <a:solidFill>
                  <a:srgbClr val="000000"/>
                </a:solidFill>
                <a:latin typeface="Times New Roman"/>
              </a:rPr>
              <a:t> Aging</a:t>
            </a:r>
            <a:endParaRPr b="1" lang="en-US" sz="4400" spc="-1" strike="noStrike">
              <a:solidFill>
                <a:srgbClr val="000000"/>
              </a:solidFill>
              <a:latin typeface="Times New Roman"/>
            </a:endParaRPr>
          </a:p>
        </p:txBody>
      </p:sp>
      <p:sp>
        <p:nvSpPr>
          <p:cNvPr id="97" name=""/>
          <p:cNvSpPr/>
          <p:nvPr/>
        </p:nvSpPr>
        <p:spPr>
          <a:xfrm>
            <a:off x="380880" y="1143000"/>
            <a:ext cx="2971800" cy="53352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normAutofit/>
          </a:bodyPr>
          <a:p>
            <a:pPr marL="404640" indent="-404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Wingdings"/>
                <a:ea typeface="Wingdings"/>
              </a:rPr>
              <a:t></a:t>
            </a:r>
            <a:r>
              <a:rPr b="1" lang="en-US" sz="2400" spc="-1" strike="noStrike">
                <a:solidFill>
                  <a:srgbClr val="cc3300"/>
                </a:solidFill>
                <a:latin typeface="Times New Roman"/>
              </a:rPr>
              <a:t>Aging Population</a:t>
            </a:r>
            <a:endParaRPr b="0" lang="en-US" sz="2400" spc="-1" strike="noStrike">
              <a:solidFill>
                <a:srgbClr val="000000"/>
              </a:solidFill>
              <a:latin typeface="Times New Roman"/>
            </a:endParaRPr>
          </a:p>
        </p:txBody>
      </p:sp>
      <p:graphicFrame>
        <p:nvGraphicFramePr>
          <p:cNvPr id="98" name=""/>
          <p:cNvGraphicFramePr/>
          <p:nvPr/>
        </p:nvGraphicFramePr>
        <p:xfrm>
          <a:off x="0" y="1981080"/>
          <a:ext cx="6705720" cy="3657600"/>
        </p:xfrm>
        <a:graphic>
          <a:graphicData uri="http://schemas.openxmlformats.org/presentationml/2006/ole">
            <p:oleObj r:id="rId1" spid="">
              <p:embed/>
              <p:pic>
                <p:nvPicPr>
                  <p:cNvPr id="99" name="" descr=""/>
                  <p:cNvPicPr/>
                  <p:nvPr/>
                </p:nvPicPr>
                <p:blipFill>
                  <a:blip r:embed="rId2"/>
                  <a:stretch/>
                </p:blipFill>
                <p:spPr>
                  <a:xfrm>
                    <a:off x="0" y="1981080"/>
                    <a:ext cx="6705720" cy="3657600"/>
                  </a:xfrm>
                  <a:prstGeom prst="rect">
                    <a:avLst/>
                  </a:prstGeom>
                  <a:ln w="0">
                    <a:noFill/>
                  </a:ln>
                </p:spPr>
              </p:pic>
            </p:oleObj>
          </a:graphicData>
        </a:graphic>
      </p:graphicFrame>
      <p:sp>
        <p:nvSpPr>
          <p:cNvPr id="100" name=""/>
          <p:cNvSpPr/>
          <p:nvPr/>
        </p:nvSpPr>
        <p:spPr>
          <a:xfrm>
            <a:off x="533520" y="5715000"/>
            <a:ext cx="688320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National Center for Health Statistics, 1993. Hyattsville, MD: Public Health Service, 1994. US Bureau of the Census, Historical Statistics of the US , Colonial Times to 1970, Washington DC, 1975.</a:t>
            </a:r>
            <a:endParaRPr b="0" lang="en-US" sz="1000" spc="-1" strike="noStrike">
              <a:solidFill>
                <a:srgbClr val="000000"/>
              </a:solidFill>
              <a:latin typeface="Times New Roman"/>
            </a:endParaRPr>
          </a:p>
        </p:txBody>
      </p:sp>
      <p:sp>
        <p:nvSpPr>
          <p:cNvPr id="101" name=""/>
          <p:cNvSpPr/>
          <p:nvPr/>
        </p:nvSpPr>
        <p:spPr>
          <a:xfrm>
            <a:off x="6095880" y="1143000"/>
            <a:ext cx="2743200" cy="380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riple witching</a:t>
            </a:r>
            <a:endParaRPr b="0" lang="en-US" sz="2800" spc="-1" strike="noStrike">
              <a:solidFill>
                <a:srgbClr val="000000"/>
              </a:solidFill>
              <a:latin typeface="Times New Roman"/>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ing workforce</a:t>
            </a:r>
            <a:endParaRPr b="0" lang="en-US" sz="2400" spc="-1" strike="noStrike">
              <a:solidFill>
                <a:srgbClr val="000000"/>
              </a:solidFill>
              <a:latin typeface="Times New Roman"/>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wer new workers</a:t>
            </a:r>
            <a:endParaRPr b="0" lang="en-US" sz="2400" spc="-1" strike="noStrike">
              <a:solidFill>
                <a:srgbClr val="000000"/>
              </a:solidFill>
              <a:latin typeface="Times New Roman"/>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e demands and needs of an aging population</a:t>
            </a:r>
            <a:endParaRPr b="0" lang="en-US" sz="2400" spc="-1" strike="noStrike">
              <a:solidFill>
                <a:srgbClr val="000000"/>
              </a:solidFill>
              <a:latin typeface="Times New Roman"/>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But the devil is in the detail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33C0CC6-6932-4AE3-B44E-801902321EF1}" type="slidenum">
              <a:t>4</a:t>
            </a:fld>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 Need to Re-Examine </a:t>
            </a:r>
            <a:br>
              <a:rPr sz="4000"/>
            </a:br>
            <a:r>
              <a:rPr b="1" lang="en-US" sz="4000" spc="-1" strike="noStrike">
                <a:solidFill>
                  <a:srgbClr val="000000"/>
                </a:solidFill>
                <a:latin typeface="Times New Roman"/>
              </a:rPr>
              <a:t>Professional Models</a:t>
            </a:r>
            <a:endParaRPr b="1"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s of practice</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ist – generalist relationship</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 of professional governance</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ng of care services</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and specialization</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skill acquisition</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ing competence</a:t>
            </a:r>
            <a:endParaRPr b="0" lang="en-US" sz="3200" spc="-1" strike="noStrike">
              <a:solidFill>
                <a:srgbClr val="000000"/>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B2BDCB6-D8DC-4BA5-9CD9-666F8E9BA90C}" type="slidenum">
              <a:t>40</a:t>
            </a:fld>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rategy #1: Be Bold</a:t>
            </a:r>
            <a:r>
              <a:rPr b="1" lang="en-US" sz="3600" spc="-1" strike="noStrike">
                <a:solidFill>
                  <a:srgbClr val="000000"/>
                </a:solidFill>
                <a:latin typeface="Times New Roman"/>
              </a:rPr>
              <a:t> </a:t>
            </a:r>
            <a:br>
              <a:rPr sz="3600"/>
            </a:br>
            <a:r>
              <a:rPr b="1" lang="en-US" sz="3200" spc="-1" strike="noStrike">
                <a:solidFill>
                  <a:srgbClr val="000000"/>
                </a:solidFill>
                <a:latin typeface="Times New Roman"/>
              </a:rPr>
              <a:t>Make sure what you do is…</a:t>
            </a:r>
            <a:endParaRPr b="1" lang="en-US" sz="32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ational in nature, nothing else worth doing</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genda worth advancing</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n from core competencies and assets</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ed with clear and honest assessment of environment </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dequate time to develop, mature, and be realized</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context for subsequent work</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2BB76D7-226A-45E6-90DF-5892DBC8DF5A}" type="slidenum">
              <a:t>41</a:t>
            </a:fld>
          </a:p>
        </p:txBody>
      </p:sp>
    </p:spTree>
  </p:cSld>
  <p:transition>
    <p:pull dir="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37">
                                            <p:txEl>
                                              <p:pRg st="0" end="0"/>
                                            </p:txEl>
                                          </p:spTgt>
                                        </p:tgtEl>
                                        <p:attrNameLst>
                                          <p:attrName>style.visibility</p:attrName>
                                        </p:attrNameLst>
                                      </p:cBhvr>
                                      <p:to>
                                        <p:strVal val="visible"/>
                                      </p:to>
                                    </p:set>
                                    <p:anim calcmode="lin" valueType="num">
                                      <p:cBhvr additive="base">
                                        <p:cTn id="151" dur="500" fill="hold"/>
                                        <p:tgtEl>
                                          <p:spTgt spid="637">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6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37">
                                            <p:txEl>
                                              <p:pRg st="1" end="1"/>
                                            </p:txEl>
                                          </p:spTgt>
                                        </p:tgtEl>
                                        <p:attrNameLst>
                                          <p:attrName>style.visibility</p:attrName>
                                        </p:attrNameLst>
                                      </p:cBhvr>
                                      <p:to>
                                        <p:strVal val="visible"/>
                                      </p:to>
                                    </p:set>
                                    <p:anim calcmode="lin" valueType="num">
                                      <p:cBhvr additive="base">
                                        <p:cTn id="157" dur="500" fill="hold"/>
                                        <p:tgtEl>
                                          <p:spTgt spid="637">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6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37">
                                            <p:txEl>
                                              <p:pRg st="2" end="2"/>
                                            </p:txEl>
                                          </p:spTgt>
                                        </p:tgtEl>
                                        <p:attrNameLst>
                                          <p:attrName>style.visibility</p:attrName>
                                        </p:attrNameLst>
                                      </p:cBhvr>
                                      <p:to>
                                        <p:strVal val="visible"/>
                                      </p:to>
                                    </p:set>
                                    <p:anim calcmode="lin" valueType="num">
                                      <p:cBhvr additive="base">
                                        <p:cTn id="163" dur="500" fill="hold"/>
                                        <p:tgtEl>
                                          <p:spTgt spid="637">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37">
                                            <p:txEl>
                                              <p:pRg st="3" end="3"/>
                                            </p:txEl>
                                          </p:spTgt>
                                        </p:tgtEl>
                                        <p:attrNameLst>
                                          <p:attrName>style.visibility</p:attrName>
                                        </p:attrNameLst>
                                      </p:cBhvr>
                                      <p:to>
                                        <p:strVal val="visible"/>
                                      </p:to>
                                    </p:set>
                                    <p:anim calcmode="lin" valueType="num">
                                      <p:cBhvr additive="base">
                                        <p:cTn id="169" dur="500" fill="hold"/>
                                        <p:tgtEl>
                                          <p:spTgt spid="637">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6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637">
                                            <p:txEl>
                                              <p:pRg st="4" end="4"/>
                                            </p:txEl>
                                          </p:spTgt>
                                        </p:tgtEl>
                                        <p:attrNameLst>
                                          <p:attrName>style.visibility</p:attrName>
                                        </p:attrNameLst>
                                      </p:cBhvr>
                                      <p:to>
                                        <p:strVal val="visible"/>
                                      </p:to>
                                    </p:set>
                                    <p:anim calcmode="lin" valueType="num">
                                      <p:cBhvr additive="base">
                                        <p:cTn id="175" dur="500" fill="hold"/>
                                        <p:tgtEl>
                                          <p:spTgt spid="637">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637">
                                            <p:txEl>
                                              <p:pRg st="5" end="5"/>
                                            </p:txEl>
                                          </p:spTgt>
                                        </p:tgtEl>
                                        <p:attrNameLst>
                                          <p:attrName>style.visibility</p:attrName>
                                        </p:attrNameLst>
                                      </p:cBhvr>
                                      <p:to>
                                        <p:strVal val="visible"/>
                                      </p:to>
                                    </p:set>
                                    <p:anim calcmode="lin" valueType="num">
                                      <p:cBhvr additive="base">
                                        <p:cTn id="181" dur="500" fill="hold"/>
                                        <p:tgtEl>
                                          <p:spTgt spid="637">
                                            <p:txEl>
                                              <p:pRg st="5" end="5"/>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6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rategy #2: Assume Responsibility</a:t>
            </a:r>
            <a:endParaRPr b="1" lang="en-US" sz="3600" spc="-1" strike="noStrike">
              <a:solidFill>
                <a:srgbClr val="000000"/>
              </a:solidFill>
              <a:latin typeface="Times New Roman"/>
            </a:endParaRPr>
          </a:p>
        </p:txBody>
      </p:sp>
      <p:sp>
        <p:nvSpPr>
          <p:cNvPr id="63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workforce a fundamental strategic issu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 solutions with communities served</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 what exists within present system</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partnerships will be necessary and </a:t>
            </a:r>
            <a:r>
              <a:rPr b="0" i="1" lang="en-US" sz="3200" spc="-1" strike="noStrike">
                <a:solidFill>
                  <a:srgbClr val="000000"/>
                </a:solidFill>
                <a:latin typeface="Times New Roman"/>
              </a:rPr>
              <a:t>create the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49CF5E9-B5B5-4179-BDB3-E4A60A768E43}" type="slidenum">
              <a:t>42</a:t>
            </a:fld>
          </a:p>
        </p:txBody>
      </p:sp>
    </p:spTree>
  </p:cSld>
  <p:transition spd="med">
    <p:pull dir="ru"/>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39">
                                            <p:txEl>
                                              <p:pRg st="0" end="0"/>
                                            </p:txEl>
                                          </p:spTgt>
                                        </p:tgtEl>
                                        <p:attrNameLst>
                                          <p:attrName>style.visibility</p:attrName>
                                        </p:attrNameLst>
                                      </p:cBhvr>
                                      <p:to>
                                        <p:strVal val="visible"/>
                                      </p:to>
                                    </p:set>
                                    <p:anim calcmode="lin" valueType="num">
                                      <p:cBhvr additive="base">
                                        <p:cTn id="189" dur="500" fill="hold"/>
                                        <p:tgtEl>
                                          <p:spTgt spid="639">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39">
                                            <p:txEl>
                                              <p:pRg st="1" end="1"/>
                                            </p:txEl>
                                          </p:spTgt>
                                        </p:tgtEl>
                                        <p:attrNameLst>
                                          <p:attrName>style.visibility</p:attrName>
                                        </p:attrNameLst>
                                      </p:cBhvr>
                                      <p:to>
                                        <p:strVal val="visible"/>
                                      </p:to>
                                    </p:set>
                                    <p:anim calcmode="lin" valueType="num">
                                      <p:cBhvr additive="base">
                                        <p:cTn id="195" dur="5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6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639">
                                            <p:txEl>
                                              <p:pRg st="2" end="2"/>
                                            </p:txEl>
                                          </p:spTgt>
                                        </p:tgtEl>
                                        <p:attrNameLst>
                                          <p:attrName>style.visibility</p:attrName>
                                        </p:attrNameLst>
                                      </p:cBhvr>
                                      <p:to>
                                        <p:strVal val="visible"/>
                                      </p:to>
                                    </p:set>
                                    <p:anim calcmode="lin" valueType="num">
                                      <p:cBhvr additive="base">
                                        <p:cTn id="201" dur="5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6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639">
                                            <p:txEl>
                                              <p:pRg st="3" end="3"/>
                                            </p:txEl>
                                          </p:spTgt>
                                        </p:tgtEl>
                                        <p:attrNameLst>
                                          <p:attrName>style.visibility</p:attrName>
                                        </p:attrNameLst>
                                      </p:cBhvr>
                                      <p:to>
                                        <p:strVal val="visible"/>
                                      </p:to>
                                    </p:set>
                                    <p:anim calcmode="lin" valueType="num">
                                      <p:cBhvr additive="base">
                                        <p:cTn id="207" dur="5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6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rategy #3:  Foster Innovation </a:t>
            </a:r>
            <a:br>
              <a:rPr sz="3600"/>
            </a:br>
            <a:r>
              <a:rPr b="1" lang="en-US" sz="3200" spc="-1" strike="noStrike">
                <a:solidFill>
                  <a:srgbClr val="000000"/>
                </a:solidFill>
                <a:latin typeface="Times New Roman"/>
              </a:rPr>
              <a:t>Act, Evaluate, Act Again</a:t>
            </a:r>
            <a:endParaRPr b="1" lang="en-US" sz="3200" spc="-1" strike="noStrike">
              <a:solidFill>
                <a:srgbClr val="000000"/>
              </a:solidFill>
              <a:latin typeface="Times New Roman"/>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programs that can experiment and lear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large data collection, analysis, dissemination, BUT…</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wait for a complete picture to develop, it will never happe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tion is often much more efficient than research</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o calculate the cost of nonperforman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29F27A4-666E-429B-82BF-05E0DEFDF24B}" type="slidenum">
              <a:t>43</a:t>
            </a:fld>
          </a:p>
        </p:txBody>
      </p:sp>
    </p:spTree>
  </p:cSld>
  <p:transition>
    <p:pull dir="ru"/>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12">
                                  <p:stCondLst>
                                    <p:cond delay="0"/>
                                  </p:stCondLst>
                                  <p:childTnLst>
                                    <p:set>
                                      <p:cBhvr>
                                        <p:cTn id="214" dur="1" fill="hold">
                                          <p:stCondLst>
                                            <p:cond delay="0"/>
                                          </p:stCondLst>
                                        </p:cTn>
                                        <p:tgtEl>
                                          <p:spTgt spid="641">
                                            <p:txEl>
                                              <p:pRg st="0" end="0"/>
                                            </p:txEl>
                                          </p:spTgt>
                                        </p:tgtEl>
                                        <p:attrNameLst>
                                          <p:attrName>style.visibility</p:attrName>
                                        </p:attrNameLst>
                                      </p:cBhvr>
                                      <p:to>
                                        <p:strVal val="visible"/>
                                      </p:to>
                                    </p:set>
                                    <p:anim calcmode="lin" valueType="num">
                                      <p:cBhvr additive="base">
                                        <p:cTn id="215" dur="500" fill="hold"/>
                                        <p:tgtEl>
                                          <p:spTgt spid="641">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2">
                                  <p:stCondLst>
                                    <p:cond delay="0"/>
                                  </p:stCondLst>
                                  <p:childTnLst>
                                    <p:set>
                                      <p:cBhvr>
                                        <p:cTn id="220" dur="1" fill="hold">
                                          <p:stCondLst>
                                            <p:cond delay="0"/>
                                          </p:stCondLst>
                                        </p:cTn>
                                        <p:tgtEl>
                                          <p:spTgt spid="641">
                                            <p:txEl>
                                              <p:pRg st="1" end="1"/>
                                            </p:txEl>
                                          </p:spTgt>
                                        </p:tgtEl>
                                        <p:attrNameLst>
                                          <p:attrName>style.visibility</p:attrName>
                                        </p:attrNameLst>
                                      </p:cBhvr>
                                      <p:to>
                                        <p:strVal val="visible"/>
                                      </p:to>
                                    </p:set>
                                    <p:anim calcmode="lin" valueType="num">
                                      <p:cBhvr additive="base">
                                        <p:cTn id="221" dur="500" fill="hold"/>
                                        <p:tgtEl>
                                          <p:spTgt spid="641">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12">
                                  <p:stCondLst>
                                    <p:cond delay="0"/>
                                  </p:stCondLst>
                                  <p:childTnLst>
                                    <p:set>
                                      <p:cBhvr>
                                        <p:cTn id="226" dur="1" fill="hold">
                                          <p:stCondLst>
                                            <p:cond delay="0"/>
                                          </p:stCondLst>
                                        </p:cTn>
                                        <p:tgtEl>
                                          <p:spTgt spid="641">
                                            <p:txEl>
                                              <p:pRg st="2" end="2"/>
                                            </p:txEl>
                                          </p:spTgt>
                                        </p:tgtEl>
                                        <p:attrNameLst>
                                          <p:attrName>style.visibility</p:attrName>
                                        </p:attrNameLst>
                                      </p:cBhvr>
                                      <p:to>
                                        <p:strVal val="visible"/>
                                      </p:to>
                                    </p:set>
                                    <p:anim calcmode="lin" valueType="num">
                                      <p:cBhvr additive="base">
                                        <p:cTn id="227" dur="500" fill="hold"/>
                                        <p:tgtEl>
                                          <p:spTgt spid="641">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2">
                                  <p:stCondLst>
                                    <p:cond delay="0"/>
                                  </p:stCondLst>
                                  <p:childTnLst>
                                    <p:set>
                                      <p:cBhvr>
                                        <p:cTn id="232" dur="1" fill="hold">
                                          <p:stCondLst>
                                            <p:cond delay="0"/>
                                          </p:stCondLst>
                                        </p:cTn>
                                        <p:tgtEl>
                                          <p:spTgt spid="641">
                                            <p:txEl>
                                              <p:pRg st="3" end="3"/>
                                            </p:txEl>
                                          </p:spTgt>
                                        </p:tgtEl>
                                        <p:attrNameLst>
                                          <p:attrName>style.visibility</p:attrName>
                                        </p:attrNameLst>
                                      </p:cBhvr>
                                      <p:to>
                                        <p:strVal val="visible"/>
                                      </p:to>
                                    </p:set>
                                    <p:anim calcmode="lin" valueType="num">
                                      <p:cBhvr additive="base">
                                        <p:cTn id="233" dur="500" fill="hold"/>
                                        <p:tgtEl>
                                          <p:spTgt spid="641">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6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641">
                                            <p:txEl>
                                              <p:pRg st="4" end="4"/>
                                            </p:txEl>
                                          </p:spTgt>
                                        </p:tgtEl>
                                        <p:attrNameLst>
                                          <p:attrName>style.visibility</p:attrName>
                                        </p:attrNameLst>
                                      </p:cBhvr>
                                      <p:to>
                                        <p:strVal val="visible"/>
                                      </p:to>
                                    </p:set>
                                    <p:anim calcmode="lin" valueType="num">
                                      <p:cBhvr additive="base">
                                        <p:cTn id="239" dur="500" fill="hold"/>
                                        <p:tgtEl>
                                          <p:spTgt spid="641">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406440" y="228600"/>
            <a:ext cx="8356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rategy #4:  Be Jeffersonian</a:t>
            </a:r>
            <a:endParaRPr b="1" lang="en-US" sz="40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rength of the fabric of American culture is diversity and diffusion of power </a:t>
            </a:r>
            <a:r>
              <a:rPr b="0" lang="en-US" sz="2800" spc="-1" strike="noStrike">
                <a:solidFill>
                  <a:srgbClr val="000000"/>
                </a:solidFill>
                <a:latin typeface="Book Antiqua"/>
              </a:rPr>
              <a:t>―</a:t>
            </a:r>
            <a:r>
              <a:rPr b="0" lang="en-US" sz="2800" spc="-1" strike="noStrike">
                <a:solidFill>
                  <a:srgbClr val="000000"/>
                </a:solidFill>
                <a:latin typeface="Times New Roman"/>
              </a:rPr>
              <a:t> harness it</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attention to emerging local issues</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e diverse stakeholders to problem solve at local level </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 in leadership development at all levels and across professions and institution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C29DB4B-65F4-498B-9238-487D0CFBD820}" type="slidenum">
              <a:t>44</a:t>
            </a:fld>
          </a:p>
        </p:txBody>
      </p:sp>
    </p:spTree>
  </p:cSld>
  <p:transition>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trategy #5: Create Opportunity</a:t>
            </a:r>
            <a:endParaRPr b="1" lang="en-US" sz="4000" spc="-1" strike="noStrike">
              <a:solidFill>
                <a:srgbClr val="000000"/>
              </a:solidFill>
              <a:latin typeface="Times New Roman"/>
            </a:endParaRPr>
          </a:p>
        </p:txBody>
      </p:sp>
      <p:sp>
        <p:nvSpPr>
          <p:cNvPr id="646" name="PlaceHolder 2"/>
          <p:cNvSpPr>
            <a:spLocks noGrp="1"/>
          </p:cNvSpPr>
          <p:nvPr>
            <p:ph type="subTitle"/>
          </p:nvPr>
        </p:nvSpPr>
        <p:spPr>
          <a:xfrm>
            <a:off x="1143000" y="2742840"/>
            <a:ext cx="6400800" cy="10666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Economic Disparity</a:t>
            </a:r>
            <a:endParaRPr b="0" lang="en-US" sz="6000" spc="-1" strike="noStrike">
              <a:solidFill>
                <a:srgbClr val="000000"/>
              </a:solidFill>
              <a:latin typeface="Times New Roman"/>
            </a:endParaRPr>
          </a:p>
        </p:txBody>
      </p:sp>
      <p:sp>
        <p:nvSpPr>
          <p:cNvPr id="647" name=""/>
          <p:cNvSpPr/>
          <p:nvPr/>
        </p:nvSpPr>
        <p:spPr>
          <a:xfrm>
            <a:off x="991440" y="3733920"/>
            <a:ext cx="7255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haps the most important health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orkforce issue is…</a:t>
            </a:r>
            <a:endParaRPr b="0" lang="en-US" sz="4000" spc="-1" strike="noStrike">
              <a:solidFill>
                <a:srgbClr val="000000"/>
              </a:solidFill>
              <a:latin typeface="Times New Roman"/>
            </a:endParaRPr>
          </a:p>
        </p:txBody>
      </p:sp>
      <p:sp>
        <p:nvSpPr>
          <p:cNvPr id="648" name=""/>
          <p:cNvSpPr/>
          <p:nvPr/>
        </p:nvSpPr>
        <p:spPr>
          <a:xfrm>
            <a:off x="1906200" y="5029200"/>
            <a:ext cx="5027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K-12 Education</a:t>
            </a:r>
            <a:endParaRPr b="0" lang="en-US" sz="6000" spc="-1" strike="noStrike">
              <a:solidFill>
                <a:srgbClr val="000000"/>
              </a:solidFill>
              <a:latin typeface="Times New Roman"/>
            </a:endParaRPr>
          </a:p>
        </p:txBody>
      </p:sp>
      <p:sp>
        <p:nvSpPr>
          <p:cNvPr id="649" name=""/>
          <p:cNvSpPr/>
          <p:nvPr/>
        </p:nvSpPr>
        <p:spPr>
          <a:xfrm>
            <a:off x="685800" y="160020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haps the most important health issue i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CE466881-BBD0-41A0-ABBA-DC8BFF28E07A}" type="slidenum">
              <a:t>45</a:t>
            </a:fld>
          </a:p>
        </p:txBody>
      </p:sp>
    </p:spTree>
  </p:cSld>
  <p:transition>
    <p:pull dir="ru"/>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646">
                                            <p:txEl>
                                              <p:pRg st="0" end="0"/>
                                            </p:txEl>
                                          </p:spTgt>
                                        </p:tgtEl>
                                        <p:attrNameLst>
                                          <p:attrName>style.visibility</p:attrName>
                                        </p:attrNameLst>
                                      </p:cBhvr>
                                      <p:to>
                                        <p:strVal val="visible"/>
                                      </p:to>
                                    </p:set>
                                    <p:anim calcmode="lin" valueType="num">
                                      <p:cBhvr additive="base">
                                        <p:cTn id="247"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48"/>
                                        </p:tgtEl>
                                        <p:attrNameLst>
                                          <p:attrName>style.visibility</p:attrName>
                                        </p:attrNameLst>
                                      </p:cBhvr>
                                      <p:to>
                                        <p:strVal val="visible"/>
                                      </p:to>
                                    </p:set>
                                    <p:anim calcmode="lin" valueType="num">
                                      <p:cBhvr additive="base">
                                        <p:cTn id="253" dur="500" fill="hold"/>
                                        <p:tgtEl>
                                          <p:spTgt spid="648"/>
                                        </p:tgtEl>
                                        <p:attrNameLst>
                                          <p:attrName>ppt_x</p:attrName>
                                        </p:attrNameLst>
                                      </p:cBhvr>
                                      <p:tavLst>
                                        <p:tav tm="0">
                                          <p:val>
                                            <p:strVal val="#ppt_x"/>
                                          </p:val>
                                        </p:tav>
                                        <p:tav tm="100000">
                                          <p:val>
                                            <p:strVal val="#ppt_x"/>
                                          </p:val>
                                        </p:tav>
                                      </p:tavLst>
                                    </p:anim>
                                    <p:anim calcmode="lin" valueType="num">
                                      <p:cBhvr additive="base">
                                        <p:cTn id="254"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ng Shots</a:t>
            </a:r>
            <a:endParaRPr b="1" lang="en-US" sz="4000" spc="-1" strike="noStrike">
              <a:solidFill>
                <a:srgbClr val="000000"/>
              </a:solidFill>
              <a:latin typeface="Times New Roman"/>
            </a:endParaRPr>
          </a:p>
        </p:txBody>
      </p:sp>
      <p:sp>
        <p:nvSpPr>
          <p:cNvPr id="6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hange is PSYCHOLOGICAL </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hips are ABSOLUTELY necessary</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hat we NOT enfranchise the status quo </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5B9F1FA-69D7-4171-9E19-80207ABA8A1A}" type="slidenum">
              <a:t>46</a:t>
            </a:fld>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3" presetSubtype="288">
                                  <p:stCondLst>
                                    <p:cond delay="0"/>
                                  </p:stCondLst>
                                  <p:childTnLst>
                                    <p:set>
                                      <p:cBhvr>
                                        <p:cTn id="260" dur="1" fill="hold">
                                          <p:stCondLst>
                                            <p:cond delay="0"/>
                                          </p:stCondLst>
                                        </p:cTn>
                                        <p:tgtEl>
                                          <p:spTgt spid="651">
                                            <p:txEl>
                                              <p:pRg st="1" end="1"/>
                                            </p:txEl>
                                          </p:spTgt>
                                        </p:tgtEl>
                                        <p:attrNameLst>
                                          <p:attrName>style.visibility</p:attrName>
                                        </p:attrNameLst>
                                      </p:cBhvr>
                                      <p:to>
                                        <p:strVal val="visible"/>
                                      </p:to>
                                    </p:set>
                                    <p:anim calcmode="lin" valueType="num">
                                      <p:cBhvr additive="repl">
                                        <p:cTn id="261" dur="500" fill="hold"/>
                                        <p:tgtEl>
                                          <p:spTgt spid="651">
                                            <p:txEl>
                                              <p:pRg st="1" end="1"/>
                                            </p:txEl>
                                          </p:spTgt>
                                        </p:tgtEl>
                                        <p:attrNameLst>
                                          <p:attrName>ppt_w</p:attrName>
                                        </p:attrNameLst>
                                      </p:cBhvr>
                                      <p:tavLst>
                                        <p:tav tm="0">
                                          <p:val>
                                            <p:strVal val="4/3*#ppt_w"/>
                                          </p:val>
                                        </p:tav>
                                        <p:tav tm="100000">
                                          <p:val>
                                            <p:strVal val="#ppt_w"/>
                                          </p:val>
                                        </p:tav>
                                      </p:tavLst>
                                    </p:anim>
                                    <p:anim calcmode="lin" valueType="num">
                                      <p:cBhvr additive="repl">
                                        <p:cTn id="262" dur="500" fill="hold"/>
                                        <p:tgtEl>
                                          <p:spTgt spid="651">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288">
                                  <p:stCondLst>
                                    <p:cond delay="0"/>
                                  </p:stCondLst>
                                  <p:childTnLst>
                                    <p:set>
                                      <p:cBhvr>
                                        <p:cTn id="266" dur="1" fill="hold">
                                          <p:stCondLst>
                                            <p:cond delay="0"/>
                                          </p:stCondLst>
                                        </p:cTn>
                                        <p:tgtEl>
                                          <p:spTgt spid="651">
                                            <p:txEl>
                                              <p:pRg st="2" end="2"/>
                                            </p:txEl>
                                          </p:spTgt>
                                        </p:tgtEl>
                                        <p:attrNameLst>
                                          <p:attrName>style.visibility</p:attrName>
                                        </p:attrNameLst>
                                      </p:cBhvr>
                                      <p:to>
                                        <p:strVal val="visible"/>
                                      </p:to>
                                    </p:set>
                                    <p:anim calcmode="lin" valueType="num">
                                      <p:cBhvr additive="repl">
                                        <p:cTn id="267" dur="500" fill="hold"/>
                                        <p:tgtEl>
                                          <p:spTgt spid="651">
                                            <p:txEl>
                                              <p:pRg st="2" end="2"/>
                                            </p:txEl>
                                          </p:spTgt>
                                        </p:tgtEl>
                                        <p:attrNameLst>
                                          <p:attrName>ppt_w</p:attrName>
                                        </p:attrNameLst>
                                      </p:cBhvr>
                                      <p:tavLst>
                                        <p:tav tm="0">
                                          <p:val>
                                            <p:strVal val="4/3*#ppt_w"/>
                                          </p:val>
                                        </p:tav>
                                        <p:tav tm="100000">
                                          <p:val>
                                            <p:strVal val="#ppt_w"/>
                                          </p:val>
                                        </p:tav>
                                      </p:tavLst>
                                    </p:anim>
                                    <p:anim calcmode="lin" valueType="num">
                                      <p:cBhvr additive="repl">
                                        <p:cTn id="268" dur="500" fill="hold"/>
                                        <p:tgtEl>
                                          <p:spTgt spid="651">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288">
                                  <p:stCondLst>
                                    <p:cond delay="0"/>
                                  </p:stCondLst>
                                  <p:childTnLst>
                                    <p:set>
                                      <p:cBhvr>
                                        <p:cTn id="272" dur="1" fill="hold">
                                          <p:stCondLst>
                                            <p:cond delay="0"/>
                                          </p:stCondLst>
                                        </p:cTn>
                                        <p:tgtEl>
                                          <p:spTgt spid="651">
                                            <p:txEl>
                                              <p:pRg st="3" end="3"/>
                                            </p:txEl>
                                          </p:spTgt>
                                        </p:tgtEl>
                                        <p:attrNameLst>
                                          <p:attrName>style.visibility</p:attrName>
                                        </p:attrNameLst>
                                      </p:cBhvr>
                                      <p:to>
                                        <p:strVal val="visible"/>
                                      </p:to>
                                    </p:set>
                                    <p:anim calcmode="lin" valueType="num">
                                      <p:cBhvr additive="repl">
                                        <p:cTn id="273" dur="500" fill="hold"/>
                                        <p:tgtEl>
                                          <p:spTgt spid="651">
                                            <p:txEl>
                                              <p:pRg st="3" end="3"/>
                                            </p:txEl>
                                          </p:spTgt>
                                        </p:tgtEl>
                                        <p:attrNameLst>
                                          <p:attrName>ppt_w</p:attrName>
                                        </p:attrNameLst>
                                      </p:cBhvr>
                                      <p:tavLst>
                                        <p:tav tm="0">
                                          <p:val>
                                            <p:strVal val="4/3*#ppt_w"/>
                                          </p:val>
                                        </p:tav>
                                        <p:tav tm="100000">
                                          <p:val>
                                            <p:strVal val="#ppt_w"/>
                                          </p:val>
                                        </p:tav>
                                      </p:tavLst>
                                    </p:anim>
                                    <p:anim calcmode="lin" valueType="num">
                                      <p:cBhvr additive="repl">
                                        <p:cTn id="274" dur="500" fill="hold"/>
                                        <p:tgtEl>
                                          <p:spTgt spid="651">
                                            <p:txEl>
                                              <p:pRg st="3" end="3"/>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 descr=""/>
          <p:cNvPicPr/>
          <p:nvPr/>
        </p:nvPicPr>
        <p:blipFill>
          <a:blip r:embed="rId1"/>
          <a:stretch/>
        </p:blipFill>
        <p:spPr>
          <a:xfrm>
            <a:off x="0" y="0"/>
            <a:ext cx="7848720" cy="6815160"/>
          </a:xfrm>
          <a:prstGeom prst="rect">
            <a:avLst/>
          </a:prstGeom>
          <a:ln w="0">
            <a:noFill/>
          </a:ln>
        </p:spPr>
      </p:pic>
      <p:sp>
        <p:nvSpPr>
          <p:cNvPr id="653" name="PlaceHolder 1"/>
          <p:cNvSpPr>
            <a:spLocks noGrp="1"/>
          </p:cNvSpPr>
          <p:nvPr>
            <p:ph type="title"/>
          </p:nvPr>
        </p:nvSpPr>
        <p:spPr>
          <a:xfrm>
            <a:off x="914400" y="1752480"/>
            <a:ext cx="7391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er for the Health Professions,</a:t>
            </a:r>
            <a:br>
              <a:rPr sz="2400"/>
            </a:br>
            <a:r>
              <a:rPr b="1" lang="en-US" sz="2400" spc="-1" strike="noStrike">
                <a:solidFill>
                  <a:srgbClr val="000000"/>
                </a:solidFill>
                <a:latin typeface="Times New Roman"/>
              </a:rPr>
              <a:t> University of California,</a:t>
            </a:r>
            <a:br>
              <a:rPr sz="2400"/>
            </a:br>
            <a:r>
              <a:rPr b="1" lang="en-US" sz="2400" spc="-1" strike="noStrike">
                <a:solidFill>
                  <a:srgbClr val="000000"/>
                </a:solidFill>
                <a:latin typeface="Times New Roman"/>
              </a:rPr>
              <a:t> San Francisco</a:t>
            </a:r>
            <a:endParaRPr b="0" lang="en-US" sz="2400" spc="-1" strike="noStrike">
              <a:solidFill>
                <a:srgbClr val="000000"/>
              </a:solidFill>
              <a:latin typeface="Times New Roman"/>
            </a:endParaRPr>
          </a:p>
        </p:txBody>
      </p:sp>
      <p:sp>
        <p:nvSpPr>
          <p:cNvPr id="654" name="PlaceHolder 2"/>
          <p:cNvSpPr>
            <a:spLocks noGrp="1"/>
          </p:cNvSpPr>
          <p:nvPr>
            <p:ph type="subTitle"/>
          </p:nvPr>
        </p:nvSpPr>
        <p:spPr>
          <a:xfrm>
            <a:off x="914400" y="3809520"/>
            <a:ext cx="6400800" cy="175284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or more information, please contact:</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ram B. Briggance, Ph.D.</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SF Center for the Health Professions</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33 California Street, Suite 410</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n Francisco, CA 94118</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5/476-8181</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FUTUREHEALTH.UCSF.EDU</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bb@itsa.ucsf.edu</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5" name=""/>
          <p:cNvSpPr/>
          <p:nvPr/>
        </p:nvSpPr>
        <p:spPr>
          <a:xfrm>
            <a:off x="2057400" y="914400"/>
            <a:ext cx="5181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 are here to hel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graphy ― Aging</a:t>
            </a:r>
            <a:endParaRPr b="1" lang="en-US" sz="40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n demand for health car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ing cost of car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workforc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generational equity</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ven across the n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685800" y="579132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83E895ED-DFCF-4B60-853A-0B9A36189D42}"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0200" y="5943600"/>
            <a:ext cx="1902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A Dept of Finance</a:t>
            </a:r>
            <a:endParaRPr b="0" lang="en-US" sz="1000" spc="-1" strike="noStrike">
              <a:solidFill>
                <a:srgbClr val="000000"/>
              </a:solidFill>
              <a:latin typeface="Times New Roman"/>
            </a:endParaRPr>
          </a:p>
        </p:txBody>
      </p:sp>
      <p:sp>
        <p:nvSpPr>
          <p:cNvPr id="110"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mography </a:t>
            </a:r>
            <a:r>
              <a:rPr b="1" lang="en-US" sz="4400" spc="-1" strike="noStrike">
                <a:solidFill>
                  <a:srgbClr val="000000"/>
                </a:solidFill>
                <a:latin typeface="Book Antiqua"/>
              </a:rPr>
              <a:t>―</a:t>
            </a:r>
            <a:r>
              <a:rPr b="1" lang="en-US" sz="4400" spc="-1" strike="noStrike">
                <a:solidFill>
                  <a:srgbClr val="000000"/>
                </a:solidFill>
                <a:latin typeface="Times New Roman"/>
              </a:rPr>
              <a:t> Diversity</a:t>
            </a:r>
            <a:endParaRPr b="0" lang="en-US" sz="4400" spc="-1" strike="noStrike">
              <a:solidFill>
                <a:srgbClr val="000000"/>
              </a:solidFill>
              <a:latin typeface="Times New Roman"/>
            </a:endParaRPr>
          </a:p>
        </p:txBody>
      </p:sp>
      <p:sp>
        <p:nvSpPr>
          <p:cNvPr id="111" name=""/>
          <p:cNvSpPr/>
          <p:nvPr/>
        </p:nvSpPr>
        <p:spPr>
          <a:xfrm>
            <a:off x="228600" y="1676520"/>
            <a:ext cx="31240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om a majority culture...</a:t>
            </a:r>
            <a:endParaRPr b="0" lang="en-US" sz="2000" spc="-1" strike="noStrike">
              <a:solidFill>
                <a:srgbClr val="000000"/>
              </a:solidFill>
              <a:latin typeface="Times New Roman"/>
            </a:endParaRPr>
          </a:p>
        </p:txBody>
      </p:sp>
      <p:sp>
        <p:nvSpPr>
          <p:cNvPr id="112" name=""/>
          <p:cNvSpPr/>
          <p:nvPr/>
        </p:nvSpPr>
        <p:spPr>
          <a:xfrm>
            <a:off x="228600" y="2895480"/>
            <a:ext cx="31240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diversity...</a:t>
            </a:r>
            <a:endParaRPr b="0" lang="en-US" sz="2000" spc="-1" strike="noStrike">
              <a:solidFill>
                <a:srgbClr val="000000"/>
              </a:solidFill>
              <a:latin typeface="Times New Roman"/>
            </a:endParaRPr>
          </a:p>
        </p:txBody>
      </p:sp>
      <p:sp>
        <p:nvSpPr>
          <p:cNvPr id="113" name=""/>
          <p:cNvSpPr/>
          <p:nvPr/>
        </p:nvSpPr>
        <p:spPr>
          <a:xfrm>
            <a:off x="228600" y="4267080"/>
            <a:ext cx="31240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multicultural.</a:t>
            </a:r>
            <a:endParaRPr b="0" lang="en-US" sz="2000" spc="-1" strike="noStrike">
              <a:solidFill>
                <a:srgbClr val="000000"/>
              </a:solidFill>
              <a:latin typeface="Times New Roman"/>
            </a:endParaRPr>
          </a:p>
        </p:txBody>
      </p:sp>
      <p:graphicFrame>
        <p:nvGraphicFramePr>
          <p:cNvPr id="114" name=""/>
          <p:cNvGraphicFramePr/>
          <p:nvPr/>
        </p:nvGraphicFramePr>
        <p:xfrm>
          <a:off x="3222720" y="1447920"/>
          <a:ext cx="5921280" cy="4529160"/>
        </p:xfrm>
        <a:graphic>
          <a:graphicData uri="http://schemas.openxmlformats.org/presentationml/2006/ole">
            <p:oleObj r:id="rId1" spid="">
              <p:embed/>
              <p:pic>
                <p:nvPicPr>
                  <p:cNvPr id="115" name="" descr=""/>
                  <p:cNvPicPr/>
                  <p:nvPr/>
                </p:nvPicPr>
                <p:blipFill>
                  <a:blip r:embed="rId2"/>
                  <a:stretch/>
                </p:blipFill>
                <p:spPr>
                  <a:xfrm>
                    <a:off x="3222720" y="1447920"/>
                    <a:ext cx="5921280" cy="4529160"/>
                  </a:xfrm>
                  <a:prstGeom prst="rect">
                    <a:avLst/>
                  </a:prstGeom>
                  <a:ln w="0">
                    <a:noFill/>
                  </a:ln>
                </p:spPr>
              </p:pic>
            </p:oleObj>
          </a:graphicData>
        </a:graphic>
      </p:graphicFrame>
      <p:sp>
        <p:nvSpPr>
          <p:cNvPr id="2" name="PlaceHolder 1"/>
          <p:cNvSpPr>
            <a:spLocks noGrp="1"/>
          </p:cNvSpPr>
          <p:nvPr>
            <p:ph type="sldNum" idx="1"/>
          </p:nvPr>
        </p:nvSpPr>
        <p:spPr/>
        <p:txBody>
          <a:bodyPr/>
          <a:p>
            <a:fld id="{15D61077-B23D-4BB0-BF45-B9E19CF1867F}" type="slidenum">
              <a:t>6</a:t>
            </a:fld>
          </a:p>
        </p:txBody>
      </p:sp>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1"/>
                                        </p:tgtEl>
                                        <p:attrNameLst>
                                          <p:attrName>style.visibility</p:attrName>
                                        </p:attrNameLst>
                                      </p:cBhvr>
                                      <p:to>
                                        <p:strVal val="visible"/>
                                      </p:to>
                                    </p:set>
                                    <p:anim calcmode="lin" valueType="num">
                                      <p:cBhvr additive="base">
                                        <p:cTn id="15" dur="500" fill="hold"/>
                                        <p:tgtEl>
                                          <p:spTgt spid="111"/>
                                        </p:tgtEl>
                                        <p:attrNameLst>
                                          <p:attrName>ppt_x</p:attrName>
                                        </p:attrNameLst>
                                      </p:cBhvr>
                                      <p:tavLst>
                                        <p:tav tm="0">
                                          <p:val>
                                            <p:strVal val="#ppt_x"/>
                                          </p:val>
                                        </p:tav>
                                        <p:tav tm="100000">
                                          <p:val>
                                            <p:strVal val="#ppt_x"/>
                                          </p:val>
                                        </p:tav>
                                      </p:tavLst>
                                    </p:anim>
                                    <p:anim calcmode="lin" valueType="num">
                                      <p:cBhvr additive="base">
                                        <p:cTn id="1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ppt_x"/>
                                          </p:val>
                                        </p:tav>
                                        <p:tav tm="100000">
                                          <p:val>
                                            <p:strVal val="#ppt_x"/>
                                          </p:val>
                                        </p:tav>
                                      </p:tavLst>
                                    </p:anim>
                                    <p:anim calcmode="lin" valueType="num">
                                      <p:cBhvr additive="base">
                                        <p:cTn id="2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graphy </a:t>
            </a:r>
            <a:r>
              <a:rPr b="1" lang="en-US" sz="4000" spc="-1" strike="noStrike">
                <a:solidFill>
                  <a:srgbClr val="000000"/>
                </a:solidFill>
                <a:latin typeface="Book Antiqua"/>
              </a:rPr>
              <a:t>―</a:t>
            </a:r>
            <a:r>
              <a:rPr b="1" lang="en-US" sz="4000" spc="-1" strike="noStrike">
                <a:solidFill>
                  <a:srgbClr val="000000"/>
                </a:solidFill>
                <a:latin typeface="Times New Roman"/>
              </a:rPr>
              <a:t> Diversity</a:t>
            </a:r>
            <a:endParaRPr b="1" lang="en-US" sz="4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diversity to multiculturalism</a:t>
            </a:r>
            <a:endParaRPr b="0" lang="en-US" sz="2800" spc="-1" strike="noStrike">
              <a:solidFill>
                <a:srgbClr val="000000"/>
              </a:solidFill>
              <a:latin typeface="Times New Roman"/>
            </a:endParaRPr>
          </a:p>
          <a:p>
            <a:pPr lvl="1" marL="743040" indent="-285840">
              <a:lnSpc>
                <a:spcPct val="9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a:t>
            </a:r>
            <a:endParaRPr b="0" lang="en-US" sz="2400" spc="-1" strike="noStrike">
              <a:solidFill>
                <a:srgbClr val="000000"/>
              </a:solidFill>
              <a:latin typeface="Times New Roman"/>
            </a:endParaRPr>
          </a:p>
          <a:p>
            <a:pPr lvl="1" marL="743040" indent="-285840">
              <a:lnSpc>
                <a:spcPct val="9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ership</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arity in health outcom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ly competent car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ve market-consumer bia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olitics, and it won’t be what you think</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
          <p:cNvSpPr/>
          <p:nvPr/>
        </p:nvSpPr>
        <p:spPr>
          <a:xfrm>
            <a:off x="55440" y="638820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714C9DF8-6827-453D-AAE1-38AEB5BFED35}" type="slidenum">
              <a:t>7</a:t>
            </a:fld>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graphy - Distribution</a:t>
            </a:r>
            <a:endParaRPr b="1" lang="en-US" sz="4000" spc="-1" strike="noStrike">
              <a:solidFill>
                <a:srgbClr val="000000"/>
              </a:solidFill>
              <a:latin typeface="Times New Roman"/>
            </a:endParaRPr>
          </a:p>
        </p:txBody>
      </p:sp>
      <p:sp>
        <p:nvSpPr>
          <p:cNvPr id="122" name=""/>
          <p:cNvSpPr/>
          <p:nvPr/>
        </p:nvSpPr>
        <p:spPr>
          <a:xfrm>
            <a:off x="3886200" y="6477120"/>
            <a:ext cx="495288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a:t>
            </a:r>
            <a:r>
              <a:rPr b="1" lang="en-US" sz="900" spc="-1" strike="noStrike">
                <a:solidFill>
                  <a:srgbClr val="000000"/>
                </a:solidFill>
                <a:latin typeface="Times New Roman"/>
              </a:rPr>
              <a:t>US Census Bureau, Population and Change, April 2001.</a:t>
            </a:r>
            <a:endParaRPr b="0" lang="en-US" sz="900" spc="-1" strike="noStrike">
              <a:solidFill>
                <a:srgbClr val="000000"/>
              </a:solidFill>
              <a:latin typeface="Times New Roman"/>
            </a:endParaRPr>
          </a:p>
        </p:txBody>
      </p:sp>
      <p:pic>
        <p:nvPicPr>
          <p:cNvPr id="123" name="" descr=""/>
          <p:cNvPicPr/>
          <p:nvPr/>
        </p:nvPicPr>
        <p:blipFill>
          <a:blip r:embed="rId1"/>
          <a:stretch/>
        </p:blipFill>
        <p:spPr>
          <a:xfrm>
            <a:off x="1371600" y="1295280"/>
            <a:ext cx="6934320" cy="5143680"/>
          </a:xfrm>
          <a:prstGeom prst="rect">
            <a:avLst/>
          </a:prstGeom>
          <a:ln w="0">
            <a:noFill/>
          </a:ln>
        </p:spPr>
      </p:pic>
      <p:sp>
        <p:nvSpPr>
          <p:cNvPr id="124" name=""/>
          <p:cNvSpPr/>
          <p:nvPr/>
        </p:nvSpPr>
        <p:spPr>
          <a:xfrm>
            <a:off x="152280" y="2514600"/>
            <a:ext cx="1295640" cy="1797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 largest states have 54% of population. 10 smallest have less than 3%.</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84EBA0D-6110-4EC9-A150-0EE4F7AC1341}" type="slidenum">
              <a:t>8</a:t>
            </a:fld>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pidemiology</a:t>
            </a:r>
            <a:endParaRPr b="1" lang="en-US" sz="4400" spc="-1" strike="noStrike">
              <a:solidFill>
                <a:srgbClr val="000000"/>
              </a:solidFill>
              <a:latin typeface="Times New Roman"/>
            </a:endParaRPr>
          </a:p>
        </p:txBody>
      </p:sp>
      <p:graphicFrame>
        <p:nvGraphicFramePr>
          <p:cNvPr id="128" name=""/>
          <p:cNvGraphicFramePr/>
          <p:nvPr/>
        </p:nvGraphicFramePr>
        <p:xfrm>
          <a:off x="380880" y="1143000"/>
          <a:ext cx="8077320" cy="4648320"/>
        </p:xfrm>
        <a:graphic>
          <a:graphicData uri="http://schemas.openxmlformats.org/presentationml/2006/ole">
            <p:oleObj r:id="rId1" spid="">
              <p:embed/>
              <p:pic>
                <p:nvPicPr>
                  <p:cNvPr id="129" name="" descr=""/>
                  <p:cNvPicPr/>
                  <p:nvPr/>
                </p:nvPicPr>
                <p:blipFill>
                  <a:blip r:embed="rId2"/>
                  <a:stretch/>
                </p:blipFill>
                <p:spPr>
                  <a:xfrm>
                    <a:off x="380880" y="1143000"/>
                    <a:ext cx="8077320" cy="4648320"/>
                  </a:xfrm>
                  <a:prstGeom prst="rect">
                    <a:avLst/>
                  </a:prstGeom>
                  <a:ln w="0">
                    <a:noFill/>
                  </a:ln>
                </p:spPr>
              </p:pic>
            </p:oleObj>
          </a:graphicData>
        </a:graphic>
      </p:graphicFrame>
      <p:sp>
        <p:nvSpPr>
          <p:cNvPr id="130" name=""/>
          <p:cNvSpPr/>
          <p:nvPr/>
        </p:nvSpPr>
        <p:spPr>
          <a:xfrm>
            <a:off x="304920" y="5791320"/>
            <a:ext cx="688320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National Center for Health Statistics, 1993. Hyattsville, MD: Public Health Service, 1994. US Bureau of the Census, Historical Statistics of the US , Colonial Times to 1970, Washington DC, 1975.</a:t>
            </a:r>
            <a:endParaRPr b="0" lang="en-US" sz="1000" spc="-1" strike="noStrike">
              <a:solidFill>
                <a:srgbClr val="000000"/>
              </a:solidFill>
              <a:latin typeface="Times New Roman"/>
            </a:endParaRPr>
          </a:p>
        </p:txBody>
      </p:sp>
      <p:sp>
        <p:nvSpPr>
          <p:cNvPr id="131" name=""/>
          <p:cNvSpPr/>
          <p:nvPr/>
        </p:nvSpPr>
        <p:spPr>
          <a:xfrm>
            <a:off x="4724280" y="4114800"/>
            <a:ext cx="3581640" cy="4572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normAutofit/>
          </a:bodyPr>
          <a:p>
            <a:pPr marL="404640" indent="-404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Times New Roman"/>
              </a:rPr>
              <a:t>A Generation Added in a Centu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1042894-F38B-4C05-AC4A-655E36165930}" type="slidenum">
              <a:t>9</a:t>
            </a:fld>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21:36:50Z</dcterms:created>
  <dc:creator>Bram  Briggance</dc:creator>
  <dc:description/>
  <dc:language>en-US</dc:language>
  <cp:lastModifiedBy>Cheryl Bell</cp:lastModifiedBy>
  <cp:lastPrinted>2002-08-20T18:18:20Z</cp:lastPrinted>
  <dcterms:modified xsi:type="dcterms:W3CDTF">2005-03-25T14:14:54Z</dcterms:modified>
  <cp:revision>58</cp:revision>
  <dc:subject/>
  <dc:title>No Slide Title</dc:title>
</cp:coreProperties>
</file>