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1A9F-4E39-4E1C-9E91-7BA29632AE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50BC-72B8-4FAD-8ED8-FBC9B21B84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C0B4-C502-488B-940C-FD49557799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975D-02A8-4C05-A0C9-C71E603B0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65E6-20C7-45D0-806D-FBA6DDB89D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0206-9BCE-44CA-8473-C2FD11B16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9B74-1530-4BD8-8F53-6C1C88BD5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2F2E-3CEE-4DD4-8F96-05CD11242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476C-3B9D-446E-A708-48F77C0E5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3E54-2E50-4ABA-8A29-81686CD54D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1E6F-A4A8-4A1B-8172-7B080ACA44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A075-FEBD-4D95-90C2-AF33646A1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47080" indent="-33156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8908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868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5887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ncy Ridl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49B-1358-42DA-BAC3-2E82092D5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55440" algn="ctr">
              <a:spcBef>
                <a:spcPts val="601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468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7280" y="1905120"/>
            <a:ext cx="243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54104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4080" y="3657600"/>
            <a:ext cx="3886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809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ncy Ridley, M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Commissio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achusetts Department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MALLPOX:</a:t>
            </a:r>
            <a:br>
              <a:rPr sz="44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ate Planning and Implement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8564" t="0" r="16790" b="46129"/>
          <a:stretch/>
        </p:blipFill>
        <p:spPr>
          <a:xfrm>
            <a:off x="5486400" y="3581280"/>
            <a:ext cx="20574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Controversial Issu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er compensation (vaccinee, secondary conta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practice co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insurance coverage for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loug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ons (police, fire, nurse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ntroversial Issues,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cine safety (Lister v. New York Board of Health stra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of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nicipal v. private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semination of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ility of state bioterrorism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e-Event v. Post-Event Plann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Ev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deal with one suspected case of smallpox in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Ev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vaccinate the entire population within 4 days regardless of an actual smallpox case in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 Demographic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geography and high density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1 cities and towns (essentially no coun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6 acute care hospitals (with 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 Emergency Response Planning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2362320"/>
            <a:ext cx="2286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1 We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 Baystate Health Systems – Spring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 Berkshire Medical Center – Pitts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 Cooley Dickinson Hospital – Northamp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 Fairview Hospital – Great Barring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 Franklin Medical Center – Green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 Holyoke Hospital – Holyo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 Mary Lane Hospital – Wa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8 Mercy Medical Center – Spring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9 Noble Hospital – West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0 North Adams Regional – North Ada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1 Wing Memorial - Palm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114800"/>
            <a:ext cx="2452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3 Northea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3 Addison Gilbert Hospital - Glou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4 Anna Jaques Hospital - Newbury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5 Beverly Hospital - Bever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6 Cable Emergency Center - Ipswi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7 Merrimack Valley Hospital - Haverhi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8 Holy Family Hospital - Methu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9 Lahey Clinic North - Peabod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0 Lawrence General - Law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1 Lawrence Memorial - Med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2 Lowell General - Lowe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3 Melrose Wakefield - Melro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4 Saints Memorial - Lowe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5 Salem/North Shore Children’s Hospital - Sale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6 Union Hospital - Lyn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7 Whidden Memorial Hospital - Everet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4382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2 Centr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2 Athol Memorial Hospital - Ath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3 Clinton Hospital - Clin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4 Deaconess-Nashoba Hospital - Ay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5 Harrington Memorial Hospital - South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6 Health Alliance Hospital - Leomin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7 Heywood Hospital - Gardn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8 Hubbard Regional Hospital -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9 Milford-Whitinsville Hospital - Mil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0 St. Vincent Hospital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1 UMass Memorial Medical Center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2 UMass University Medical Center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038480"/>
            <a:ext cx="2362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a Metro Nor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2 Deaconess Waltham Hospital - Walt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3 Emerson Hospital - Conc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4 Lahey Clinic - Burling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5 MetroWest Medical Center - Framing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6 MetroWest Medical Center - Nati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2 Winchester Hospital - Winch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3 UMass Memorial Marlborough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Marlbo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9400" y="5257800"/>
            <a:ext cx="20919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b Metro S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8 Caritas Norwood Hospital - Norwoo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9 The Cambridge Hospital - Cam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0 Mount Auburn Hospital - Cam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1 Deaconess Glover Hospital - Need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7 Milton Hospital - Mil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8 Newton-Wellesley - New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9 Quincy Medical Center - Qui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0 Somerville Hospital - Somervil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1 South Shore Hospital – Weymouth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886200"/>
            <a:ext cx="22096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c - Bos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8 Beth Israel Deaconess Medical Center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9 Boston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0 Brigham and Women’s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1 Carney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2 Children’s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3 Faulkner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4 Massachusetts General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5 New England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6 St. Elizabeth’s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7 West Roxbury VA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315040"/>
            <a:ext cx="213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5 Southea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4 Brockton Hospital - Brock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5 Cape Cod Hospital - Barnst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6 Charlton Memorial Hospital - Fall Riv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7 Falmouth Hospital - Falm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8 Caritas Good Samaritan - Brock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9 Jordan Hospital - Plym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0 Martha’s Vineyard – Oak Bluff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1 Morton Hospital - Taun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38800" y="5410080"/>
            <a:ext cx="185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2 Nantucket Cottage - Nantuck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3 St. Anne’s Hospital - Fall Riv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4 St. Luke’s Hospital - New Bed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5 Sturdy Memorial - Attlebo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6 Tobey Hospital - Ware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2680" y="10666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8680" y="121932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4320" y="121932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4680" y="6094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3080" y="92232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676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1066680"/>
            <a:ext cx="1295280" cy="45720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1828800"/>
            <a:ext cx="1066680" cy="7632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8920" y="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s by 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33760" y="2674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553080"/>
            <a:ext cx="79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w.state.ma.us/dph/bioterrorism/advisorygrps/pdfs/hospitals_by_region_6_02_2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 Plann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wide Smallpox Work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event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1A – 7,600 hospital staf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staff X 76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1B – 2,400 community response team pers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 member teams… Medical, EMS, 1st respo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 members X 7 regions to be vaccinated to ensure 24/7 cove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2 (maybe)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A and 1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ization of 10,000 volunteer health care workers, public health workers and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ly vacc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eful screening of volunteers and household contacts for contra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follow-up for advers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urlough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A and 1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public health response team (DPH staf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disciplinary teams at 76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regional response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Health 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ing Nurse 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assachusett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assachusett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69480" y="236232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cination of DPH staff began February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A vaccination (hospit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-12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B vaccination (response te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weeks – completion (&lt;6 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ccination Proces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pital Response Tea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PH vaccinates 10 core state public health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 additional DPH staff, plus Boston and Cambridge health department staff vacc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vaccine “takes” confirmed (~ March 1), these 60 vaccinees will begin vaccinating the “vaccinators” in each of the 76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Response Tea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or operated vaccination cli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Phase 2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ual vaccin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workers and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achusetts estimate = approximately 120,00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fficial announcement from Federal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be based on lessons learned from Phas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6:48:15Z</dcterms:created>
  <dc:creator/>
  <dc:description/>
  <dc:language>en-US</dc:language>
  <cp:lastModifiedBy>CBell</cp:lastModifiedBy>
  <cp:lastPrinted>2003-02-12T23:38:14Z</cp:lastPrinted>
  <dcterms:modified xsi:type="dcterms:W3CDTF">2003-02-14T13:34:05Z</dcterms:modified>
  <cp:revision>125</cp:revision>
  <dc:subject/>
  <dc:title>Medical Error Coalition: A Look Back</dc:title>
</cp:coreProperties>
</file>