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35EA3-D75C-4930-8264-05CBBA26A2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2DC26-A07F-4F0C-ADC2-96FF54EC19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CFA4A-B6EC-4C77-BD10-CB60196FA2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FC9C9-E568-4967-BBA4-880E0C444C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04F00-57CD-4CB8-8557-AC4A2CD3A2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CC60B-B61C-4AF4-8771-98466BA640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7B1EA-7FA6-4AD7-8A31-CF23D6A670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BA175-1850-4610-92FF-86A8E3DC24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5EA32-106D-45DF-8BAF-268D1FA4C4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BBB93-622F-498D-8818-00E2A60E1C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CA7D3-85DD-4B53-BE3E-FD6061AFAD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EA2C6-98A4-4F51-9B3E-6D7AFC41FD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02120" indent="-40212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47080" indent="-331560">
              <a:spcBef>
                <a:spcPts val="799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9200" indent="-289080">
              <a:spcBef>
                <a:spcPts val="799"/>
              </a:spcBef>
              <a:buClr>
                <a:srgbClr val="ffffff"/>
              </a:buClr>
              <a:buSzPct val="9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8680" indent="-22608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58878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ncy Ridle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2"/>
          </p:nvPr>
        </p:nvSpPr>
        <p:spPr>
          <a:xfrm>
            <a:off x="609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9628-90D7-4F06-AA85-9A2844A2B5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55440" algn="ctr">
              <a:spcBef>
                <a:spcPts val="601"/>
              </a:spcBef>
              <a:buClr>
                <a:srgbClr val="ffffff"/>
              </a:buClr>
              <a:buSzPct val="9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468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97280" y="1905120"/>
            <a:ext cx="243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541044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94080" y="3657600"/>
            <a:ext cx="38862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38098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ncy Ridley, M.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stant Commissio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sachusetts Department of Public 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MALLPOX:</a:t>
            </a:r>
            <a:br>
              <a:rPr sz="4400"/>
            </a:b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tate Planning and Implementat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28564" t="0" r="16790" b="46129"/>
          <a:stretch/>
        </p:blipFill>
        <p:spPr>
          <a:xfrm>
            <a:off x="5486400" y="3581280"/>
            <a:ext cx="20574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mallpox: Controversial Issu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abil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er compensation (vaccinee, secondary contac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practice cove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th insurance coverage for side eff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rloug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ons (police, fire, nurses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ontroversial Issues, cont.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ccine safety (Lister v. New York Board of Health strai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fety of nee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nicipal v. private first respon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semination of training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tainability of state bioterrorism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re-Event v. Post-Event Plann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Even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3516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to deal with one suspected case of smallpox in Massachuse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-Event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3516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to vaccinate the entire population within 4 days regardless of an actual smallpox case in Massachuse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Massachusetts Demographic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geography and high density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5 million resi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1 cities and towns (essentially no counti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6 acute care hospitals (with 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 Emergency Response Planning Reg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534520" cy="457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2362320"/>
            <a:ext cx="228600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1 Wes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1 Baystate Health Systems – Springfiel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2 Berkshire Medical Center – Pittsfiel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3 Cooley Dickinson Hospital – Northampt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4 Fairview Hospital – Great Barringt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5 Franklin Medical Center – Greenfiel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6 Holyoke Hospital – Holyok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7 Mary Lane Hospital – War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8 Mercy Medical Center – Springfiel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9 Noble Hospital – Westfiel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10 North Adams Regional – North Adam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11 Wing Memorial - Palm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4114800"/>
            <a:ext cx="24526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3 Northeas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23 Addison Gilbert Hospital - Gloucest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24 Anna Jaques Hospital - Newburypor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25 Beverly Hospital - Bever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26 Cable Emergency Center - Ipswic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27 Merrimack Valley Hospital - Haverhil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28 Holy Family Hospital - Methue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29 Lahey Clinic North - Peabod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30 Lawrence General - Law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31 Lawrence Memorial - Medfor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32 Lowell General - Lowel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33 Melrose Wakefield - Melros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34 Saints Memorial - Lowel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35 Salem/North Shore Children’s Hospital - Sale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36 Union Hospital - Lyn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37 Whidden Memorial Hospital - Everet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243828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2 Centr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12 Athol Memorial Hospital - Atho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13 Clinton Hospital - Clint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14 Deaconess-Nashoba Hospital - Ay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15 Harrington Memorial Hospital - Southbridg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16 Health Alliance Hospital - Leominst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17 Heywood Hospital - Gardn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18 Hubbard Regional Hospital -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19 Milford-Whitinsville Hospital - Milfor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20 St. Vincent Hospital - Worcest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21 UMass Memorial Medical Center - Worcest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22 UMass University Medical Center - Worcest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4038480"/>
            <a:ext cx="2362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4a Metro Nort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52 Deaconess Waltham Hospital - Waltha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53 Emerson Hospital - Concor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54 Lahey Clinic - Burlingt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55 MetroWest Medical Center - Framingha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56 MetroWest Medical Center - Natick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62 Winchester Hospital - Winchest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63 UMass Memorial Marlborough Hospit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Marlboroug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9400" y="5257800"/>
            <a:ext cx="209196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4b Metro Sout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48 Caritas Norwood Hospital - Norwoo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49 The Cambridge Hospital - Cambridg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50 Mount Auburn Hospital - Cambridg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51 Deaconess Glover Hospital - Needha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57 Milton Hospital - Milt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58 Newton-Wellesley - Newt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59 Quincy Medical Center - Quinc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60 Somerville Hospital - Somervill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61 South Shore Hospital – Weymouth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3886200"/>
            <a:ext cx="220968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4c - Bost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38 Beth Israel Deaconess Medical Center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39 Boston Medical Cent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40 Brigham and Women’s Hospit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41 Carney Hospital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42 Children’s Hospital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43 Faulkner Hospit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44 Massachusetts General Hospit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45 New England Medical Cent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46 St. Elizabeth’s Medical Cent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47 West Roxbury VA Hospital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5315040"/>
            <a:ext cx="2133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5 Southeas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64 Brockton Hospital - Brockt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65 Cape Cod Hospital - Barnstabl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66 Charlton Memorial Hospital - Fall Riv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67 Falmouth Hospital - Falmout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68 Caritas Good Samaritan - Brockt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69 Jordan Hospital - Plymout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70 Martha’s Vineyard – Oak Bluff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71 Morton Hospital - Taunt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38800" y="5410080"/>
            <a:ext cx="185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72 Nantucket Cottage - Nantucke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73 St. Anne’s Hospital - Fall Riv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74 St. Luke’s Hospital - New Bedfor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75 Sturdy Memorial - Attleboroug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00"/>
                </a:solidFill>
                <a:latin typeface="Arial"/>
              </a:rPr>
              <a:t>76 Tobey Hospital - Wareha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2680" y="1066680"/>
            <a:ext cx="6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8680" y="1219320"/>
            <a:ext cx="6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4320" y="1219320"/>
            <a:ext cx="66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4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44680" y="609480"/>
            <a:ext cx="6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53080" y="922320"/>
            <a:ext cx="668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4c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72400" y="167652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4b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248520" y="1066680"/>
            <a:ext cx="1295280" cy="457200"/>
          </a:xfrm>
          <a:prstGeom prst="line">
            <a:avLst/>
          </a:prstGeom>
          <a:ln w="93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705720" y="1828800"/>
            <a:ext cx="1066680" cy="76320"/>
          </a:xfrm>
          <a:prstGeom prst="line">
            <a:avLst/>
          </a:prstGeom>
          <a:ln w="93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8920" y="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Hospitals by Reg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33760" y="2674800"/>
            <a:ext cx="61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"/>
              </a:rPr>
              <a:t>Region 5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6553080"/>
            <a:ext cx="795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ww.state.ma.us/dph/bioterrorism/advisorygrps/pdfs/hospitals_by_region_6_02_2.pd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mallpox Planning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Massachuset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wide Smallpox Work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event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35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se 1A – 7,600 hospital staf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92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00 staff X 76 hospit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35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se 1B – 2,400 community response team person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92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 member teams… Medical, EMS, 1st respon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92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50 members X 7 regions to be vaccinated to ensure 24/7 cover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35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se 2 (maybe)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mallpox: Pre-Event Planning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Massachuset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1A and 1B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munization of 10,000 volunteer health care workers, public health workers and first respon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517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iously vaccin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517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eful screening of volunteers and household contacts for contraind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517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sive follow-up for adverse 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517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furlough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 1A and 1B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public health response team (DPH staf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disciplinary teams at 76 hospita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 regional response te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576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pacity buil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21240" indent="-43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Health nur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21240" indent="-43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ool nur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21240" indent="-43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iting Nurse Associ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Smallpox: Pre-Event Planning</a:t>
            </a:r>
            <a:br>
              <a:rPr sz="4800"/>
            </a:b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Massachusetts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(cont.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Smallpox: Pre-Event Planning</a:t>
            </a:r>
            <a:br>
              <a:rPr sz="4800"/>
            </a:b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Massachusetts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(cont.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69480" y="2362320"/>
            <a:ext cx="7412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ccination of DPH staff began February 1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1A vaccination (hospita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3516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-12 wee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ase 1B vaccination (response team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3516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 weeks – completion (&lt;6 month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Vaccination Proces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spital Response Tea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35160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PH vaccinates 10 core state public health sta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35160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 additional DPH staff, plus Boston and Cambridge health department staff vaccin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35160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vaccine “takes” confirmed (~ March 1), these 60 vaccinees will begin vaccinating the “vaccinators” in each of the 76 hospi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-4064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ty Response Tea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35160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dor operated vaccination clin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06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Smallpox: Phase 2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85920" indent="-38592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ntual vaccination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th care workers and first respon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achusetts estimate = approximately 120,000 individ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official announcement from Federal 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be based on lessons learned from Phase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16:48:15Z</dcterms:created>
  <dc:creator/>
  <dc:description/>
  <dc:language>en-US</dc:language>
  <cp:lastModifiedBy>CBell</cp:lastModifiedBy>
  <cp:lastPrinted>2003-02-12T23:38:14Z</cp:lastPrinted>
  <dcterms:modified xsi:type="dcterms:W3CDTF">2003-02-14T13:34:05Z</dcterms:modified>
  <cp:revision>125</cp:revision>
  <dc:subject/>
  <dc:title>Medical Error Coalition: A Look Back</dc:title>
</cp:coreProperties>
</file>