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C76-7834-4692-B5F0-3D8BDDCF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5CE-AF93-44E5-B7C5-E45A9805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07A-1E94-4F4B-81CD-8AC6DF51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262-1099-4366-AF1E-200B77EB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A433-B527-492F-9158-DCED45C3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9300-67CD-42D4-A194-AD7C4095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2C1E-3689-44F2-A535-C7E03907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47E3-2395-4843-A712-05B93925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D8E7-8C78-4B8C-9240-40EA984E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6212-97FC-44ED-A5B3-101092B1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3CD1-7556-4A5E-B170-7E71EB58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977-393E-43BA-B370-7A883B2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650D-058C-41D7-A41A-ADE9072E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A2D1-6B93-4FE0-A164-739095C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B056-29FB-4741-84DF-CDC8665C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05C7-62E8-46AB-BD29-7233ADC5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42B4-2FF7-45CB-8D49-1CBC8F15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C8F-CBA8-43AA-91C1-E1F4F5CE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D39-D4D7-41DC-9310-CFD0B078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92C-42BB-4F81-80E5-825B6FD1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298-EAEF-4B18-8FFD-73E983A6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5F4-162F-4F11-8C3A-32827ABA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D06-4E16-44F2-8431-27D55FFC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CF7-962A-43ED-A03D-00655BF3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Bookman"/>
              </a:rPr>
              <a:t>Click to edit the title text format</a:t>
            </a: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72AF-3EB9-42C7-8C71-AE0298F4B9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Bookman"/>
              </a:rPr>
              <a:t>Click to edit the title text format</a:t>
            </a:r>
            <a:endParaRPr b="1" lang="en-US" sz="48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B7FB-AED1-45EC-B503-AB19495C65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Bookman"/>
              </a:rPr>
              <a:t>Smallpox Vaccination Campaign: A Federal Perspective</a:t>
            </a:r>
            <a:endParaRPr b="1" lang="en-US" sz="44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9000" y="4101840"/>
            <a:ext cx="4854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lliam Raub, Ph.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uty Assistant Secret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fice of Public Health Emergency Prepare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ment of Health and Human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12724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Bookman"/>
              </a:rPr>
              <a:t>SMALLPOX: THE #1 BIO-THREAT</a:t>
            </a:r>
            <a:endParaRPr b="1" lang="en-US" sz="38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leth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ily communi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people have effectiv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stablished trea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enemies believed to have variola vir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Bookman"/>
              </a:rPr>
              <a:t>SCOPE OF CURRENT SMALLPOX VACCINATION CAMPAIGN</a:t>
            </a:r>
            <a:endParaRPr b="1" lang="en-US" sz="34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is entirely volunt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ge 1 – Epidemiological response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ge 2 – Other health care workers; public safety 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ge 3 – Private citizens who “insi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Bookman"/>
              </a:rPr>
              <a:t>RATIONALE FOR CURRENT APPROACH</a:t>
            </a:r>
            <a:endParaRPr b="1" lang="en-US" sz="38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ccine highly effective but can provoke serious adverse eff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er vaccination opportunity to those with highest occupational r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prepared to vaccinate widely in response to actual smallpox outbre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Bookman"/>
              </a:rPr>
              <a:t>MAJOR ISSUES ASSOCIATED WITH VACCINATION PROGRAM</a:t>
            </a:r>
            <a:endParaRPr b="1" lang="en-US" sz="34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stics and costs of Stage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of guaranteed compensation for vaccine-related inju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6:30:36Z</dcterms:created>
  <dc:creator>CBell</dc:creator>
  <dc:description/>
  <dc:language>en-US</dc:language>
  <cp:lastModifiedBy>Mike Hess</cp:lastModifiedBy>
  <dcterms:modified xsi:type="dcterms:W3CDTF">2003-02-21T19:36:10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57619751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smallpox Web-assisted teleconference</vt:lpwstr>
  </property>
  <property fmtid="{D5CDD505-2E9C-101B-9397-08002B2CF9AE}" pid="6" name="_PreviousAdHocReviewCycleID">
    <vt:r8>438793339</vt:r8>
  </property>
</Properties>
</file>