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1370-5566-4A6F-8617-18179911E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330033"/>
              </a:solidFill>
              <a:latin typeface="Book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3E17-A72E-49DA-9792-732A04AF8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330033"/>
              </a:solidFill>
              <a:latin typeface="Book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5FAD-CFE2-4BE8-B3EA-8553DDF77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330033"/>
              </a:solidFill>
              <a:latin typeface="Book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5701-EB7D-4D89-8838-1A46D9477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AC4F3-D47E-439D-9C26-6BD7A363E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330033"/>
              </a:solidFill>
              <a:latin typeface="Book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44102-FD30-4FA6-854F-EC1BA5CB2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330033"/>
              </a:solidFill>
              <a:latin typeface="Book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9A0D3-9D09-4B92-9FE8-692F8F1AC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330033"/>
              </a:solidFill>
              <a:latin typeface="Book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882F3-93AB-4E79-AAFE-8760FB5F3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330033"/>
              </a:solidFill>
              <a:latin typeface="Book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729EE-0251-446B-BA0A-86A66B3E6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E71E8-01D7-461F-90B2-E7B816B1B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330033"/>
              </a:solidFill>
              <a:latin typeface="Book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46168-71C0-480C-8CC9-3B79C19E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330033"/>
              </a:solidFill>
              <a:latin typeface="Book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1D76-B394-4166-BD3D-287ED7A53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330033"/>
              </a:solidFill>
              <a:latin typeface="Book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79458-4435-40C8-9053-233CF18C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330033"/>
              </a:solidFill>
              <a:latin typeface="Book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40F35-E9E7-47A4-94E9-15995F53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330033"/>
              </a:solidFill>
              <a:latin typeface="Book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E654D-CCCE-4063-A61F-2CE6ECEDC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330033"/>
              </a:solidFill>
              <a:latin typeface="Book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85BC0-6C89-404A-902A-1D7FDF8D7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330033"/>
              </a:solidFill>
              <a:latin typeface="Book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5266C-769B-4290-9F9E-9925995F3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330033"/>
              </a:solidFill>
              <a:latin typeface="Book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FBB6-87F6-4DB0-90B2-C53F2C28D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330033"/>
              </a:solidFill>
              <a:latin typeface="Book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34A7-E1F9-434D-93F0-BA6C3F543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330033"/>
              </a:solidFill>
              <a:latin typeface="Book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F245-0FE5-41A8-B8F8-B9FCA4F53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A989-0307-4586-9DAD-D5612DA93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330033"/>
              </a:solidFill>
              <a:latin typeface="Book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DEA6-5243-477C-BF0C-328AF3D6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330033"/>
              </a:solidFill>
              <a:latin typeface="Book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BF0C-259A-4852-B0FD-86F3AD02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330033"/>
              </a:solidFill>
              <a:latin typeface="Book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7B4E-ACBB-4795-8C67-50033B5A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Bookman"/>
              </a:rPr>
              <a:t>Click to edit the title text format</a:t>
            </a:r>
            <a:endParaRPr b="1" lang="en-US" sz="4200" spc="-1" strike="noStrike">
              <a:solidFill>
                <a:srgbClr val="330033"/>
              </a:solidFill>
              <a:latin typeface="Book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DC867-DFB4-4B70-9D21-54385C6A137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Bookman"/>
              </a:rPr>
              <a:t>Click to edit the title text format</a:t>
            </a:r>
            <a:endParaRPr b="1" lang="en-US" sz="4800" spc="-1" strike="noStrike">
              <a:solidFill>
                <a:srgbClr val="330033"/>
              </a:solidFill>
              <a:latin typeface="Book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E5A3E-F838-46C9-BDC8-8236D4F6F36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33"/>
                </a:solidFill>
                <a:latin typeface="Bookman"/>
              </a:rPr>
              <a:t>Smallpox Vaccination Campaign: A Federal Perspective</a:t>
            </a:r>
            <a:endParaRPr b="1" lang="en-US" sz="4400" spc="-1" strike="noStrike">
              <a:solidFill>
                <a:srgbClr val="330033"/>
              </a:solidFill>
              <a:latin typeface="Book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49000" y="4101840"/>
            <a:ext cx="4854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lliam Raub, Ph.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puty Assistant Secreta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fice of Public Health Emergency Preparedn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partment of Health and Human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324480" y="3581280"/>
            <a:ext cx="2127240" cy="26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Bookman"/>
              </a:rPr>
              <a:t>SMALLPOX: THE #1 BIO-THREAT</a:t>
            </a:r>
            <a:endParaRPr b="1" lang="en-US" sz="3800" spc="-1" strike="noStrike">
              <a:solidFill>
                <a:srgbClr val="330033"/>
              </a:solidFill>
              <a:latin typeface="Book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ly leth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ily communi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people have effectiv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stablished treat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enemies believed to have variola vir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0033"/>
                </a:solidFill>
                <a:latin typeface="Bookman"/>
              </a:rPr>
              <a:t>SCOPE OF CURRENT SMALLPOX VACCINATION CAMPAIGN</a:t>
            </a:r>
            <a:endParaRPr b="1" lang="en-US" sz="3400" spc="-1" strike="noStrike">
              <a:solidFill>
                <a:srgbClr val="330033"/>
              </a:solidFill>
              <a:latin typeface="Book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 is entirely voluntar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ge 1 – Epidemiological response t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ge 2 – Other health care workers; public safety perso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ge 3 – Private citizens who “insist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Bookman"/>
              </a:rPr>
              <a:t>RATIONALE FOR CURRENT APPROACH</a:t>
            </a:r>
            <a:endParaRPr b="1" lang="en-US" sz="3800" spc="-1" strike="noStrike">
              <a:solidFill>
                <a:srgbClr val="330033"/>
              </a:solidFill>
              <a:latin typeface="Book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ccine highly effective but can provoke serious adverse eff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fer vaccination opportunity to those with highest occupational ri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prepared to vaccinate widely in response to actual smallpox outbrea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0033"/>
                </a:solidFill>
                <a:latin typeface="Bookman"/>
              </a:rPr>
              <a:t>MAJOR ISSUES ASSOCIATED WITH VACCINATION PROGRAM</a:t>
            </a:r>
            <a:endParaRPr b="1" lang="en-US" sz="3400" spc="-1" strike="noStrike">
              <a:solidFill>
                <a:srgbClr val="330033"/>
              </a:solidFill>
              <a:latin typeface="Book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stics and costs of Stage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ence of guaranteed compensation for vaccine-related inju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2T16:30:36Z</dcterms:created>
  <dc:creator>CBell</dc:creator>
  <dc:description/>
  <dc:language>en-US</dc:language>
  <cp:lastModifiedBy>Mike Hess</cp:lastModifiedBy>
  <dcterms:modified xsi:type="dcterms:W3CDTF">2003-02-21T19:36:10Z</dcterms:modified>
  <cp:revision>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57619751</vt:r8>
  </property>
  <property fmtid="{D5CDD505-2E9C-101B-9397-08002B2CF9AE}" pid="3" name="_AuthorEmail">
    <vt:lpwstr>JRuhl@ahrq.gov</vt:lpwstr>
  </property>
  <property fmtid="{D5CDD505-2E9C-101B-9397-08002B2CF9AE}" pid="4" name="_AuthorEmailDisplayName">
    <vt:lpwstr>Ruhl, Jessica</vt:lpwstr>
  </property>
  <property fmtid="{D5CDD505-2E9C-101B-9397-08002B2CF9AE}" pid="5" name="_EmailSubject">
    <vt:lpwstr>ULP smallpox Web-assisted teleconference</vt:lpwstr>
  </property>
  <property fmtid="{D5CDD505-2E9C-101B-9397-08002B2CF9AE}" pid="6" name="_PreviousAdHocReviewCycleID">
    <vt:r8>438793339</vt:r8>
  </property>
</Properties>
</file>