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0132-CE5B-4751-AFF3-3E439C2A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deling terms, a steady-state will eventually develop in a system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D7FB-B4B7-454C-AE25-F18F5CC2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4308-E17E-4EC2-B3A1-036F9677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45DA-85A3-4866-9CA7-7927CB35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7A6C-F681-46AF-995A-706FF4BA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C737-87D4-4168-9842-B5C9D144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E7F-4F93-48FF-A017-D0CEA07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0978-A5F5-49F5-9596-A7E86BFC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6609-D2A3-4EBA-85E8-2D57BFF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D13F-6EE7-4208-9C10-54833C66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0BC-8DE0-469D-B759-C6A5A93D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D6B8-5340-4D44-A835-D54EDF6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19F6-31B4-441A-86A6-834A4BD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008-4913-43E4-AE98-E63D260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F6D4-EE6F-49CE-B5E2-D779B17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29EA-89EA-44D2-B3A1-DDC21CBA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DF64-4813-4FD4-8E67-BF9C3A2E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544-9031-4597-95E4-6236ED03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241E-72DE-4ABB-84C1-FC4ECB0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FB47-19AF-4271-B076-70689556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4B75-A484-41B6-80F2-AA694CF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8FAD-FFDA-4606-AD9F-8F07EAD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DF84-E92A-4AC9-BCCD-FDBC1C1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3A93-35D6-476B-B405-EC3BB73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128E-60C4-4248-B307-891FE250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91A-74C0-46E9-BA56-22C162603F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DC7-DA81-4FD7-9808-985CBF543E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omputer-Aided Desig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6172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haniel Hupert, M.D., M.P.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stant Professor of Public Health and Medi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ion of Outcomes and Effectiveness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ill Medical College of Cornell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781680" y="2666880"/>
            <a:ext cx="2027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7" name="" descr=""/>
          <p:cNvPicPr/>
          <p:nvPr/>
        </p:nvPicPr>
        <p:blipFill>
          <a:blip r:embed="rId1">
            <a:lum contrast="6000"/>
          </a:blip>
          <a:srcRect l="20315" t="18819" r="14844" b="8063"/>
          <a:stretch/>
        </p:blipFill>
        <p:spPr>
          <a:xfrm>
            <a:off x="2590920" y="533520"/>
            <a:ext cx="6324480" cy="5333760"/>
          </a:xfrm>
          <a:prstGeom prst="rect">
            <a:avLst/>
          </a:prstGeom>
          <a:ln w="0">
            <a:noFill/>
          </a:ln>
        </p:spPr>
      </p:pic>
      <p:sp>
        <p:nvSpPr>
          <p:cNvPr id="2018" name=""/>
          <p:cNvSpPr/>
          <p:nvPr/>
        </p:nvSpPr>
        <p:spPr>
          <a:xfrm>
            <a:off x="304920" y="533520"/>
            <a:ext cx="2057400" cy="1828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AMPLE OUTPUT OF WEILL/CORNELL SMALLPOX VACCINATIO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9" name="" descr=""/>
          <p:cNvPicPr/>
          <p:nvPr/>
        </p:nvPicPr>
        <p:blipFill>
          <a:blip r:embed="rId1">
            <a:lum contrast="6000"/>
          </a:blip>
          <a:srcRect l="19532" t="18819" r="14065" b="4837"/>
          <a:stretch/>
        </p:blipFill>
        <p:spPr>
          <a:xfrm>
            <a:off x="2438280" y="457200"/>
            <a:ext cx="6477120" cy="5410080"/>
          </a:xfrm>
          <a:prstGeom prst="rect">
            <a:avLst/>
          </a:prstGeom>
          <a:ln w="0">
            <a:noFill/>
          </a:ln>
        </p:spPr>
      </p:pic>
      <p:sp>
        <p:nvSpPr>
          <p:cNvPr id="2020" name=""/>
          <p:cNvSpPr/>
          <p:nvPr/>
        </p:nvSpPr>
        <p:spPr>
          <a:xfrm>
            <a:off x="228600" y="533520"/>
            <a:ext cx="2057400" cy="1828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AMPLE OUTPUT OF WEILL/CORNELL SMALLPOX VACCINATIO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1" name=""/>
          <p:cNvGrpSpPr/>
          <p:nvPr/>
        </p:nvGrpSpPr>
        <p:grpSpPr>
          <a:xfrm>
            <a:off x="76320" y="228600"/>
            <a:ext cx="8838720" cy="6019560"/>
            <a:chOff x="76320" y="228600"/>
            <a:chExt cx="8838720" cy="6019560"/>
          </a:xfrm>
        </p:grpSpPr>
        <p:graphicFrame>
          <p:nvGraphicFramePr>
            <p:cNvPr id="2022" name=""/>
            <p:cNvGraphicFramePr/>
            <p:nvPr/>
          </p:nvGraphicFramePr>
          <p:xfrm>
            <a:off x="232560" y="228600"/>
            <a:ext cx="8682480" cy="6019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2560" y="228600"/>
                      <a:ext cx="8682480" cy="6019560"/>
                    </a:xfrm>
                    <a:prstGeom prst="rect">
                      <a:avLst/>
                    </a:prstGeom>
                    <a:ln w="9360">
                      <a:solidFill>
                        <a:srgbClr val="6666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24" name=""/>
            <p:cNvSpPr/>
            <p:nvPr/>
          </p:nvSpPr>
          <p:spPr>
            <a:xfrm>
              <a:off x="1171080" y="4713840"/>
              <a:ext cx="6101280" cy="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780120" y="4713840"/>
              <a:ext cx="390960" cy="83520"/>
            </a:xfrm>
            <a:prstGeom prst="line">
              <a:avLst/>
            </a:prstGeom>
            <a:ln w="9360">
              <a:solidFill>
                <a:srgbClr val="5b5b8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6320" y="4797360"/>
              <a:ext cx="703800" cy="2764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5b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 D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7" name=""/>
          <p:cNvGraphicFramePr/>
          <p:nvPr/>
        </p:nvGraphicFramePr>
        <p:xfrm>
          <a:off x="457200" y="228600"/>
          <a:ext cx="83818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381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of any model depends on the quality of the underlying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times are critical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is desig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fferently designed vaccination center may give a different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scalable centers with externally controlled patient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le but requires law enforcement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numbers reflect only critical dispensing staff and do not include support staff for the centers or distribution and logistics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heet modeling allows planners to “think with numbers” when designing mass prophylaxis response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forces critical examination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sumptions about vaccination center layout and process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vailability of resour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estimates are useful data to guide planning but do not replace the real thing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, REALISTIC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Investiga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son Cuomo, M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A. Callahan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vin I. Mushlin, MD, S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C Office of Emergenc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ward Gabriel, MPA, AEMT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 Benson, AEMT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ta Sher, 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DHHS, Office of the Asst. Sec’y for Public Health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t. Ann Knebel, RN, DNS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C Dept. of Health, Communicable Disease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i Layton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 Blank, MD, MP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 Presbyterian Healthcar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ot Lazar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hur Klein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l Flomenbaum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000" y="383760"/>
            <a:ext cx="7624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uiding 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53840" y="1833480"/>
            <a:ext cx="785628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ritical components of a mass vaccination campaig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 can spreadsheet models play in forecasting resource requirements for mass vaccination campaig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limitations of computer modeling in developing mass vaccination pl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892080"/>
          <a:ext cx="914400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2080"/>
                    <a:ext cx="914400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omponents of Mass Prophylaxis Plan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5783400"/>
            <a:ext cx="4330800" cy="886680"/>
          </a:xfrm>
          <a:prstGeom prst="rect">
            <a:avLst/>
          </a:prstGeom>
          <a:noFill/>
          <a:ln w="9360">
            <a:solidFill>
              <a:srgbClr val="5b5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b5b89"/>
                </a:solidFill>
                <a:latin typeface="Arial"/>
              </a:rPr>
              <a:t>Created by the Department of Public Health, Weill Medical College of Cornell University, NYCOEM, and </a:t>
            </a: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NYCDOHM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1520" y="2600280"/>
            <a:ext cx="1523880" cy="1517760"/>
          </a:xfrm>
          <a:custGeom>
            <a:avLst/>
            <a:gdLst/>
            <a:ahLst/>
            <a:rect l="l" t="t" r="r" b="b"/>
            <a:pathLst>
              <a:path w="912" h="832">
                <a:moveTo>
                  <a:pt x="0" y="64"/>
                </a:moveTo>
                <a:cubicBezTo>
                  <a:pt x="128" y="32"/>
                  <a:pt x="256" y="0"/>
                  <a:pt x="336" y="64"/>
                </a:cubicBezTo>
                <a:cubicBezTo>
                  <a:pt x="416" y="128"/>
                  <a:pt x="384" y="320"/>
                  <a:pt x="480" y="448"/>
                </a:cubicBezTo>
                <a:cubicBezTo>
                  <a:pt x="576" y="576"/>
                  <a:pt x="744" y="704"/>
                  <a:pt x="912" y="832"/>
                </a:cubicBezTo>
              </a:path>
            </a:pathLst>
          </a:custGeom>
          <a:noFill/>
          <a:ln w="9360">
            <a:solidFill>
              <a:srgbClr val="5b5b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65400" y="4030560"/>
            <a:ext cx="0" cy="87480"/>
          </a:xfrm>
          <a:prstGeom prst="line">
            <a:avLst/>
          </a:prstGeom>
          <a:ln w="9360">
            <a:solidFill>
              <a:srgbClr val="5b5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085840" y="4117680"/>
            <a:ext cx="79560" cy="88920"/>
          </a:xfrm>
          <a:prstGeom prst="line">
            <a:avLst/>
          </a:prstGeom>
          <a:ln w="9360">
            <a:solidFill>
              <a:srgbClr val="5b5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1760" y="0"/>
            <a:ext cx="4491000" cy="642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PATIENT FLOW DIAGRAM FOR MASS ANTIBIOTIC DISP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9144000" cy="6791400"/>
            <a:chOff x="0" y="0"/>
            <a:chExt cx="9144000" cy="6791400"/>
          </a:xfrm>
        </p:grpSpPr>
        <p:sp>
          <p:nvSpPr>
            <p:cNvPr id="536" name=""/>
            <p:cNvSpPr/>
            <p:nvPr/>
          </p:nvSpPr>
          <p:spPr>
            <a:xfrm>
              <a:off x="0" y="0"/>
              <a:ext cx="9144000" cy="67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1840" y="44258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400" y="44258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71840" y="4206960"/>
              <a:ext cx="2880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14960" y="4206960"/>
              <a:ext cx="5688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0"/>
                  </a:moveTo>
                  <a:lnTo>
                    <a:pt x="18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36" y="55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1496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54" y="55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43400" y="39877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43400" y="403056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36" y="0"/>
                  </a:lnTo>
                  <a:lnTo>
                    <a:pt x="18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71840" y="4118040"/>
              <a:ext cx="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00640" y="42069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064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43400" y="3943440"/>
              <a:ext cx="572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43400" y="394344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71840" y="398772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71840" y="398772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86160" y="4162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6" y="0"/>
                  </a:moveTo>
                  <a:lnTo>
                    <a:pt x="54" y="28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43400" y="4075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3400" y="403056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4340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00640" y="4075200"/>
              <a:ext cx="1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71840" y="407520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71840" y="403056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71840" y="403056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14960" y="416232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55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14960" y="4206960"/>
              <a:ext cx="28440" cy="428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14960" y="42069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1496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41623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43240" y="44258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86360" y="44258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14800" y="4206960"/>
              <a:ext cx="5724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36" y="55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6360" y="4206960"/>
              <a:ext cx="2844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5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8636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54" y="138"/>
                  </a:lnTo>
                  <a:lnTo>
                    <a:pt x="54" y="55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14800" y="398772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14800" y="41180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43240" y="4206960"/>
              <a:ext cx="28800" cy="428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42069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14800" y="394344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14800" y="39434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1480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480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756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36" y="0"/>
                  </a:moveTo>
                  <a:lnTo>
                    <a:pt x="36" y="28"/>
                  </a:lnTo>
                  <a:lnTo>
                    <a:pt x="0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86360" y="407520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8636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403056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43240" y="4075200"/>
              <a:ext cx="1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43240" y="4075200"/>
              <a:ext cx="1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43240" y="40305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480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5756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55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86360" y="4206960"/>
              <a:ext cx="28440" cy="428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86360" y="42069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5756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86360" y="416232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86200" y="44258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28960" y="44258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57760" y="4206960"/>
              <a:ext cx="5688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28960" y="4206960"/>
              <a:ext cx="2880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5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2896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55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57760" y="39877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5776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57760" y="41180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86200" y="42069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8620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28960" y="3943440"/>
              <a:ext cx="572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28960" y="394344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5776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5776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2080" y="4162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6" y="0"/>
                  </a:moveTo>
                  <a:lnTo>
                    <a:pt x="54" y="28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28960" y="40752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8960" y="403056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28960" y="403056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86200" y="4075200"/>
              <a:ext cx="1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57760" y="407520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86200" y="403056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5776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0052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55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0520" y="42069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0052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28960" y="416232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00360" y="44258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43480" y="44258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71920" y="4206960"/>
              <a:ext cx="2844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43480" y="4206960"/>
              <a:ext cx="2844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5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1468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0" y="0"/>
                  </a:lnTo>
                  <a:lnTo>
                    <a:pt x="18" y="55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54" y="55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71920" y="39877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92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71920" y="41180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00360" y="42069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036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43480" y="3943440"/>
              <a:ext cx="5688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43480" y="394344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7192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7192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86240" y="4162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6" y="0"/>
                  </a:moveTo>
                  <a:lnTo>
                    <a:pt x="54" y="28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43480" y="4075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43480" y="403056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4348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00360" y="4075200"/>
              <a:ext cx="1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71920" y="407520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00360" y="40305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7192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1468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55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4680" y="42069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1468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43480" y="416232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43320" y="42498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11"/>
                  </a:lnTo>
                  <a:lnTo>
                    <a:pt x="54" y="193"/>
                  </a:lnTo>
                  <a:lnTo>
                    <a:pt x="54" y="28"/>
                  </a:lnTo>
                  <a:lnTo>
                    <a:pt x="3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57880" y="42498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11"/>
                  </a:lnTo>
                  <a:lnTo>
                    <a:pt x="54" y="193"/>
                  </a:lnTo>
                  <a:lnTo>
                    <a:pt x="54" y="28"/>
                  </a:lnTo>
                  <a:lnTo>
                    <a:pt x="3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6160" y="35496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71960" y="359244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1080" y="24969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2280" y="2496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01080" y="232236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22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72280" y="2235240"/>
              <a:ext cx="57240" cy="129960"/>
            </a:xfrm>
            <a:custGeom>
              <a:avLst/>
              <a:gdLst/>
              <a:ahLst/>
              <a:rect l="l" t="t" r="r" b="b"/>
              <a:pathLst>
                <a:path w="36" h="82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36" y="82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72280" y="223524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72280" y="223524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2280" y="2235240"/>
              <a:ext cx="28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01080" y="223524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01080" y="227808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01080" y="236520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172280" y="223524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01080" y="223524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01080" y="2235240"/>
              <a:ext cx="28440" cy="12996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72280" y="2190600"/>
              <a:ext cx="28800" cy="446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2280" y="219060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01080" y="21906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01080" y="2235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43840" y="2235240"/>
              <a:ext cx="28440" cy="12996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18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7228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72440" y="245412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43640" y="245412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72440" y="232236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43640" y="232236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43640" y="21906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55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72440" y="2190600"/>
              <a:ext cx="144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72440" y="219060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72440" y="21906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72440" y="21906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72440" y="22780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72440" y="232236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43640" y="219060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72440" y="219060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72440" y="21906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43640" y="2146320"/>
              <a:ext cx="28800" cy="442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43640" y="214632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72440" y="214632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72440" y="21906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15200" y="21906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43640" y="232236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72240" y="267336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43800" y="267336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2240" y="24969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380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3800" y="240984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72240" y="2365200"/>
              <a:ext cx="1800" cy="4464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7224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7224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7224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72240" y="2454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72240" y="2541600"/>
              <a:ext cx="28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4380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72240" y="240984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72240" y="240984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43800" y="2322360"/>
              <a:ext cx="2844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4380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722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722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1536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43800" y="254160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5812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2968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5812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2968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29680" y="236520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58120" y="2365200"/>
              <a:ext cx="144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58120" y="236520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58120" y="23652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58120" y="23652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58120" y="240984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486560" y="249696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2968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58120" y="236520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86560" y="2365200"/>
              <a:ext cx="1800" cy="131760"/>
            </a:xfrm>
            <a:custGeom>
              <a:avLst/>
              <a:gdLst/>
              <a:ahLst/>
              <a:rect l="l" t="t" r="r" b="b"/>
              <a:pathLst>
                <a:path w="0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29680" y="2322360"/>
              <a:ext cx="5688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58120" y="23223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581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29680" y="2365200"/>
              <a:ext cx="1440" cy="131760"/>
            </a:xfrm>
            <a:custGeom>
              <a:avLst/>
              <a:gdLst/>
              <a:ahLst/>
              <a:rect l="l" t="t" r="r" b="b"/>
              <a:pathLst>
                <a:path w="0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29680" y="249696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72440" y="2629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1520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3640" y="2496960"/>
              <a:ext cx="2880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1520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1520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43640" y="2365200"/>
              <a:ext cx="1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436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4364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4364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-1800" y="306360"/>
            <a:ext cx="9145800" cy="6485040"/>
            <a:chOff x="-1800" y="306360"/>
            <a:chExt cx="9145800" cy="6485040"/>
          </a:xfrm>
        </p:grpSpPr>
        <p:sp>
          <p:nvSpPr>
            <p:cNvPr id="737" name=""/>
            <p:cNvSpPr/>
            <p:nvPr/>
          </p:nvSpPr>
          <p:spPr>
            <a:xfrm>
              <a:off x="7343640" y="2409840"/>
              <a:ext cx="180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72440" y="249696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436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43640" y="2365200"/>
              <a:ext cx="2880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724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3640" y="232236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43640" y="23223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43640" y="23223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436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15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5200" y="249696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7960" y="26733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01080" y="267336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2952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0108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1080" y="240984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2952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2952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29520" y="240984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29520" y="240984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29520" y="2454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57960" y="254160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29520" y="24098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2952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57960" y="240984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29520" y="2322360"/>
              <a:ext cx="2844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952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95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9520" y="236520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0108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01080" y="254160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3840" y="2673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15040" y="26733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15040" y="24969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8660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6600" y="240984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15040" y="2365200"/>
              <a:ext cx="28800" cy="4464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15040" y="240984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1504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15040" y="240984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15040" y="2454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43840" y="254160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1504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15040" y="240984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4384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15040" y="2322360"/>
              <a:ext cx="2880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15040" y="23223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150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150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8660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86600" y="254160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029360" y="262908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00920" y="2629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00920" y="2496960"/>
              <a:ext cx="57240" cy="13212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18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0092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72480" y="2365200"/>
              <a:ext cx="85680" cy="131760"/>
            </a:xfrm>
            <a:custGeom>
              <a:avLst/>
              <a:gdLst/>
              <a:ahLst/>
              <a:rect l="l" t="t" r="r" b="b"/>
              <a:pathLst>
                <a:path w="54" h="83">
                  <a:moveTo>
                    <a:pt x="18" y="0"/>
                  </a:moveTo>
                  <a:lnTo>
                    <a:pt x="0" y="0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00920" y="2365200"/>
              <a:ext cx="2844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0092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0092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2936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00920" y="240984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29360" y="24969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092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00920" y="236520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5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293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00920" y="2322360"/>
              <a:ext cx="2844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0092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0092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0"/>
                  </a:lnTo>
                  <a:lnTo>
                    <a:pt x="1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00092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9724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72480" y="24969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1524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86440" y="262908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1524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86440" y="2496960"/>
              <a:ext cx="2880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8644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86440" y="2365200"/>
              <a:ext cx="28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86440" y="23652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86440" y="236520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15240" y="23652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15240" y="240984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15240" y="249696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86440" y="23652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15240" y="2365200"/>
              <a:ext cx="1440" cy="8892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152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86440" y="232236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86440" y="23223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15240" y="23223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1524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580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86440" y="249696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00960" y="2629080"/>
              <a:ext cx="1057320" cy="218880"/>
            </a:xfrm>
            <a:custGeom>
              <a:avLst/>
              <a:gdLst/>
              <a:ahLst/>
              <a:rect l="l" t="t" r="r" b="b"/>
              <a:pathLst>
                <a:path w="666" h="138">
                  <a:moveTo>
                    <a:pt x="0" y="0"/>
                  </a:moveTo>
                  <a:lnTo>
                    <a:pt x="648" y="0"/>
                  </a:lnTo>
                  <a:lnTo>
                    <a:pt x="666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29160" y="262908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1468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146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29000" y="262908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00160" y="262908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71960" y="192708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72080" y="192708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85960" y="192708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840" y="1050840"/>
              <a:ext cx="6057720" cy="263520"/>
            </a:xfrm>
            <a:prstGeom prst="rect">
              <a:avLst/>
            </a:pr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48720" y="3276720"/>
              <a:ext cx="571320" cy="1752480"/>
            </a:xfrm>
            <a:custGeom>
              <a:avLst/>
              <a:gdLst/>
              <a:ahLst/>
              <a:rect l="l" t="t" r="r" b="b"/>
              <a:pathLst>
                <a:path w="360" h="1104">
                  <a:moveTo>
                    <a:pt x="36" y="28"/>
                  </a:moveTo>
                  <a:lnTo>
                    <a:pt x="360" y="856"/>
                  </a:lnTo>
                  <a:lnTo>
                    <a:pt x="360" y="1104"/>
                  </a:lnTo>
                  <a:lnTo>
                    <a:pt x="0" y="193"/>
                  </a:lnTo>
                  <a:lnTo>
                    <a:pt x="18" y="0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5840" y="1050840"/>
              <a:ext cx="457200" cy="1271520"/>
            </a:xfrm>
            <a:custGeom>
              <a:avLst/>
              <a:gdLst/>
              <a:ahLst/>
              <a:rect l="l" t="t" r="r" b="b"/>
              <a:pathLst>
                <a:path w="288" h="801">
                  <a:moveTo>
                    <a:pt x="0" y="0"/>
                  </a:moveTo>
                  <a:lnTo>
                    <a:pt x="0" y="166"/>
                  </a:lnTo>
                  <a:lnTo>
                    <a:pt x="288" y="801"/>
                  </a:lnTo>
                  <a:lnTo>
                    <a:pt x="288" y="608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57800" y="4687920"/>
              <a:ext cx="3171960" cy="482400"/>
            </a:xfrm>
            <a:prstGeom prst="rect">
              <a:avLst/>
            </a:pr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00760" y="267336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72320" y="2673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00760" y="24969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232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72320" y="240984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00760" y="2365200"/>
              <a:ext cx="1800" cy="4464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0076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0076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0076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00760" y="2454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00760" y="2541600"/>
              <a:ext cx="28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7232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0076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00760" y="240984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72320" y="2322360"/>
              <a:ext cx="2844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7232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0076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0076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4388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72320" y="254160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29440" y="1577880"/>
              <a:ext cx="371520" cy="1270080"/>
            </a:xfrm>
            <a:custGeom>
              <a:avLst/>
              <a:gdLst/>
              <a:ahLst/>
              <a:rect l="l" t="t" r="r" b="b"/>
              <a:pathLst>
                <a:path w="234" h="800">
                  <a:moveTo>
                    <a:pt x="0" y="0"/>
                  </a:moveTo>
                  <a:lnTo>
                    <a:pt x="0" y="138"/>
                  </a:lnTo>
                  <a:lnTo>
                    <a:pt x="234" y="800"/>
                  </a:lnTo>
                  <a:lnTo>
                    <a:pt x="234" y="662"/>
                  </a:lnTo>
                  <a:lnTo>
                    <a:pt x="72" y="1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00960" y="2629080"/>
              <a:ext cx="1143000" cy="131760"/>
            </a:xfrm>
            <a:custGeom>
              <a:avLst/>
              <a:gdLst/>
              <a:ahLst/>
              <a:rect l="l" t="t" r="r" b="b"/>
              <a:pathLst>
                <a:path w="720" h="83">
                  <a:moveTo>
                    <a:pt x="666" y="0"/>
                  </a:moveTo>
                  <a:lnTo>
                    <a:pt x="720" y="83"/>
                  </a:lnTo>
                  <a:lnTo>
                    <a:pt x="54" y="83"/>
                  </a:lnTo>
                  <a:lnTo>
                    <a:pt x="0" y="0"/>
                  </a:lnTo>
                  <a:lnTo>
                    <a:pt x="558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00800" y="17524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58040" y="17524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29240" y="1488960"/>
              <a:ext cx="28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72360" y="153360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00800" y="153360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29240" y="144612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00800" y="162072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29240" y="148896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36" y="0"/>
                  </a:lnTo>
                  <a:lnTo>
                    <a:pt x="36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00800" y="157788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36" y="27"/>
                  </a:moveTo>
                  <a:lnTo>
                    <a:pt x="36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82"/>
                  </a:lnTo>
                  <a:lnTo>
                    <a:pt x="0" y="110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36" y="82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82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5c5c5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29240" y="1446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72360" y="1488960"/>
              <a:ext cx="28440" cy="446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72360" y="1488960"/>
              <a:ext cx="28440" cy="446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72360" y="148896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29240" y="148896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18" y="0"/>
                  </a:moveTo>
                  <a:lnTo>
                    <a:pt x="36" y="0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72360" y="148896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6" y="0"/>
                  </a:move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72360" y="153360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ecec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9720" y="6095880"/>
              <a:ext cx="1218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Ambulance Bu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47280" y="525600"/>
              <a:ext cx="183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Drug Deliver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1800" y="2971800"/>
              <a:ext cx="68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Ent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19160" y="1295280"/>
              <a:ext cx="6040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Tahoma"/>
                </a:rPr>
                <a:t>Triag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0840" y="3581280"/>
              <a:ext cx="9518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Medical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Evalu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21960" y="2895480"/>
              <a:ext cx="84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Dru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Dispens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1080" y="533412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07280" y="3462480"/>
              <a:ext cx="43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Ex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86280" y="306360"/>
              <a:ext cx="1285920" cy="219240"/>
            </a:xfrm>
            <a:custGeom>
              <a:avLst/>
              <a:gdLst/>
              <a:ahLst/>
              <a:rect l="l" t="t" r="r" b="b"/>
              <a:pathLst>
                <a:path w="810" h="138">
                  <a:moveTo>
                    <a:pt x="0" y="0"/>
                  </a:moveTo>
                  <a:lnTo>
                    <a:pt x="684" y="138"/>
                  </a:lnTo>
                  <a:lnTo>
                    <a:pt x="810" y="55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16360" y="457200"/>
              <a:ext cx="77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Airpor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00960" y="6397560"/>
              <a:ext cx="743040" cy="393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15480" y="5740560"/>
              <a:ext cx="1028520" cy="657000"/>
            </a:xfrm>
            <a:custGeom>
              <a:avLst/>
              <a:gdLst/>
              <a:ahLst/>
              <a:rect l="l" t="t" r="r" b="b"/>
              <a:pathLst>
                <a:path w="648" h="414">
                  <a:moveTo>
                    <a:pt x="0" y="0"/>
                  </a:moveTo>
                  <a:lnTo>
                    <a:pt x="180" y="414"/>
                  </a:lnTo>
                  <a:lnTo>
                    <a:pt x="648" y="414"/>
                  </a:lnTo>
                  <a:lnTo>
                    <a:pt x="378" y="0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115480" y="5740560"/>
              <a:ext cx="285480" cy="1050840"/>
            </a:xfrm>
            <a:custGeom>
              <a:avLst/>
              <a:gdLst/>
              <a:ahLst/>
              <a:rect l="l" t="t" r="r" b="b"/>
              <a:pathLst>
                <a:path w="180" h="662">
                  <a:moveTo>
                    <a:pt x="0" y="0"/>
                  </a:moveTo>
                  <a:lnTo>
                    <a:pt x="180" y="414"/>
                  </a:lnTo>
                  <a:lnTo>
                    <a:pt x="180" y="662"/>
                  </a:lnTo>
                  <a:lnTo>
                    <a:pt x="18" y="2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86640" y="5870520"/>
              <a:ext cx="257400" cy="308160"/>
            </a:xfrm>
            <a:custGeom>
              <a:avLst/>
              <a:gdLst/>
              <a:ahLst/>
              <a:rect l="l" t="t" r="r" b="b"/>
              <a:pathLst>
                <a:path w="162" h="194">
                  <a:moveTo>
                    <a:pt x="0" y="0"/>
                  </a:moveTo>
                  <a:lnTo>
                    <a:pt x="72" y="0"/>
                  </a:lnTo>
                  <a:lnTo>
                    <a:pt x="162" y="194"/>
                  </a:lnTo>
                  <a:lnTo>
                    <a:pt x="72" y="194"/>
                  </a:lnTo>
                  <a:lnTo>
                    <a:pt x="72" y="1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429760" y="5959440"/>
              <a:ext cx="371520" cy="87480"/>
            </a:xfrm>
            <a:custGeom>
              <a:avLst/>
              <a:gdLst/>
              <a:ahLst/>
              <a:rect l="l" t="t" r="r" b="b"/>
              <a:pathLst>
                <a:path w="234" h="55">
                  <a:moveTo>
                    <a:pt x="36" y="0"/>
                  </a:moveTo>
                  <a:lnTo>
                    <a:pt x="180" y="0"/>
                  </a:lnTo>
                  <a:lnTo>
                    <a:pt x="234" y="55"/>
                  </a:lnTo>
                  <a:lnTo>
                    <a:pt x="36" y="55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14520" y="1884240"/>
              <a:ext cx="3543120" cy="131760"/>
            </a:xfrm>
            <a:custGeom>
              <a:avLst/>
              <a:gdLst/>
              <a:ahLst/>
              <a:rect l="l" t="t" r="r" b="b"/>
              <a:pathLst>
                <a:path w="2232" h="83">
                  <a:moveTo>
                    <a:pt x="0" y="0"/>
                  </a:moveTo>
                  <a:lnTo>
                    <a:pt x="2142" y="0"/>
                  </a:lnTo>
                  <a:lnTo>
                    <a:pt x="2232" y="83"/>
                  </a:lnTo>
                  <a:lnTo>
                    <a:pt x="72" y="8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7156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71560" y="1884240"/>
              <a:ext cx="28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0036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71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71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71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80036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0036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7156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715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1468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4312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4312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14680" y="1971720"/>
              <a:ext cx="5688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14680" y="179712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714680" y="1884240"/>
              <a:ext cx="5688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7156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7156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036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4312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146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14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14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4328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43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43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43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43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4328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43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1448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57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8604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8604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857240" y="1797120"/>
            <a:ext cx="1600200" cy="438120"/>
            <a:chOff x="1857240" y="1797120"/>
            <a:chExt cx="1600200" cy="438120"/>
          </a:xfrm>
        </p:grpSpPr>
        <p:sp>
          <p:nvSpPr>
            <p:cNvPr id="930" name=""/>
            <p:cNvSpPr/>
            <p:nvPr/>
          </p:nvSpPr>
          <p:spPr>
            <a:xfrm>
              <a:off x="1857240" y="1971720"/>
              <a:ext cx="8604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8604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57240" y="1884240"/>
              <a:ext cx="8604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4328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1448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4328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328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1448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8604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85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36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1464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1464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146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14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14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1464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146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14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858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896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5740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5740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289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5740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2896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18" y="83"/>
                  </a:lnTo>
                  <a:lnTo>
                    <a:pt x="18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54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1464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14640" y="19717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1464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4308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858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5740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575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5756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8600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5756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756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5756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860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8600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756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5756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003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28760" y="1839960"/>
              <a:ext cx="1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287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0032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287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0032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5756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5756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8600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2876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0032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0048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0048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2892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2892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28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28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2892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2892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28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0048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43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71680" y="1839960"/>
              <a:ext cx="28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7168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4324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168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4324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2892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0048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2892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28920" y="19270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0048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7168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184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57184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57184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718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718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718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7184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718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718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430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146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43040" y="1839960"/>
              <a:ext cx="1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1460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14600" y="1971720"/>
              <a:ext cx="5724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1460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460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7184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7184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0028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430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1460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4320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43200" y="188424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7164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716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432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43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716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7164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7164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432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859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1476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1476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859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1476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8596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432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716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147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859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861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861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14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145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14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4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14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1456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14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861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888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5768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5768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2888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5768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2888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18" y="83"/>
                  </a:lnTo>
                  <a:lnTo>
                    <a:pt x="0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1456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8612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14560" y="1927080"/>
              <a:ext cx="2880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14560" y="192708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8612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576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8628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8628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8628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086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086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86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8628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08628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8628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5748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00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2904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2904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00240" y="1971720"/>
              <a:ext cx="8604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2904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02904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8628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86280" y="19717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1472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5748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2904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28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28840" y="188424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5764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576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2884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22884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576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5764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57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2884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7196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0040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0040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719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0040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171960" y="1884240"/>
              <a:ext cx="5688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2884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2884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5764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0040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1960" y="201600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005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005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2900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290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4290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290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290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2900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290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0056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433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371760" y="183996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3717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4332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717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4332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29000" y="19270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0056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2900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42900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1571760" y="1797120"/>
            <a:ext cx="3286080" cy="1050840"/>
            <a:chOff x="1571760" y="1797120"/>
            <a:chExt cx="3286080" cy="1050840"/>
          </a:xfrm>
        </p:grpSpPr>
        <p:sp>
          <p:nvSpPr>
            <p:cNvPr id="1131" name=""/>
            <p:cNvSpPr/>
            <p:nvPr/>
          </p:nvSpPr>
          <p:spPr>
            <a:xfrm>
              <a:off x="3400560" y="188424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717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7192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57192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57192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7192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71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71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7192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7192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7192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348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486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14680" y="183996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1468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8624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1468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1468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7192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71920" y="19717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0036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4348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1468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14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14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4328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4328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432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148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4328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4328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432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1484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576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86040" y="1839960"/>
              <a:ext cx="1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8604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65760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8604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5760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1484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1484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4328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860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57600" y="201600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577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36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86200" y="188424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620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862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86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86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8620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8620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86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5776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0052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8960" y="1839960"/>
              <a:ext cx="28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289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0052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0052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18" y="83"/>
                  </a:lnTo>
                  <a:lnTo>
                    <a:pt x="18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62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5776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8620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46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577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289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57560" y="1884240"/>
              <a:ext cx="2880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057560" y="1884240"/>
              <a:ext cx="28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57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0575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57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057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57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5756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05756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02912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97188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02912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00068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7188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0068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000680" y="1884240"/>
              <a:ext cx="5688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5756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56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08636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02912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0006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00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00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2928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29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29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0048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29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2928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29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0048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4324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7204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17204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43240" y="1971720"/>
              <a:ext cx="8604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7204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43240" y="1884240"/>
              <a:ext cx="8604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29280" y="19270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0048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2928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720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17204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4340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4340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4340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434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434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434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4340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434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434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1496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861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1496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861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86160" y="1971720"/>
              <a:ext cx="5724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861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28616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434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4340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718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149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861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863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4863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1476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5147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147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5147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5147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51476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5147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863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2908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5788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5788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2908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5788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2908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14760" y="192708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8632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1476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86320" y="188424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578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57680" y="1884240"/>
              <a:ext cx="2880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57680" y="1884240"/>
              <a:ext cx="28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657680" y="1884240"/>
              <a:ext cx="28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65768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576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576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5768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5768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5768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29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57200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00440" y="1839960"/>
              <a:ext cx="28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0044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57200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0044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0044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65768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657680" y="197172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68648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6292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60044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80060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800600" y="188424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82904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290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006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006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8290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82904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2904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006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433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7216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7216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433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7216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74336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8006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0060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8290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721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743360" y="201600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71760" y="192708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717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432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144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1448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91448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4328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432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1886040" y="2278080"/>
            <a:ext cx="1886040" cy="569880"/>
            <a:chOff x="1886040" y="2278080"/>
            <a:chExt cx="1886040" cy="569880"/>
          </a:xfrm>
        </p:grpSpPr>
        <p:sp>
          <p:nvSpPr>
            <p:cNvPr id="1332" name=""/>
            <p:cNvSpPr/>
            <p:nvPr/>
          </p:nvSpPr>
          <p:spPr>
            <a:xfrm>
              <a:off x="194328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328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91448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4328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4328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144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432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144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8604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14480" y="258444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9717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717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7172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430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46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858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858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85840" y="2365200"/>
              <a:ext cx="8604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11464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14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1464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11464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14640" y="22780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11464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1464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114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14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5740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430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1430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17188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3144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144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575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5756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28600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28600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1444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28600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8600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1444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144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2860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144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5756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22876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2575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43240" y="25844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324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146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4861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289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289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2892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45736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5736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48616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5736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5736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8616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8616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4573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486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4289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400480" y="2409840"/>
              <a:ext cx="5688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4289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146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1460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859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575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290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2908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0028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5752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6575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5752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29080" y="2278080"/>
              <a:ext cx="5688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629080" y="227808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5752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575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290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575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600280" y="2409840"/>
              <a:ext cx="2880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6002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8596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859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8596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576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888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004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80044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0044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2888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288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2888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28880" y="2278080"/>
              <a:ext cx="2880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004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2888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2888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004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288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004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71640" y="2409840"/>
              <a:ext cx="2880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7716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576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576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857680" y="236520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0290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002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9718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718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97180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0024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000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00024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00240" y="2278080"/>
              <a:ext cx="2880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000240" y="22780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000240" y="23223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00240" y="236520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000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000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9718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943360" y="2409840"/>
              <a:ext cx="5688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9718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0290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0290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02904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2004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2004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431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14316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4316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171960" y="23652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71960" y="236520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0040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71960" y="2278080"/>
              <a:ext cx="5688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171960" y="227808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20040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20040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719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004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4316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1472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31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28840" y="258444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228840" y="2365200"/>
              <a:ext cx="2880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005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37176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148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3148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31488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34332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34332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7176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4332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34332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37176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7176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3433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3717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148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8608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148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005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0056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5719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5434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48624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4348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5434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54348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468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468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54348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54348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146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434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8624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4862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5719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5719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57192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432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148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6860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8604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86040" y="2365200"/>
              <a:ext cx="8604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1484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148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71484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71484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860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71484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71484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860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7148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8604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857240" y="1577880"/>
            <a:ext cx="4743720" cy="1270080"/>
            <a:chOff x="1857240" y="1577880"/>
            <a:chExt cx="4743720" cy="1270080"/>
          </a:xfrm>
        </p:grpSpPr>
        <p:sp>
          <p:nvSpPr>
            <p:cNvPr id="1533" name=""/>
            <p:cNvSpPr/>
            <p:nvPr/>
          </p:nvSpPr>
          <p:spPr>
            <a:xfrm>
              <a:off x="365760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576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432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7432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74328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146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862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577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8577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5776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8620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86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88620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88620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86200" y="22780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8620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88620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86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86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5776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2896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577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464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146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91464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0863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863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291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291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2912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05756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05756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08636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05756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05756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08636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08636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0575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0863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0291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000680" y="2409840"/>
              <a:ext cx="5688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291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4800" y="25844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1480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61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577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2004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0048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20048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229280" y="23652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229280" y="236520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5772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229280" y="2278080"/>
              <a:ext cx="5688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229280" y="227808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5772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2577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292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2577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2004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17204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2004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861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286160" y="2365200"/>
              <a:ext cx="2880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578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42908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006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0064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7184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42908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4290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42908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40064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006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2908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42908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400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290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71840" y="2409840"/>
              <a:ext cx="2880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718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578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4578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457880" y="236520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292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004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5720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7200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7200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60044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6004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0044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600440" y="2278080"/>
              <a:ext cx="2880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7200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044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004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5720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004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720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4356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5435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292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292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62924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006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721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7433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74336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74336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77216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772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77216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7216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772160" y="22780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77216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77216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772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772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74336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71492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7433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006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006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0060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9719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97196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18" y="0"/>
                  </a:moveTo>
                  <a:lnTo>
                    <a:pt x="18" y="5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50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150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508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4352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7196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4352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4352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97196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435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719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150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8628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9150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00760" y="25844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0076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721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436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0864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0864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8644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11488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11488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14368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11488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11488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14368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14368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1148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1436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864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05764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721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7212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3434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150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2862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2578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25780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1504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150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1504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28624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2862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31504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1504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286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150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2578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25780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2578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434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3434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34348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857240" y="2629080"/>
              <a:ext cx="3714840" cy="131760"/>
            </a:xfrm>
            <a:custGeom>
              <a:avLst/>
              <a:gdLst/>
              <a:ahLst/>
              <a:rect l="l" t="t" r="r" b="b"/>
              <a:pathLst>
                <a:path w="2340" h="83">
                  <a:moveTo>
                    <a:pt x="0" y="0"/>
                  </a:moveTo>
                  <a:lnTo>
                    <a:pt x="2268" y="0"/>
                  </a:lnTo>
                  <a:lnTo>
                    <a:pt x="2340" y="83"/>
                  </a:lnTo>
                  <a:lnTo>
                    <a:pt x="90" y="8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292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6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486480" y="1620720"/>
              <a:ext cx="1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429240" y="16653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429240" y="16653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86480" y="157788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458040" y="175248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458040" y="162072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36" y="0"/>
                  </a:lnTo>
                  <a:lnTo>
                    <a:pt x="36" y="55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58040" y="170820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36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36" y="111"/>
                  </a:lnTo>
                  <a:lnTo>
                    <a:pt x="36" y="111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5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c5c5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486480" y="15778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29240" y="16653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58040" y="162072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36" y="0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429240" y="16207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36" y="28"/>
                  </a:move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29240" y="166536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ecec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86480" y="2016000"/>
              <a:ext cx="5724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43720" y="2016000"/>
              <a:ext cx="5724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43720" y="1708200"/>
              <a:ext cx="28440" cy="4428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86480" y="17524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15280" y="17524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6543720" y="166536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515280" y="1839960"/>
            <a:ext cx="56880" cy="176040"/>
          </a:xfrm>
          <a:custGeom>
            <a:avLst/>
            <a:gdLst/>
            <a:ahLst/>
            <a:rect l="l" t="t" r="r" b="b"/>
            <a:pathLst>
              <a:path w="36" h="111">
                <a:moveTo>
                  <a:pt x="36" y="0"/>
                </a:moveTo>
                <a:lnTo>
                  <a:pt x="18" y="0"/>
                </a:lnTo>
                <a:lnTo>
                  <a:pt x="0" y="111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543720" y="170820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18" y="0"/>
                </a:moveTo>
                <a:lnTo>
                  <a:pt x="36" y="28"/>
                </a:lnTo>
                <a:lnTo>
                  <a:pt x="36" y="83"/>
                </a:lnTo>
                <a:lnTo>
                  <a:pt x="0" y="83"/>
                </a:lnTo>
                <a:lnTo>
                  <a:pt x="0" y="83"/>
                </a:lnTo>
                <a:lnTo>
                  <a:pt x="0" y="56"/>
                </a:lnTo>
                <a:lnTo>
                  <a:pt x="0" y="56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515280" y="1839960"/>
            <a:ext cx="85680" cy="176040"/>
          </a:xfrm>
          <a:custGeom>
            <a:avLst/>
            <a:gdLst/>
            <a:ahLst/>
            <a:rect l="l" t="t" r="r" b="b"/>
            <a:pathLst>
              <a:path w="54" h="111">
                <a:moveTo>
                  <a:pt x="36" y="0"/>
                </a:move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lnTo>
                  <a:pt x="0" y="55"/>
                </a:lnTo>
                <a:lnTo>
                  <a:pt x="0" y="55"/>
                </a:lnTo>
                <a:lnTo>
                  <a:pt x="0" y="111"/>
                </a:lnTo>
                <a:lnTo>
                  <a:pt x="0" y="111"/>
                </a:lnTo>
                <a:lnTo>
                  <a:pt x="18" y="111"/>
                </a:lnTo>
                <a:lnTo>
                  <a:pt x="18" y="83"/>
                </a:lnTo>
                <a:lnTo>
                  <a:pt x="18" y="55"/>
                </a:lnTo>
                <a:lnTo>
                  <a:pt x="36" y="28"/>
                </a:lnTo>
                <a:lnTo>
                  <a:pt x="18" y="55"/>
                </a:lnTo>
                <a:lnTo>
                  <a:pt x="18" y="55"/>
                </a:lnTo>
                <a:lnTo>
                  <a:pt x="36" y="111"/>
                </a:lnTo>
                <a:lnTo>
                  <a:pt x="36" y="111"/>
                </a:lnTo>
                <a:lnTo>
                  <a:pt x="54" y="111"/>
                </a:lnTo>
                <a:lnTo>
                  <a:pt x="54" y="111"/>
                </a:lnTo>
                <a:lnTo>
                  <a:pt x="54" y="83"/>
                </a:lnTo>
                <a:lnTo>
                  <a:pt x="54" y="83"/>
                </a:lnTo>
                <a:lnTo>
                  <a:pt x="36" y="55"/>
                </a:lnTo>
                <a:lnTo>
                  <a:pt x="36" y="28"/>
                </a:lnTo>
                <a:lnTo>
                  <a:pt x="36" y="28"/>
                </a:lnTo>
                <a:lnTo>
                  <a:pt x="54" y="28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543720" y="166536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0" y="27"/>
                </a:moveTo>
                <a:lnTo>
                  <a:pt x="0" y="27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486480" y="17524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515280" y="1708200"/>
            <a:ext cx="85680" cy="176040"/>
          </a:xfrm>
          <a:custGeom>
            <a:avLst/>
            <a:gdLst/>
            <a:ahLst/>
            <a:rect l="l" t="t" r="r" b="b"/>
            <a:pathLst>
              <a:path w="54" h="111">
                <a:moveTo>
                  <a:pt x="36" y="0"/>
                </a:moveTo>
                <a:lnTo>
                  <a:pt x="54" y="28"/>
                </a:lnTo>
                <a:lnTo>
                  <a:pt x="54" y="56"/>
                </a:lnTo>
                <a:lnTo>
                  <a:pt x="54" y="111"/>
                </a:lnTo>
                <a:lnTo>
                  <a:pt x="36" y="111"/>
                </a:lnTo>
                <a:lnTo>
                  <a:pt x="0" y="111"/>
                </a:lnTo>
                <a:lnTo>
                  <a:pt x="18" y="56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486480" y="1708200"/>
            <a:ext cx="57240" cy="88920"/>
          </a:xfrm>
          <a:custGeom>
            <a:avLst/>
            <a:gdLst/>
            <a:ahLst/>
            <a:rect l="l" t="t" r="r" b="b"/>
            <a:pathLst>
              <a:path w="36" h="56">
                <a:moveTo>
                  <a:pt x="36" y="28"/>
                </a:moveTo>
                <a:lnTo>
                  <a:pt x="36" y="28"/>
                </a:lnTo>
                <a:lnTo>
                  <a:pt x="36" y="56"/>
                </a:lnTo>
                <a:lnTo>
                  <a:pt x="18" y="56"/>
                </a:lnTo>
                <a:lnTo>
                  <a:pt x="18" y="56"/>
                </a:lnTo>
                <a:lnTo>
                  <a:pt x="18" y="56"/>
                </a:lnTo>
                <a:lnTo>
                  <a:pt x="18" y="56"/>
                </a:lnTo>
                <a:lnTo>
                  <a:pt x="18" y="56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0"/>
                </a:lnTo>
                <a:lnTo>
                  <a:pt x="36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486480" y="1752480"/>
            <a:ext cx="1800" cy="1800"/>
          </a:xfrm>
          <a:prstGeom prst="rect">
            <a:avLst/>
          </a:pr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572160" y="210348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6" y="0"/>
                </a:moveTo>
                <a:lnTo>
                  <a:pt x="36" y="27"/>
                </a:lnTo>
                <a:lnTo>
                  <a:pt x="36" y="27"/>
                </a:lnTo>
                <a:lnTo>
                  <a:pt x="36" y="27"/>
                </a:ln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657840" y="2103480"/>
            <a:ext cx="2880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629400" y="1797120"/>
            <a:ext cx="28440" cy="42840"/>
          </a:xfrm>
          <a:prstGeom prst="rect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572160" y="183996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600960" y="1884240"/>
            <a:ext cx="2844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629400" y="1752480"/>
            <a:ext cx="28440" cy="874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600960" y="1927080"/>
            <a:ext cx="56880" cy="176400"/>
          </a:xfrm>
          <a:custGeom>
            <a:avLst/>
            <a:gdLst/>
            <a:ahLst/>
            <a:rect l="l" t="t" r="r" b="b"/>
            <a:pathLst>
              <a:path w="36" h="111">
                <a:moveTo>
                  <a:pt x="36" y="0"/>
                </a:moveTo>
                <a:lnTo>
                  <a:pt x="18" y="0"/>
                </a:lnTo>
                <a:lnTo>
                  <a:pt x="0" y="111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629400" y="1839960"/>
            <a:ext cx="57240" cy="87120"/>
          </a:xfrm>
          <a:custGeom>
            <a:avLst/>
            <a:gdLst/>
            <a:ahLst/>
            <a:rect l="l" t="t" r="r" b="b"/>
            <a:pathLst>
              <a:path w="36" h="55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600960" y="1927080"/>
            <a:ext cx="85680" cy="176400"/>
          </a:xfrm>
          <a:custGeom>
            <a:avLst/>
            <a:gdLst/>
            <a:ahLst/>
            <a:rect l="l" t="t" r="r" b="b"/>
            <a:pathLst>
              <a:path w="54" h="111">
                <a:moveTo>
                  <a:pt x="36" y="0"/>
                </a:move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0" y="111"/>
                </a:lnTo>
                <a:lnTo>
                  <a:pt x="0" y="111"/>
                </a:lnTo>
                <a:lnTo>
                  <a:pt x="18" y="111"/>
                </a:lnTo>
                <a:lnTo>
                  <a:pt x="18" y="83"/>
                </a:lnTo>
                <a:lnTo>
                  <a:pt x="18" y="56"/>
                </a:lnTo>
                <a:lnTo>
                  <a:pt x="36" y="28"/>
                </a:lnTo>
                <a:lnTo>
                  <a:pt x="18" y="56"/>
                </a:lnTo>
                <a:lnTo>
                  <a:pt x="36" y="56"/>
                </a:lnTo>
                <a:lnTo>
                  <a:pt x="36" y="111"/>
                </a:lnTo>
                <a:lnTo>
                  <a:pt x="36" y="111"/>
                </a:lnTo>
                <a:lnTo>
                  <a:pt x="54" y="111"/>
                </a:lnTo>
                <a:lnTo>
                  <a:pt x="54" y="111"/>
                </a:lnTo>
                <a:lnTo>
                  <a:pt x="54" y="83"/>
                </a:lnTo>
                <a:lnTo>
                  <a:pt x="54" y="83"/>
                </a:lnTo>
                <a:lnTo>
                  <a:pt x="54" y="56"/>
                </a:lnTo>
                <a:lnTo>
                  <a:pt x="54" y="28"/>
                </a:lnTo>
                <a:lnTo>
                  <a:pt x="54" y="28"/>
                </a:lnTo>
                <a:lnTo>
                  <a:pt x="54" y="28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175248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572160" y="1839960"/>
            <a:ext cx="28800" cy="442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6572160" y="1839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29400" y="183996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18" y="0"/>
                </a:moveTo>
                <a:lnTo>
                  <a:pt x="36" y="0"/>
                </a:lnTo>
                <a:lnTo>
                  <a:pt x="36" y="28"/>
                </a:lnTo>
                <a:lnTo>
                  <a:pt x="36" y="83"/>
                </a:lnTo>
                <a:lnTo>
                  <a:pt x="18" y="83"/>
                </a:lnTo>
                <a:lnTo>
                  <a:pt x="0" y="83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6572160" y="1839960"/>
            <a:ext cx="5724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572160" y="183996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28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572160" y="227808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629400" y="227808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971720"/>
            <a:ext cx="1440" cy="44280"/>
          </a:xfrm>
          <a:prstGeom prst="rect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543720" y="201600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27"/>
                </a:moveTo>
                <a:lnTo>
                  <a:pt x="18" y="27"/>
                </a:lnTo>
                <a:lnTo>
                  <a:pt x="18" y="27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572160" y="205884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600960" y="1927080"/>
            <a:ext cx="28440" cy="446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72160" y="2103480"/>
            <a:ext cx="5724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36" y="0"/>
                </a:moveTo>
                <a:lnTo>
                  <a:pt x="18" y="0"/>
                </a:lnTo>
                <a:lnTo>
                  <a:pt x="0" y="110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600960" y="2016000"/>
            <a:ext cx="5688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572160" y="2103480"/>
            <a:ext cx="8568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36" y="0"/>
                </a:move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27"/>
                </a:lnTo>
                <a:lnTo>
                  <a:pt x="0" y="55"/>
                </a:lnTo>
                <a:lnTo>
                  <a:pt x="0" y="55"/>
                </a:lnTo>
                <a:lnTo>
                  <a:pt x="0" y="110"/>
                </a:lnTo>
                <a:lnTo>
                  <a:pt x="18" y="110"/>
                </a:lnTo>
                <a:lnTo>
                  <a:pt x="18" y="110"/>
                </a:lnTo>
                <a:lnTo>
                  <a:pt x="18" y="83"/>
                </a:lnTo>
                <a:lnTo>
                  <a:pt x="18" y="55"/>
                </a:lnTo>
                <a:lnTo>
                  <a:pt x="36" y="27"/>
                </a:lnTo>
                <a:lnTo>
                  <a:pt x="36" y="55"/>
                </a:lnTo>
                <a:lnTo>
                  <a:pt x="36" y="55"/>
                </a:lnTo>
                <a:lnTo>
                  <a:pt x="36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83"/>
                </a:lnTo>
                <a:lnTo>
                  <a:pt x="54" y="83"/>
                </a:lnTo>
                <a:lnTo>
                  <a:pt x="54" y="55"/>
                </a:lnTo>
                <a:lnTo>
                  <a:pt x="54" y="27"/>
                </a:lnTo>
                <a:lnTo>
                  <a:pt x="54" y="27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600960" y="192708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543720" y="201600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572160" y="201600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600960" y="1971720"/>
            <a:ext cx="5688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36" y="28"/>
                </a:moveTo>
                <a:lnTo>
                  <a:pt x="36" y="28"/>
                </a:lnTo>
                <a:lnTo>
                  <a:pt x="36" y="55"/>
                </a:lnTo>
                <a:lnTo>
                  <a:pt x="36" y="110"/>
                </a:lnTo>
                <a:lnTo>
                  <a:pt x="18" y="110"/>
                </a:lnTo>
                <a:lnTo>
                  <a:pt x="0" y="110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0"/>
                </a:lnTo>
                <a:lnTo>
                  <a:pt x="36" y="28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572160" y="2016000"/>
            <a:ext cx="2880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27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543720" y="201600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27"/>
                </a:lnTo>
                <a:lnTo>
                  <a:pt x="0" y="27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5784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0"/>
                </a:move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71508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0"/>
                </a:move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715080" y="2103480"/>
            <a:ext cx="1800" cy="1440"/>
          </a:xfrm>
          <a:prstGeom prst="rect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657840" y="2146320"/>
            <a:ext cx="1800" cy="4428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657840" y="214632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0" y="0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86640" y="2016000"/>
            <a:ext cx="28440" cy="874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6657840" y="2190600"/>
            <a:ext cx="8604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54" y="0"/>
                </a:moveTo>
                <a:lnTo>
                  <a:pt x="18" y="28"/>
                </a:lnTo>
                <a:lnTo>
                  <a:pt x="0" y="110"/>
                </a:lnTo>
                <a:lnTo>
                  <a:pt x="54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686640" y="21034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18" y="83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657840" y="2190600"/>
            <a:ext cx="8604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36" y="0"/>
                </a:move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55"/>
                </a:lnTo>
                <a:lnTo>
                  <a:pt x="18" y="55"/>
                </a:lnTo>
                <a:lnTo>
                  <a:pt x="18" y="83"/>
                </a:lnTo>
                <a:lnTo>
                  <a:pt x="0" y="110"/>
                </a:lnTo>
                <a:lnTo>
                  <a:pt x="18" y="110"/>
                </a:lnTo>
                <a:lnTo>
                  <a:pt x="18" y="110"/>
                </a:lnTo>
                <a:lnTo>
                  <a:pt x="18" y="83"/>
                </a:lnTo>
                <a:lnTo>
                  <a:pt x="36" y="55"/>
                </a:lnTo>
                <a:lnTo>
                  <a:pt x="36" y="28"/>
                </a:lnTo>
                <a:lnTo>
                  <a:pt x="36" y="55"/>
                </a:lnTo>
                <a:lnTo>
                  <a:pt x="36" y="55"/>
                </a:lnTo>
                <a:lnTo>
                  <a:pt x="36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83"/>
                </a:lnTo>
                <a:lnTo>
                  <a:pt x="54" y="55"/>
                </a:lnTo>
                <a:lnTo>
                  <a:pt x="54" y="55"/>
                </a:lnTo>
                <a:lnTo>
                  <a:pt x="54" y="28"/>
                </a:lnTo>
                <a:lnTo>
                  <a:pt x="54" y="28"/>
                </a:lnTo>
                <a:lnTo>
                  <a:pt x="54" y="28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686640" y="201600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27"/>
                </a:move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27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29400" y="210348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629400" y="210348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657840" y="2103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686640" y="21034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0" y="83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57840" y="2103480"/>
            <a:ext cx="2880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657840" y="2146320"/>
            <a:ext cx="1800" cy="1440"/>
          </a:xfrm>
          <a:prstGeom prst="rect">
            <a:avLst/>
          </a:pr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86440" y="21906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943680" y="21906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915240" y="188424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0"/>
                </a:lnTo>
                <a:lnTo>
                  <a:pt x="0" y="27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858000" y="192708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28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886440" y="192708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915240" y="1839960"/>
            <a:ext cx="28440" cy="442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886440" y="2016000"/>
            <a:ext cx="5724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36" y="0"/>
                </a:moveTo>
                <a:lnTo>
                  <a:pt x="18" y="0"/>
                </a:lnTo>
                <a:lnTo>
                  <a:pt x="0" y="110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915240" y="188424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7"/>
                </a:lnTo>
                <a:lnTo>
                  <a:pt x="36" y="83"/>
                </a:lnTo>
                <a:lnTo>
                  <a:pt x="0" y="83"/>
                </a:lnTo>
                <a:lnTo>
                  <a:pt x="0" y="83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86440" y="2016000"/>
            <a:ext cx="8604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36" y="0"/>
                </a:move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27"/>
                </a:lnTo>
                <a:lnTo>
                  <a:pt x="0" y="55"/>
                </a:lnTo>
                <a:lnTo>
                  <a:pt x="0" y="55"/>
                </a:lnTo>
                <a:lnTo>
                  <a:pt x="0" y="110"/>
                </a:lnTo>
                <a:lnTo>
                  <a:pt x="0" y="110"/>
                </a:lnTo>
                <a:lnTo>
                  <a:pt x="18" y="110"/>
                </a:lnTo>
                <a:lnTo>
                  <a:pt x="18" y="55"/>
                </a:lnTo>
                <a:lnTo>
                  <a:pt x="18" y="55"/>
                </a:lnTo>
                <a:lnTo>
                  <a:pt x="36" y="27"/>
                </a:lnTo>
                <a:lnTo>
                  <a:pt x="36" y="27"/>
                </a:lnTo>
                <a:lnTo>
                  <a:pt x="36" y="55"/>
                </a:lnTo>
                <a:lnTo>
                  <a:pt x="36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82"/>
                </a:lnTo>
                <a:lnTo>
                  <a:pt x="54" y="82"/>
                </a:lnTo>
                <a:lnTo>
                  <a:pt x="54" y="55"/>
                </a:lnTo>
                <a:lnTo>
                  <a:pt x="54" y="55"/>
                </a:lnTo>
                <a:lnTo>
                  <a:pt x="54" y="27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915240" y="1839960"/>
            <a:ext cx="2844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lnTo>
                  <a:pt x="18" y="28"/>
                </a:lnTo>
                <a:lnTo>
                  <a:pt x="0" y="28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858000" y="19270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6915240" y="188424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7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0" y="83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858000" y="1884240"/>
            <a:ext cx="5724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36" y="27"/>
                </a:moveTo>
                <a:lnTo>
                  <a:pt x="36" y="27"/>
                </a:lnTo>
                <a:lnTo>
                  <a:pt x="36" y="27"/>
                </a:lnTo>
                <a:lnTo>
                  <a:pt x="36" y="55"/>
                </a:ln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36" y="0"/>
                </a:lnTo>
                <a:lnTo>
                  <a:pt x="36" y="0"/>
                </a:lnTo>
                <a:lnTo>
                  <a:pt x="36" y="27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858000" y="1927080"/>
            <a:ext cx="28440" cy="1800"/>
          </a:xfrm>
          <a:prstGeom prst="rect">
            <a:avLst/>
          </a:pr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6600960" y="2760840"/>
            <a:ext cx="8568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7658280" y="2760840"/>
            <a:ext cx="8568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229440" y="1577880"/>
            <a:ext cx="514440" cy="1051200"/>
          </a:xfrm>
          <a:custGeom>
            <a:avLst/>
            <a:gdLst/>
            <a:ahLst/>
            <a:rect l="l" t="t" r="r" b="b"/>
            <a:pathLst>
              <a:path w="324" h="662">
                <a:moveTo>
                  <a:pt x="0" y="0"/>
                </a:moveTo>
                <a:lnTo>
                  <a:pt x="90" y="0"/>
                </a:lnTo>
                <a:lnTo>
                  <a:pt x="324" y="662"/>
                </a:lnTo>
                <a:lnTo>
                  <a:pt x="234" y="662"/>
                </a:lnTo>
                <a:lnTo>
                  <a:pt x="0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886440" y="1008000"/>
            <a:ext cx="800280" cy="306360"/>
          </a:xfrm>
          <a:prstGeom prst="rect">
            <a:avLst/>
          </a:prstGeom>
          <a:solidFill>
            <a:srgbClr val="87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7686720" y="1008000"/>
            <a:ext cx="628560" cy="1884600"/>
          </a:xfrm>
          <a:custGeom>
            <a:avLst/>
            <a:gdLst/>
            <a:ahLst/>
            <a:rect l="l" t="t" r="r" b="b"/>
            <a:pathLst>
              <a:path w="396" h="1187">
                <a:moveTo>
                  <a:pt x="0" y="0"/>
                </a:moveTo>
                <a:lnTo>
                  <a:pt x="396" y="1021"/>
                </a:lnTo>
                <a:lnTo>
                  <a:pt x="396" y="1187"/>
                </a:lnTo>
                <a:lnTo>
                  <a:pt x="0" y="193"/>
                </a:lnTo>
                <a:lnTo>
                  <a:pt x="0" y="0"/>
                </a:lnTo>
                <a:close/>
              </a:path>
            </a:pathLst>
          </a:custGeom>
          <a:solidFill>
            <a:srgbClr val="00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2666880"/>
            <a:ext cx="857160" cy="2497320"/>
          </a:xfrm>
          <a:custGeom>
            <a:avLst/>
            <a:gdLst/>
            <a:ahLst/>
            <a:rect l="l" t="t" r="r" b="b"/>
            <a:pathLst>
              <a:path w="540" h="1573">
                <a:moveTo>
                  <a:pt x="0" y="0"/>
                </a:moveTo>
                <a:lnTo>
                  <a:pt x="540" y="1269"/>
                </a:lnTo>
                <a:lnTo>
                  <a:pt x="540" y="1573"/>
                </a:lnTo>
                <a:lnTo>
                  <a:pt x="0" y="193"/>
                </a:lnTo>
                <a:lnTo>
                  <a:pt x="0" y="0"/>
                </a:lnTo>
                <a:close/>
              </a:path>
            </a:pathLst>
          </a:custGeom>
          <a:solidFill>
            <a:srgbClr val="00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114720" y="3505320"/>
            <a:ext cx="1371600" cy="218880"/>
          </a:xfrm>
          <a:custGeom>
            <a:avLst/>
            <a:gdLst/>
            <a:ahLst/>
            <a:rect l="l" t="t" r="r" b="b"/>
            <a:pathLst>
              <a:path w="864" h="138">
                <a:moveTo>
                  <a:pt x="0" y="0"/>
                </a:moveTo>
                <a:lnTo>
                  <a:pt x="792" y="0"/>
                </a:lnTo>
                <a:lnTo>
                  <a:pt x="864" y="110"/>
                </a:lnTo>
                <a:lnTo>
                  <a:pt x="5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400560" y="38559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0" y="55"/>
                </a:lnTo>
                <a:lnTo>
                  <a:pt x="0" y="55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400560" y="3855960"/>
            <a:ext cx="144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429000" y="38988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42900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28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55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457440" y="394344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429000" y="3592440"/>
            <a:ext cx="1440" cy="44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400560" y="3505320"/>
            <a:ext cx="5688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400560" y="3505320"/>
            <a:ext cx="56880" cy="87120"/>
          </a:xfrm>
          <a:custGeom>
            <a:avLst/>
            <a:gdLst/>
            <a:ahLst/>
            <a:rect l="l" t="t" r="r" b="b"/>
            <a:pathLst>
              <a:path w="36" h="55">
                <a:moveTo>
                  <a:pt x="18" y="55"/>
                </a:move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400560" y="3592440"/>
            <a:ext cx="56880" cy="176400"/>
          </a:xfrm>
          <a:custGeom>
            <a:avLst/>
            <a:gdLst/>
            <a:ahLst/>
            <a:rect l="l" t="t" r="r" b="b"/>
            <a:pathLst>
              <a:path w="36" h="111">
                <a:moveTo>
                  <a:pt x="0" y="28"/>
                </a:moveTo>
                <a:lnTo>
                  <a:pt x="0" y="28"/>
                </a:lnTo>
                <a:lnTo>
                  <a:pt x="0" y="83"/>
                </a:lnTo>
                <a:lnTo>
                  <a:pt x="0" y="111"/>
                </a:lnTo>
                <a:lnTo>
                  <a:pt x="18" y="111"/>
                </a:lnTo>
                <a:lnTo>
                  <a:pt x="36" y="111"/>
                </a:lnTo>
                <a:lnTo>
                  <a:pt x="36" y="83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429000" y="3637080"/>
            <a:ext cx="85680" cy="131760"/>
          </a:xfrm>
          <a:custGeom>
            <a:avLst/>
            <a:gdLst/>
            <a:ahLst/>
            <a:rect l="l" t="t" r="r" b="b"/>
            <a:pathLst>
              <a:path w="54" h="83">
                <a:moveTo>
                  <a:pt x="18" y="0"/>
                </a:moveTo>
                <a:lnTo>
                  <a:pt x="0" y="0"/>
                </a:lnTo>
                <a:lnTo>
                  <a:pt x="0" y="27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36" y="83"/>
                </a:lnTo>
                <a:lnTo>
                  <a:pt x="54" y="83"/>
                </a:lnTo>
                <a:lnTo>
                  <a:pt x="54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14680" y="3724200"/>
            <a:ext cx="180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574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18" y="2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400560" y="3592440"/>
            <a:ext cx="5688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18" y="0"/>
                </a:lnTo>
                <a:lnTo>
                  <a:pt x="36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457440" y="3855960"/>
            <a:ext cx="180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400560" y="3768840"/>
            <a:ext cx="114120" cy="8712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36" y="0"/>
                </a:lnTo>
                <a:lnTo>
                  <a:pt x="36" y="0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72" y="27"/>
                </a:lnTo>
                <a:lnTo>
                  <a:pt x="72" y="27"/>
                </a:lnTo>
                <a:lnTo>
                  <a:pt x="72" y="55"/>
                </a:lnTo>
                <a:lnTo>
                  <a:pt x="72" y="55"/>
                </a:lnTo>
                <a:lnTo>
                  <a:pt x="54" y="55"/>
                </a:lnTo>
                <a:lnTo>
                  <a:pt x="18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657600" y="3855960"/>
            <a:ext cx="144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629160" y="38559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0" y="55"/>
                </a:lnTo>
                <a:lnTo>
                  <a:pt x="0" y="55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686040" y="38988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65760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28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18" y="83"/>
                </a:lnTo>
                <a:lnTo>
                  <a:pt x="0" y="55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714840" y="394344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657600" y="3592440"/>
            <a:ext cx="28440" cy="44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657600" y="3505320"/>
            <a:ext cx="284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657600" y="3505320"/>
            <a:ext cx="2844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55"/>
                </a:moveTo>
                <a:lnTo>
                  <a:pt x="18" y="55"/>
                </a:ln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629160" y="3592440"/>
            <a:ext cx="85680" cy="176400"/>
          </a:xfrm>
          <a:custGeom>
            <a:avLst/>
            <a:gdLst/>
            <a:ahLst/>
            <a:rect l="l" t="t" r="r" b="b"/>
            <a:pathLst>
              <a:path w="54" h="111">
                <a:moveTo>
                  <a:pt x="18" y="28"/>
                </a:moveTo>
                <a:lnTo>
                  <a:pt x="0" y="28"/>
                </a:lnTo>
                <a:lnTo>
                  <a:pt x="0" y="83"/>
                </a:lnTo>
                <a:lnTo>
                  <a:pt x="18" y="111"/>
                </a:lnTo>
                <a:lnTo>
                  <a:pt x="36" y="111"/>
                </a:lnTo>
                <a:lnTo>
                  <a:pt x="36" y="111"/>
                </a:lnTo>
                <a:lnTo>
                  <a:pt x="54" y="83"/>
                </a:lnTo>
                <a:lnTo>
                  <a:pt x="54" y="28"/>
                </a:lnTo>
                <a:lnTo>
                  <a:pt x="54" y="28"/>
                </a:lnTo>
                <a:lnTo>
                  <a:pt x="36" y="28"/>
                </a:lnTo>
                <a:lnTo>
                  <a:pt x="36" y="0"/>
                </a:lnTo>
                <a:lnTo>
                  <a:pt x="18" y="0"/>
                </a:lnTo>
                <a:lnTo>
                  <a:pt x="18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686040" y="36370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55"/>
                </a:lnTo>
                <a:lnTo>
                  <a:pt x="0" y="83"/>
                </a:lnTo>
                <a:lnTo>
                  <a:pt x="18" y="83"/>
                </a:lnTo>
                <a:lnTo>
                  <a:pt x="18" y="83"/>
                </a:lnTo>
                <a:lnTo>
                  <a:pt x="36" y="83"/>
                </a:lnTo>
                <a:lnTo>
                  <a:pt x="36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743280" y="3724200"/>
            <a:ext cx="28800" cy="446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743280" y="3724200"/>
            <a:ext cx="180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7148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83"/>
                </a:lnTo>
                <a:lnTo>
                  <a:pt x="0" y="2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657600" y="3592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18" y="0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686040" y="38559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18" y="55"/>
                </a:lnTo>
                <a:lnTo>
                  <a:pt x="18" y="55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629160" y="3768840"/>
            <a:ext cx="142920" cy="87120"/>
          </a:xfrm>
          <a:custGeom>
            <a:avLst/>
            <a:gdLst/>
            <a:ahLst/>
            <a:rect l="l" t="t" r="r" b="b"/>
            <a:pathLst>
              <a:path w="90" h="55">
                <a:moveTo>
                  <a:pt x="0" y="0"/>
                </a:moveTo>
                <a:lnTo>
                  <a:pt x="54" y="0"/>
                </a:lnTo>
                <a:lnTo>
                  <a:pt x="54" y="0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90" y="27"/>
                </a:lnTo>
                <a:lnTo>
                  <a:pt x="90" y="27"/>
                </a:lnTo>
                <a:lnTo>
                  <a:pt x="90" y="55"/>
                </a:lnTo>
                <a:lnTo>
                  <a:pt x="72" y="55"/>
                </a:lnTo>
                <a:lnTo>
                  <a:pt x="54" y="55"/>
                </a:lnTo>
                <a:lnTo>
                  <a:pt x="36" y="55"/>
                </a:lnTo>
                <a:lnTo>
                  <a:pt x="18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914640" y="38559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0" y="55"/>
                </a:lnTo>
                <a:lnTo>
                  <a:pt x="0" y="55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38559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0" y="55"/>
                </a:lnTo>
                <a:lnTo>
                  <a:pt x="18" y="55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943440" y="38988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9434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18" y="28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55"/>
                </a:ln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971880" y="394344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914640" y="359244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914640" y="3505320"/>
            <a:ext cx="572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914640" y="3505320"/>
            <a:ext cx="57240" cy="87120"/>
          </a:xfrm>
          <a:custGeom>
            <a:avLst/>
            <a:gdLst/>
            <a:ahLst/>
            <a:rect l="l" t="t" r="r" b="b"/>
            <a:pathLst>
              <a:path w="36" h="55">
                <a:moveTo>
                  <a:pt x="18" y="55"/>
                </a:move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0"/>
                </a:lnTo>
                <a:lnTo>
                  <a:pt x="18" y="28"/>
                </a:lnTo>
                <a:lnTo>
                  <a:pt x="36" y="28"/>
                </a:lnTo>
                <a:lnTo>
                  <a:pt x="18" y="28"/>
                </a:lnTo>
                <a:lnTo>
                  <a:pt x="18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914640" y="3592440"/>
            <a:ext cx="57240" cy="176400"/>
          </a:xfrm>
          <a:custGeom>
            <a:avLst/>
            <a:gdLst/>
            <a:ahLst/>
            <a:rect l="l" t="t" r="r" b="b"/>
            <a:pathLst>
              <a:path w="36" h="111">
                <a:moveTo>
                  <a:pt x="0" y="28"/>
                </a:moveTo>
                <a:lnTo>
                  <a:pt x="0" y="28"/>
                </a:lnTo>
                <a:lnTo>
                  <a:pt x="0" y="83"/>
                </a:lnTo>
                <a:lnTo>
                  <a:pt x="0" y="111"/>
                </a:lnTo>
                <a:lnTo>
                  <a:pt x="18" y="111"/>
                </a:lnTo>
                <a:lnTo>
                  <a:pt x="36" y="111"/>
                </a:lnTo>
                <a:lnTo>
                  <a:pt x="36" y="83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0"/>
                </a:lnTo>
                <a:lnTo>
                  <a:pt x="0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943440" y="3637080"/>
            <a:ext cx="85680" cy="131760"/>
          </a:xfrm>
          <a:custGeom>
            <a:avLst/>
            <a:gdLst/>
            <a:ahLst/>
            <a:rect l="l" t="t" r="r" b="b"/>
            <a:pathLst>
              <a:path w="54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55"/>
                </a:lnTo>
                <a:lnTo>
                  <a:pt x="18" y="83"/>
                </a:lnTo>
                <a:lnTo>
                  <a:pt x="18" y="83"/>
                </a:lnTo>
                <a:lnTo>
                  <a:pt x="36" y="83"/>
                </a:lnTo>
                <a:lnTo>
                  <a:pt x="54" y="83"/>
                </a:lnTo>
                <a:lnTo>
                  <a:pt x="54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943440" y="3549600"/>
            <a:ext cx="28440" cy="428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000680" y="3724200"/>
            <a:ext cx="28440" cy="446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000680" y="372420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97188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36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83"/>
                </a:lnTo>
                <a:lnTo>
                  <a:pt x="18" y="2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914640" y="359244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18" y="0"/>
                </a:lnTo>
                <a:lnTo>
                  <a:pt x="36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971880" y="3855960"/>
            <a:ext cx="180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914640" y="3768840"/>
            <a:ext cx="114480" cy="8712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36" y="0"/>
                </a:lnTo>
                <a:lnTo>
                  <a:pt x="36" y="0"/>
                </a:lnTo>
                <a:lnTo>
                  <a:pt x="36" y="27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72" y="27"/>
                </a:lnTo>
                <a:lnTo>
                  <a:pt x="72" y="55"/>
                </a:lnTo>
                <a:lnTo>
                  <a:pt x="72" y="55"/>
                </a:lnTo>
                <a:lnTo>
                  <a:pt x="54" y="55"/>
                </a:lnTo>
                <a:lnTo>
                  <a:pt x="18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172040" y="3855960"/>
            <a:ext cx="144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143240" y="3855960"/>
            <a:ext cx="180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172040" y="38988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41720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28"/>
                </a:lnTo>
                <a:lnTo>
                  <a:pt x="36" y="55"/>
                </a:lnTo>
                <a:lnTo>
                  <a:pt x="18" y="83"/>
                </a:lnTo>
                <a:lnTo>
                  <a:pt x="18" y="83"/>
                </a:lnTo>
                <a:lnTo>
                  <a:pt x="18" y="83"/>
                </a:lnTo>
                <a:lnTo>
                  <a:pt x="0" y="55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229280" y="3943440"/>
            <a:ext cx="5688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172040" y="3592440"/>
            <a:ext cx="28440" cy="44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172040" y="3505320"/>
            <a:ext cx="284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172040" y="3505320"/>
            <a:ext cx="2844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55"/>
                </a:move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143240" y="3592440"/>
            <a:ext cx="86040" cy="176400"/>
          </a:xfrm>
          <a:custGeom>
            <a:avLst/>
            <a:gdLst/>
            <a:ahLst/>
            <a:rect l="l" t="t" r="r" b="b"/>
            <a:pathLst>
              <a:path w="54" h="111">
                <a:moveTo>
                  <a:pt x="0" y="28"/>
                </a:moveTo>
                <a:lnTo>
                  <a:pt x="0" y="28"/>
                </a:lnTo>
                <a:lnTo>
                  <a:pt x="0" y="83"/>
                </a:lnTo>
                <a:lnTo>
                  <a:pt x="0" y="111"/>
                </a:lnTo>
                <a:lnTo>
                  <a:pt x="18" y="111"/>
                </a:lnTo>
                <a:lnTo>
                  <a:pt x="36" y="111"/>
                </a:lnTo>
                <a:lnTo>
                  <a:pt x="54" y="83"/>
                </a:lnTo>
                <a:lnTo>
                  <a:pt x="54" y="28"/>
                </a:lnTo>
                <a:lnTo>
                  <a:pt x="36" y="28"/>
                </a:lnTo>
                <a:lnTo>
                  <a:pt x="36" y="28"/>
                </a:lnTo>
                <a:lnTo>
                  <a:pt x="36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200480" y="36370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55"/>
                </a:lnTo>
                <a:lnTo>
                  <a:pt x="0" y="83"/>
                </a:lnTo>
                <a:lnTo>
                  <a:pt x="0" y="83"/>
                </a:lnTo>
                <a:lnTo>
                  <a:pt x="18" y="83"/>
                </a:lnTo>
                <a:lnTo>
                  <a:pt x="36" y="83"/>
                </a:lnTo>
                <a:lnTo>
                  <a:pt x="36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4257720" y="3724200"/>
            <a:ext cx="28440" cy="446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257720" y="3724200"/>
            <a:ext cx="144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229280" y="3811680"/>
            <a:ext cx="28440" cy="131760"/>
          </a:xfrm>
          <a:custGeom>
            <a:avLst/>
            <a:gdLst/>
            <a:ahLst/>
            <a:rect l="l" t="t" r="r" b="b"/>
            <a:pathLst>
              <a:path w="18" h="83">
                <a:moveTo>
                  <a:pt x="18" y="0"/>
                </a:moveTo>
                <a:lnTo>
                  <a:pt x="18" y="28"/>
                </a:lnTo>
                <a:lnTo>
                  <a:pt x="18" y="28"/>
                </a:lnTo>
                <a:lnTo>
                  <a:pt x="18" y="55"/>
                </a:lnTo>
                <a:lnTo>
                  <a:pt x="18" y="83"/>
                </a:lnTo>
                <a:lnTo>
                  <a:pt x="0" y="83"/>
                </a:lnTo>
                <a:lnTo>
                  <a:pt x="0" y="83"/>
                </a:lnTo>
                <a:lnTo>
                  <a:pt x="0" y="83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172040" y="3592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18" y="0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200480" y="38559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55"/>
                </a:lnTo>
                <a:lnTo>
                  <a:pt x="18" y="5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143240" y="3768840"/>
            <a:ext cx="142920" cy="87120"/>
          </a:xfrm>
          <a:custGeom>
            <a:avLst/>
            <a:gdLst/>
            <a:ahLst/>
            <a:rect l="l" t="t" r="r" b="b"/>
            <a:pathLst>
              <a:path w="90" h="55">
                <a:moveTo>
                  <a:pt x="0" y="0"/>
                </a:moveTo>
                <a:lnTo>
                  <a:pt x="36" y="0"/>
                </a:lnTo>
                <a:lnTo>
                  <a:pt x="36" y="0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72" y="27"/>
                </a:lnTo>
                <a:lnTo>
                  <a:pt x="90" y="27"/>
                </a:lnTo>
                <a:lnTo>
                  <a:pt x="90" y="55"/>
                </a:lnTo>
                <a:lnTo>
                  <a:pt x="72" y="55"/>
                </a:lnTo>
                <a:lnTo>
                  <a:pt x="54" y="55"/>
                </a:lnTo>
                <a:lnTo>
                  <a:pt x="36" y="55"/>
                </a:lnTo>
                <a:lnTo>
                  <a:pt x="18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257640" y="4249800"/>
            <a:ext cx="1342800" cy="176040"/>
          </a:xfrm>
          <a:custGeom>
            <a:avLst/>
            <a:gdLst/>
            <a:ahLst/>
            <a:rect l="l" t="t" r="r" b="b"/>
            <a:pathLst>
              <a:path w="846" h="111">
                <a:moveTo>
                  <a:pt x="0" y="0"/>
                </a:moveTo>
                <a:lnTo>
                  <a:pt x="774" y="0"/>
                </a:lnTo>
                <a:lnTo>
                  <a:pt x="846" y="111"/>
                </a:lnTo>
                <a:lnTo>
                  <a:pt x="54" y="11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200640" y="2892600"/>
            <a:ext cx="28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6172200" y="2935080"/>
            <a:ext cx="572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800360" y="4687920"/>
            <a:ext cx="2657520" cy="482400"/>
          </a:xfrm>
          <a:prstGeom prst="rect">
            <a:avLst/>
          </a:prstGeom>
          <a:solidFill>
            <a:srgbClr val="00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582880" y="5389560"/>
            <a:ext cx="20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VERY SICK GET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TO MEDICAL FAC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936680" y="3809880"/>
            <a:ext cx="2733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HEALTHY PEOPLE GET 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AMBULATORY SICK GET 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629400" y="6178680"/>
            <a:ext cx="1371600" cy="306360"/>
          </a:xfrm>
          <a:custGeom>
            <a:avLst/>
            <a:gdLst/>
            <a:ahLst/>
            <a:rect l="l" t="t" r="r" b="b"/>
            <a:pathLst>
              <a:path w="864" h="193">
                <a:moveTo>
                  <a:pt x="0" y="82"/>
                </a:moveTo>
                <a:lnTo>
                  <a:pt x="864" y="0"/>
                </a:lnTo>
                <a:lnTo>
                  <a:pt x="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28600" y="228600"/>
            <a:ext cx="43434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SAMPLE PATIENT FLOW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FOR MASS ANTIBIOTIC DISPENSING</a:t>
            </a: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28760" y="2584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71520" y="2584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28760" y="2409840"/>
            <a:ext cx="28440" cy="219240"/>
          </a:xfrm>
          <a:custGeom>
            <a:avLst/>
            <a:gdLst/>
            <a:ahLst/>
            <a:rect l="l" t="t" r="r" b="b"/>
            <a:pathLst>
              <a:path w="18" h="13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55"/>
                </a:lnTo>
                <a:lnTo>
                  <a:pt x="0" y="138"/>
                </a:lnTo>
                <a:lnTo>
                  <a:pt x="18" y="138"/>
                </a:lnTo>
                <a:lnTo>
                  <a:pt x="18" y="138"/>
                </a:lnTo>
                <a:lnTo>
                  <a:pt x="18" y="138"/>
                </a:lnTo>
                <a:lnTo>
                  <a:pt x="18" y="55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71520" y="2409840"/>
            <a:ext cx="57240" cy="219240"/>
          </a:xfrm>
          <a:custGeom>
            <a:avLst/>
            <a:gdLst/>
            <a:ahLst/>
            <a:rect l="l" t="t" r="r" b="b"/>
            <a:pathLst>
              <a:path w="36" h="138">
                <a:moveTo>
                  <a:pt x="0" y="0"/>
                </a:moveTo>
                <a:lnTo>
                  <a:pt x="0" y="55"/>
                </a:lnTo>
                <a:lnTo>
                  <a:pt x="0" y="138"/>
                </a:lnTo>
                <a:lnTo>
                  <a:pt x="18" y="138"/>
                </a:lnTo>
                <a:lnTo>
                  <a:pt x="18" y="138"/>
                </a:lnTo>
                <a:lnTo>
                  <a:pt x="18" y="138"/>
                </a:lnTo>
                <a:lnTo>
                  <a:pt x="36" y="55"/>
                </a:ln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71520" y="2235240"/>
            <a:ext cx="85680" cy="218880"/>
          </a:xfrm>
          <a:custGeom>
            <a:avLst/>
            <a:gdLst/>
            <a:ahLst/>
            <a:rect l="l" t="t" r="r" b="b"/>
            <a:pathLst>
              <a:path w="54" h="138">
                <a:moveTo>
                  <a:pt x="0" y="0"/>
                </a:moveTo>
                <a:lnTo>
                  <a:pt x="0" y="27"/>
                </a:lnTo>
                <a:lnTo>
                  <a:pt x="0" y="55"/>
                </a:lnTo>
                <a:lnTo>
                  <a:pt x="0" y="110"/>
                </a:lnTo>
                <a:lnTo>
                  <a:pt x="36" y="138"/>
                </a:lnTo>
                <a:lnTo>
                  <a:pt x="54" y="138"/>
                </a:lnTo>
                <a:lnTo>
                  <a:pt x="54" y="55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99960" y="223524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99960" y="2235240"/>
            <a:ext cx="2880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0"/>
                </a:lnTo>
                <a:lnTo>
                  <a:pt x="18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28760" y="2322360"/>
            <a:ext cx="14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28760" y="2409840"/>
            <a:ext cx="28440" cy="4428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28760" y="240984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57200" y="2235240"/>
            <a:ext cx="28440" cy="174600"/>
          </a:xfrm>
          <a:custGeom>
            <a:avLst/>
            <a:gdLst/>
            <a:ahLst/>
            <a:rect l="l" t="t" r="r" b="b"/>
            <a:pathLst>
              <a:path w="18" h="110">
                <a:moveTo>
                  <a:pt x="0" y="0"/>
                </a:moveTo>
                <a:lnTo>
                  <a:pt x="18" y="27"/>
                </a:lnTo>
                <a:lnTo>
                  <a:pt x="18" y="27"/>
                </a:lnTo>
                <a:lnTo>
                  <a:pt x="18" y="55"/>
                </a:lnTo>
                <a:lnTo>
                  <a:pt x="18" y="82"/>
                </a:lnTo>
                <a:lnTo>
                  <a:pt x="18" y="110"/>
                </a:lnTo>
                <a:lnTo>
                  <a:pt x="0" y="110"/>
                </a:lnTo>
                <a:lnTo>
                  <a:pt x="0" y="110"/>
                </a:lnTo>
                <a:lnTo>
                  <a:pt x="0" y="110"/>
                </a:lnTo>
                <a:lnTo>
                  <a:pt x="0" y="82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99960" y="2146320"/>
            <a:ext cx="28800" cy="8892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99960" y="2146320"/>
            <a:ext cx="5724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28"/>
                </a:move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28760" y="2190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28760" y="2235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43080" y="2365200"/>
            <a:ext cx="85680" cy="88920"/>
          </a:xfrm>
          <a:custGeom>
            <a:avLst/>
            <a:gdLst/>
            <a:ahLst/>
            <a:rect l="l" t="t" r="r" b="b"/>
            <a:pathLst>
              <a:path w="54" h="56">
                <a:moveTo>
                  <a:pt x="36" y="0"/>
                </a:moveTo>
                <a:lnTo>
                  <a:pt x="54" y="28"/>
                </a:lnTo>
                <a:lnTo>
                  <a:pt x="18" y="56"/>
                </a:ln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99960" y="2322360"/>
            <a:ext cx="1800" cy="180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960" y="2235240"/>
            <a:ext cx="1800" cy="87120"/>
          </a:xfrm>
          <a:custGeom>
            <a:avLst/>
            <a:gdLst/>
            <a:ahLst/>
            <a:rect l="l" t="t" r="r" b="b"/>
            <a:pathLst>
              <a:path w="0" h="55">
                <a:moveTo>
                  <a:pt x="0" y="55"/>
                </a:move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99960" y="2235240"/>
            <a:ext cx="2880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18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28760" y="2278080"/>
            <a:ext cx="2844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0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28760" y="2278080"/>
            <a:ext cx="2844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0"/>
                </a:moveTo>
                <a:lnTo>
                  <a:pt x="18" y="0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8760" y="223524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27"/>
                </a:moveTo>
                <a:lnTo>
                  <a:pt x="18" y="27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28760" y="2235240"/>
            <a:ext cx="2844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43080" y="2365200"/>
            <a:ext cx="56880" cy="88920"/>
          </a:xfrm>
          <a:custGeom>
            <a:avLst/>
            <a:gdLst/>
            <a:ahLst/>
            <a:rect l="l" t="t" r="r" b="b"/>
            <a:pathLst>
              <a:path w="36" h="56">
                <a:moveTo>
                  <a:pt x="0" y="28"/>
                </a:moveTo>
                <a:lnTo>
                  <a:pt x="18" y="56"/>
                </a:lnTo>
                <a:lnTo>
                  <a:pt x="36" y="2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71520" y="2409840"/>
            <a:ext cx="28440" cy="4428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71520" y="2409840"/>
            <a:ext cx="28440" cy="1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43080" y="2235240"/>
            <a:ext cx="5688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18" y="27"/>
                </a:moveTo>
                <a:lnTo>
                  <a:pt x="18" y="27"/>
                </a:lnTo>
                <a:lnTo>
                  <a:pt x="18" y="55"/>
                </a:lnTo>
                <a:lnTo>
                  <a:pt x="0" y="55"/>
                </a:lnTo>
                <a:lnTo>
                  <a:pt x="0" y="82"/>
                </a:lnTo>
                <a:lnTo>
                  <a:pt x="18" y="110"/>
                </a:lnTo>
                <a:lnTo>
                  <a:pt x="18" y="110"/>
                </a:lnTo>
                <a:lnTo>
                  <a:pt x="36" y="110"/>
                </a:lnTo>
                <a:lnTo>
                  <a:pt x="36" y="110"/>
                </a:lnTo>
                <a:lnTo>
                  <a:pt x="18" y="82"/>
                </a:lnTo>
                <a:lnTo>
                  <a:pt x="18" y="55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99960" y="2365200"/>
            <a:ext cx="1800" cy="4464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0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28560" y="2716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71680" y="271620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28560" y="2496960"/>
            <a:ext cx="28800" cy="263880"/>
          </a:xfrm>
          <a:custGeom>
            <a:avLst/>
            <a:gdLst/>
            <a:ahLst/>
            <a:rect l="l" t="t" r="r" b="b"/>
            <a:pathLst>
              <a:path w="18" h="166">
                <a:moveTo>
                  <a:pt x="0" y="28"/>
                </a:moveTo>
                <a:lnTo>
                  <a:pt x="0" y="55"/>
                </a:lnTo>
                <a:lnTo>
                  <a:pt x="0" y="55"/>
                </a:lnTo>
                <a:lnTo>
                  <a:pt x="0" y="83"/>
                </a:lnTo>
                <a:lnTo>
                  <a:pt x="0" y="166"/>
                </a:lnTo>
                <a:lnTo>
                  <a:pt x="18" y="166"/>
                </a:lnTo>
                <a:lnTo>
                  <a:pt x="18" y="166"/>
                </a:lnTo>
                <a:lnTo>
                  <a:pt x="18" y="166"/>
                </a:lnTo>
                <a:lnTo>
                  <a:pt x="18" y="83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71680" y="2496960"/>
            <a:ext cx="56880" cy="263880"/>
          </a:xfrm>
          <a:custGeom>
            <a:avLst/>
            <a:gdLst/>
            <a:ahLst/>
            <a:rect l="l" t="t" r="r" b="b"/>
            <a:pathLst>
              <a:path w="36" h="166">
                <a:moveTo>
                  <a:pt x="0" y="0"/>
                </a:moveTo>
                <a:lnTo>
                  <a:pt x="0" y="55"/>
                </a:lnTo>
                <a:lnTo>
                  <a:pt x="0" y="166"/>
                </a:lnTo>
                <a:lnTo>
                  <a:pt x="18" y="166"/>
                </a:lnTo>
                <a:lnTo>
                  <a:pt x="18" y="166"/>
                </a:lnTo>
                <a:lnTo>
                  <a:pt x="18" y="166"/>
                </a:lnTo>
                <a:lnTo>
                  <a:pt x="36" y="55"/>
                </a:lnTo>
                <a:lnTo>
                  <a:pt x="36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71680" y="2322360"/>
            <a:ext cx="85680" cy="219240"/>
          </a:xfrm>
          <a:custGeom>
            <a:avLst/>
            <a:gdLst/>
            <a:ahLst/>
            <a:rect l="l" t="t" r="r" b="b"/>
            <a:pathLst>
              <a:path w="54" h="138">
                <a:moveTo>
                  <a:pt x="0" y="0"/>
                </a:moveTo>
                <a:lnTo>
                  <a:pt x="0" y="27"/>
                </a:lnTo>
                <a:lnTo>
                  <a:pt x="0" y="83"/>
                </a:lnTo>
                <a:lnTo>
                  <a:pt x="0" y="138"/>
                </a:lnTo>
                <a:lnTo>
                  <a:pt x="36" y="138"/>
                </a:lnTo>
                <a:lnTo>
                  <a:pt x="54" y="138"/>
                </a:lnTo>
                <a:lnTo>
                  <a:pt x="54" y="83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00120" y="232236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0" y="0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00120" y="23223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0"/>
                </a:lnTo>
                <a:lnTo>
                  <a:pt x="18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28560" y="245412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28560" y="254160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57360" y="2322360"/>
            <a:ext cx="28440" cy="219240"/>
          </a:xfrm>
          <a:custGeom>
            <a:avLst/>
            <a:gdLst/>
            <a:ahLst/>
            <a:rect l="l" t="t" r="r" b="b"/>
            <a:pathLst>
              <a:path w="18" h="138">
                <a:moveTo>
                  <a:pt x="0" y="0"/>
                </a:moveTo>
                <a:lnTo>
                  <a:pt x="18" y="27"/>
                </a:lnTo>
                <a:lnTo>
                  <a:pt x="18" y="55"/>
                </a:lnTo>
                <a:lnTo>
                  <a:pt x="18" y="55"/>
                </a:lnTo>
                <a:lnTo>
                  <a:pt x="18" y="83"/>
                </a:lnTo>
                <a:lnTo>
                  <a:pt x="18" y="110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0" y="83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600120" y="2235240"/>
            <a:ext cx="284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00120" y="223524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0" y="27"/>
                </a:move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27"/>
                </a:lnTo>
                <a:lnTo>
                  <a:pt x="36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28560" y="2278080"/>
            <a:ext cx="1800" cy="4428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28560" y="23223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42880" y="245412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36" y="0"/>
                </a:moveTo>
                <a:lnTo>
                  <a:pt x="54" y="55"/>
                </a:lnTo>
                <a:lnTo>
                  <a:pt x="18" y="55"/>
                </a:lnTo>
                <a:lnTo>
                  <a:pt x="0" y="27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00120" y="2409840"/>
            <a:ext cx="1440" cy="144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28560" y="2409840"/>
            <a:ext cx="28440" cy="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63" y="18437"/>
                </a:moveTo>
                <a:arcTo wR="10800" hR="10800" stAng="81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3163" y="18437"/>
                </a:moveTo>
                <a:arcTo wR="10800" hR="10800" stAng="8100000" swAng="16200000"/>
              </a:path>
            </a:pathLst>
          </a:custGeom>
          <a:noFill/>
          <a:ln w="85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00120" y="2322360"/>
            <a:ext cx="1440" cy="87480"/>
          </a:xfrm>
          <a:custGeom>
            <a:avLst/>
            <a:gdLst/>
            <a:ahLst/>
            <a:rect l="l" t="t" r="r" b="b"/>
            <a:pathLst>
              <a:path w="0" h="55">
                <a:moveTo>
                  <a:pt x="0" y="55"/>
                </a:move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00120" y="2322360"/>
            <a:ext cx="28440" cy="131760"/>
          </a:xfrm>
          <a:custGeom>
            <a:avLst/>
            <a:gdLst/>
            <a:ahLst/>
            <a:rect l="l" t="t" r="r" b="b"/>
            <a:pathLst>
              <a:path w="18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18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2856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0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2856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0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28560" y="23223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55"/>
                </a:moveTo>
                <a:lnTo>
                  <a:pt x="18" y="27"/>
                </a:lnTo>
                <a:lnTo>
                  <a:pt x="18" y="27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18" y="27"/>
                </a:lnTo>
                <a:lnTo>
                  <a:pt x="18" y="55"/>
                </a:lnTo>
                <a:lnTo>
                  <a:pt x="18" y="55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28560" y="2322360"/>
            <a:ext cx="28800" cy="131760"/>
          </a:xfrm>
          <a:custGeom>
            <a:avLst/>
            <a:gdLst/>
            <a:ahLst/>
            <a:rect l="l" t="t" r="r" b="b"/>
            <a:pathLst>
              <a:path w="18" h="83">
                <a:moveTo>
                  <a:pt x="0" y="0"/>
                </a:move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42880" y="2454120"/>
            <a:ext cx="5724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0" y="27"/>
                </a:moveTo>
                <a:lnTo>
                  <a:pt x="18" y="55"/>
                </a:lnTo>
                <a:lnTo>
                  <a:pt x="36" y="55"/>
                </a:lnTo>
                <a:lnTo>
                  <a:pt x="36" y="0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71680" y="2541600"/>
            <a:ext cx="28440" cy="1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42880" y="2322360"/>
            <a:ext cx="57240" cy="219240"/>
          </a:xfrm>
          <a:custGeom>
            <a:avLst/>
            <a:gdLst/>
            <a:ahLst/>
            <a:rect l="l" t="t" r="r" b="b"/>
            <a:pathLst>
              <a:path w="36" h="138">
                <a:moveTo>
                  <a:pt x="18" y="27"/>
                </a:moveTo>
                <a:lnTo>
                  <a:pt x="18" y="27"/>
                </a:lnTo>
                <a:lnTo>
                  <a:pt x="18" y="55"/>
                </a:lnTo>
                <a:lnTo>
                  <a:pt x="0" y="55"/>
                </a:lnTo>
                <a:lnTo>
                  <a:pt x="0" y="83"/>
                </a:lnTo>
                <a:lnTo>
                  <a:pt x="18" y="110"/>
                </a:lnTo>
                <a:lnTo>
                  <a:pt x="18" y="138"/>
                </a:lnTo>
                <a:lnTo>
                  <a:pt x="36" y="138"/>
                </a:lnTo>
                <a:lnTo>
                  <a:pt x="36" y="138"/>
                </a:lnTo>
                <a:lnTo>
                  <a:pt x="18" y="83"/>
                </a:lnTo>
                <a:lnTo>
                  <a:pt x="18" y="55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0120" y="2496960"/>
            <a:ext cx="1440" cy="18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43440" y="6440400"/>
            <a:ext cx="114480" cy="176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200640" y="6440400"/>
            <a:ext cx="142920" cy="176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657760" y="6089760"/>
            <a:ext cx="771480" cy="438120"/>
          </a:xfrm>
          <a:custGeom>
            <a:avLst/>
            <a:gdLst/>
            <a:ahLst/>
            <a:rect l="l" t="t" r="r" b="b"/>
            <a:pathLst>
              <a:path w="486" h="276">
                <a:moveTo>
                  <a:pt x="18" y="276"/>
                </a:moveTo>
                <a:lnTo>
                  <a:pt x="36" y="276"/>
                </a:lnTo>
                <a:lnTo>
                  <a:pt x="54" y="221"/>
                </a:lnTo>
                <a:lnTo>
                  <a:pt x="72" y="194"/>
                </a:lnTo>
                <a:lnTo>
                  <a:pt x="108" y="194"/>
                </a:lnTo>
                <a:lnTo>
                  <a:pt x="144" y="221"/>
                </a:lnTo>
                <a:lnTo>
                  <a:pt x="144" y="276"/>
                </a:lnTo>
                <a:lnTo>
                  <a:pt x="342" y="276"/>
                </a:lnTo>
                <a:lnTo>
                  <a:pt x="360" y="221"/>
                </a:lnTo>
                <a:lnTo>
                  <a:pt x="378" y="194"/>
                </a:lnTo>
                <a:lnTo>
                  <a:pt x="414" y="194"/>
                </a:lnTo>
                <a:lnTo>
                  <a:pt x="432" y="221"/>
                </a:lnTo>
                <a:lnTo>
                  <a:pt x="432" y="276"/>
                </a:lnTo>
                <a:lnTo>
                  <a:pt x="486" y="276"/>
                </a:lnTo>
                <a:lnTo>
                  <a:pt x="486" y="276"/>
                </a:lnTo>
                <a:lnTo>
                  <a:pt x="486" y="249"/>
                </a:lnTo>
                <a:lnTo>
                  <a:pt x="468" y="249"/>
                </a:lnTo>
                <a:lnTo>
                  <a:pt x="486" y="194"/>
                </a:lnTo>
                <a:lnTo>
                  <a:pt x="486" y="166"/>
                </a:lnTo>
                <a:lnTo>
                  <a:pt x="414" y="111"/>
                </a:lnTo>
                <a:lnTo>
                  <a:pt x="378" y="0"/>
                </a:lnTo>
                <a:lnTo>
                  <a:pt x="36" y="0"/>
                </a:lnTo>
                <a:lnTo>
                  <a:pt x="18" y="0"/>
                </a:lnTo>
                <a:lnTo>
                  <a:pt x="18" y="221"/>
                </a:lnTo>
                <a:lnTo>
                  <a:pt x="0" y="249"/>
                </a:lnTo>
                <a:lnTo>
                  <a:pt x="0" y="276"/>
                </a:lnTo>
                <a:lnTo>
                  <a:pt x="18" y="249"/>
                </a:lnTo>
                <a:lnTo>
                  <a:pt x="18" y="276"/>
                </a:lnTo>
                <a:lnTo>
                  <a:pt x="18" y="276"/>
                </a:lnTo>
                <a:lnTo>
                  <a:pt x="18" y="276"/>
                </a:lnTo>
                <a:lnTo>
                  <a:pt x="18" y="249"/>
                </a:lnTo>
                <a:lnTo>
                  <a:pt x="18" y="27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200640" y="6134040"/>
            <a:ext cx="5724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257880" y="6134040"/>
            <a:ext cx="5724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0" y="0"/>
                </a:moveTo>
                <a:lnTo>
                  <a:pt x="0" y="110"/>
                </a:lnTo>
                <a:lnTo>
                  <a:pt x="36" y="110"/>
                </a:lnTo>
                <a:lnTo>
                  <a:pt x="36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400800" y="6353280"/>
            <a:ext cx="28440" cy="87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886360" y="6134040"/>
            <a:ext cx="85680" cy="2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829480" y="6221520"/>
            <a:ext cx="171360" cy="8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772240" y="6485040"/>
            <a:ext cx="57240" cy="8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7880" y="6485040"/>
            <a:ext cx="288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200640" y="6265800"/>
            <a:ext cx="114480" cy="174600"/>
          </a:xfrm>
          <a:custGeom>
            <a:avLst/>
            <a:gdLst/>
            <a:ahLst/>
            <a:rect l="l" t="t" r="r" b="b"/>
            <a:pathLst>
              <a:path w="72" h="110">
                <a:moveTo>
                  <a:pt x="72" y="27"/>
                </a:moveTo>
                <a:lnTo>
                  <a:pt x="72" y="83"/>
                </a:lnTo>
                <a:lnTo>
                  <a:pt x="36" y="83"/>
                </a:lnTo>
                <a:lnTo>
                  <a:pt x="18" y="110"/>
                </a:lnTo>
                <a:lnTo>
                  <a:pt x="0" y="110"/>
                </a:lnTo>
                <a:lnTo>
                  <a:pt x="0" y="27"/>
                </a:lnTo>
                <a:lnTo>
                  <a:pt x="0" y="27"/>
                </a:lnTo>
                <a:lnTo>
                  <a:pt x="36" y="0"/>
                </a:lnTo>
                <a:lnTo>
                  <a:pt x="72" y="27"/>
                </a:lnTo>
                <a:lnTo>
                  <a:pt x="72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200640" y="6134040"/>
            <a:ext cx="1800" cy="174600"/>
          </a:xfrm>
          <a:custGeom>
            <a:avLst/>
            <a:gdLst/>
            <a:ahLst/>
            <a:rect l="l" t="t" r="r" b="b"/>
            <a:pathLst>
              <a:path w="0" h="110">
                <a:moveTo>
                  <a:pt x="0" y="0"/>
                </a:moveTo>
                <a:lnTo>
                  <a:pt x="0" y="110"/>
                </a:lnTo>
                <a:lnTo>
                  <a:pt x="0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886360" y="6485040"/>
            <a:ext cx="314280" cy="1440"/>
          </a:xfrm>
          <a:custGeom>
            <a:avLst/>
            <a:gdLst/>
            <a:ahLst/>
            <a:rect l="l" t="t" r="r" b="b"/>
            <a:pathLst>
              <a:path w="198" h="0">
                <a:moveTo>
                  <a:pt x="0" y="0"/>
                </a:moveTo>
                <a:lnTo>
                  <a:pt x="198" y="0"/>
                </a:lnTo>
                <a:lnTo>
                  <a:pt x="198" y="0"/>
                </a:lnTo>
                <a:lnTo>
                  <a:pt x="1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172200" y="6046920"/>
            <a:ext cx="5724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200640" y="6046920"/>
            <a:ext cx="2880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6046920"/>
            <a:ext cx="5724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743440" y="6046920"/>
            <a:ext cx="2880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486480" y="482760"/>
            <a:ext cx="85680" cy="8712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600960" y="569880"/>
            <a:ext cx="142920" cy="8748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6772320" y="393840"/>
            <a:ext cx="57240" cy="88920"/>
          </a:xfrm>
          <a:prstGeom prst="rect">
            <a:avLst/>
          </a:prstGeom>
          <a:solidFill>
            <a:srgbClr val="44444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6429240" y="351000"/>
            <a:ext cx="428760" cy="306360"/>
          </a:xfrm>
          <a:custGeom>
            <a:avLst/>
            <a:gdLst/>
            <a:ahLst/>
            <a:rect l="l" t="t" r="r" b="b"/>
            <a:pathLst>
              <a:path w="270" h="193">
                <a:moveTo>
                  <a:pt x="270" y="0"/>
                </a:moveTo>
                <a:lnTo>
                  <a:pt x="216" y="0"/>
                </a:lnTo>
                <a:lnTo>
                  <a:pt x="180" y="55"/>
                </a:lnTo>
                <a:lnTo>
                  <a:pt x="0" y="55"/>
                </a:lnTo>
                <a:lnTo>
                  <a:pt x="162" y="193"/>
                </a:lnTo>
                <a:lnTo>
                  <a:pt x="198" y="138"/>
                </a:lnTo>
                <a:lnTo>
                  <a:pt x="270" y="165"/>
                </a:lnTo>
                <a:lnTo>
                  <a:pt x="270" y="83"/>
                </a:lnTo>
                <a:lnTo>
                  <a:pt x="216" y="83"/>
                </a:lnTo>
                <a:lnTo>
                  <a:pt x="234" y="27"/>
                </a:lnTo>
                <a:lnTo>
                  <a:pt x="270" y="27"/>
                </a:lnTo>
                <a:lnTo>
                  <a:pt x="270" y="0"/>
                </a:lnTo>
                <a:close/>
              </a:path>
            </a:pathLst>
          </a:cu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6515280" y="569880"/>
            <a:ext cx="85680" cy="17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715080" y="569880"/>
            <a:ext cx="114480" cy="17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572160" y="525600"/>
            <a:ext cx="200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486480" y="5256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829560" y="525600"/>
            <a:ext cx="28440" cy="87120"/>
          </a:xfrm>
          <a:prstGeom prst="rect">
            <a:avLst/>
          </a:prstGeom>
          <a:solidFill>
            <a:srgbClr val="000000"/>
          </a:solidFill>
          <a:ln w="0">
            <a:solidFill>
              <a:srgbClr val="44444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6543720" y="612720"/>
            <a:ext cx="28440" cy="44640"/>
          </a:xfrm>
          <a:prstGeom prst="ellipse">
            <a:avLst/>
          </a:prstGeom>
          <a:solidFill>
            <a:srgbClr val="ff87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772320" y="612720"/>
            <a:ext cx="28440" cy="44640"/>
          </a:xfrm>
          <a:prstGeom prst="ellipse">
            <a:avLst/>
          </a:prstGeom>
          <a:solidFill>
            <a:srgbClr val="ff87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743880" y="306360"/>
            <a:ext cx="28440" cy="17640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6743520" y="306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6715080" y="482760"/>
            <a:ext cx="57240" cy="4284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686640" y="612720"/>
            <a:ext cx="28440" cy="4464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629400" y="612720"/>
            <a:ext cx="57240" cy="4464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829560" y="525600"/>
            <a:ext cx="1440" cy="44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62120" y="1523880"/>
            <a:ext cx="1904760" cy="635040"/>
          </a:xfrm>
          <a:custGeom>
            <a:avLst/>
            <a:gdLst/>
            <a:ahLst/>
            <a:rect l="l" t="t" r="r" b="b"/>
            <a:pathLst>
              <a:path w="1200" h="400">
                <a:moveTo>
                  <a:pt x="48" y="400"/>
                </a:moveTo>
                <a:cubicBezTo>
                  <a:pt x="24" y="264"/>
                  <a:pt x="0" y="128"/>
                  <a:pt x="192" y="64"/>
                </a:cubicBezTo>
                <a:cubicBezTo>
                  <a:pt x="384" y="0"/>
                  <a:pt x="1032" y="24"/>
                  <a:pt x="120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657600" y="1473120"/>
            <a:ext cx="2590920" cy="1498680"/>
          </a:xfrm>
          <a:custGeom>
            <a:avLst/>
            <a:gdLst/>
            <a:ahLst/>
            <a:rect l="l" t="t" r="r" b="b"/>
            <a:pathLst>
              <a:path w="1632" h="944">
                <a:moveTo>
                  <a:pt x="0" y="32"/>
                </a:moveTo>
                <a:cubicBezTo>
                  <a:pt x="428" y="16"/>
                  <a:pt x="856" y="0"/>
                  <a:pt x="1104" y="128"/>
                </a:cubicBezTo>
                <a:cubicBezTo>
                  <a:pt x="1352" y="256"/>
                  <a:pt x="1400" y="664"/>
                  <a:pt x="1488" y="800"/>
                </a:cubicBezTo>
                <a:cubicBezTo>
                  <a:pt x="1576" y="936"/>
                  <a:pt x="1608" y="920"/>
                  <a:pt x="1632" y="9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990720" y="2362320"/>
            <a:ext cx="7467480" cy="1060200"/>
          </a:xfrm>
          <a:custGeom>
            <a:avLst/>
            <a:gdLst/>
            <a:ahLst/>
            <a:rect l="l" t="t" r="r" b="b"/>
            <a:pathLst>
              <a:path w="4704" h="668">
                <a:moveTo>
                  <a:pt x="0" y="0"/>
                </a:moveTo>
                <a:cubicBezTo>
                  <a:pt x="103" y="67"/>
                  <a:pt x="143" y="292"/>
                  <a:pt x="617" y="402"/>
                </a:cubicBezTo>
                <a:cubicBezTo>
                  <a:pt x="1091" y="512"/>
                  <a:pt x="2163" y="656"/>
                  <a:pt x="2844" y="662"/>
                </a:cubicBezTo>
                <a:cubicBezTo>
                  <a:pt x="3525" y="668"/>
                  <a:pt x="4317" y="484"/>
                  <a:pt x="4704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553080" y="914400"/>
            <a:ext cx="381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889280" y="3052800"/>
            <a:ext cx="1158840" cy="1150920"/>
          </a:xfrm>
          <a:custGeom>
            <a:avLst/>
            <a:gdLst/>
            <a:ahLst/>
            <a:rect l="l" t="t" r="r" b="b"/>
            <a:pathLst>
              <a:path w="730" h="725">
                <a:moveTo>
                  <a:pt x="51" y="0"/>
                </a:moveTo>
                <a:cubicBezTo>
                  <a:pt x="61" y="100"/>
                  <a:pt x="0" y="493"/>
                  <a:pt x="113" y="609"/>
                </a:cubicBezTo>
                <a:cubicBezTo>
                  <a:pt x="226" y="725"/>
                  <a:pt x="627" y="681"/>
                  <a:pt x="730" y="69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637160" y="3305160"/>
            <a:ext cx="2268360" cy="519120"/>
          </a:xfrm>
          <a:custGeom>
            <a:avLst/>
            <a:gdLst/>
            <a:ahLst/>
            <a:rect l="l" t="t" r="r" b="b"/>
            <a:pathLst>
              <a:path w="1429" h="327">
                <a:moveTo>
                  <a:pt x="0" y="327"/>
                </a:moveTo>
                <a:cubicBezTo>
                  <a:pt x="132" y="298"/>
                  <a:pt x="563" y="214"/>
                  <a:pt x="801" y="160"/>
                </a:cubicBezTo>
                <a:cubicBezTo>
                  <a:pt x="1039" y="106"/>
                  <a:pt x="1298" y="33"/>
                  <a:pt x="14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649760" y="4275000"/>
            <a:ext cx="760320" cy="1668600"/>
          </a:xfrm>
          <a:custGeom>
            <a:avLst/>
            <a:gdLst/>
            <a:ahLst/>
            <a:rect l="l" t="t" r="r" b="b"/>
            <a:pathLst>
              <a:path w="479" h="1051">
                <a:moveTo>
                  <a:pt x="0" y="0"/>
                </a:moveTo>
                <a:cubicBezTo>
                  <a:pt x="23" y="93"/>
                  <a:pt x="58" y="385"/>
                  <a:pt x="138" y="560"/>
                </a:cubicBezTo>
                <a:cubicBezTo>
                  <a:pt x="218" y="735"/>
                  <a:pt x="408" y="949"/>
                  <a:pt x="479" y="105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715000" y="114480"/>
            <a:ext cx="914400" cy="342720"/>
          </a:xfrm>
          <a:custGeom>
            <a:avLst/>
            <a:gdLst/>
            <a:ahLst/>
            <a:rect l="l" t="t" r="r" b="b"/>
            <a:pathLst>
              <a:path w="576" h="216">
                <a:moveTo>
                  <a:pt x="0" y="72"/>
                </a:moveTo>
                <a:cubicBezTo>
                  <a:pt x="168" y="36"/>
                  <a:pt x="336" y="0"/>
                  <a:pt x="432" y="24"/>
                </a:cubicBezTo>
                <a:cubicBezTo>
                  <a:pt x="528" y="48"/>
                  <a:pt x="552" y="184"/>
                  <a:pt x="576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5730840" y="142920"/>
            <a:ext cx="746280" cy="390600"/>
          </a:xfrm>
          <a:custGeom>
            <a:avLst/>
            <a:gdLst/>
            <a:ahLst/>
            <a:rect l="l" t="t" r="r" b="b"/>
            <a:pathLst>
              <a:path w="470" h="246">
                <a:moveTo>
                  <a:pt x="0" y="48"/>
                </a:moveTo>
                <a:cubicBezTo>
                  <a:pt x="58" y="44"/>
                  <a:pt x="272" y="0"/>
                  <a:pt x="350" y="33"/>
                </a:cubicBezTo>
                <a:cubicBezTo>
                  <a:pt x="428" y="66"/>
                  <a:pt x="450" y="210"/>
                  <a:pt x="470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62120" y="2500200"/>
            <a:ext cx="1447560" cy="1843200"/>
          </a:xfrm>
          <a:custGeom>
            <a:avLst/>
            <a:gdLst/>
            <a:ahLst/>
            <a:rect l="l" t="t" r="r" b="b"/>
            <a:pathLst>
              <a:path w="912" h="1161">
                <a:moveTo>
                  <a:pt x="0" y="57"/>
                </a:moveTo>
                <a:cubicBezTo>
                  <a:pt x="43" y="66"/>
                  <a:pt x="170" y="0"/>
                  <a:pt x="258" y="112"/>
                </a:cubicBezTo>
                <a:cubicBezTo>
                  <a:pt x="346" y="224"/>
                  <a:pt x="419" y="554"/>
                  <a:pt x="528" y="729"/>
                </a:cubicBezTo>
                <a:cubicBezTo>
                  <a:pt x="637" y="904"/>
                  <a:pt x="848" y="1089"/>
                  <a:pt x="912" y="11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5562720"/>
            <a:ext cx="4114800" cy="7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reated by the Department to Public Health, Weill Medical College of Cornell Univeristy, NYCOEM, and NYCDOHM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1" name=""/>
          <p:cNvGrpSpPr/>
          <p:nvPr/>
        </p:nvGrpSpPr>
        <p:grpSpPr>
          <a:xfrm>
            <a:off x="609480" y="304920"/>
            <a:ext cx="6624720" cy="5802120"/>
            <a:chOff x="609480" y="304920"/>
            <a:chExt cx="6624720" cy="5802120"/>
          </a:xfrm>
        </p:grpSpPr>
        <p:pic>
          <p:nvPicPr>
            <p:cNvPr id="1982" name="" descr=""/>
            <p:cNvPicPr/>
            <p:nvPr/>
          </p:nvPicPr>
          <p:blipFill>
            <a:blip r:embed="rId1"/>
            <a:srcRect l="12790" t="13267" r="13954" b="0"/>
            <a:stretch/>
          </p:blipFill>
          <p:spPr>
            <a:xfrm>
              <a:off x="2286000" y="304920"/>
              <a:ext cx="4948200" cy="5802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983" name=""/>
            <p:cNvSpPr/>
            <p:nvPr/>
          </p:nvSpPr>
          <p:spPr>
            <a:xfrm>
              <a:off x="609480" y="685800"/>
              <a:ext cx="2362320" cy="1191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CHEMATIC FLOW THROUGH SIMPLE DISPENSING 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4000" y="444240"/>
            <a:ext cx="76244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ady-state assump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685440" y="1755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y state develops i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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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arrival rat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#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servic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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 = RT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533520" y="4572000"/>
            <a:ext cx="8076600" cy="1600200"/>
            <a:chOff x="533520" y="4572000"/>
            <a:chExt cx="8076600" cy="1600200"/>
          </a:xfrm>
        </p:grpSpPr>
        <p:sp>
          <p:nvSpPr>
            <p:cNvPr id="1987" name=""/>
            <p:cNvSpPr/>
            <p:nvPr/>
          </p:nvSpPr>
          <p:spPr>
            <a:xfrm>
              <a:off x="611280" y="4572000"/>
              <a:ext cx="7998840" cy="1600200"/>
            </a:xfrm>
            <a:prstGeom prst="rect">
              <a:avLst/>
            </a:prstGeom>
            <a:noFill/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533520" y="4647960"/>
              <a:ext cx="8076240" cy="1373760"/>
              <a:chOff x="533520" y="4647960"/>
              <a:chExt cx="8076240" cy="1373760"/>
            </a:xfrm>
          </p:grpSpPr>
          <p:sp>
            <p:nvSpPr>
              <p:cNvPr id="1989" name=""/>
              <p:cNvSpPr/>
              <p:nvPr/>
            </p:nvSpPr>
            <p:spPr>
              <a:xfrm>
                <a:off x="533520" y="4800240"/>
                <a:ext cx="2639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taff required at a station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096000" y="502884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84440" y="4647960"/>
                <a:ext cx="23295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Rate of patient arrival at that station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125040" y="4647960"/>
                <a:ext cx="24847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Mean station processing time  per patien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36240" y="5105160"/>
                <a:ext cx="38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2743200" cy="2209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CHEMATIC FLOW THROUGH WEILL/CORNELL SMALLPOX VACCINATION MODEL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1995" name=""/>
          <p:cNvGraphicFramePr/>
          <p:nvPr/>
        </p:nvGraphicFramePr>
        <p:xfrm>
          <a:off x="3048120" y="152280"/>
          <a:ext cx="586728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280"/>
                    <a:ext cx="5867280" cy="6629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7" name=""/>
          <p:cNvSpPr/>
          <p:nvPr/>
        </p:nvSpPr>
        <p:spPr>
          <a:xfrm>
            <a:off x="3762360" y="244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2590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Weill/Cornell Smallpox Vaccination Staffing Mode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3048120" y="76320"/>
            <a:ext cx="5790600" cy="6552720"/>
            <a:chOff x="3048120" y="76320"/>
            <a:chExt cx="5790600" cy="6552720"/>
          </a:xfrm>
        </p:grpSpPr>
        <p:graphicFrame>
          <p:nvGraphicFramePr>
            <p:cNvPr id="2000" name=""/>
            <p:cNvGraphicFramePr/>
            <p:nvPr/>
          </p:nvGraphicFramePr>
          <p:xfrm>
            <a:off x="3048120" y="76320"/>
            <a:ext cx="5790600" cy="65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320"/>
                      <a:ext cx="5790600" cy="65527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02" name=""/>
            <p:cNvSpPr/>
            <p:nvPr/>
          </p:nvSpPr>
          <p:spPr>
            <a:xfrm>
              <a:off x="3752280" y="91080"/>
              <a:ext cx="3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304920" y="3276720"/>
            <a:ext cx="20574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E-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733920" y="380880"/>
            <a:ext cx="609480" cy="5791320"/>
          </a:xfrm>
          <a:prstGeom prst="downArrow">
            <a:avLst>
              <a:gd name="adj1" fmla="val 49481"/>
              <a:gd name="adj2" fmla="val 130037"/>
            </a:avLst>
          </a:pr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4419720" y="456120"/>
            <a:ext cx="1676160" cy="1219320"/>
          </a:xfrm>
          <a:custGeom>
            <a:avLst/>
            <a:gdLst>
              <a:gd name="textAreaLeft" fmla="*/ 479160 w 1676160"/>
              <a:gd name="textAreaRight" fmla="*/ 1398600 w 1676160"/>
              <a:gd name="textAreaTop" fmla="*/ 825480 h 1219320"/>
              <a:gd name="textAreaBottom" fmla="*/ 1017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8205"/>
                </a:moveTo>
                <a:lnTo>
                  <a:pt x="14625" y="18205"/>
                </a:lnTo>
                <a:lnTo>
                  <a:pt x="14625" y="6177"/>
                </a:lnTo>
                <a:lnTo>
                  <a:pt x="11045" y="6177"/>
                </a:lnTo>
                <a:lnTo>
                  <a:pt x="16323" y="0"/>
                </a:lnTo>
                <a:lnTo>
                  <a:pt x="21600" y="6177"/>
                </a:lnTo>
                <a:lnTo>
                  <a:pt x="18020" y="6177"/>
                </a:lnTo>
                <a:lnTo>
                  <a:pt x="180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410080" y="1676520"/>
            <a:ext cx="533520" cy="4495680"/>
          </a:xfrm>
          <a:prstGeom prst="downArrow">
            <a:avLst>
              <a:gd name="adj1" fmla="val 49481"/>
              <a:gd name="adj2" fmla="val 115318"/>
            </a:avLst>
          </a:pr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2590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Weill/Cornell Smallpox Vaccination Staffing Mode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3048120" y="76320"/>
            <a:ext cx="5638680" cy="6172200"/>
            <a:chOff x="3048120" y="76320"/>
            <a:chExt cx="5638680" cy="6172200"/>
          </a:xfrm>
        </p:grpSpPr>
        <p:graphicFrame>
          <p:nvGraphicFramePr>
            <p:cNvPr id="2009" name=""/>
            <p:cNvGraphicFramePr/>
            <p:nvPr/>
          </p:nvGraphicFramePr>
          <p:xfrm>
            <a:off x="3048120" y="76320"/>
            <a:ext cx="5638680" cy="617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320"/>
                      <a:ext cx="5638680" cy="6172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11" name=""/>
            <p:cNvSpPr/>
            <p:nvPr/>
          </p:nvSpPr>
          <p:spPr>
            <a:xfrm>
              <a:off x="3733920" y="90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2" name=""/>
          <p:cNvSpPr/>
          <p:nvPr/>
        </p:nvSpPr>
        <p:spPr>
          <a:xfrm>
            <a:off x="304920" y="4114800"/>
            <a:ext cx="2209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OST-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809880" y="380880"/>
            <a:ext cx="609840" cy="5791320"/>
          </a:xfrm>
          <a:prstGeom prst="downArrow">
            <a:avLst>
              <a:gd name="adj1" fmla="val 49481"/>
              <a:gd name="adj2" fmla="val 129961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4572000" y="456120"/>
            <a:ext cx="2895480" cy="1219320"/>
          </a:xfrm>
          <a:custGeom>
            <a:avLst/>
            <a:gdLst>
              <a:gd name="textAreaLeft" fmla="*/ 968760 w 2895480"/>
              <a:gd name="textAreaRight" fmla="*/ 2390760 w 2895480"/>
              <a:gd name="textAreaTop" fmla="*/ 835920 h 1219320"/>
              <a:gd name="textAreaBottom" fmla="*/ 1006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8577"/>
                </a:moveTo>
                <a:lnTo>
                  <a:pt x="14811" y="18577"/>
                </a:lnTo>
                <a:lnTo>
                  <a:pt x="14811" y="7228"/>
                </a:lnTo>
                <a:lnTo>
                  <a:pt x="11045" y="7228"/>
                </a:lnTo>
                <a:lnTo>
                  <a:pt x="16323" y="0"/>
                </a:lnTo>
                <a:lnTo>
                  <a:pt x="21600" y="7228"/>
                </a:lnTo>
                <a:lnTo>
                  <a:pt x="17834" y="7228"/>
                </a:lnTo>
                <a:lnTo>
                  <a:pt x="178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410080" y="1676520"/>
            <a:ext cx="533520" cy="4495680"/>
          </a:xfrm>
          <a:prstGeom prst="downArrow">
            <a:avLst>
              <a:gd name="adj1" fmla="val 49481"/>
              <a:gd name="adj2" fmla="val 115318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543800" y="1676520"/>
            <a:ext cx="533520" cy="4495680"/>
          </a:xfrm>
          <a:prstGeom prst="downArrow">
            <a:avLst>
              <a:gd name="adj1" fmla="val 49481"/>
              <a:gd name="adj2" fmla="val 115318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0:48:25Z</dcterms:created>
  <dc:creator>Nathaniel Hupert, MD, MPH</dc:creator>
  <dc:description/>
  <dc:language>en-US</dc:language>
  <cp:lastModifiedBy>Mike Hess</cp:lastModifiedBy>
  <dcterms:modified xsi:type="dcterms:W3CDTF">2003-02-27T21:32:35Z</dcterms:modified>
  <cp:revision>8</cp:revision>
  <dc:subject/>
  <dc:title>Computer-Aided Design of Smallpox Mass Vaccination Campaig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453182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mallpox Web-assisted teleconference</vt:lpwstr>
  </property>
  <property fmtid="{D5CDD505-2E9C-101B-9397-08002B2CF9AE}" pid="6" name="_PreviousAdHocReviewCycleID">
    <vt:r8>1890691044</vt:r8>
  </property>
</Properties>
</file>