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EC5-0A35-4C4E-9BF1-A1055BCB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9E3-868A-47E0-9E52-546EDBD4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25D-3E45-4D6F-8160-91B5ADD2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F3F-4D8A-4627-83E3-4CFA4A68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33DB-9824-4FEE-A92A-44B970F7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06EE-C24D-474E-B18A-6518C3B7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7931-9DA4-448E-B2B8-977D6786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0390-CCEF-4F5E-A15E-9A484A1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F7B1-9EA2-401B-8BF8-10E485F9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BAF-19E0-47AC-B357-F82D8435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E8D9-67BF-4108-9660-C38CFC3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0D5-3F3E-4F83-BA41-8C36B73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377A-64D2-4DB3-9167-3EA4830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045A-5D97-4473-BA87-9082B9EB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CDC-8B60-4C67-9EE5-A8107BC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9310-7768-4EDE-9F8A-C200777C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95C-3C36-401F-87C4-25B5B057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AA0-E9E1-4E73-BFFC-83271DDB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6E4-8C15-4762-B997-5CEE2DB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488-BAB5-4226-A277-AA5EB0E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04F-318A-4572-ACAF-29CEADF5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5CE-FCF1-4F5D-8635-F8E064A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C25-19BD-4221-AAF8-17AF2132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611-C587-4D23-BD9C-626DB4D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41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2440" y="6286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2144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B6A-4251-4663-9D20-99EDAA7447C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" name=""/>
          <p:cNvCxnSpPr/>
          <p:nvPr/>
        </p:nvCxnSpPr>
        <p:spPr>
          <a:xfrm>
            <a:off x="228240" y="1752120"/>
            <a:ext cx="8915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" name=""/>
          <p:cNvCxnSpPr/>
          <p:nvPr/>
        </p:nvCxnSpPr>
        <p:spPr>
          <a:xfrm>
            <a:off x="609120" y="228600"/>
            <a:ext cx="2520" cy="640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" name=""/>
          <p:cNvCxnSpPr/>
          <p:nvPr/>
        </p:nvCxnSpPr>
        <p:spPr>
          <a:xfrm>
            <a:off x="456840" y="228600"/>
            <a:ext cx="1080" cy="640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05320" y="2590920"/>
            <a:ext cx="48942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5D8E-83BE-409E-B4C9-D37EF3C987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Using Data to Tell the Safety Net Sto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038120" y="2819520"/>
            <a:ext cx="54104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ristine Shann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ministrator, Planning and Research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fice of Health Planning and Medica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w Hampshire Department of Health and Human Ser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6576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elling the Safety Net Story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types of data can be used to tell the safety net 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can be used alone… or better yet, considered together to answer questions and solv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688-FBA6-4B7C-9084-57ABC23DC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Important information for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2514600"/>
            <a:ext cx="81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icy Deci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ing Decision Mak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FB5-9C1B-4E9C-BC62-E8B28E6D3F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Direct Application of G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vider network adequacy (pharmacies, dentists, and physicians) to focus Medicaid recruitment eff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C coverage adequacy to determine future expansion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rtrayal of Medicaid participation allows CHC’s to describe n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EDA-1C62-4848-B1E8-9BF0DC6D1B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858000" cy="64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333C-2914-4795-A52C-634C76E1BD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8E6-7B89-49DB-99D3-08271C8685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399960"/>
            <a:ext cx="6782040" cy="611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D61-DB29-4FB0-A625-397C889FCC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1200" y="494280"/>
            <a:ext cx="81630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66"/>
                </a:solidFill>
                <a:latin typeface="Verdana"/>
              </a:rPr>
              <a:t>Direct Application of Emergency Department (ED) Data</a:t>
            </a:r>
            <a:endParaRPr b="0" lang="en-US" sz="3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amine Medicaid- funded ED visits, then compare Medicaid versus non-Medicaid ED 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ime of day does the greatest ED use occu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Medicaid patients use the ED more frequently for common ill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tilize the ED algorithm developed by NYU to further analyze NH Medicaid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other states used the ED algorithm with their Medicaid da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862-F1B2-4722-90EA-044EDFFA59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Verdana"/>
              </a:rPr>
              <a:t>Putting it all together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identify gaps in services and geographic patterns for access to medical ca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 data (Medicaid claims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S mapp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oal:  target efforts to enroll Medicaid providers which will aid in network development/mainten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7F2-35EC-4DA1-B99A-D249936625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3:51:41Z</dcterms:created>
  <dc:creator>dhhs user</dc:creator>
  <dc:description/>
  <dc:language>en-US</dc:language>
  <cp:lastModifiedBy>McDaniel</cp:lastModifiedBy>
  <dcterms:modified xsi:type="dcterms:W3CDTF">2003-09-17T21:42:0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13444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