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4A6-43A7-44A6-B0A7-96D91E74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4C9-B3F4-456F-A90A-E074E90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B62-E10F-48E6-B389-B9DA24EB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1C4-5281-48A7-88E4-2B0AC7B7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CC2E-D9E0-495B-BEAB-AB10223B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F9C8-0935-40D2-A647-B7A70706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1887-9EDF-4994-9617-F58B1F2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755C-82F5-4741-8C15-B5CE7DAD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3C53-532D-4EAB-AEFB-7E6A6C4C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39E3-4A59-476A-A2AA-0D96DA5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E2F0-A9A1-480B-8268-58C646A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F57-B650-4BF4-8FB0-D8B26BB8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D246-6D27-4ECB-A2E9-2145FDF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3844-863E-4401-A260-11BD61E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871-249F-438B-BA1F-B6B60A41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7348-0DA5-474D-8D90-DF97D973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3BA4-A4D2-4356-8FAF-913D56A5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4D9-7E4B-46FA-B9B1-D9F57C35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D7F-A1D6-4822-B4CC-9611EDF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01A-83D9-4851-8549-C731F02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C5E-CCE5-4A55-9D9B-DED3FADA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75B-CE19-4762-9849-83A8C03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E12-F1CC-487D-868D-446AC79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6B6-4E94-46B6-82CB-C4261EF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41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2440" y="6286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2144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C4C-8C9F-49AA-816D-7CB66AA1EE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" name=""/>
          <p:cNvCxnSpPr/>
          <p:nvPr/>
        </p:nvCxnSpPr>
        <p:spPr>
          <a:xfrm>
            <a:off x="228240" y="1752120"/>
            <a:ext cx="8915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" name=""/>
          <p:cNvCxnSpPr/>
          <p:nvPr/>
        </p:nvCxnSpPr>
        <p:spPr>
          <a:xfrm>
            <a:off x="609120" y="228600"/>
            <a:ext cx="2520" cy="640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" name=""/>
          <p:cNvCxnSpPr/>
          <p:nvPr/>
        </p:nvCxnSpPr>
        <p:spPr>
          <a:xfrm>
            <a:off x="456840" y="228600"/>
            <a:ext cx="1080" cy="640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2590920"/>
            <a:ext cx="48942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9DD0-5E13-41CF-A9B7-CDE2D6BFEB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Using Data to Tell the Safety Net Sto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038120" y="2819520"/>
            <a:ext cx="54104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ristine Shann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ministrator, Planning and Research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fice of Health Planning and Medica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w Hampshire Department of Health and Human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6576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elling the Safety Net Stor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2438280"/>
            <a:ext cx="81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 types of data can be used to tell the safety net 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can be used alone… or better yet, considered together to answer questions and solv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187-A56D-4367-8CD5-4C72DB39F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Important information for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2514600"/>
            <a:ext cx="81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icy Dec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ing Decision Mak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FEB-287D-4B1F-9CA0-8EF762863B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Direct Application of G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vider network adequacy (pharmacies, dentists, and physicians) to focus Medicaid recruitment eff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C coverage adequacy to determine future expansion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rtrayal of Medicaid participation allows CHC’s to describe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A4C-6768-44BF-A7F1-63FD93C65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858000" cy="643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A48-899E-42D0-9F50-B3F9861821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0F2-383C-484E-BD39-474768A3D9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399960"/>
            <a:ext cx="6782040" cy="611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43B-AD60-4E75-A869-C5C189F57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1200" y="494280"/>
            <a:ext cx="81630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Verdana"/>
              </a:rPr>
              <a:t>Direct Application of Emergency Department (ED) Data</a:t>
            </a:r>
            <a:endParaRPr b="0" lang="en-US" sz="3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ine Medicaid- funded ED visits, then compare Medicaid versus non-Medicaid ED 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time of day does the greatest ED use occu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Medicaid patients use the ED more frequently for common ill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tilize the ED algorithm developed by NYU to further analyze NH Medicaid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other states used the ED algorithm with their Medicaid da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773-CC42-4EB4-9E01-F6DCAD68C4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Putting it all together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identify gaps in services and geographic patterns for access to medical ca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 data (Medicaid claims d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S mapp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oal:  target efforts to enroll Medicaid providers which will aid in network development/mainten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5A7-8BE9-415F-B6DC-930CB7C5B5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3:51:41Z</dcterms:created>
  <dc:creator>dhhs user</dc:creator>
  <dc:description/>
  <dc:language>en-US</dc:language>
  <cp:lastModifiedBy>McDaniel</cp:lastModifiedBy>
  <dcterms:modified xsi:type="dcterms:W3CDTF">2003-09-17T21:42:0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13444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