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4AB-6949-436B-BE6B-5862083F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6D5-249B-42FA-A9DF-71F93626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D10-2005-4045-A911-F360BBC8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5C5-F6D7-4F77-98D0-AABB268E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1DFA-87FC-4C08-ABC8-F3BED8AE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AFCB-1D67-40B8-84F1-256F8426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D89A-C24D-46E8-9DB6-3C35A40B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F463-268F-4210-856F-55BC3244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8DA8-2C14-4457-BA52-67E68909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EC3E-72A1-4B97-858D-EDF7AF45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5EBF-465D-45CA-B4A0-C709234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DE8-4698-4BEC-B38C-D3688D28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7481-A958-4A78-9BC1-475894FD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8EA2-243E-4C1D-AAEF-882B3764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E423-37DB-48D1-9F80-57D85FE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241-B803-47A1-8350-73B80F84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8F94-3A9D-4DC7-B6EF-118A1E6D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78FE-05A7-46E1-A78C-FBFFF474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3523-1401-40A9-8631-344C29C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52DC-179C-4474-868B-B7AECCB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19E6-4CD4-4549-91B3-790493D3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115E-06CA-4AE9-BEA8-EC528AC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29C-F098-4C44-929F-49A87AF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D9A1-2676-4108-A400-E54F77E4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5A8B-BCC1-4B1B-8C36-9F4B094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9BFB-DB96-4D2F-B2FE-AC446DA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97359-EA68-4916-9FD3-97BECA5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8699-9878-4762-8F0D-65EED3F9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DA43-B1F9-43FC-B1D4-EE09972C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7955-BBC5-43AD-8C26-502B1436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3D7E-B371-468D-88AC-2DA92501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68BC-B504-4E3B-BE15-2B49AC11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AE5B-B4CF-4D57-93F8-173FB729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DAE-E590-4138-AE85-68428AA5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A3DD-08B0-47DC-83E2-F8C7A3DF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1F3D-FD67-4006-BD53-AE000CCC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29C5B-3226-4AB6-97F5-0DD58E3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03D1-F593-4809-850A-54E9DE99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3C7BC-9619-4B22-906E-716DE66E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2499-056E-4A39-A786-25E7AB6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2F98-E948-47A8-B042-3E06C76C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B07D-5E46-45A6-9475-FC9F9C0F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2C4A6-AC47-4E2A-8CBC-884CCC74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789-06F5-4660-A719-C19074E8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4C92-7A11-4694-AC22-1FEB9E1D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ED7-8DDB-4091-B0A3-EBC148D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492-5C28-4B37-BE95-41CDB51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C60-94F3-434E-A51C-329D358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609480"/>
            <a:ext cx="77720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5530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7D90D-7188-4D31-863E-C761A51E1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162920" y="6324480"/>
            <a:ext cx="1904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E6A30C-113E-469B-B901-536A69913F11}" type="slidenum">
              <a:rPr b="0" lang="en-US" sz="10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62920" y="6324480"/>
            <a:ext cx="1904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2B1371-474D-42A8-B6C4-F6F895F390C4}" type="slidenum">
              <a:rPr b="0" lang="en-US" sz="10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62920" y="6324480"/>
            <a:ext cx="1904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A476E5-FC37-4198-A54C-3E0A4713E913}" type="slidenum">
              <a:rPr b="0" lang="en-US" sz="10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2760" y="914400"/>
            <a:ext cx="8702280" cy="223956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5000" anchor="ctr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ADMINISTRATIVE DAT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ONITOR ACCESS, IDENTIFY DISPARITIE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SSESS PERFORMANC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SAFETY NE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590920" y="3505320"/>
            <a:ext cx="1971360" cy="64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Bi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3276720" y="4952880"/>
            <a:ext cx="977400" cy="977400"/>
          </a:xfrm>
          <a:prstGeom prst="rect">
            <a:avLst/>
          </a:prstGeom>
          <a:ln w="9525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276720" y="4952880"/>
            <a:ext cx="977400" cy="977400"/>
          </a:xfrm>
          <a:prstGeom prst="rect">
            <a:avLst/>
          </a:prstGeom>
          <a:solidFill>
            <a:srgbClr val="c9ddd9">
              <a:alpha val="37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417760" y="6297480"/>
            <a:ext cx="4308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U Center for Health and Public Servic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billings"/>
          <p:cNvPicPr/>
          <p:nvPr/>
        </p:nvPicPr>
        <p:blipFill>
          <a:blip r:embed="rId2"/>
          <a:stretch/>
        </p:blipFill>
        <p:spPr>
          <a:xfrm>
            <a:off x="5257800" y="3352680"/>
            <a:ext cx="1933200" cy="279036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069-D9FA-4DA7-BD8D-CA2510B656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S Admissions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timore - Age 0-17 -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4"/>
          <p:cNvSpPr/>
          <p:nvPr/>
        </p:nvSpPr>
        <p:spPr>
          <a:xfrm>
            <a:off x="1141920" y="1981080"/>
            <a:ext cx="1132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282680" y="239544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5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2.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9.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219320" y="236232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080" y="66135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V="1">
            <a:off x="1143000" y="2590560"/>
            <a:ext cx="6933960" cy="22860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1290-DAE4-43AE-8872-D315DBA978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S Admissions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timore - Age 40-64 -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4"/>
          <p:cNvSpPr/>
          <p:nvPr/>
        </p:nvSpPr>
        <p:spPr>
          <a:xfrm>
            <a:off x="1141920" y="1981080"/>
            <a:ext cx="1132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513080" y="239544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8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4.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26.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447920" y="236232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80" y="66135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1218960" y="2361960"/>
            <a:ext cx="6858000" cy="3200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265E0-1133-4F98-8F53-6193D3F343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ook Kit - Atlanta County Level"/>
          <p:cNvPicPr/>
          <p:nvPr/>
        </p:nvPicPr>
        <p:blipFill>
          <a:blip r:embed="rId1"/>
          <a:stretch/>
        </p:blipFill>
        <p:spPr>
          <a:xfrm>
            <a:off x="0" y="-108000"/>
            <a:ext cx="9140400" cy="7062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334120" y="762120"/>
            <a:ext cx="3200040" cy="100440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a Metro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Admissions/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40-64 -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3520" y="6608880"/>
            <a:ext cx="4471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AHRQ/HCUP -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67D-41FF-4206-8304-C048B8810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Took Kit - Atlanta Zip Level"/>
          <p:cNvPicPr/>
          <p:nvPr/>
        </p:nvPicPr>
        <p:blipFill>
          <a:blip r:embed="rId1"/>
          <a:stretch/>
        </p:blipFill>
        <p:spPr>
          <a:xfrm>
            <a:off x="0" y="-76320"/>
            <a:ext cx="9140400" cy="70624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5334120" y="762120"/>
            <a:ext cx="3200040" cy="1004400"/>
          </a:xfrm>
          <a:prstGeom prst="rect">
            <a:avLst/>
          </a:prstGeom>
          <a:solidFill>
            <a:schemeClr val="bg1"/>
          </a:solidFill>
          <a:ln w="190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a Metro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Admissions/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40-64 -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83520" y="6608880"/>
            <a:ext cx="4471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AHRQ/HCUP -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CE9B-AC41-49A9-B6A9-FCA4B5B664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S Admissions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 City - Age 18-64 -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4"/>
          <p:cNvSpPr/>
          <p:nvPr/>
        </p:nvSpPr>
        <p:spPr>
          <a:xfrm>
            <a:off x="1141920" y="1981080"/>
            <a:ext cx="1132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663920" y="254808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6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10.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600200" y="251460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 flipV="1">
            <a:off x="1143000" y="2361960"/>
            <a:ext cx="6933960" cy="3124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080" y="66135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5173560" y="262260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5291280" y="4524480"/>
            <a:ext cx="228240" cy="228240"/>
          </a:xfrm>
          <a:prstGeom prst="ellipse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7164000" y="3200400"/>
            <a:ext cx="18025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Low income zip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with larg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 ACS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H="1" flipV="1">
            <a:off x="5486400" y="2819160"/>
            <a:ext cx="1676160" cy="685800"/>
          </a:xfrm>
          <a:prstGeom prst="line">
            <a:avLst/>
          </a:prstGeom>
          <a:ln w="1905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H="1">
            <a:off x="5562360" y="3504960"/>
            <a:ext cx="1600200" cy="1067040"/>
          </a:xfrm>
          <a:prstGeom prst="line">
            <a:avLst/>
          </a:prstGeom>
          <a:ln w="1905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4575960" y="2590920"/>
            <a:ext cx="606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00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809600" y="4678200"/>
            <a:ext cx="5954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11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F883-E199-45BB-9515-B37FE7DFB0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7"/>
          <p:cNvSpPr/>
          <p:nvPr/>
        </p:nvSpPr>
        <p:spPr>
          <a:xfrm>
            <a:off x="533520" y="1828800"/>
            <a:ext cx="8000640" cy="45716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EMERGENCY DEPARTMENT DAT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MONITOR THE SAFETY NET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NYU ED CLASSIFICATIO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605960" y="3551400"/>
            <a:ext cx="111528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er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 flipV="1">
            <a:off x="2773080" y="3016080"/>
            <a:ext cx="762120" cy="68580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773080" y="3701880"/>
            <a:ext cx="838440" cy="60948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620880" y="4237200"/>
            <a:ext cx="23907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Care Trea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612960" y="2865600"/>
            <a:ext cx="175860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 C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826600" y="2560680"/>
            <a:ext cx="270180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preventable/avoid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5824800" y="3170520"/>
            <a:ext cx="232092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able/avoid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5287680" y="2787480"/>
            <a:ext cx="533520" cy="22860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5287680" y="3016080"/>
            <a:ext cx="530280" cy="22860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16040" y="4540320"/>
            <a:ext cx="164880" cy="16488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868320" y="3701880"/>
            <a:ext cx="761760" cy="83808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92000" y="4616280"/>
            <a:ext cx="914400" cy="83808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1709640" y="5303880"/>
            <a:ext cx="157572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Emer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77400" y="657864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26EE-D40C-41D0-9D60-4D726D8EF4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able/Avoidable ED Use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timore - Age 18-64 -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685800" y="1981080"/>
          <a:ext cx="7770600" cy="411444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600" cy="41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4"/>
          <p:cNvSpPr/>
          <p:nvPr/>
        </p:nvSpPr>
        <p:spPr>
          <a:xfrm>
            <a:off x="1142640" y="1981080"/>
            <a:ext cx="1398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 Visits/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27320" y="2395440"/>
            <a:ext cx="152676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.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Inc/HiInc = 3.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Rate =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290600" y="2362320"/>
            <a:ext cx="1599840" cy="7617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5940360" y="5295960"/>
            <a:ext cx="2496600" cy="26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   represents a zi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 flipV="1">
            <a:off x="6407280" y="5409360"/>
            <a:ext cx="85320" cy="85320"/>
          </a:xfrm>
          <a:prstGeom prst="diamond">
            <a:avLst/>
          </a:prstGeom>
          <a:solidFill>
            <a:srgbClr val="000000"/>
          </a:solidFill>
          <a:ln w="25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982600" y="5954760"/>
            <a:ext cx="3504960" cy="28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ercent of Households with Income &lt;$15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7200" y="6613560"/>
            <a:ext cx="44712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AHRQ/HCUP -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1218960" y="2514600"/>
            <a:ext cx="6782040" cy="29718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73F2-42A6-4A1B-940E-2F62BB6714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85800" y="304920"/>
            <a:ext cx="7772040" cy="132516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able/Avoidable ED Use/1,000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 Zip Code Area Incom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stin Metro Area - Age 0-17 -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Austin kids per capita v2 horiz"/>
          <p:cNvPicPr/>
          <p:nvPr/>
        </p:nvPicPr>
        <p:blipFill>
          <a:blip r:embed="rId1"/>
          <a:stretch/>
        </p:blipFill>
        <p:spPr>
          <a:xfrm>
            <a:off x="1295280" y="1523880"/>
            <a:ext cx="6746400" cy="52131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1060200" y="1889280"/>
            <a:ext cx="3135960" cy="33300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stin Metro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080" y="665316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96EF-7142-4A53-9197-212B768954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CAUTIONS FOR US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981080"/>
            <a:ext cx="8457840" cy="33523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ta can be “dirty” (see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umber is way high or way low, it’s probably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ess it’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ome disparities are hu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expect fina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the easy explanation – this stuff is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4494-1A12-4A45-9AE2-50383E356A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ADMINISTRATIVE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57200" y="1981080"/>
            <a:ext cx="8229240" cy="38858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ized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thered for some “administrative”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paying/reim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ly containing information abou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ation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events (birth, death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F8BF-7830-4CCF-B925-9172FF3E23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EXAMPLES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ADMINISTRATIVE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981080"/>
            <a:ext cx="8305560" cy="2437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/death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ital admission/discharge abs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ency department billing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re and Medicaid claims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E96C-C6EF-4758-AF1F-89708F48F0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VANTAG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ADMINISTRATIVE DA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4920" y="1981080"/>
            <a:ext cx="8457840" cy="31237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’re already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’re electronic [computerize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n be relatively inexpensive to analyze [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n tell you a lot about what is going on [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E13F-F75B-408B-B356-7128492679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ADVANTAG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65040" y="1981080"/>
            <a:ext cx="8457840" cy="441936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n be “dirty” (caution is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data elements are a lot better tha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ood test is whether anyone will go to jail for bad data, or there is some other good reason to get i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seldom tell the whole story (often raising more pesky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everyone is willing to share (which may be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’re probably going to be dealing with bureaucrats not particularly interested in being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B07D-A4F8-4BB3-8071-A1BC5EE2A4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28600" y="304920"/>
            <a:ext cx="8683200" cy="137124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BIRTH RECORD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ONITOR BIRTH “OUTCOM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7200" y="1981080"/>
            <a:ext cx="8229240" cy="18284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/no prenatal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rth weight (adjusted for gestational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erm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5774-E176-480B-9C89-2DEA109B3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5800" y="301680"/>
            <a:ext cx="7772040" cy="1417320"/>
          </a:xfrm>
          <a:prstGeom prst="rect">
            <a:avLst/>
          </a:prstGeom>
          <a:solidFill>
            <a:srgbClr val="00808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cent Late/No Prenatal Car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York Cit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-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182520" y="2060640"/>
          <a:ext cx="8199000" cy="433980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060640"/>
                    <a:ext cx="8199000" cy="43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4"/>
          <p:cNvSpPr/>
          <p:nvPr/>
        </p:nvSpPr>
        <p:spPr>
          <a:xfrm>
            <a:off x="5237280" y="6515280"/>
            <a:ext cx="3751920" cy="51552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■ “ represents zip cod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260880" y="3944880"/>
            <a:ext cx="183960" cy="24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103520" y="2514600"/>
            <a:ext cx="811800" cy="272160"/>
          </a:xfrm>
          <a:prstGeom prst="rect">
            <a:avLst/>
          </a:prstGeom>
          <a:noFill/>
          <a:ln w="9525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.4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2361960" y="3276360"/>
            <a:ext cx="5639040" cy="22100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77400" y="657864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544E-BBEB-4189-9190-A876B870AC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0" descr="Black Late No NYC v2 landscape"/>
          <p:cNvPicPr/>
          <p:nvPr/>
        </p:nvPicPr>
        <p:blipFill>
          <a:blip r:embed="rId1"/>
          <a:stretch/>
        </p:blipFill>
        <p:spPr>
          <a:xfrm>
            <a:off x="0" y="-52560"/>
            <a:ext cx="9140400" cy="7062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577600" cy="1221840"/>
          </a:xfrm>
          <a:prstGeom prst="rect">
            <a:avLst/>
          </a:prstGeom>
          <a:ln w="22225">
            <a:solidFill>
              <a:srgbClr val="006666"/>
            </a:solidFill>
            <a:miter/>
          </a:ln>
        </p:spPr>
      </p:pic>
      <p:sp>
        <p:nvSpPr>
          <p:cNvPr id="190" name="Text Box 13"/>
          <p:cNvSpPr/>
          <p:nvPr/>
        </p:nvSpPr>
        <p:spPr>
          <a:xfrm>
            <a:off x="3338640" y="5791320"/>
            <a:ext cx="623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H="1" flipV="1">
            <a:off x="3340080" y="5562360"/>
            <a:ext cx="228600" cy="228600"/>
          </a:xfrm>
          <a:prstGeom prst="line">
            <a:avLst/>
          </a:prstGeom>
          <a:ln w="952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4330800" y="5540400"/>
            <a:ext cx="62208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C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4635360" y="5257800"/>
            <a:ext cx="360" cy="304560"/>
          </a:xfrm>
          <a:prstGeom prst="line">
            <a:avLst/>
          </a:prstGeom>
          <a:ln w="952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77400" y="6608880"/>
            <a:ext cx="36086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NYU Center for Health and Public Service 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0265-B1E5-4A6E-85FD-325FDEAA3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040" cy="1325160"/>
          </a:xfrm>
          <a:prstGeom prst="rect">
            <a:avLst/>
          </a:prstGeom>
          <a:solidFill>
            <a:srgbClr val="00808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OSPITAL DISCHARGE DATA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ventable/Avoidable Hospitalization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bulatory Care Sensitive (ACS)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685800" y="1984320"/>
            <a:ext cx="7772040" cy="2802600"/>
          </a:xfrm>
          <a:prstGeom prst="rect">
            <a:avLst/>
          </a:prstGeom>
          <a:solidFill>
            <a:schemeClr val="bg1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182880" bIns="45000" anchor="t">
            <a:spAutoFit/>
          </a:bodyPr>
          <a:p>
            <a:pPr>
              <a:lnSpc>
                <a:spcPct val="100000"/>
              </a:lnSpc>
              <a:spcBef>
                <a:spcPts val="879"/>
              </a:spcBef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CS Conditio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Where timely and effective ambulatory care help prevent the need for hospit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9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ronic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Effective care can prevent flare-ups (asthma, diabetes, congestive heart disease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90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ute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Early intervention can prevent more serious progression (ENT infections, cellulitis, pneumonia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90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ventable condi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Immunization preventable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3195-9924-4F97-A806-C93369D42A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Default Design">
  <a:themeElements>
    <a:clrScheme name="1_Default Design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  <Words>611</Words>
  <Paragraphs>129</Paragraphs>
  <Company>New York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9:33:25Z</dcterms:created>
  <dc:creator>John Billings</dc:creator>
  <dc:description/>
  <dc:language>en-US</dc:language>
  <cp:lastModifiedBy>DHHS</cp:lastModifiedBy>
  <dcterms:modified xsi:type="dcterms:W3CDTF">2012-10-16T19:40:44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8</vt:r8>
  </property>
</Properties>
</file>