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591-6269-462A-A96F-F1A6DD22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733-2C38-4584-B227-A0E62A78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DF1-D78A-4356-8986-CFC7CA84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B031-65FD-45B4-BC60-B1E547B4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B48A-9BFF-418E-A7EA-475DBBB1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8A39-0ADD-4C56-B9D6-CCE4DB14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ECE9-CB18-4C02-B0D1-380B6CEE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ECA5-3689-465B-AFB9-2BD49855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C083-C205-491A-B03C-1FD02530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627C-2059-4B45-9538-8897F5C6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CC8E-0CB3-4660-9AE0-A17E8FC4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3C2-394C-467F-A07E-7EAC0673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F2B7-4B65-4700-976D-7CAFA5FD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54A6-1F9E-4A2E-A8DB-F86F1690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4311-9239-456E-98E1-EBC7B36D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5BC9-86E2-44D8-8043-E8128FA7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D434-D447-4346-BE2D-799A1092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DBE6A-56CF-4293-989D-03AB77CE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98685-72BB-4DE4-8CCA-7368E538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9461A-1C97-484A-84A4-9EB3ED04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B4716-7727-44DC-8018-B7A6CA93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A23E5-553C-49D7-8762-5ED733BC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322-F95E-4108-83D8-55BC03C0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A35AC-ABEA-487D-9493-057581E8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C3E35-98DA-4565-9B52-A98C6542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EA4B8-AC8A-43F5-A5BA-45211249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5D58F-3A5A-4743-96E1-37FA7297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055CB-A826-4DB7-9D1B-F5F6A92B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CF1D0-5957-41B2-8CB8-F24342EC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BD004-1A69-48B9-8C17-3510F8AC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E9630-542E-4D78-AADD-215D42AC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F9FBC-BE75-4BDF-A7BD-5FB407A5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1F99F-24C3-4E5D-91B4-1A2D984F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152-3A47-4F0D-A254-A15906F8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AA9E6-C837-47DB-8DC8-0D61FE49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D082D-9CF1-452D-A6C4-51D0B26F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4ACF9-8111-4E18-952E-3E598CA8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5986D-FB2E-41D1-B8D9-22EE4339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A7ED5-FF1F-42FF-9B67-08D2DACE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6FD9B-C321-49ED-B7B8-586F52A4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D10B5-6FF7-4BE6-A294-3BAA8ADE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D644D-6144-4C46-8A74-93CB3BFD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44F7B-989C-4BCB-877C-D4816DAC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AC1-D6EE-435B-9D18-A85B1932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877-8919-4C02-82E8-E7239194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0C5D-F4BE-4BAD-A9D7-D2FDB4F1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FD5-0B3B-4A33-92A6-3AFADEF0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C33E-0C51-4BC3-A666-EFFFB17B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4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609480"/>
            <a:ext cx="7772040" cy="5486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5530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AD5E05-A26F-415A-9E0A-B5DDD2142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4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162920" y="6324480"/>
            <a:ext cx="1904760" cy="533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9F8F7B-FF3E-423B-8FD5-2CCC79885F01}" type="slidenum">
              <a:rPr b="0" lang="en-US" sz="10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4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62920" y="6324480"/>
            <a:ext cx="1904760" cy="533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5CC59A-66BE-4CC5-9C81-5C8D28190AFA}" type="slidenum">
              <a:rPr b="0" lang="en-US" sz="10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4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162920" y="6324480"/>
            <a:ext cx="1904760" cy="533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A7DFE8-E744-4954-96AE-C43C294AD6F5}" type="slidenum">
              <a:rPr b="0" lang="en-US" sz="10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12760" y="914400"/>
            <a:ext cx="8702280" cy="2239560"/>
          </a:xfrm>
          <a:prstGeom prst="rect">
            <a:avLst/>
          </a:prstGeom>
          <a:solidFill>
            <a:srgbClr val="00808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5000" anchor="ctr">
            <a:noAutofit/>
          </a:bodyPr>
          <a:p>
            <a:pPr algn="ctr">
              <a:lnSpc>
                <a:spcPct val="100000"/>
              </a:lnSpc>
            </a:pPr>
            <a:br>
              <a:rPr sz="1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ADMINISTRATIVE DATA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MONITOR ACCESS, IDENTIFY DISPARITIES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ASSESS PERFORMANC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THE SAFETY NE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590920" y="3505320"/>
            <a:ext cx="1971360" cy="64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hn Bi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ptember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3276720" y="4952880"/>
            <a:ext cx="977400" cy="977400"/>
          </a:xfrm>
          <a:prstGeom prst="rect">
            <a:avLst/>
          </a:prstGeom>
          <a:ln w="9525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3276720" y="4952880"/>
            <a:ext cx="977400" cy="977400"/>
          </a:xfrm>
          <a:prstGeom prst="rect">
            <a:avLst/>
          </a:prstGeom>
          <a:solidFill>
            <a:srgbClr val="c9ddd9">
              <a:alpha val="37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417760" y="6297480"/>
            <a:ext cx="43081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U Center for Health and Public Service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billings"/>
          <p:cNvPicPr/>
          <p:nvPr/>
        </p:nvPicPr>
        <p:blipFill>
          <a:blip r:embed="rId2"/>
          <a:stretch/>
        </p:blipFill>
        <p:spPr>
          <a:xfrm>
            <a:off x="5257800" y="3352680"/>
            <a:ext cx="1933200" cy="279036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890-7E35-4338-A611-75DDBA370B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1325160"/>
          </a:xfrm>
          <a:prstGeom prst="rect">
            <a:avLst/>
          </a:prstGeom>
          <a:solidFill>
            <a:srgbClr val="008080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S Admissions/1,000</a:t>
            </a: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 Zip Code Area Incom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ltimore - Age 0-17 -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685800" y="1981080"/>
          <a:ext cx="7770600" cy="41144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600" cy="41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4"/>
          <p:cNvSpPr/>
          <p:nvPr/>
        </p:nvSpPr>
        <p:spPr>
          <a:xfrm>
            <a:off x="1141920" y="1981080"/>
            <a:ext cx="11322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s/1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282680" y="2395440"/>
            <a:ext cx="152676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.5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Inc/HiInc = 2.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Rate = 9.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1219320" y="2362320"/>
            <a:ext cx="1599840" cy="7617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5940360" y="5295960"/>
            <a:ext cx="2496600" cy="266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   represents a zip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 flipV="1">
            <a:off x="6407280" y="5409360"/>
            <a:ext cx="85320" cy="85320"/>
          </a:xfrm>
          <a:prstGeom prst="diamond">
            <a:avLst/>
          </a:prstGeom>
          <a:solidFill>
            <a:srgbClr val="000000"/>
          </a:solidFill>
          <a:ln w="25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982600" y="5954760"/>
            <a:ext cx="3504960" cy="28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ercent of Households with Income &lt;$15,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1080" y="6613560"/>
            <a:ext cx="360864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NYU Center for Health and Public Service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 flipV="1">
            <a:off x="1143000" y="2590560"/>
            <a:ext cx="6933960" cy="22860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D452B-F347-472B-9499-7D590E8678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1325160"/>
          </a:xfrm>
          <a:prstGeom prst="rect">
            <a:avLst/>
          </a:prstGeom>
          <a:solidFill>
            <a:srgbClr val="008080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S Admissions/1,000</a:t>
            </a: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 Zip Code Area Incom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ltimore - Age 40-64 -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3"/>
          <p:cNvGraphicFramePr/>
          <p:nvPr/>
        </p:nvGraphicFramePr>
        <p:xfrm>
          <a:off x="685800" y="1981080"/>
          <a:ext cx="7770600" cy="41144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2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600" cy="41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4"/>
          <p:cNvSpPr/>
          <p:nvPr/>
        </p:nvSpPr>
        <p:spPr>
          <a:xfrm>
            <a:off x="1141920" y="1981080"/>
            <a:ext cx="11322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s/1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513080" y="2395440"/>
            <a:ext cx="152676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.8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Inc/HiInc = 4.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Rate = 26.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447920" y="2362320"/>
            <a:ext cx="1599840" cy="7617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940360" y="5295960"/>
            <a:ext cx="2496600" cy="266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   represents a zip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 flipV="1">
            <a:off x="6407280" y="5409360"/>
            <a:ext cx="85320" cy="85320"/>
          </a:xfrm>
          <a:prstGeom prst="diamond">
            <a:avLst/>
          </a:prstGeom>
          <a:solidFill>
            <a:srgbClr val="000000"/>
          </a:solidFill>
          <a:ln w="25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982600" y="5954760"/>
            <a:ext cx="3504960" cy="28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ercent of Households with Income &lt;$15,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080" y="6613560"/>
            <a:ext cx="360864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NYU Center for Health and Public Service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1"/>
          <p:cNvSpPr/>
          <p:nvPr/>
        </p:nvSpPr>
        <p:spPr>
          <a:xfrm flipV="1">
            <a:off x="1218960" y="2361960"/>
            <a:ext cx="6858000" cy="3200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8D001-DC1A-4DED-B2D0-1043D8F451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Took Kit - Atlanta County Level"/>
          <p:cNvPicPr/>
          <p:nvPr/>
        </p:nvPicPr>
        <p:blipFill>
          <a:blip r:embed="rId1"/>
          <a:stretch/>
        </p:blipFill>
        <p:spPr>
          <a:xfrm>
            <a:off x="0" y="-108000"/>
            <a:ext cx="9140400" cy="70624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5334120" y="762120"/>
            <a:ext cx="3200040" cy="1004400"/>
          </a:xfrm>
          <a:prstGeom prst="rect">
            <a:avLst/>
          </a:prstGeom>
          <a:solidFill>
            <a:schemeClr val="bg1"/>
          </a:solidFill>
          <a:ln w="190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lanta Metro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S Admissions/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40-64 -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3520" y="6608880"/>
            <a:ext cx="447120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AHRQ/HCUP - NYU Center for Health and Public Service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469F-2589-4439-A92D-E8969C1673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Took Kit - Atlanta Zip Level"/>
          <p:cNvPicPr/>
          <p:nvPr/>
        </p:nvPicPr>
        <p:blipFill>
          <a:blip r:embed="rId1"/>
          <a:stretch/>
        </p:blipFill>
        <p:spPr>
          <a:xfrm>
            <a:off x="0" y="-76320"/>
            <a:ext cx="9140400" cy="70624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5334120" y="762120"/>
            <a:ext cx="3200040" cy="1004400"/>
          </a:xfrm>
          <a:prstGeom prst="rect">
            <a:avLst/>
          </a:prstGeom>
          <a:solidFill>
            <a:schemeClr val="bg1"/>
          </a:solidFill>
          <a:ln w="190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lanta Metro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S Admissions/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40-64 -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83520" y="6608880"/>
            <a:ext cx="447120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AHRQ/HCUP - NYU Center for Health and Public Service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C87B-5F4D-487A-8338-DC245D7C43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1325160"/>
          </a:xfrm>
          <a:prstGeom prst="rect">
            <a:avLst/>
          </a:prstGeom>
          <a:solidFill>
            <a:srgbClr val="008080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S Admissions/1,000</a:t>
            </a: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 Zip Code Area Incom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York City - Age 18-64 -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3"/>
          <p:cNvGraphicFramePr/>
          <p:nvPr/>
        </p:nvGraphicFramePr>
        <p:xfrm>
          <a:off x="685800" y="1981080"/>
          <a:ext cx="7770600" cy="41144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600" cy="41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4"/>
          <p:cNvSpPr/>
          <p:nvPr/>
        </p:nvSpPr>
        <p:spPr>
          <a:xfrm>
            <a:off x="1141920" y="1981080"/>
            <a:ext cx="11322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s/1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663920" y="2548080"/>
            <a:ext cx="152676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.6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Inc/HiInc = 3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Rate = 10.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600200" y="2514600"/>
            <a:ext cx="1599840" cy="7617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 flipV="1">
            <a:off x="1143000" y="2361960"/>
            <a:ext cx="6933960" cy="31244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940360" y="5295960"/>
            <a:ext cx="2496600" cy="266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   represents a zip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"/>
          <p:cNvSpPr/>
          <p:nvPr/>
        </p:nvSpPr>
        <p:spPr>
          <a:xfrm flipV="1">
            <a:off x="6407280" y="5409360"/>
            <a:ext cx="85320" cy="85320"/>
          </a:xfrm>
          <a:prstGeom prst="diamond">
            <a:avLst/>
          </a:prstGeom>
          <a:solidFill>
            <a:srgbClr val="000000"/>
          </a:solidFill>
          <a:ln w="25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2982600" y="5954760"/>
            <a:ext cx="3504960" cy="28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ercent of Households with Income &lt;$15,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1080" y="6613560"/>
            <a:ext cx="360864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NYU Center for Health and Public Service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2"/>
          <p:cNvSpPr/>
          <p:nvPr/>
        </p:nvSpPr>
        <p:spPr>
          <a:xfrm>
            <a:off x="5173560" y="2622600"/>
            <a:ext cx="228240" cy="228240"/>
          </a:xfrm>
          <a:prstGeom prst="ellipse">
            <a:avLst/>
          </a:prstGeom>
          <a:noFill/>
          <a:ln w="1905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3"/>
          <p:cNvSpPr/>
          <p:nvPr/>
        </p:nvSpPr>
        <p:spPr>
          <a:xfrm>
            <a:off x="5291280" y="4524480"/>
            <a:ext cx="228240" cy="228240"/>
          </a:xfrm>
          <a:prstGeom prst="ellipse">
            <a:avLst/>
          </a:prstGeom>
          <a:noFill/>
          <a:ln w="1905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7164000" y="3200400"/>
            <a:ext cx="180252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Low income zip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with large dif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n ACS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 flipH="1" flipV="1">
            <a:off x="5486400" y="2819160"/>
            <a:ext cx="1676160" cy="685800"/>
          </a:xfrm>
          <a:prstGeom prst="line">
            <a:avLst/>
          </a:prstGeom>
          <a:ln w="1905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 flipH="1">
            <a:off x="5562360" y="3504960"/>
            <a:ext cx="1600200" cy="1067040"/>
          </a:xfrm>
          <a:prstGeom prst="line">
            <a:avLst/>
          </a:prstGeom>
          <a:ln w="1905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4575960" y="2590920"/>
            <a:ext cx="6062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100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4809600" y="4678200"/>
            <a:ext cx="5954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11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F2BAE-3C36-4F48-A735-5CBBD93A0F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7"/>
          <p:cNvSpPr/>
          <p:nvPr/>
        </p:nvSpPr>
        <p:spPr>
          <a:xfrm>
            <a:off x="533520" y="1828800"/>
            <a:ext cx="8000640" cy="45716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685800" y="304920"/>
            <a:ext cx="7772040" cy="1325160"/>
          </a:xfrm>
          <a:prstGeom prst="rect">
            <a:avLst/>
          </a:prstGeom>
          <a:solidFill>
            <a:srgbClr val="00808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EMERGENCY DEPARTMENT DAT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MONITOR THE SAFETY NET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NYU ED CLASSIFICATION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605960" y="3551400"/>
            <a:ext cx="111528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erg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4"/>
          <p:cNvSpPr/>
          <p:nvPr/>
        </p:nvSpPr>
        <p:spPr>
          <a:xfrm flipV="1">
            <a:off x="2773080" y="3016080"/>
            <a:ext cx="762120" cy="685800"/>
          </a:xfrm>
          <a:prstGeom prst="line">
            <a:avLst/>
          </a:prstGeom>
          <a:ln w="190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2773080" y="3701880"/>
            <a:ext cx="838440" cy="609480"/>
          </a:xfrm>
          <a:prstGeom prst="line">
            <a:avLst/>
          </a:prstGeom>
          <a:ln w="190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620880" y="4237200"/>
            <a:ext cx="239076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 Care Trea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3612960" y="2865600"/>
            <a:ext cx="175860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 C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5826600" y="2560680"/>
            <a:ext cx="270180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preventable/avoid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5824800" y="3170520"/>
            <a:ext cx="232092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able/avoid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0"/>
          <p:cNvSpPr/>
          <p:nvPr/>
        </p:nvSpPr>
        <p:spPr>
          <a:xfrm flipV="1">
            <a:off x="5287680" y="2787480"/>
            <a:ext cx="533520" cy="228600"/>
          </a:xfrm>
          <a:prstGeom prst="line">
            <a:avLst/>
          </a:prstGeom>
          <a:ln w="190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5287680" y="3016080"/>
            <a:ext cx="530280" cy="228600"/>
          </a:xfrm>
          <a:prstGeom prst="line">
            <a:avLst/>
          </a:prstGeom>
          <a:ln w="190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716040" y="4540320"/>
            <a:ext cx="164880" cy="16488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868320" y="3701880"/>
            <a:ext cx="761760" cy="838080"/>
          </a:xfrm>
          <a:prstGeom prst="line">
            <a:avLst/>
          </a:prstGeom>
          <a:ln w="190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792000" y="4616280"/>
            <a:ext cx="914400" cy="838080"/>
          </a:xfrm>
          <a:prstGeom prst="line">
            <a:avLst/>
          </a:prstGeom>
          <a:ln w="190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1709640" y="5303880"/>
            <a:ext cx="157572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Emerg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77400" y="6578640"/>
            <a:ext cx="360864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NYU Center for Health and Public Service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04CC-F916-4193-9666-334E172938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1325160"/>
          </a:xfrm>
          <a:prstGeom prst="rect">
            <a:avLst/>
          </a:prstGeom>
          <a:solidFill>
            <a:srgbClr val="008080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entable/Avoidable ED Use/1,000</a:t>
            </a: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 Zip Code Area Incom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ltimore - Age 18-64 -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685800" y="1981080"/>
          <a:ext cx="7770600" cy="41144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600" cy="41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4"/>
          <p:cNvSpPr/>
          <p:nvPr/>
        </p:nvSpPr>
        <p:spPr>
          <a:xfrm>
            <a:off x="1142640" y="1981080"/>
            <a:ext cx="13989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 Visits/1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327320" y="2395440"/>
            <a:ext cx="152676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.7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Inc/HiInc = 3.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Rate =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1290600" y="2362320"/>
            <a:ext cx="1599840" cy="7617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5940360" y="5295960"/>
            <a:ext cx="2496600" cy="266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   represents a zip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 flipV="1">
            <a:off x="6407280" y="5409360"/>
            <a:ext cx="85320" cy="85320"/>
          </a:xfrm>
          <a:prstGeom prst="diamond">
            <a:avLst/>
          </a:prstGeom>
          <a:solidFill>
            <a:srgbClr val="000000"/>
          </a:solidFill>
          <a:ln w="25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2982600" y="5954760"/>
            <a:ext cx="3504960" cy="28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ercent of Households with Income &lt;$15,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7200" y="6613560"/>
            <a:ext cx="447120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AHRQ/HCUP - NYU Center for Health and Public Service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1"/>
          <p:cNvSpPr/>
          <p:nvPr/>
        </p:nvSpPr>
        <p:spPr>
          <a:xfrm flipV="1">
            <a:off x="1218960" y="2514600"/>
            <a:ext cx="6782040" cy="29718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9A7CF-1914-455C-B692-306535C317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685800" y="304920"/>
            <a:ext cx="7772040" cy="1325160"/>
          </a:xfrm>
          <a:prstGeom prst="rect">
            <a:avLst/>
          </a:prstGeom>
          <a:solidFill>
            <a:srgbClr val="00808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entable/Avoidable ED Use/1,000</a:t>
            </a: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 Zip Code Area Incom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stin Metro Area - Age 0-17 -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Austin kids per capita v2 horiz"/>
          <p:cNvPicPr/>
          <p:nvPr/>
        </p:nvPicPr>
        <p:blipFill>
          <a:blip r:embed="rId1"/>
          <a:stretch/>
        </p:blipFill>
        <p:spPr>
          <a:xfrm>
            <a:off x="1295280" y="1523880"/>
            <a:ext cx="6746400" cy="52131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1060200" y="1889280"/>
            <a:ext cx="3135960" cy="33300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stin Metro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080" y="6653160"/>
            <a:ext cx="360864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NYU Center for Health and Public Service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1004-6B5D-45F9-9792-56ED48E88D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228600" y="304920"/>
            <a:ext cx="8683200" cy="1371240"/>
          </a:xfrm>
          <a:prstGeom prst="rect">
            <a:avLst/>
          </a:prstGeom>
          <a:solidFill>
            <a:srgbClr val="00808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CAUTIONS FOR USIN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981080"/>
            <a:ext cx="8457840" cy="33523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ata can be “dirty” (see abo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number is way high or way low, it’s probably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ess it’s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ome disparities are hu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expect final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d the easy explanation – this stuff is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95B4-1E2F-4AE2-94E2-CEA021B9F0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28600" y="304920"/>
            <a:ext cx="8683200" cy="1371240"/>
          </a:xfrm>
          <a:prstGeom prst="rect">
            <a:avLst/>
          </a:prstGeom>
          <a:solidFill>
            <a:srgbClr val="00808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R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ADMINISTRATIVE DA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57200" y="1981080"/>
            <a:ext cx="8229240" cy="38858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ized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thered for some “administrative”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 paying/reimbur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ly containing information abou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ilization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events (birth, death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44D4-9E50-4F17-8862-E348BE71A0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28600" y="304920"/>
            <a:ext cx="8683200" cy="1371240"/>
          </a:xfrm>
          <a:prstGeom prst="rect">
            <a:avLst/>
          </a:prstGeom>
          <a:solidFill>
            <a:srgbClr val="00808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EXAMPLES OF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ADMINISTRATIVE DA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57200" y="1981080"/>
            <a:ext cx="8305560" cy="2437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th/death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ital admission/discharge abs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ergency department billing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re and Medicaid claims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9AF9-5821-43B7-890F-7A3D3A3A2C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228600" y="304920"/>
            <a:ext cx="8683200" cy="1371240"/>
          </a:xfrm>
          <a:prstGeom prst="rect">
            <a:avLst/>
          </a:prstGeom>
          <a:solidFill>
            <a:srgbClr val="00808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VANTAG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F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ADMINISTRATIVE DA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04920" y="1981080"/>
            <a:ext cx="8457840" cy="31237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’re already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’re electronic [computerize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can be relatively inexpensive to analyze [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meti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can tell you a lot about what is going on [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meti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178C-8182-4C14-897C-AB247159CC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228600" y="304920"/>
            <a:ext cx="8683200" cy="1371240"/>
          </a:xfrm>
          <a:prstGeom prst="rect">
            <a:avLst/>
          </a:prstGeom>
          <a:solidFill>
            <a:srgbClr val="00808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ADVANTAG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F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65040" y="1981080"/>
            <a:ext cx="8457840" cy="44193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can be “dirty” (caution is 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data elements are a lot better than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ood test is whether anyone will go to jail for bad data, or there is some other good reason to get i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seldom tell the whole story (often raising more pesky ques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everyone is willing to share (which may be 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’re probably going to be dealing with bureaucrats not particularly interested in being 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AEBB-82AC-4357-9937-003F43363A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228600" y="304920"/>
            <a:ext cx="8683200" cy="1371240"/>
          </a:xfrm>
          <a:prstGeom prst="rect">
            <a:avLst/>
          </a:prstGeom>
          <a:solidFill>
            <a:srgbClr val="00808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BIRTH RECORD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MONITOR BIRTH “OUTCOM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57200" y="1981080"/>
            <a:ext cx="8229240" cy="18284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/no prenatal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rth weight (adjusted for gestational 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term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DF6D-4FCD-416A-9DDF-64E7DE125A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85800" y="301680"/>
            <a:ext cx="7772040" cy="1417320"/>
          </a:xfrm>
          <a:prstGeom prst="rect">
            <a:avLst/>
          </a:prstGeom>
          <a:solidFill>
            <a:srgbClr val="00808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br>
              <a:rPr sz="1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cent Late/No Prenatal Car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York Cit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-8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3"/>
          <p:cNvGraphicFramePr/>
          <p:nvPr/>
        </p:nvGraphicFramePr>
        <p:xfrm>
          <a:off x="182520" y="2060640"/>
          <a:ext cx="8199000" cy="4339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1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060640"/>
                    <a:ext cx="8199000" cy="43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4"/>
          <p:cNvSpPr/>
          <p:nvPr/>
        </p:nvSpPr>
        <p:spPr>
          <a:xfrm>
            <a:off x="5237280" y="6515280"/>
            <a:ext cx="3751920" cy="51552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■ “ represents zip cod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260880" y="3944880"/>
            <a:ext cx="183960" cy="24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7103520" y="2514600"/>
            <a:ext cx="811800" cy="272160"/>
          </a:xfrm>
          <a:prstGeom prst="rect">
            <a:avLst/>
          </a:prstGeom>
          <a:noFill/>
          <a:ln w="9525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.4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 flipV="1">
            <a:off x="2361960" y="3276360"/>
            <a:ext cx="5639040" cy="22100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77400" y="6578640"/>
            <a:ext cx="360864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NYU Center for Health and Public Service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6DCC-8A6E-4EB8-850F-44DF45117A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0" descr="Black Late No NYC v2 landscape"/>
          <p:cNvPicPr/>
          <p:nvPr/>
        </p:nvPicPr>
        <p:blipFill>
          <a:blip r:embed="rId1"/>
          <a:stretch/>
        </p:blipFill>
        <p:spPr>
          <a:xfrm>
            <a:off x="0" y="-52560"/>
            <a:ext cx="9140400" cy="7062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577600" cy="1221840"/>
          </a:xfrm>
          <a:prstGeom prst="rect">
            <a:avLst/>
          </a:prstGeom>
          <a:ln w="22225">
            <a:solidFill>
              <a:srgbClr val="006666"/>
            </a:solidFill>
            <a:miter/>
          </a:ln>
        </p:spPr>
      </p:pic>
      <p:sp>
        <p:nvSpPr>
          <p:cNvPr id="190" name="Text Box 13"/>
          <p:cNvSpPr/>
          <p:nvPr/>
        </p:nvSpPr>
        <p:spPr>
          <a:xfrm>
            <a:off x="3338640" y="5791320"/>
            <a:ext cx="6235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t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 flipH="1" flipV="1">
            <a:off x="3340080" y="5562360"/>
            <a:ext cx="228600" cy="228600"/>
          </a:xfrm>
          <a:prstGeom prst="line">
            <a:avLst/>
          </a:prstGeom>
          <a:ln w="9525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4330800" y="5540400"/>
            <a:ext cx="62208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C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 flipV="1">
            <a:off x="4635360" y="5257800"/>
            <a:ext cx="360" cy="304560"/>
          </a:xfrm>
          <a:prstGeom prst="line">
            <a:avLst/>
          </a:prstGeom>
          <a:ln w="9525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77400" y="6608880"/>
            <a:ext cx="360864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NYU Center for Health and Public Service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ADF7-EA0E-47FE-A082-F142B948DB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040" cy="1325160"/>
          </a:xfrm>
          <a:prstGeom prst="rect">
            <a:avLst/>
          </a:prstGeom>
          <a:solidFill>
            <a:srgbClr val="008080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HOSPITAL DISCHARGE DATA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ventable/Avoidable Hospitalization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mbulatory Care Sensitive (ACS)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685800" y="1984320"/>
            <a:ext cx="7772040" cy="2802600"/>
          </a:xfrm>
          <a:prstGeom prst="rect">
            <a:avLst/>
          </a:prstGeom>
          <a:solidFill>
            <a:schemeClr val="bg1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182880" bIns="45000" anchor="t">
            <a:spAutoFit/>
          </a:bodyPr>
          <a:p>
            <a:pPr>
              <a:lnSpc>
                <a:spcPct val="100000"/>
              </a:lnSpc>
              <a:spcBef>
                <a:spcPts val="879"/>
              </a:spcBef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CS Conditio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Where timely and effective ambulatory care help prevent the need for hospit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9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ronic condi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Effective care can prevent flare-ups (asthma, diabetes, congestive heart disease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90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ute condi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Early intervention can prevent more serious progression (ENT infections, cellulitis, pneumonia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90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ventable condi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Immunization preventable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A0A54-E425-4AE7-AC7F-073BD2A432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Default Design">
  <a:themeElements>
    <a:clrScheme name="1_Default Design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lank Presentation">
  <a:themeElements>
    <a:clrScheme name="Blank Presentatio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lank Presentation">
  <a:themeElements>
    <a:clrScheme name="Blank Presentatio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Blank Presentation">
  <a:themeElements>
    <a:clrScheme name="Blank Presentatio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  <Words>611</Words>
  <Paragraphs>129</Paragraphs>
  <Company>New York Universit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19:33:25Z</dcterms:created>
  <dc:creator>John Billings</dc:creator>
  <dc:description/>
  <dc:language>en-US</dc:language>
  <cp:lastModifiedBy>DHHS</cp:lastModifiedBy>
  <dcterms:modified xsi:type="dcterms:W3CDTF">2012-10-16T19:40:44Z</dcterms:modified>
  <cp:revision>1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8</vt:r8>
  </property>
</Properties>
</file>