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36FCD-8BCB-4E95-9252-7213CF248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ncbi.nlm.nih.gov/entrez/query.fcgi?db=PubMed&amp;cmd=Display&amp;dopt=pubmed_pubmed&amp;from_uid=8903207"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this as ongoing project, just beginning to see preliminary findings…would like the critical analysis and input of the audien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efinitions exist, although GIS can probably be better defined by its function that what it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powerful set of tools, and there are many versions and packages… just like any other type of software... that allows for “collecting, retrieving at will, transforming, and displaying spatial data from the real world”  (Burroughs et 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ctions listed above are NO DIFFERENT THAN THE METHODS OF JOHN SNOW in 1865, when he plotted cholera cases in London on a map by hand… they simply have FAR GREATER capacity than Snow’s simple calcalation by virtue of their use of comp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using GIS, if John Snow simply had an address for each case, he could map a cholera epidemic instantaneously,  not unlike the CD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 Infect Dis. 1996 Apr-Jun;2(2):85-92. </a:t>
            </a:r>
            <a:r>
              <a:rPr b="0" lang="en-US" sz="1200" spc="-1" strike="noStrike" u="sng">
                <a:solidFill>
                  <a:srgbClr val="009999"/>
                </a:solidFill>
                <a:uFillTx/>
                <a:latin typeface="Times New Roman"/>
                <a:hlinkClick r:id="rId1"/>
              </a:rPr>
              <a:t>Related Articles,</a:t>
            </a:r>
            <a:r>
              <a:rPr b="0" lang="en-US" sz="1200" spc="-1" strike="noStrike">
                <a:solidFill>
                  <a:srgbClr val="000000"/>
                </a:solidFill>
                <a:latin typeface="Times New Roman"/>
              </a:rPr>
              <a:t> Link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 epidemiology and geographic information systems: a review and discussion of future directions.</a:t>
            </a:r>
            <a:br>
              <a:rPr sz="1200"/>
            </a:br>
            <a:r>
              <a:rPr b="1" lang="en-US" sz="1200" spc="-1" strike="noStrike">
                <a:solidFill>
                  <a:srgbClr val="000000"/>
                </a:solidFill>
                <a:latin typeface="Times New Roman"/>
              </a:rPr>
              <a:t>Clarke KC, McLafferty SL, Tempalski BJ.</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TE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CHC, Network, Whole Metropolitan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CHC expansion by utilization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mapping: Superior to static ma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maps depict Boone County Missouri, with the black boundary lines representing the borders of U.S. census tracts.  Columbia, a medium-sized city in the center of the coun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p on the left shows census tracts(in white) that were federally designated as Medically Underserved Areas.  These are areas to be targetted by Community Health Centers applying for federal funding.  Using actual patient visit data from Boone County’s two federally-funded CHC’s, the map on the right was created, showing(in white) the actual census tracts that make up these 2 CHC’s service area – the tracts that most of their patients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that the two maps, the left showing an ‘Ideal Service Area’  for the clinics and the right showing an ‘Actual Service Area’ for the clinics, don’t ma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deciding that this discrepancy represented service failure, the Boone County CHC’s used these maps as evidence in the successful pursuit of expansion grants to outlying portions of the coun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nalytic mapping techniques were next tested in a large urban setting, working with the largest network of CHC’s in Baltimore, MD.  This composite map depicts the census tracts falling into each of four clinics’ health service areas – depicted individually in green, blue, red, and yellow.  Brown and Pink-shaded census tracts depict census tracts which fall into more than one clinic’s health service area.  was helpful to administrators, who had not previously recognized the overlap in health service areas among three of their clinics.  The directors of one clinic depicted were under scrutiny of one of the network’s directors, as they were thought to be losing patients to competitors.  This map and a series of more specific subpopulation maps helped to demonstrate that the patients lost by this clinic were actually being lost to two of its ‘sister’ clinics in the network.</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the map of Boone County Missouri, this map depicts the federally-designated Medically Underserved Area Census tracts(IN PINK) targetted for service by one of the Baltimore CHC’s with whom we worked.  The bullseye pattern overlay shows concentric circles at quarter mile intervals moving outward from the clinic.  The blue circles are at 1 and 2 miles out from the clinic resp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ere asked early in the mapping process to evaluate a pending decision by clinic leaders in Baltimore to move one of their clinics two miles to the northeast of its current location in order to save money on a lease.  That move would have put the new clinic on the outermost blue circle at the upper righthand portion of the map.  You can see that this new location would still fall well within the targeted Medically Underserved Census Tracts(the pink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when we mapped all users of this clinic in the past 12 months(RED &amp; GREEN dots), as well as the health service area and specific patient subgroups that would vulnerable to service loss if the clinic were moved (MAPS NOT SHOWN HERE), it became obvious that a large cluster of their patients resided to the South and East of the clinic(BOTTOM &amp; LEFT of this map).  Many of these were patients thought to be particularly vulnerable if the clinic were moved.  As a result of the maps, the scheduled move was cancell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to identify ‘target populations’ outside of health service area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d target popula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vailability from other Safety Net provid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based interactive tool would help with bot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5842A-A288-4593-A034-AE27888C5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E7CDD-1087-43F7-B91F-0BAAD6BE0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95F69-58B3-449C-9E47-814CBD95E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75414-8D6A-4D93-AA9C-1F0A66721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327BD4-4C1E-4F9A-85C7-14F2424BCE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7B6CD-F100-48A7-80E5-31AFEEC22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963B8-568F-49BD-A574-57A3ED64D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E9D19-942A-4E81-821A-6066D315C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CACD4-63ED-4AC7-B5D7-28A5854D0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27D74-FDC6-4B85-887C-0FA4EFC0A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FA5EE-BD89-48A9-9637-812ADD554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9C6F4-582D-4F3D-BC3E-84C28AF49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C7C97-42D3-4B79-9DB2-AE2CCCCDD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561F8-5649-464B-A5ED-78C020E37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526CF-1D9A-4807-A885-FBEACC34C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AB50EB-60FA-46A2-90BF-18A41051A4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7F1A9-3833-44F5-9130-1CD3AA97BF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D8A9E-87EB-4FD1-9D68-007F5DFA2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82136-7AB9-4F56-BEDD-749BA1154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7D718-BC17-4CE2-B503-7F40B823B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B2714-11F6-4766-9A34-587EC9B4C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460D0-A4D7-483B-8FE7-F917474D6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684DD-85E1-43B1-B8E5-06934A500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CA8C1-62E1-4D19-B3C1-1B010475B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B6F15-6F0B-46EA-9DED-F84F91FF023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7847-5198-40B9-AAE1-65F5134BFFD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uc.ed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2050560"/>
            <a:ext cx="7086600" cy="96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Mapping Tools for Monitoring the Safety Net</a:t>
            </a:r>
            <a:endParaRPr b="1" lang="en-US" sz="4000" spc="-1" strike="noStrike">
              <a:solidFill>
                <a:srgbClr val="eaeaea"/>
              </a:solidFill>
              <a:latin typeface="Tahoma"/>
            </a:endParaRPr>
          </a:p>
        </p:txBody>
      </p:sp>
      <p:sp>
        <p:nvSpPr>
          <p:cNvPr id="117" name="PlaceHolder 2"/>
          <p:cNvSpPr>
            <a:spLocks noGrp="1"/>
          </p:cNvSpPr>
          <p:nvPr>
            <p:ph type="subTitle"/>
          </p:nvPr>
        </p:nvSpPr>
        <p:spPr>
          <a:xfrm>
            <a:off x="4267080" y="3962160"/>
            <a:ext cx="4648320" cy="19810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Andrew W. Bazemore, MD</a:t>
            </a:r>
            <a:endParaRPr b="0" lang="en-US" sz="24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stitute for Health Policy and Health Services Research</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University of Cincinnati</a:t>
            </a:r>
            <a:endParaRPr b="0" lang="en-US" sz="2000" spc="-1" strike="noStrike">
              <a:solidFill>
                <a:srgbClr val="ffffff"/>
              </a:solidFill>
              <a:latin typeface="Tahoma"/>
            </a:endParaRPr>
          </a:p>
        </p:txBody>
      </p:sp>
      <p:pic>
        <p:nvPicPr>
          <p:cNvPr id="118" name="" descr="University of Cincinnati">
            <a:hlinkClick r:id="rId1"/>
          </p:cNvPr>
          <p:cNvPicPr/>
          <p:nvPr/>
        </p:nvPicPr>
        <p:blipFill>
          <a:blip r:embed="rId2"/>
          <a:stretch/>
        </p:blipFill>
        <p:spPr>
          <a:xfrm>
            <a:off x="7467480" y="6019920"/>
            <a:ext cx="1143000" cy="476280"/>
          </a:xfrm>
          <a:prstGeom prst="rect">
            <a:avLst/>
          </a:prstGeom>
          <a:ln w="0">
            <a:noFill/>
          </a:ln>
        </p:spPr>
      </p:pic>
      <p:pic>
        <p:nvPicPr>
          <p:cNvPr id="119" name="" descr=""/>
          <p:cNvPicPr/>
          <p:nvPr/>
        </p:nvPicPr>
        <p:blipFill>
          <a:blip r:embed="rId3"/>
          <a:stretch/>
        </p:blipFill>
        <p:spPr>
          <a:xfrm>
            <a:off x="914400" y="3276720"/>
            <a:ext cx="3222720" cy="327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clusions</a:t>
            </a:r>
            <a:endParaRPr b="1" lang="en-US" sz="4400" spc="-1" strike="noStrike">
              <a:solidFill>
                <a:srgbClr val="eaeaea"/>
              </a:solidFill>
              <a:latin typeface="Tahoma"/>
            </a:endParaRPr>
          </a:p>
        </p:txBody>
      </p:sp>
      <p:sp>
        <p:nvSpPr>
          <p:cNvPr id="136" name="PlaceHolder 2"/>
          <p:cNvSpPr>
            <a:spLocks noGrp="1"/>
          </p:cNvSpPr>
          <p:nvPr>
            <p:ph/>
          </p:nvPr>
        </p:nvSpPr>
        <p:spPr>
          <a:xfrm>
            <a:off x="1066320" y="2285640"/>
            <a:ext cx="7543800" cy="30481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IS: a flexible and powerful tool to:</a:t>
            </a:r>
            <a:endParaRPr b="0" lang="en-US" sz="3200" spc="-1" strike="noStrike">
              <a:solidFill>
                <a:srgbClr val="ffffff"/>
              </a:solidFill>
              <a:latin typeface="Tahoma"/>
            </a:endParaRPr>
          </a:p>
          <a:p>
            <a:pPr marL="343080" indent="-34308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ess patterns of CHC service</a:t>
            </a:r>
            <a:endParaRPr b="0" lang="en-US" sz="3200" spc="-1" strike="noStrike">
              <a:solidFill>
                <a:srgbClr val="ffffff"/>
              </a:solidFill>
              <a:latin typeface="Tahoma"/>
            </a:endParaRPr>
          </a:p>
          <a:p>
            <a:pPr marL="343080" indent="-34308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ngage CHC leaders and communities </a:t>
            </a:r>
            <a:endParaRPr b="0" lang="en-US" sz="3200" spc="-1" strike="noStrike">
              <a:solidFill>
                <a:srgbClr val="ffffff"/>
              </a:solidFill>
              <a:latin typeface="Tahoma"/>
            </a:endParaRPr>
          </a:p>
          <a:p>
            <a:pPr marL="343080" indent="-34308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id in strategic planning and resource allocation</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24A48B6B-EEDE-4C2F-A742-3476483C4D4F}"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What is a Geographic Information System (GIS)?</a:t>
            </a:r>
            <a:endParaRPr b="1" lang="en-US" sz="4000" spc="-1" strike="noStrike">
              <a:solidFill>
                <a:srgbClr val="eaeaea"/>
              </a:solidFill>
              <a:latin typeface="Tahoma"/>
            </a:endParaRPr>
          </a:p>
        </p:txBody>
      </p:sp>
      <p:sp>
        <p:nvSpPr>
          <p:cNvPr id="1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oftware capable of linking geographically-referenced data together with graphic map features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ases comprehension of complex data</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llows multiple data layers to be viewed simultaneously, or dynamically</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ermits map production, analysis, and modeling</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3150009-FE92-4FA9-B732-1229450E98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nalytic Mapping and CHCs: Possibilities</a:t>
            </a:r>
            <a:endParaRPr b="1" lang="en-US" sz="4400" spc="-1" strike="noStrike">
              <a:solidFill>
                <a:srgbClr val="eaeaea"/>
              </a:solidFill>
              <a:latin typeface="Tahoma"/>
            </a:endParaRPr>
          </a:p>
        </p:txBody>
      </p:sp>
      <p:sp>
        <p:nvSpPr>
          <p:cNvPr id="12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fine CHC Health Service Areas</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xamine CHC “market” penetration rates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nd underserved areas within MUA service areas</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115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termine areas of inequitable access to subgroup populations in need of services</a:t>
            </a:r>
            <a:endParaRPr b="0" lang="en-US" sz="2000" spc="-1" strike="noStrike">
              <a:solidFill>
                <a:srgbClr val="ffffff"/>
              </a:solidFill>
              <a:latin typeface="Tahoma"/>
            </a:endParaRPr>
          </a:p>
          <a:p>
            <a:pPr marL="3258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115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mprove capacity for COPC by each network</a:t>
            </a:r>
            <a:endParaRPr b="0" lang="en-US" sz="2000" spc="-1" strike="noStrike">
              <a:solidFill>
                <a:srgbClr val="ffffff"/>
              </a:solidFill>
              <a:latin typeface="Tahoma"/>
            </a:endParaRPr>
          </a:p>
          <a:p>
            <a:pPr marL="3258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115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reate Web-based Interactive mapping at clinic level</a:t>
            </a:r>
            <a:endParaRPr b="0" lang="en-US" sz="2000" spc="-1" strike="noStrike">
              <a:solidFill>
                <a:srgbClr val="ffffff"/>
              </a:solidFill>
              <a:latin typeface="Tahoma"/>
            </a:endParaRPr>
          </a:p>
          <a:p>
            <a:pPr marL="32580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DF54F793-3D65-4796-8F3C-E89EC252BB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24" name=""/>
          <p:cNvGraphicFramePr/>
          <p:nvPr/>
        </p:nvGraphicFramePr>
        <p:xfrm>
          <a:off x="762120" y="1371600"/>
          <a:ext cx="7596000" cy="5216400"/>
        </p:xfrm>
        <a:graphic>
          <a:graphicData uri="http://schemas.openxmlformats.org/presentationml/2006/ole">
            <p:oleObj r:id="rId1" spid="">
              <p:embed/>
              <p:pic>
                <p:nvPicPr>
                  <p:cNvPr id="125" name="" descr=""/>
                  <p:cNvPicPr/>
                  <p:nvPr/>
                </p:nvPicPr>
                <p:blipFill>
                  <a:blip r:embed="rId2"/>
                  <a:stretch/>
                </p:blipFill>
                <p:spPr>
                  <a:xfrm>
                    <a:off x="762120" y="1371600"/>
                    <a:ext cx="7596000" cy="5216400"/>
                  </a:xfrm>
                  <a:prstGeom prst="rect">
                    <a:avLst/>
                  </a:prstGeom>
                  <a:ln w="0">
                    <a:noFill/>
                  </a:ln>
                </p:spPr>
              </p:pic>
            </p:oleObj>
          </a:graphicData>
        </a:graphic>
      </p:graphicFrame>
      <p:sp>
        <p:nvSpPr>
          <p:cNvPr id="126" name="PlaceHolder 1"/>
          <p:cNvSpPr>
            <a:spLocks noGrp="1"/>
          </p:cNvSpPr>
          <p:nvPr>
            <p:ph type="title"/>
          </p:nvPr>
        </p:nvSpPr>
        <p:spPr>
          <a:xfrm>
            <a:off x="380520" y="304560"/>
            <a:ext cx="85345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GIS &amp; CHC’s:Utilization &amp; Access</a:t>
            </a:r>
            <a:endParaRPr b="1" lang="en-US" sz="4000" spc="-1" strike="noStrike">
              <a:solidFill>
                <a:srgbClr val="eaeaea"/>
              </a:solidFill>
              <a:latin typeface="Tahoma"/>
            </a:endParaRPr>
          </a:p>
        </p:txBody>
      </p:sp>
      <p:sp>
        <p:nvSpPr>
          <p:cNvPr id="3" name="PlaceHolder 2"/>
          <p:cNvSpPr>
            <a:spLocks noGrp="1"/>
          </p:cNvSpPr>
          <p:nvPr>
            <p:ph type="sldNum" idx="3"/>
          </p:nvPr>
        </p:nvSpPr>
        <p:spPr/>
        <p:txBody>
          <a:bodyPr/>
          <a:p>
            <a:fld id="{7E90932E-9923-4EE7-9A58-287E364D90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52280" y="347760"/>
            <a:ext cx="8991720" cy="6269040"/>
          </a:xfrm>
          <a:prstGeom prst="rect">
            <a:avLst/>
          </a:prstGeom>
          <a:ln w="0">
            <a:noFill/>
          </a:ln>
        </p:spPr>
      </p:pic>
      <p:sp>
        <p:nvSpPr>
          <p:cNvPr id="2" name="PlaceHolder 1"/>
          <p:cNvSpPr>
            <a:spLocks noGrp="1"/>
          </p:cNvSpPr>
          <p:nvPr>
            <p:ph type="sldNum" idx="3"/>
          </p:nvPr>
        </p:nvSpPr>
        <p:spPr/>
        <p:txBody>
          <a:bodyPr/>
          <a:p>
            <a:fld id="{0A392170-83A1-43EE-B6F2-5C27CF27B8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990720" y="1905120"/>
            <a:ext cx="7292880" cy="4647960"/>
          </a:xfrm>
          <a:prstGeom prst="rect">
            <a:avLst/>
          </a:prstGeom>
          <a:ln w="0">
            <a:noFill/>
          </a:ln>
        </p:spPr>
      </p:pic>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UA Census Tracts for a Baltimore CHC</a:t>
            </a:r>
            <a:endParaRPr b="1" lang="en-US" sz="4400" spc="-1" strike="noStrike">
              <a:solidFill>
                <a:srgbClr val="eaeaea"/>
              </a:solidFill>
              <a:latin typeface="Tahoma"/>
            </a:endParaRPr>
          </a:p>
        </p:txBody>
      </p:sp>
      <p:sp>
        <p:nvSpPr>
          <p:cNvPr id="3" name="PlaceHolder 2"/>
          <p:cNvSpPr>
            <a:spLocks noGrp="1"/>
          </p:cNvSpPr>
          <p:nvPr>
            <p:ph type="sldNum" idx="3"/>
          </p:nvPr>
        </p:nvSpPr>
        <p:spPr/>
        <p:txBody>
          <a:bodyPr/>
          <a:p>
            <a:fld id="{FAAC2267-FB5B-4E91-90B1-AC75D3F01F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704880" y="547560"/>
            <a:ext cx="7734240" cy="5761080"/>
          </a:xfrm>
          <a:prstGeom prst="rect">
            <a:avLst/>
          </a:prstGeom>
          <a:ln w="0">
            <a:noFill/>
          </a:ln>
        </p:spPr>
      </p:pic>
      <p:sp>
        <p:nvSpPr>
          <p:cNvPr id="2" name="PlaceHolder 1"/>
          <p:cNvSpPr>
            <a:spLocks noGrp="1"/>
          </p:cNvSpPr>
          <p:nvPr>
            <p:ph type="sldNum" idx="3"/>
          </p:nvPr>
        </p:nvSpPr>
        <p:spPr/>
        <p:txBody>
          <a:bodyPr/>
          <a:p>
            <a:fld id="{E9C59FC1-B94D-4A2E-875F-240DB38198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bstacles</a:t>
            </a: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efinition of ‘Ideal Service Are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rban setting = Multiple Provider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echnology-driven: Expense/Training</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9665182E-5283-45A9-9970-9709CCF7C0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C Response to Mapping</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Focus Groups/Key Informant Interviews </a:t>
            </a:r>
            <a:endParaRPr b="0" lang="en-US" sz="2600" spc="-1" strike="noStrike">
              <a:solidFill>
                <a:srgbClr val="ffffff"/>
              </a:solidFill>
              <a:latin typeface="Tahoma"/>
            </a:endParaRPr>
          </a:p>
          <a:p>
            <a:pPr marL="609480" indent="-6094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Responses and Suggestions</a:t>
            </a:r>
            <a:endParaRPr b="0" lang="en-US" sz="2600" spc="-1" strike="noStrike">
              <a:solidFill>
                <a:srgbClr val="ffffff"/>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niformly positive responses</a:t>
            </a:r>
            <a:endParaRPr b="0" lang="en-US" sz="2400" spc="-1" strike="noStrike">
              <a:solidFill>
                <a:srgbClr val="ffffff"/>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reat tool for strategic planning/resource allocation</a:t>
            </a:r>
            <a:endParaRPr b="0" lang="en-US" sz="2400" spc="-1" strike="noStrike">
              <a:solidFill>
                <a:srgbClr val="ffffff"/>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ps easily comprehended by clinic leaders</a:t>
            </a:r>
            <a:endParaRPr b="0" lang="en-US" sz="2400" spc="-1" strike="noStrike">
              <a:solidFill>
                <a:srgbClr val="ffffff"/>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rrelation w/knowledge of community needed</a:t>
            </a:r>
            <a:endParaRPr b="0" lang="en-US" sz="2400" spc="-1" strike="noStrike">
              <a:solidFill>
                <a:srgbClr val="ffffff"/>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ynamic maps superior to static maps</a:t>
            </a:r>
            <a:endParaRPr b="0" lang="en-US" sz="2400" spc="-1" strike="noStrike">
              <a:solidFill>
                <a:srgbClr val="ffffff"/>
              </a:solidFill>
              <a:latin typeface="Tahoma"/>
            </a:endParaRPr>
          </a:p>
          <a:p>
            <a:pPr marL="609480" indent="-6094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Many future mapping projects proposed</a:t>
            </a:r>
            <a:endParaRPr b="0" lang="en-US" sz="2600" spc="-1" strike="noStrike">
              <a:solidFill>
                <a:srgbClr val="ffffff"/>
              </a:solidFill>
              <a:latin typeface="Tahoma"/>
            </a:endParaRPr>
          </a:p>
        </p:txBody>
      </p:sp>
      <p:sp>
        <p:nvSpPr>
          <p:cNvPr id="4" name="PlaceHolder 3"/>
          <p:cNvSpPr>
            <a:spLocks noGrp="1"/>
          </p:cNvSpPr>
          <p:nvPr>
            <p:ph type="sldNum" idx="3"/>
          </p:nvPr>
        </p:nvSpPr>
        <p:spPr/>
        <p:txBody>
          <a:bodyPr/>
          <a:p>
            <a:fld id="{C6CFC7A3-5D89-44A1-80E8-89D2FCA2DD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14:18:32Z</dcterms:created>
  <dc:creator>Intern2</dc:creator>
  <dc:description/>
  <dc:language>en-US</dc:language>
  <cp:lastModifiedBy>McDaniel</cp:lastModifiedBy>
  <cp:lastPrinted>2001-10-10T21:57:42Z</cp:lastPrinted>
  <dcterms:modified xsi:type="dcterms:W3CDTF">2003-09-17T12:59:02Z</dcterms:modified>
  <cp:revision>162</cp:revision>
  <dc:subject/>
  <dc:title>The Ecology of Medical C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42239005</vt:r8>
  </property>
  <property fmtid="{D5CDD505-2E9C-101B-9397-08002B2CF9AE}" pid="3" name="_AuthorEmail">
    <vt:lpwstr>JRuhl@ahrq.gov</vt:lpwstr>
  </property>
  <property fmtid="{D5CDD505-2E9C-101B-9397-08002B2CF9AE}" pid="4" name="_AuthorEmailDisplayName">
    <vt:lpwstr>Ruhl, Jessica</vt:lpwstr>
  </property>
  <property fmtid="{D5CDD505-2E9C-101B-9397-08002B2CF9AE}" pid="5" name="_EmailSubject">
    <vt:lpwstr>Next assignment: ULP audioconference on safety net</vt:lpwstr>
  </property>
</Properties>
</file>