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F05-9F62-4183-9B53-C8CB13DE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Agency Program Data Inclu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tal Health/Substance Ab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Education Student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 Ag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or Vehicle 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Examples of Use of Integrated Data System in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ldren with Special Health Care Needs linked to public schoo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school enrollment by school linked to Medicaid cl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Nurse program data linked to Medicaid cl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0C7-E82B-4BB8-888A-089C449E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7E0-000F-4906-BCDB-7E50226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0BC-2BDE-4DF7-8535-25109816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E9C-623E-4A64-824E-37DAB4A7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0CD-3393-4AD1-9D76-59994CA8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4FC-2494-4103-B696-DF0D30D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F49-B89F-4025-B3DB-C24F7BB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0FA-CCEA-4446-993B-18E1A14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2AF-19D8-4766-829C-548A6DA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02A-89D8-47DF-9CA9-69508022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14D-EB04-45CB-9437-321D33B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1E3-9177-492D-96EE-E3A9800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1084-E505-4DE3-B5EA-08D556C2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Carolina’s Integrated Health and Human Services Data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3123720"/>
            <a:ext cx="4419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ter P. (Pete) Bai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Budget and Control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ice of Research and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ors.state.sc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332748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in Studying Disparities in the Safety Net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ing out specific sub-population provides exact demographic and SES characteristics (age, race, sex, poverty indi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age to health care, vital records, school performance, etc., permits analysis of disease rates, school performance scores, perinatal issu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for age, race, sex and pov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4CB-EB78-4637-9BAA-5A3D668C05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lpful Qualities in Building an Integrated Data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utral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ervice 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ste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rve Existing Powe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ect Partner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priate Control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F08-37D5-4BB0-A39B-4F2CADA0A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outh Carolina’s Integrated Health and Human Services Data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ayer Health Care Utilization Data (Inpatient, ER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caid Eligibility and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Employee/teachers Health Plan Eligibility and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Agency Progra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082-28C2-4690-8E6A-DB8B24D30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ing Individual Records Using a Unique Tracking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identifiers used solely to determine if individual is already in ou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individual is assigned a number that stays with them perpet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que tracking number randomized so identity can never be dis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identifiers removed from statist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778-7FEE-4B9E-AC0F-26E34F844F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grated Data vs. Administrative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 chang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specific sub-populations at an individu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 members of sub-population with various program data to identif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Socia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 to Criminal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i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2D5-CCFC-47DC-9314-1E990B190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ed Data vs. Administrative Dat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Special Needs Children by Agencies and Data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209680"/>
          <a:ext cx="7772400" cy="4224600"/>
        </p:xfrm>
        <a:graphic>
          <a:graphicData uri="http://schemas.openxmlformats.org/drawingml/2006/table">
            <a:tbl>
              <a:tblPr/>
              <a:tblGrid>
                <a:gridCol w="5257800"/>
                <a:gridCol w="25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For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7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atient Utilization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 Utilizatio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 of Mental 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ren’s Rehabilitative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by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Data not unduplicated across all Agencies and Data Sources, numbers will not add to to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7BB-2A51-4AFF-BB21-C40B9FF741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of Use of Integrated Data System in SC</a:t>
            </a:r>
            <a:br>
              <a:rPr sz="3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&amp; Reduced Lunch &amp; Medicaid Children Linked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chool Performa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Language Arts Test Sco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CT Exam – Poor &amp; Non-P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9 – 2000 School Year, South Car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438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0480" y="6340320"/>
            <a:ext cx="908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linked as part of a cooperative agreement between the Department of Education, SC Education Oversight Committee, SC Department of Health and Human Services, and SC Department of Social Ser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581-E02C-456B-AD69-664826146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for the Safety Net Popul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ng the SC Safety Net Population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nking &amp; Unduplicating Medicaid, TANF, Food Stamps, Uninsured Hospitalizations, ER Visits &amp; Outpatient Surgeries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Free Clinics will be added when data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66680" y="2286000"/>
          <a:ext cx="7467840" cy="3733920"/>
        </p:xfrm>
        <a:graphic>
          <a:graphicData uri="http://schemas.openxmlformats.org/drawingml/2006/table">
            <a:tbl>
              <a:tblPr/>
              <a:tblGrid>
                <a:gridCol w="1866600"/>
                <a:gridCol w="1867320"/>
                <a:gridCol w="1866600"/>
                <a:gridCol w="186732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– 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–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AF4-7BAF-4180-BEA4-C4E2DCFBC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for the Safety Net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k this population to services to understand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lt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 around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use and neg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itor changes as programs are instituted to address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34A-F24F-4891-B7C8-F3B9FE7AA5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s in Enrollment in SC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age of uninsured inpatient and ER, food stamp clients with Medicaid eli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d those still uninsured at points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ped at census block level to highlight areas for out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ed school free &amp; reduced lunch files to Medicaid eligibility to identify school districts for priority out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ed use over time of ER by uninsured as a success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A94-AC0A-411C-B8AB-6F45879BA0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50:16Z</dcterms:created>
  <dc:creator>Tracy L. Joyce</dc:creator>
  <dc:description/>
  <dc:language>en-US</dc:language>
  <cp:lastModifiedBy>McDaniel</cp:lastModifiedBy>
  <dcterms:modified xsi:type="dcterms:W3CDTF">2003-09-17T21:44:49Z</dcterms:modified>
  <cp:revision>15</cp:revision>
  <dc:subject/>
  <dc:title>HIPAA Compliance and Data Link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3929806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