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59BA-C84A-4F6C-84AF-3A0D53340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 Agency Program Data Includ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cial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tal Health/Substance Ab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Education Student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lth Ag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or Vehicle Colli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minal Jus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 Examples of Use of Integrated Data System in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ldren with Special Health Care Needs linked to public schoo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school enrollment by school linked to Medicaid clai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ol Nurse program data linked to Medicaid clai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B5D-111C-4FBA-B0E2-88CC2568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BEC3-B722-4975-8A2F-61961DE8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8C22-4085-4863-8F3D-5417147F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4E4-3E2E-4638-9380-33454BA4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2E6-652C-430B-B20E-E199DC36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C3E5-E9C4-410C-8A58-D547447D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26B-E142-486F-B5DE-0215076C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763-FA4D-4FDD-BBF0-CFC5FF76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994-0BF1-4EE5-A3C4-CE0BBB74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9EA-AB91-408B-98FE-13ABA44B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97D5-A098-452E-939A-1784ABB1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9527-B5CE-4681-A3C9-4D03F1A7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491B-B0A4-4D0E-9FCE-8C561BD4E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uth Carolina’s Integrated Health and Human Services Data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3123720"/>
            <a:ext cx="44193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lter P. (Pete) Bai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 Budget and Control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fice of Research and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ors.state.sc.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76920" y="3327480"/>
            <a:ext cx="403848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s in Studying Disparities in the Safety Net Pop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ving out specific sub-population provides exact demographic and SES characteristics (age, race, sex, poverty indic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kage to health care, vital records, school performance, etc., permits analysis of disease rates, school performance scores, perinatal issu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for age, race, sex and pov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188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856-F343-4F12-B003-85D9305A6A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lpful Qualities in Building an Integrated Data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utral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service Prov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usted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rve Existing Power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pect Partner 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ropriate Control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53452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FFC-EAC9-45DF-B5D0-3E4F54BD98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outh Carolina’s Integrated Health and Human Services Data Syste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Payer Health Care Utilization Data (Inpatient, ER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dicaid Eligibility and Clai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e Employee/teachers Health Plan Eligibility and Clai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l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e Agency Program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7C2-15CF-458A-B119-286880E969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nking Individual Records Using a Unique Tracking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sonal identifiers used solely to determine if individual is already in ou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individual is assigned a number that stays with them perpetu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que tracking number randomized so identity can never be discov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sonal identifiers removed from statistical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188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B46-5B6A-4C14-BD48-21F926F537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grated Data vs. Administrative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itor change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e specific sub-populations at an individu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k members of sub-population with various program data to identify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f Social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ship to Criminal Ju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formance in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 Probl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188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FAA-EE06-4517-98D1-79B11F1819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grated Data vs. Administrative Dat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Special Needs Children by Agencies and Data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2209680"/>
          <a:ext cx="7772400" cy="4224600"/>
        </p:xfrm>
        <a:graphic>
          <a:graphicData uri="http://schemas.openxmlformats.org/drawingml/2006/table">
            <a:tbl>
              <a:tblPr/>
              <a:tblGrid>
                <a:gridCol w="5257800"/>
                <a:gridCol w="25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For S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,0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,7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atient Utilization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,7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 Utilization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,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artment of Mental Heal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3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ldren’s Rehabilitative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byn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7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Data not unduplicated across all Agencies and Data Sources, numbers will not add to tot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838188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295-0C95-47EB-8D2D-9526E15835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xample of Use of Integrated Data System in SC</a:t>
            </a:r>
            <a:br>
              <a:rPr sz="3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e &amp; Reduced Lunch &amp; Medicaid Children Linked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School Performanc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glish Language Arts Test Scor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ACT Exam – Poor &amp; Non-Po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99 – 2000 School Year, South Caro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62120" y="24382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60480" y="6340320"/>
            <a:ext cx="908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linked as part of a cooperative agreement between the Department of Education, SC Education Oversight Committee, SC Department of Health and Human Services, and SC Department of Social Servi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188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DABD-6FB7-4DA9-AF8C-64C9EFF935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s for the Safety Net Popula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imating the SC Safety Net Population</a:t>
            </a:r>
            <a:br>
              <a:rPr sz="4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inking &amp; Unduplicating Medicaid, TANF, Food Stamps, Uninsured Hospitalizations, ER Visits &amp; Outpatient Surgeries</a:t>
            </a: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*Free Clinics will be added when data i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66680" y="2286000"/>
          <a:ext cx="7467840" cy="3733920"/>
        </p:xfrm>
        <a:graphic>
          <a:graphicData uri="http://schemas.openxmlformats.org/drawingml/2006/table">
            <a:tbl>
              <a:tblPr/>
              <a:tblGrid>
                <a:gridCol w="1866600"/>
                <a:gridCol w="1867320"/>
                <a:gridCol w="1866600"/>
                <a:gridCol w="186732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Wh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– 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– 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– 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– 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838188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68E-4D6D-4241-98EC-B6A804A34C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s for the Safety Net Pop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k this population to services to understand probl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lth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s around bi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use and neg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itor changes as programs are instituted to address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F2C-1864-40DB-93C1-2C7A578797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s in Enrollment in SC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kage of uninsured inpatient and ER, food stamp clients with Medicaid elig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ied those still uninsured at points i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pped at census block level to highlight areas for out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ked school free &amp; reduced lunch files to Medicaid eligibility to identify school districts for priority out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itored use over time of ER by uninsured as a success mea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188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419-5FEE-4E41-B1D3-A86F06C485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50:16Z</dcterms:created>
  <dc:creator>Tracy L. Joyce</dc:creator>
  <dc:description/>
  <dc:language>en-US</dc:language>
  <cp:lastModifiedBy>McDaniel</cp:lastModifiedBy>
  <dcterms:modified xsi:type="dcterms:W3CDTF">2003-09-17T21:44:49Z</dcterms:modified>
  <cp:revision>15</cp:revision>
  <dc:subject/>
  <dc:title>HIPAA Compliance and Data Link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33929806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Next assignment: ULP audioconference on safety net</vt:lpwstr>
  </property>
</Properties>
</file>