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move the slide</a:t>
            </a:r>
            <a:endParaRPr b="0" lang="en-US" sz="4000" spc="-1" strike="noStrike">
              <a:solidFill>
                <a:srgbClr val="003366"/>
              </a:solidFill>
              <a:latin typeface="Times New Roman"/>
            </a:endParaRPr>
          </a:p>
        </p:txBody>
      </p:sp>
      <p:sp>
        <p:nvSpPr>
          <p:cNvPr id="2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AB50-B055-4BC8-995D-0F01CDB6A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have heard lots of discussion of data and surveys, but based on years of work in a state and with states, do these data and survey efforts make a differenc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would argue that lots of policy is made without the benefit of data, but when it comes to big investments today it is seldom the case.  Policy makers, both elected and within the bureaucracy are increasingly interested in what information is available to help make a policy decision and the quality of that information.  Lyn, Joel and I have all worked with the HRSA state planning grant states and all of us have heard countless stories of data that changed the way a policy maker saw an issue and changed the way his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ata is expensive, and one of the values of the work we have had a chance to learn about today is its realistic approach to using what is already available as a base and questions to ask before you head out to create the “close to ideal” data base to meet the needs of state or local policymakers.  The questions posed by the two papers on estimating demand and doing your own survey can provide a checklist that makes sure the results are not disappointing—expectations were reasonable, objectives were clear, the end product is credible, and reported in a way that community and state policy makers can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the discussion has also helped make clear one of the other values of data efforts—the softer side—building consensus and a common perspective on an issue or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ort to understand the problem and develop answers, particularly in area specific survey work, engages stakeholders and helps create ownership.  It moves the policy process and makes the problem or issue r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have both worked in a state and with states on solutions for the uninsured, is a tool for assessing safety net provider health really of interest to state  policym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know there is a continuing need for safety net provider system—they are less confident about how to evaluate the status—health—of that system and what their role in maintaining that health might be.  They are most often bombarded with anecdotes and often, like Oregon did in 1999, forced to resort to expensive one time studies to figure out whether or not action is nee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policies have major implications for safety net providers—who among the low income are covered and payment levels are two quick examples of critical issues for safety net providers, but states policymakers often have no way to really assess what the implications of changes in the areas they control will be at the ground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ndard way to evaluate financial health and benchmarks and the potential to expand benchmarking within a state to assess the financial health of safety net providers may be even more important with the difficult financial situation many states face.  Most states are struggling to maintain health insurance programs for the low income and many have been forced to make cutbacks in eligibility either directly or by administrative changes.  These tools offer a consistent way for providers, communities and state government to monitor the financial impact o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so offer a way for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 you have any other comments on the opportunities these new tools may create for state and local policy m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eate the potential for understanding both sides of the equation and state and local communities being able to help each other build a data picture of demand or need and the resources available to meet those needs, both through traditional insurance strategies including Medicaid and the safety net providers.  A picture that both sides can see as a credible picture is an effective first step for communities and states finding more effective ways to work together on preserving and expanding access to low income unin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want to emphasis the value of monitoring and tracking change over time.  One time efforts are littered over the policy landscape and quickly become dated and discounted.  States have an ability and an incentive to produce demand data and track uninsured, they need to work with communities to make this useful and communities need to work with the state to create more consistent benchmarks for tracking the health of the community providers that comprise the safety 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fety net was characterized as fragile before the serious budget and economic problems we face today—more collaborative policymaking based on improved data and monitoring tools may preserve access while both states and communities look for more cost effective ways to expand ac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DF41E-0708-4F76-B39C-1374CCA3C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38659-0356-4175-8CB3-A4A1D612E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A227A-9198-4E94-8FA6-94F1FDE48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71A75-9FCF-4E2F-9033-1A8272D59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3BEDA-2D7C-40E3-A581-29DCEDAF5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99DE4-D575-42C2-A996-4451BCCD7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4CE79-9C55-4156-BED4-E98122055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CE053-82A9-4CC3-BBDB-1D04FBB60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C529F-8B82-4BA4-97B2-B9E224A6F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3AD1B-16A0-4040-8CD1-34C631AB2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2695A-DFA2-418F-AF29-320E57FA4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49EEE-0655-4ABB-ACCE-DD91C8317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7E459-F41C-459A-B1CA-9697BF545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AB9A9-96CB-4805-A3F2-76A094544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69D18-3C3C-4B79-8BC7-B683039E7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145B9-B97E-4688-9D1C-014E47D8D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A63AE-9866-48A7-BC3A-1F8D9B6FA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4B276-2130-495C-9A99-77D4367D7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AF4F0-E043-4B6D-A35B-705566E12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118CF-4C70-493D-A9ED-75410EEFF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AE4A4-23E9-4E60-8EC7-0F29B732F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08B26-7143-4F35-AC0C-46D6BCCE3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93B49-7228-4AA1-9809-893859819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9BB9A-3D68-4952-8688-DF84B16CD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05CB-B6B5-4E39-AE11-9F3EF223F8B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3DF1-6B6F-4CC9-9262-915CF25835FF}"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afety Net Data Collection Strategies</a:t>
            </a:r>
            <a:endParaRPr b="0" lang="en-US" sz="3600" spc="-1" strike="noStrike">
              <a:solidFill>
                <a:srgbClr val="003366"/>
              </a:solidFill>
              <a:latin typeface="Times New Roman"/>
            </a:endParaRPr>
          </a:p>
        </p:txBody>
      </p:sp>
      <p:sp>
        <p:nvSpPr>
          <p:cNvPr id="298" name="PlaceHolder 2"/>
          <p:cNvSpPr>
            <a:spLocks noGrp="1"/>
          </p:cNvSpPr>
          <p:nvPr>
            <p:ph type="subTitle"/>
          </p:nvPr>
        </p:nvSpPr>
        <p:spPr>
          <a:xfrm>
            <a:off x="4572000" y="2693520"/>
            <a:ext cx="3657600" cy="2994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ickie Gates</a:t>
            </a:r>
            <a:endParaRPr b="0" lang="en-US" sz="3200" spc="-1" strike="noStrike">
              <a:solidFill>
                <a:srgbClr val="0033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nior Consultant</a:t>
            </a:r>
            <a:endParaRPr b="0" lang="en-US" sz="3200" spc="-1" strike="noStrike">
              <a:solidFill>
                <a:srgbClr val="0033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tate Coverage Initiatives program</a:t>
            </a:r>
            <a:endParaRPr b="0" lang="en-US" sz="3200" spc="-1" strike="noStrike">
              <a:solidFill>
                <a:srgbClr val="003366"/>
              </a:solidFill>
              <a:latin typeface="Times New Roman"/>
            </a:endParaRPr>
          </a:p>
        </p:txBody>
      </p:sp>
      <p:pic>
        <p:nvPicPr>
          <p:cNvPr id="299" name="" descr=""/>
          <p:cNvPicPr/>
          <p:nvPr/>
        </p:nvPicPr>
        <p:blipFill>
          <a:blip r:embed="rId1"/>
          <a:stretch/>
        </p:blipFill>
        <p:spPr>
          <a:xfrm>
            <a:off x="1371600" y="2590920"/>
            <a:ext cx="2936880" cy="331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ow Much Data and How Good?</a:t>
            </a:r>
            <a:endParaRPr b="0" lang="en-US" sz="4400" spc="-1" strike="noStrike">
              <a:solidFill>
                <a:srgbClr val="003366"/>
              </a:solidFill>
              <a:latin typeface="Times New Roman"/>
            </a:endParaRPr>
          </a:p>
        </p:txBody>
      </p:sp>
      <p:sp>
        <p:nvSpPr>
          <p:cNvPr id="301" name="PlaceHolder 2"/>
          <p:cNvSpPr>
            <a:spLocks noGrp="1"/>
          </p:cNvSpPr>
          <p:nvPr>
            <p:ph/>
          </p:nvPr>
        </p:nvSpPr>
        <p:spPr>
          <a:xfrm>
            <a:off x="809640" y="2361960"/>
            <a:ext cx="7958160" cy="3733560"/>
          </a:xfrm>
          <a:prstGeom prst="rect">
            <a:avLst/>
          </a:prstGeom>
          <a:noFill/>
          <a:ln w="0">
            <a:noFill/>
          </a:ln>
        </p:spPr>
        <p:txBody>
          <a:bodyPr lIns="90000" rIns="90000" tIns="46800" bIns="46800" anchor="t">
            <a:normAutofit/>
          </a:bodyPr>
          <a:p>
            <a:pPr marL="343080" indent="-343080">
              <a:spcBef>
                <a:spcPts val="10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Does data actually influence policy</a:t>
            </a:r>
            <a:endParaRPr b="0" lang="en-US" sz="4000" spc="-1" strike="noStrike">
              <a:solidFill>
                <a:srgbClr val="003366"/>
              </a:solidFill>
              <a:latin typeface="Times New Roman"/>
            </a:endParaRPr>
          </a:p>
          <a:p>
            <a:pPr marL="343080" indent="-343080">
              <a:spcBef>
                <a:spcPts val="10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ays to think about investing in more</a:t>
            </a:r>
            <a:endParaRPr b="0" lang="en-US" sz="4000" spc="-1" strike="noStrike">
              <a:solidFill>
                <a:srgbClr val="003366"/>
              </a:solidFill>
              <a:latin typeface="Times New Roman"/>
            </a:endParaRPr>
          </a:p>
          <a:p>
            <a:pPr marL="343080" indent="-343080">
              <a:spcBef>
                <a:spcPts val="10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softer side of survey and data work</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B046079F-A591-485C-AD39-677731DDBF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Supply Side</a:t>
            </a:r>
            <a:br>
              <a:rPr sz="4400"/>
            </a:br>
            <a:r>
              <a:rPr b="0" lang="en-US" sz="4400" spc="-1" strike="noStrike">
                <a:solidFill>
                  <a:srgbClr val="003366"/>
                </a:solidFill>
                <a:latin typeface="Times New Roman"/>
              </a:rPr>
              <a:t>Does it Matter to States</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tates are concerned with the health of the safety net, but real uncertainties</a:t>
            </a:r>
            <a:endParaRPr b="0" lang="en-US" sz="3600" spc="-1" strike="noStrike">
              <a:solidFill>
                <a:srgbClr val="003366"/>
              </a:solidFill>
              <a:latin typeface="Times New Roman"/>
            </a:endParaRPr>
          </a:p>
          <a:p>
            <a:pPr marL="343080" indent="-343080">
              <a:lnSpc>
                <a:spcPct val="9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Few tools available to easily assess the health of individual providers or  “the safety net”</a:t>
            </a:r>
            <a:endParaRPr b="0" lang="en-US" sz="3600" spc="-1" strike="noStrike">
              <a:solidFill>
                <a:srgbClr val="003366"/>
              </a:solidFill>
              <a:latin typeface="Times New Roman"/>
            </a:endParaRPr>
          </a:p>
          <a:p>
            <a:pPr marL="343080" indent="-343080">
              <a:lnSpc>
                <a:spcPct val="9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Today’s financial challenges make monitoring tools more critical</a:t>
            </a:r>
            <a:endParaRPr b="0" lang="en-US" sz="3600" spc="-1" strike="noStrike">
              <a:solidFill>
                <a:srgbClr val="003366"/>
              </a:solidFill>
              <a:latin typeface="Times New Roman"/>
            </a:endParaRPr>
          </a:p>
        </p:txBody>
      </p:sp>
      <p:sp>
        <p:nvSpPr>
          <p:cNvPr id="4" name="PlaceHolder 3"/>
          <p:cNvSpPr>
            <a:spLocks noGrp="1"/>
          </p:cNvSpPr>
          <p:nvPr>
            <p:ph type="sldNum" idx="3"/>
          </p:nvPr>
        </p:nvSpPr>
        <p:spPr/>
        <p:txBody>
          <a:bodyPr/>
          <a:p>
            <a:fld id="{47623265-61B1-4F5C-9228-A1E85237E5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trategies for Access</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361960"/>
            <a:ext cx="7958160" cy="37335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alue of understanding both supply and demand side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Value of data investments over time to monitor the impact of policy</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Need for closer state and community working relationships to enhance access</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349D2F57-77CC-4851-AB79-B11BEE62210E}"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18:43:53Z</dcterms:created>
  <dc:creator>Vickie Gates</dc:creator>
  <dc:description/>
  <dc:language>en-US</dc:language>
  <cp:lastModifiedBy>McDaniel</cp:lastModifiedBy>
  <dcterms:modified xsi:type="dcterms:W3CDTF">2003-09-16T18:15:41Z</dcterms:modified>
  <cp:revision>5</cp:revision>
  <dc:subject/>
  <dc:title>The Search for Da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59066894</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Next assignment: ULP audioconference on safety net</vt:lpwstr>
  </property>
</Properties>
</file>