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64C66-64A7-4A4E-95A1-F6A2D3EEB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2F2A3-18FC-4D22-885C-47F5E21BC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32E75-9F80-46E7-9A46-890FB450B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F69B7-78FB-4B3F-8271-F79D7C753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45F1D-C187-4461-BFA7-4F84B7BDC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D0E74-4097-4D04-BA54-7C6E59855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68DCB-F9A6-4A24-A2A6-5F00E6FA8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BCA08-0902-4FF0-872B-974AE2847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903A7-F4C4-4211-8641-6FFFBA8E3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55160-F565-4F3E-A1F7-CF2F3CA32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4ECC1-B47A-49B2-A06D-370E5C18E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F21DE-5702-4F34-9583-7F89AE0C3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3BBC1-D0DB-4A9F-82B0-A9D37BDC2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5EF3A-19AA-4BDC-A45D-4302E8B98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F5B3E-F6A3-49E9-8BAA-3B331F639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D5CE6-CE27-4613-82E4-7A00CE671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33104-139A-4573-B530-9E837E202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7F36C-D903-4EF8-8263-1E0C3BC64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BE309-8E50-4E16-AAC7-7F19F26CB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012E2-5AF9-4C3E-BA46-3DAD00A75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9C1B6-8162-4915-AE07-5134584C2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1B6D3-8C3E-46A0-8E48-7F449FBAA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2A6C7-D519-405E-B9B3-0A113C342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ACA9D-2CFF-4E3A-9552-8122B538B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0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c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8f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8f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8a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8a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85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85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81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81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c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8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8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8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8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8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8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8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8f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8f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85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8a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8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c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c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c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8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10199"/>
                    </a:gs>
                    <a:gs pos="100000">
                      <a:srgbClr val="0000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10199"/>
                    </a:gs>
                    <a:gs pos="100000">
                      <a:srgbClr val="0000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10199"/>
                    </a:gs>
                    <a:gs pos="100000">
                      <a:srgbClr val="0000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10199"/>
                    </a:gs>
                    <a:gs pos="100000">
                      <a:srgbClr val="0000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10199"/>
                    </a:gs>
                    <a:gs pos="100000">
                      <a:srgbClr val="0000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10199"/>
                    </a:gs>
                    <a:gs pos="100000">
                      <a:srgbClr val="0000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10199"/>
                    </a:gs>
                    <a:gs pos="100000">
                      <a:srgbClr val="0000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10199"/>
                    </a:gs>
                    <a:gs pos="100000">
                      <a:srgbClr val="0000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10199"/>
                    </a:gs>
                    <a:gs pos="100000">
                      <a:srgbClr val="0000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10199"/>
                    </a:gs>
                    <a:gs pos="100000">
                      <a:srgbClr val="0000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10199"/>
                    </a:gs>
                    <a:gs pos="100000">
                      <a:srgbClr val="0000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10199"/>
                    </a:gs>
                    <a:gs pos="100000">
                      <a:srgbClr val="0000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10199"/>
                    </a:gs>
                    <a:gs pos="100000">
                      <a:srgbClr val="0000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10199"/>
                    </a:gs>
                    <a:gs pos="100000">
                      <a:srgbClr val="0000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10199"/>
                    </a:gs>
                    <a:gs pos="100000">
                      <a:srgbClr val="0000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0101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0101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6a"/>
                    </a:gs>
                    <a:gs pos="100000">
                      <a:srgbClr val="0101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6a"/>
                    </a:gs>
                    <a:gs pos="100000">
                      <a:srgbClr val="0101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6a"/>
                    </a:gs>
                    <a:gs pos="100000">
                      <a:srgbClr val="0101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6a"/>
                    </a:gs>
                    <a:gs pos="100000">
                      <a:srgbClr val="0101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6a"/>
                    </a:gs>
                    <a:gs pos="100000">
                      <a:srgbClr val="0101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6a"/>
                    </a:gs>
                    <a:gs pos="100000">
                      <a:srgbClr val="0101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6a"/>
                    </a:gs>
                    <a:gs pos="100000">
                      <a:srgbClr val="0101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6a"/>
                    </a:gs>
                    <a:gs pos="100000">
                      <a:srgbClr val="0101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6a"/>
                    </a:gs>
                    <a:gs pos="100000">
                      <a:srgbClr val="0101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a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0101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0101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0101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a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0101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101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101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01CE6-D11D-48D5-8E48-E45C91120E0E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0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c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8f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8f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8a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8a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85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85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81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81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c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8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8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8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8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8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8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8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8f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8f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85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8a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8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c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c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c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34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10199"/>
                    </a:gs>
                    <a:gs pos="100000">
                      <a:srgbClr val="0000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10199"/>
                    </a:gs>
                    <a:gs pos="100000">
                      <a:srgbClr val="0000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10199"/>
                    </a:gs>
                    <a:gs pos="100000">
                      <a:srgbClr val="0000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10199"/>
                    </a:gs>
                    <a:gs pos="100000">
                      <a:srgbClr val="0000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10199"/>
                    </a:gs>
                    <a:gs pos="100000">
                      <a:srgbClr val="0000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10199"/>
                    </a:gs>
                    <a:gs pos="100000">
                      <a:srgbClr val="0000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10199"/>
                    </a:gs>
                    <a:gs pos="100000">
                      <a:srgbClr val="0000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10199"/>
                    </a:gs>
                    <a:gs pos="100000">
                      <a:srgbClr val="0000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10199"/>
                    </a:gs>
                    <a:gs pos="100000">
                      <a:srgbClr val="0000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10199"/>
                    </a:gs>
                    <a:gs pos="100000">
                      <a:srgbClr val="0000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10199"/>
                    </a:gs>
                    <a:gs pos="100000">
                      <a:srgbClr val="0000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10199"/>
                    </a:gs>
                    <a:gs pos="100000">
                      <a:srgbClr val="0000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10199"/>
                    </a:gs>
                    <a:gs pos="100000">
                      <a:srgbClr val="0000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10199"/>
                    </a:gs>
                    <a:gs pos="100000">
                      <a:srgbClr val="0000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10199"/>
                    </a:gs>
                    <a:gs pos="100000">
                      <a:srgbClr val="0000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0101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0101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6a"/>
                    </a:gs>
                    <a:gs pos="100000">
                      <a:srgbClr val="0101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6a"/>
                    </a:gs>
                    <a:gs pos="100000">
                      <a:srgbClr val="0101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6a"/>
                    </a:gs>
                    <a:gs pos="100000">
                      <a:srgbClr val="0101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6a"/>
                    </a:gs>
                    <a:gs pos="100000">
                      <a:srgbClr val="0101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6a"/>
                    </a:gs>
                    <a:gs pos="100000">
                      <a:srgbClr val="0101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6a"/>
                    </a:gs>
                    <a:gs pos="100000">
                      <a:srgbClr val="0101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6a"/>
                    </a:gs>
                    <a:gs pos="100000">
                      <a:srgbClr val="0101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6a"/>
                    </a:gs>
                    <a:gs pos="100000">
                      <a:srgbClr val="0101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6a"/>
                    </a:gs>
                    <a:gs pos="100000">
                      <a:srgbClr val="0101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3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a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0101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0101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0101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a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0101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101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101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2AA2B-7CF2-4444-926F-BD943112C928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ffff"/>
              </a:buClr>
              <a:buSzPct val="11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11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0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3886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f5f5f"/>
                </a:solidFill>
                <a:latin typeface="Arial"/>
              </a:rPr>
              <a:t>Monitoring the Health Care Safety Net</a:t>
            </a:r>
            <a:br>
              <a:rPr sz="4400"/>
            </a:br>
            <a:br>
              <a:rPr sz="2400"/>
            </a:br>
            <a:r>
              <a:rPr b="1" lang="en-US" sz="6000" spc="-1" strike="noStrike">
                <a:solidFill>
                  <a:srgbClr val="990033"/>
                </a:solidFill>
                <a:latin typeface="Arial"/>
              </a:rPr>
              <a:t>Doing Your </a:t>
            </a:r>
            <a:br>
              <a:rPr sz="6000"/>
            </a:br>
            <a:r>
              <a:rPr b="1" lang="en-US" sz="6000" spc="-1" strike="noStrike">
                <a:solidFill>
                  <a:srgbClr val="990033"/>
                </a:solidFill>
                <a:latin typeface="Arial"/>
              </a:rPr>
              <a:t>Own Survey</a:t>
            </a:r>
            <a:endParaRPr b="0" lang="en-US" sz="6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0" y="3886200"/>
            <a:ext cx="9144000" cy="2971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Institute for Health, Health Care Polic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nd Aging Resear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267080" y="4935600"/>
            <a:ext cx="4419720" cy="1312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f5f5f"/>
                </a:solidFill>
                <a:latin typeface="Arial"/>
              </a:rPr>
              <a:t>Joel Cant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Professor and Directo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Rutgers Center for State Health Polic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September 24, 200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457200" y="4343400"/>
            <a:ext cx="3124080" cy="152712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99960" y="5883120"/>
            <a:ext cx="3486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5f5f5f"/>
                </a:solidFill>
                <a:latin typeface="Times New Roman"/>
              </a:rPr>
              <a:t>Institute for Health, Health Care Policy,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5f5f5f"/>
                </a:solidFill>
                <a:latin typeface="Times New Roman"/>
              </a:rPr>
              <a:t>and Aging Researc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248520" y="1752480"/>
            <a:ext cx="22921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0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Should you conduct </a:t>
            </a:r>
            <a:br>
              <a:rPr sz="4000"/>
            </a:b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 local survey?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31720" y="1600200"/>
            <a:ext cx="8150400" cy="38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isting sources do not meet local nee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eck federal, state, and local sour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ys can be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extrapolated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local are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eful for engaging stakehold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ocale-specific ques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pulation can provide needed inform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ufficient resources (time &amp; $) are avail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80880" y="1523880"/>
            <a:ext cx="83822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7C70C-BD32-4E15-8282-7C209D9716E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0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Set Clear Objectives</a:t>
            </a:r>
            <a:br>
              <a:rPr sz="4000"/>
            </a:b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Some Examples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31720" y="1676160"/>
            <a:ext cx="815040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sure access to primary ca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satisfac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ultural and linguistic competenc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ermine timeliness of referrals for specialty ca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adequacy of the supply of basic health services for the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insur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9FC2E-A1CC-4AC6-9223-416ED912B00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0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5400" y="22824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The Questionnaire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228600" y="1750680"/>
            <a:ext cx="86868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cc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 to your survey objectives early &amp; oft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cc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e previously tested ques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riting good questions is har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n provide benchmar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cc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me good sources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ical Expenditure Panel Survey (MEP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havioral Risk Factor Surveillance Surve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ordinated State Coverage Survey (SHAD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80880" y="1523880"/>
            <a:ext cx="83822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C5690-A5F6-404B-A93E-7C5B9C100C6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0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Safety Net Survey Topics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Some Examples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5760" y="1750680"/>
            <a:ext cx="403704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ver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ealth stat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cess barri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tiliz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ual source of c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45080" y="1750680"/>
            <a:ext cx="403704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ttitu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Jobs &amp; employer characteris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io-economic status and edu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mographics &amp; langu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0880" y="1523880"/>
            <a:ext cx="83822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DDC37-0FE4-44F3-9EB3-450F347C762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0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5400" y="1519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Other Important Considerations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5400" y="1599840"/>
            <a:ext cx="845964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ampling strategy and siz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identia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llow-up strateg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terview mode (phone, in-person, mai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terviewer selection and train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ta management, editing, analy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porting finding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0880" y="1447920"/>
            <a:ext cx="83822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77336-44E1-4648-9E57-E618A4FA728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0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5400" y="22824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Potential Pitfalls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5400" y="1750680"/>
            <a:ext cx="822636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working closely with the commun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nning out of money, time, or ste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enough development tim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ta quality &amp; sampling probl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ack of focus on how the data will be us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enough emphasis on analysis and repor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80880" y="1523880"/>
            <a:ext cx="83822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1B24F-76AE-4BA6-8DCF-D3DD76C7F39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4T15:54:29Z</dcterms:created>
  <dc:creator>amonheit</dc:creator>
  <dc:description/>
  <dc:language>en-US</dc:language>
  <cp:lastModifiedBy>McDaniel</cp:lastModifiedBy>
  <cp:lastPrinted>2003-03-25T17:51:01Z</cp:lastPrinted>
  <dcterms:modified xsi:type="dcterms:W3CDTF">2003-09-16T17:22:38Z</dcterms:modified>
  <cp:revision>101</cp:revision>
  <dc:subject/>
  <dc:title> IHCP Enrollees, 1996 and 2001  Percent Ages 45 to 64,by Enrollment Length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301990649</vt:r8>
  </property>
  <property fmtid="{D5CDD505-2E9C-101B-9397-08002B2CF9AE}" pid="3" name="_AuthorEmail">
    <vt:lpwstr>JRuhl@ahrq.gov</vt:lpwstr>
  </property>
  <property fmtid="{D5CDD505-2E9C-101B-9397-08002B2CF9AE}" pid="4" name="_AuthorEmailDisplayName">
    <vt:lpwstr>Ruhl, Jessica</vt:lpwstr>
  </property>
  <property fmtid="{D5CDD505-2E9C-101B-9397-08002B2CF9AE}" pid="5" name="_EmailSubject">
    <vt:lpwstr>Next assignment: ULP audioconference on safety net</vt:lpwstr>
  </property>
</Properties>
</file>