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23D-12DE-4B6E-AB07-78B11D74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6B5-FF1D-43A1-B8E8-2AA6349B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9DE-FBFE-480E-B7B0-C0BB0EF5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4BE-1622-4E45-A8D2-A1473294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0BE4-D021-4F80-A9A7-A58174D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0D2-E1B9-4826-BE67-E7011D7A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E85F-5222-4700-95E6-774E1C42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AD0D-B14D-43C4-8D66-B4E52C13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B22F-3539-4EA5-BCC9-8A060FC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3E48-4897-426F-BEF8-9AAFF38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E23B-4453-4E40-957C-323A379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005-CC75-43AC-A0DC-4198F49A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6134-77D5-4150-8DC7-F2F28C20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E825-E4BE-46DB-8604-8E6CB6DA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671F-B12E-4047-B6E6-6B6C5845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3847-A15E-458B-85CE-88C6594C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97C8-35DE-482C-8DBE-D1CEEE99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D47-127D-43D8-BEF5-C293417B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C36-B432-4BE1-A4E0-7EBF0833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A45-31E1-4D92-AC54-2D80534B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3A1-B476-45FC-8C0D-DD286964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1D7-1027-4554-922E-7D5909AD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BB9-146E-4304-8B17-766D94D0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36F-9ECE-471E-8CBE-91D6B8D5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BD94-0FA9-4DB5-87B0-F16786C9B0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2854-D71C-43FD-A981-7D581825A3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Monitoring the Health Care Safety Net</a:t>
            </a:r>
            <a:br>
              <a:rPr sz="4400"/>
            </a:br>
            <a:br>
              <a:rPr sz="2400"/>
            </a:b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Doing Your </a:t>
            </a:r>
            <a:br>
              <a:rPr sz="6000"/>
            </a:b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Own Survey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886200"/>
            <a:ext cx="91440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stitute for Health, Health Care Polic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Aging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935600"/>
            <a:ext cx="4419720" cy="131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Joel Can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rofessor and Dir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utgers Center for State Health Poli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ptember 24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3124080" cy="1527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9960" y="5883120"/>
            <a:ext cx="34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f5f5f"/>
                </a:solidFill>
                <a:latin typeface="Times New Roman"/>
              </a:rPr>
              <a:t>Institute for Health, Health Care Policy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f5f5f"/>
                </a:solidFill>
                <a:latin typeface="Times New Roman"/>
              </a:rPr>
              <a:t>and Aging Rese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92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hould you conduct </a:t>
            </a:r>
            <a:br>
              <a:rPr sz="4000"/>
            </a:b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 local surve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1720" y="1600200"/>
            <a:ext cx="81504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ing sources do not meet local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federal, state, and local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ys can b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xtrapolat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local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ful for engaging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le-specific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pulation can provide neede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fficient resources (time &amp; $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F65-2B97-4F77-B425-64C6970166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et Clear Objectives</a:t>
            </a:r>
            <a:br>
              <a:rPr sz="4000"/>
            </a:b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ome Exampl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1720" y="1676160"/>
            <a:ext cx="81504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sure access to primary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satisf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ultural and linguistic compete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timeliness of referrals for specialty c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adequacy of the supply of basic health services for th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ns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F7F-6E93-4226-9C8D-4B198C771F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The Questionnai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7506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your survey objectives early &amp;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previously tested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ing good questions is 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provide 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good source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cal Expenditure Panel Survey (ME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avioral Risk Factor Surveillance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State Coverage Survey (SHAD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D06-6D7A-4245-9AA9-701BE2C993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afety Net Survey Topics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Examples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175068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ess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ual source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5080" y="175068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bs &amp; employer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o-economic status and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graphics &amp;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A30-D422-48EA-A26F-5D76C10A76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Other Important Considera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4596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ing strategy and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llow-up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view mode (phone, in-person, mai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viewer selection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management, editing,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ing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DCA-EDB9-411A-BD34-B75FE0E508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otential Pitfall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7506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working closely with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ning out of money, time, or s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enough development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quality &amp; sampling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focus on how the data will be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enough emphasis on analysis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C70-6502-4EDF-A52C-9B5566DBBB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5:54:29Z</dcterms:created>
  <dc:creator>amonheit</dc:creator>
  <dc:description/>
  <dc:language>en-US</dc:language>
  <cp:lastModifiedBy>McDaniel</cp:lastModifiedBy>
  <cp:lastPrinted>2003-03-25T17:51:01Z</cp:lastPrinted>
  <dcterms:modified xsi:type="dcterms:W3CDTF">2003-09-16T17:22:38Z</dcterms:modified>
  <cp:revision>101</cp:revision>
  <dc:subject/>
  <dc:title> IHCP Enrollees, 1996 and 2001  Percent Ages 45 to 64,by Enrollment Leng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1990649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Next assignment: ULP audioconference on safety net</vt:lpwstr>
  </property>
</Properties>
</file>