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727-AADB-4DFB-853D-3438AED0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B53-3158-4C87-8928-CA8B137B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FA3-7321-41FE-8782-FE3EA2C4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7D5B-46AA-4D0A-8207-29DBF2BC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84A-02C2-4CE8-AA17-A94211A9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476-A00E-4D73-A2EF-AAA07AA2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249-25C7-43AC-B86B-5106511E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EE5-8B30-474D-9634-9F8BC005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6DE-3A59-4C4F-916E-FEC10898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044-1653-4FD4-BDF8-FBA0731C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1F0-2F02-4925-8C59-84D0FC11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AAE-3FDB-42DC-897C-FA4890AE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3D05-198E-403E-B876-F9D32CFC3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blewe001@umn.edu" TargetMode="External"/><Relationship Id="rId3" Type="http://schemas.openxmlformats.org/officeDocument/2006/relationships/hyperlink" Target="http://www.shadac.org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380880"/>
            <a:ext cx="548640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fety Net Data Collection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HRQ User Liais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24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632448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c5d74"/>
                </a:solidFill>
                <a:latin typeface="Arial"/>
              </a:rPr>
              <a:t>Supported by a grant from The Robert Wood Johnson Foun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sth" descr=""/>
          <p:cNvPicPr/>
          <p:nvPr/>
        </p:nvPicPr>
        <p:blipFill>
          <a:blip r:embed="rId1"/>
          <a:srcRect l="3198" t="4413" r="81899" b="2641"/>
          <a:stretch/>
        </p:blipFill>
        <p:spPr>
          <a:xfrm>
            <a:off x="457200" y="380880"/>
            <a:ext cx="281160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80880" y="4267080"/>
            <a:ext cx="541044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642"/>
                </a:solidFill>
                <a:latin typeface="Times New Roman"/>
              </a:rPr>
              <a:t>Lynn A. Blewett, Ph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c5d74"/>
                </a:solidFill>
                <a:latin typeface="Times New Roman"/>
              </a:rPr>
              <a:t>State Health Access Data Assistanc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c5d74"/>
                </a:solidFill>
                <a:latin typeface="Times New Roman"/>
              </a:rPr>
              <a:t>School of Public Health, University of Minnes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blewe001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www.shadac.or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ynn_B" descr=""/>
          <p:cNvPicPr/>
          <p:nvPr/>
        </p:nvPicPr>
        <p:blipFill>
          <a:blip r:embed="rId4"/>
          <a:stretch/>
        </p:blipFill>
        <p:spPr>
          <a:xfrm>
            <a:off x="5715000" y="3657600"/>
            <a:ext cx="2424240" cy="26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B101-0AEF-49ED-9AF7-888E70D694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FF07-4267-4D6B-92EC-FC5A11DA9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2057400"/>
          <a:ext cx="8076960" cy="4421160"/>
        </p:xfrm>
        <a:graphic>
          <a:graphicData uri="http://schemas.openxmlformats.org/drawingml/2006/table">
            <a:tbl>
              <a:tblPr/>
              <a:tblGrid>
                <a:gridCol w="2692440"/>
                <a:gridCol w="2692080"/>
                <a:gridCol w="269244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d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ncip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d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ncip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eak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d76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 Estimation- New Surv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y Mea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-B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ive Accu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x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71800" y="380880"/>
            <a:ext cx="8606880" cy="1068840"/>
          </a:xfrm>
          <a:prstGeom prst="rect">
            <a:avLst/>
          </a:prstGeom>
          <a:solidFill>
            <a:srgbClr val="005d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view of Approaches for Estimating Numb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nsured At the Loca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knowledgeable and aware of different data sources available for your commun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existing resources and d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on existing state and local survey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ple approaches to maximiz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flexible as new data become avail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E6E-8F2C-426D-8F50-214C1641B5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828800"/>
            <a:ext cx="7467480" cy="187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w.shadac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21 University Avenue, Suite 34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neapolis Minnesota 55414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12) 624-4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886200"/>
            <a:ext cx="83055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cipal Investigator: Lynn Blewett, Ph.D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ewe001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-Principal Investigator:  Kathleen Call, Ph.D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x001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er Director:  Kelli Johnson, M.B.A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s706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ior Research Associate: Timothy Beebe, Ph.D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ebe002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arch Associate: Michael Davern, Ph.D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er004@um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0A9-7B21-40F5-83EC-52566A2A16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imating the Number of Uninsu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s of demand based on state and local estimates of the number of unin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estimates come from household surveys that ask about health insurance cover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used in combination with employer surveys that ask about health insurance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262-818A-495B-B878-BFABBE45B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timating the Size of the Uninsured Populations at the Local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-362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r own surv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o directly measure health insurance coverage and rates of un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-362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existing available data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proxy measures of un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statistical model-based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268-0C02-444A-9A45-4F07259F4C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ct Measures: Nation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 surveys provid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e-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stimates of health insurance cove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3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urrent Population Survey (CPS):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ens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3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dical Expenditure Panel (Employer) Survey – Insurance Component (MEPS-IC):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gency for Healthcare Research and Qu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3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ate and Local Area Integrated Telephone Survey (SLAITS):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ational Center for Health Statis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DCF-23C7-4662-BA8A-9C97FFD637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rect Measures: Stat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 States have developed and fielded their own state household survey to estimate levels of health insurance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35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ny funded by the federal Health Resources Services and Administration State Planning Grant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ypically have larger sample size and some regional/county estimates of co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12C-3E18-4C80-A734-18C18C6F66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National Surveys of 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Survey of America’s Families (NSAF)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rban Instit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nsurance estimates available for 13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use files available to states f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ty Tracking Study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enter for Health System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nsurance estimates can be made for the 12 communities in the CTS s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6A4-B294-4B73-845C-1974415F4D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xy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n available measure to serve as a proxy for health insurance cover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self-pay variable from hospital administrative records to estimate local levels of un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90F-1430-4CCE-9CB6-6CE3C4509A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del-Based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s health insurance coverage using one or more variables correlated with health insurance cover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correlation between state unemployment and uninsurance and applying this at loc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AB4-DC8A-4CFD-9A88-47D11ACF85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2c5d7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tional Model-Based Estim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ll-Area Esti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sus and AHRQ are both working on sophisticated models to provide state and local area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PS:  Un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PS-IC:  Employment offer and take up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EF2-731F-45EF-9725-1D3F2FF5B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5:12:57Z</dcterms:created>
  <dc:creator>Jim Leisentritt</dc:creator>
  <dc:description/>
  <dc:language>en-US</dc:language>
  <cp:lastModifiedBy>McDaniel</cp:lastModifiedBy>
  <dcterms:modified xsi:type="dcterms:W3CDTF">2003-09-22T22:05:1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632279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Next assignment: ULP audioconference on safety net</vt:lpwstr>
  </property>
</Properties>
</file>