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712-94A8-4DE6-B6A4-A3FD5A3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8D3-AF61-4468-96A5-D040108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301-A4F0-4B6F-B08B-1CF17C75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EA6-C7AC-48D0-BCBD-A8848519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25D-11A4-4B82-A072-A5FD3CDE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4BE-134F-4CFD-AF0A-02ABA43B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C12-BB09-4C45-8E9E-DA9F88EF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3C8-9271-445D-88A7-7D8EEE63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80A-7069-46E0-8ED7-C085633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6FF-F6F5-4CB8-82C0-E5B7219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209-193E-4B9C-B1E7-70155A6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DE1-48D9-4A9B-AB7F-7CADA31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ED6-657B-4012-8E12-58C8A3CA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lewe001@umn.edu" TargetMode="External"/><Relationship Id="rId3" Type="http://schemas.openxmlformats.org/officeDocument/2006/relationships/hyperlink" Target="http://www.shadac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380880"/>
            <a:ext cx="548640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fety Net Data Collec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RQ User Liais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4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6324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c5d74"/>
                </a:solidFill>
                <a:latin typeface="Arial"/>
              </a:rPr>
              <a:t>Supported by a grant from The Robert Wood Johnson Foun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sth" descr=""/>
          <p:cNvPicPr/>
          <p:nvPr/>
        </p:nvPicPr>
        <p:blipFill>
          <a:blip r:embed="rId1"/>
          <a:srcRect l="3198" t="4413" r="81899" b="2641"/>
          <a:stretch/>
        </p:blipFill>
        <p:spPr>
          <a:xfrm>
            <a:off x="457200" y="380880"/>
            <a:ext cx="281160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0880" y="4267080"/>
            <a:ext cx="541044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642"/>
                </a:solidFill>
                <a:latin typeface="Times New Roman"/>
              </a:rPr>
              <a:t>Lynn A. Blewett, Ph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5d74"/>
                </a:solidFill>
                <a:latin typeface="Times New Roman"/>
              </a:rPr>
              <a:t>State Health Access Data Assistanc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5d74"/>
                </a:solidFill>
                <a:latin typeface="Times New Roman"/>
              </a:rPr>
              <a:t>School of Public Health, University of Minnes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blewe001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www.shadac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ynn_B" descr=""/>
          <p:cNvPicPr/>
          <p:nvPr/>
        </p:nvPicPr>
        <p:blipFill>
          <a:blip r:embed="rId4"/>
          <a:stretch/>
        </p:blipFill>
        <p:spPr>
          <a:xfrm>
            <a:off x="5715000" y="3657600"/>
            <a:ext cx="242424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4E9-3524-4C04-AB8F-4F0FC7163D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A3E-F4F0-42DF-B09A-E48293EB9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2057400"/>
          <a:ext cx="8076960" cy="44211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d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ip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d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ip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ak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d76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Estimation- New Surv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 Mea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ive Accu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x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71800" y="380880"/>
            <a:ext cx="8606880" cy="1068840"/>
          </a:xfrm>
          <a:prstGeom prst="rect">
            <a:avLst/>
          </a:prstGeom>
          <a:solidFill>
            <a:srgbClr val="005d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 of Approaches for Estimating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nsured At the Loc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knowledgeable and aware of different data sources available for your commun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xisting resources and 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on existing state and local surve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e approaches to maximiz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lexible as new data become avail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0F8-8D6A-4B9A-81D4-80A103225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828800"/>
            <a:ext cx="7467480" cy="18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shada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21 University Avenue, Suite 34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neapolis Minnesota 55414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12) 624-4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886200"/>
            <a:ext cx="83055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cipal Investigator: Lynn Blewett, Ph.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ewe001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-Principal Investigator:  Kathleen Call, Ph.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x001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er Director:  Kelli Johnson, M.B.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s706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ior Research Associate: Timothy Beebe, Ph.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ebe002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arch Associate: Michael Davern, Ph.D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er004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553-D0DB-4A85-B0C3-6626AA08D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imating the Number of Uninsu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of demand based on state and local estimates of the number of un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stimates come from household surveys that ask about health insurance cove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used in combination with employer surveys that ask about health insuran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3FF-198A-4E29-AB88-E0D038E35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imating the Size of the Uninsured Populations at the Local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-362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r own surv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o directly measure health insurance coverage and rates of un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-362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xisting available data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proxy measures of un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tatistical model-based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585-B64B-4901-8FE5-5FF5C8F797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Measures: N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surveys provid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e-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stimates of health insurance cove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rrent Population Survey (CPS):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ens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dical Expenditure Panel (Employer) Survey – Insurance Component (MEPS-IC):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gency for Healthcare Research and 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te and Local Area Integrated Telephone Survey (SLAITS):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ational Center for Health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2EE-515D-472E-87CC-F70BEFA436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Measures: Stat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 States have developed and fielded their own state household survey to estimate levels of health insuran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y funded by the federal Health Resources Services and Administration State Planning Gran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ypically have larger sample size and some regional/county estimates of co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15B-FC07-4B58-AB31-8EF8DAC529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National Surveys of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urvey of America’s Families (NSAF)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rban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nsurance estimates available for 13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use files available to states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ty Tracking Study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enter for Health System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nsurance estimates can be made for the 12 communities in the CTS s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5D1-17E5-459C-83F9-8CCFAE1F9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x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 available measure to serve as a proxy for health insurance cover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self-pay variable from hospital administrative records to estimate local levels of un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616-6107-4DA8-BAD4-06DB86FE4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-Bas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s health insurance coverage using one or more variables correlated with health insurance cover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correlation between state unemployment and uninsurance and applying this at lo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E0F-BD1E-4008-A923-D199DC011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ional Model-Based Esti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-Area Esti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sus and AHRQ are both working on sophisticated models to provide state and local area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PS:  Un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PS-IC:  Employment offer and take up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3EA-4765-4188-BFE9-7C2BFBD0E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5:12:57Z</dcterms:created>
  <dc:creator>Jim Leisentritt</dc:creator>
  <dc:description/>
  <dc:language>en-US</dc:language>
  <cp:lastModifiedBy>McDaniel</cp:lastModifiedBy>
  <dcterms:modified xsi:type="dcterms:W3CDTF">2003-09-22T22:05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632279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