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C0DF-DE83-4E08-8302-991552584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F726-848C-4164-9E0C-47E7BECAC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You work with organizations across the country whose primary focus is strengthening health care access. How are these data books helpful to that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presented in these books establishes a baseline for monitoring future trends in local safety nets and provides common ground and measurable targets for discussion of policy initiatives. The analyses in Book 1 of how the various measure relate to one another are simple and straightforward, and help shed light on where policy efforts might be focused and which factors may simply be outside of policy makers’ control. In particular, the summary of the multivariate analysis (on p. 42 of Book 1) offers the foundations of a road map for safety net improvement, while also using the data to remind us that a number of important factors – such as economic conditions and racial disparities – go beyond the realm of the health c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data can help combat the isolation felt by local providers, policy makers, and advocates. Providing information that helps these local actors understand their circumstances in a concrete way and allows them to make comparisons with gives them a voice that needs to be heard in policy debates about the future direction of the safety n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Why are aggregate data not sufficient? What are some ways that the availability of local data improves on, for example, stat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across geographic areas – regions, states, even MSAs – is not surprising and has been well documented. Striking in this data book is the variation that is presented </a:t>
            </a:r>
            <a:r>
              <a:rPr b="0" i="1" lang="en-US" sz="1200" spc="-1" strike="noStrike">
                <a:solidFill>
                  <a:srgbClr val="000000"/>
                </a:solidFill>
                <a:latin typeface="Times New Roman"/>
              </a:rPr>
              <a:t>within</a:t>
            </a:r>
            <a:r>
              <a:rPr b="0" lang="en-US" sz="1200" spc="-1" strike="noStrike">
                <a:solidFill>
                  <a:srgbClr val="000000"/>
                </a:solidFill>
                <a:latin typeface="Times New Roman"/>
              </a:rPr>
              <a:t> geographic areas. This is crucial because safety nets, and all health care delivery, is local, and good information about local situations is vital to meeting communities’ needs. The authors do a great job discussing the significance of variation and its policy usefulness in the opening chapters of Book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nnecticut is not generally thought of as a state with a very large non-English speaking population. The Limited English Proficient population in Connecticut is 7.4%, in Hartford MSA is 7.3%, in Hartford County is 8.8%, but in Hartford City is </a:t>
            </a:r>
            <a:r>
              <a:rPr b="0" i="1" lang="en-US" sz="1200" spc="-1" strike="noStrike">
                <a:solidFill>
                  <a:srgbClr val="000000"/>
                </a:solidFill>
                <a:latin typeface="Times New Roman"/>
              </a:rPr>
              <a:t>22%.</a:t>
            </a:r>
            <a:r>
              <a:rPr b="0" lang="en-US" sz="1200" spc="-1" strike="noStrike">
                <a:solidFill>
                  <a:srgbClr val="000000"/>
                </a:solidFill>
                <a:latin typeface="Times New Roman"/>
              </a:rPr>
              <a:t> This large non-English speaking population signals a need for access to language interpretation services as part of the safety net infrastructure, and the data showing this need strengthens the policy argument to be made for supporting this infrastructure. Data showing the variation within the MSA makes this argument in a way that data simply comparing MSAs would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data in the books also allows an analyst to construct peer groups of communities – MSAs or cities with similar demographic profiles that might vary on the safety net performance measures. Are there lessons to be learned from “successful” safety nets that can be applied to less successful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02E7-ECFF-41DB-A964-DFBB60E31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is slide and the following one illustrate a point from slide #2</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29BD-69F0-4696-94FE-C50A7B4AF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You said earlier that local data are “needed but elusive.” You’ve talked a bit about how valuable the data in these books are and there are, after all, 118 different measures. How are they “e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 wonks, it’s never enough; what to do? Everyone who looks at these books will wish for something that isn’t there because it isn’t available. Why can’t we know county or city uninsured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oilers in local health systems, we have always had to be data scavengers. We take what we can get and use it creatively. So when we can’t know county-level uninsured rates, an indisputably important factor in access and safety net demand, we use multiple measures that are available and we know are correlated with uninsurance and make inferences. It just so happens that the indicators the authors group as elements of “personal distress” – poverty, unemployment, educational attainment, etc. – are reasonable proxies for uninsurance and, lo and behold, are also found to be related to poor measures of patient outcomes and safety ne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also be politically or strategically useful to have multiple measures the demonstrate the condition of the safety ne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5E12-A71B-408E-A8F2-17971A230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  The purpose of these data books is contribute to efforts that will preserve and strengthen the safety net. Do they serve that purpose? What else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ort to assemble data in one place that describe a wide range of characteristics of local safety nets is, without question, a major benefit to those who are concerned about the future of safety nets and health care access. It is a monumental undertaking and, for my own work, I am grateful it was done.  Reference to credible measures strengthens discussions about demand for services and local infrastructure needs among all interested participants. In particular, the data are useful for comparisons with other communities, as early warning markers of potential problems, and as a way to monitor improvements or deterioration in a local safety ne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do not tell the whole story, however, only the beginning of it. As comprehensive as they are, they cannot capture all of the important features of demand, structure and context, or outcomes in a community. This is a function both of all desired data not being readily available, and of some things simply not being easily measurable. I encourage users of these data books to begin their work here but caution them not to fall into the “measurement trap” – if there is no measure, it doesn’t exist. The authors of the data books put it best themselves:  “The value of this report can only be assessed by its usefulness to communities.” The rest of the story of the safety net’s viability and performance is in the community – with the residents and recipients of safety net services, as well as those that prov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78213-407A-4C7F-A386-F79972843A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50A3CB7-3CD6-45F4-8E04-3C07747A9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2660024F-7B0F-4265-B8AC-09B92FE0E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8A6471BD-C66E-420C-9521-744B3B368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F2E14B-F684-4FBB-B9D0-4FE3407D9F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68F76AEF-4A92-45E0-8F75-B79B375450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8BD1E78-88E7-4214-8FDF-CD8D9C083D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38FF526-C2E7-4522-941D-45C43052A1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2"/>
          </p:nvPr>
        </p:nvSpPr>
        <p:spPr/>
        <p:txBody>
          <a:bodyPr/>
          <a:p>
            <a:fld id="{0E820A6C-C2CD-4615-B87E-7C5A94B04E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695E38C-008A-4026-9EE5-0D9712EE65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F6FB01D-AB2D-4255-9A37-1962505A93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F3E13E8-A728-4717-8EF6-60CCDF6BD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EE6219B-D827-477B-BFCB-8E3A82244D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4A4D06A0-74C9-4C4F-BE26-8956A39362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773373B-45B6-421D-BD11-4CEF4695B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00D0756-610D-41B8-BE5C-8F80CFB2A0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21566C18-2C12-49F4-9B3D-19935EF2E0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2ED882C-A86C-4B8B-AFB9-C2A9E7DE0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B6A48E13-D00E-411A-B1D3-7A9D6DF962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8199DABE-6553-4D66-972F-D82803FD7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69D2C30-1051-45F1-9459-A7237C2DEC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2EA942C-E423-48D4-9B30-AC28DD008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BE923F3E-8292-4917-958F-D19F204173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21F7D80D-A94D-4259-825A-E852A99B1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E85D-2A0D-4098-8E5C-D158AC9F6C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0000" indent="-349560">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82720" indent="-22860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258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1258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1258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182880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0E39-8534-4C06-9DC4-59B4BDC67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828800"/>
            <a:ext cx="77882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Books for Monitoring the Safety Net</a:t>
            </a:r>
            <a:endParaRPr b="1" lang="en-US" sz="3600" spc="-1" strike="noStrike">
              <a:solidFill>
                <a:srgbClr val="ffff00"/>
              </a:solidFill>
              <a:latin typeface="Arial"/>
            </a:endParaRPr>
          </a:p>
        </p:txBody>
      </p:sp>
      <p:sp>
        <p:nvSpPr>
          <p:cNvPr id="86" name="PlaceHolder 2"/>
          <p:cNvSpPr>
            <a:spLocks noGrp="1"/>
          </p:cNvSpPr>
          <p:nvPr>
            <p:ph type="subTitle"/>
          </p:nvPr>
        </p:nvSpPr>
        <p:spPr>
          <a:xfrm>
            <a:off x="609480" y="3580920"/>
            <a:ext cx="4724640" cy="1752840"/>
          </a:xfrm>
          <a:prstGeom prst="rect">
            <a:avLst/>
          </a:prstGeom>
          <a:noFill/>
          <a:ln w="0">
            <a:noFill/>
          </a:ln>
        </p:spPr>
        <p:txBody>
          <a:bodyPr lIns="90360" rIns="90360" tIns="44280" bIns="442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Seifer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Director</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ess Projec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MA</a:t>
            </a:r>
            <a:endParaRPr b="0" lang="en-US" sz="2800" spc="-1" strike="noStrike">
              <a:solidFill>
                <a:srgbClr val="ffffff"/>
              </a:solidFill>
              <a:latin typeface="Arial"/>
            </a:endParaRPr>
          </a:p>
        </p:txBody>
      </p:sp>
      <p:pic>
        <p:nvPicPr>
          <p:cNvPr id="87" name="" descr=""/>
          <p:cNvPicPr/>
          <p:nvPr/>
        </p:nvPicPr>
        <p:blipFill>
          <a:blip r:embed="rId1"/>
          <a:stretch/>
        </p:blipFill>
        <p:spPr>
          <a:xfrm>
            <a:off x="5638680" y="3048120"/>
            <a:ext cx="2105280" cy="3152520"/>
          </a:xfrm>
          <a:prstGeom prst="rect">
            <a:avLst/>
          </a:prstGeom>
          <a:ln w="0">
            <a:noFill/>
          </a:ln>
        </p:spPr>
      </p:pic>
      <p:sp>
        <p:nvSpPr>
          <p:cNvPr id="4" name="PlaceHolder 3"/>
          <p:cNvSpPr>
            <a:spLocks noGrp="1"/>
          </p:cNvSpPr>
          <p:nvPr>
            <p:ph type="sldNum" idx="2"/>
          </p:nvPr>
        </p:nvSpPr>
        <p:spPr/>
        <p:txBody>
          <a:bodyPr/>
          <a:p>
            <a:fld id="{5EA4EA40-98E0-4AB9-A3A9-04C85743617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data to monitor the safety net are needed but elusive</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books provide a common focal point for policy discussion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overcome the isolation of local health care systems and problems</a:t>
            </a:r>
            <a:endParaRPr b="0" lang="en-US" sz="3200" spc="-1" strike="noStrike">
              <a:solidFill>
                <a:srgbClr val="ffffff"/>
              </a:solidFill>
              <a:latin typeface="Arial"/>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freshment for the Data-thirsty</a:t>
            </a:r>
            <a:endParaRPr b="1" lang="en-US" sz="4000" spc="-1" strike="noStrike">
              <a:solidFill>
                <a:srgbClr val="ffff00"/>
              </a:solidFill>
              <a:latin typeface="Arial"/>
            </a:endParaRPr>
          </a:p>
        </p:txBody>
      </p:sp>
      <p:sp>
        <p:nvSpPr>
          <p:cNvPr id="4" name="PlaceHolder 3"/>
          <p:cNvSpPr>
            <a:spLocks noGrp="1"/>
          </p:cNvSpPr>
          <p:nvPr>
            <p:ph type="sldNum" idx="1"/>
          </p:nvPr>
        </p:nvSpPr>
        <p:spPr/>
        <p:txBody>
          <a:bodyPr/>
          <a:p>
            <a:fld id="{C4F6A5F5-FA78-412F-982F-9B6002AE7E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Value of Local Data</a:t>
            </a:r>
            <a:endParaRPr b="1" lang="en-US" sz="4000" spc="-1" strike="noStrike">
              <a:solidFill>
                <a:srgbClr val="ffff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a local story</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variation </a:t>
            </a:r>
            <a:r>
              <a:rPr b="0" i="1" lang="en-US" sz="3200" spc="-1" strike="noStrike">
                <a:solidFill>
                  <a:srgbClr val="ffffff"/>
                </a:solidFill>
                <a:latin typeface="Arial"/>
              </a:rPr>
              <a:t>within </a:t>
            </a:r>
            <a:r>
              <a:rPr b="0" lang="en-US" sz="3200" spc="-1" strike="noStrike">
                <a:solidFill>
                  <a:srgbClr val="ffffff"/>
                </a:solidFill>
                <a:latin typeface="Arial"/>
              </a:rPr>
              <a:t>geographic area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peer communities that might serve as examples</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4BF21FEA-6CE6-4C6B-98A3-1414F9883F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457200" y="1600200"/>
          <a:ext cx="8229600" cy="4525920"/>
        </p:xfrm>
        <a:graphic>
          <a:graphicData uri="http://schemas.openxmlformats.org/presentationml/2006/ole">
            <p:oleObj r:id="rId1" spid="">
              <p:embed/>
              <p:pic>
                <p:nvPicPr>
                  <p:cNvPr id="93" name="" descr=""/>
                  <p:cNvPicPr/>
                  <p:nvPr/>
                </p:nvPicPr>
                <p:blipFill>
                  <a:blip r:embed="rId2"/>
                  <a:stretch/>
                </p:blipFill>
                <p:spPr>
                  <a:xfrm>
                    <a:off x="457200" y="1600200"/>
                    <a:ext cx="8229600" cy="4525920"/>
                  </a:xfrm>
                  <a:prstGeom prst="rect">
                    <a:avLst/>
                  </a:prstGeom>
                  <a:ln w="0">
                    <a:noFill/>
                  </a:ln>
                </p:spPr>
              </p:pic>
            </p:oleObj>
          </a:graphicData>
        </a:graphic>
      </p:graphicFrame>
      <p:sp>
        <p:nvSpPr>
          <p:cNvPr id="94" name=""/>
          <p:cNvSpPr/>
          <p:nvPr/>
        </p:nvSpPr>
        <p:spPr>
          <a:xfrm>
            <a:off x="457200" y="5867280"/>
            <a:ext cx="46483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Census 200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A=Metropolitan Statistical Are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Value of Local Data</a:t>
            </a:r>
            <a:br>
              <a:rPr sz="4000"/>
            </a:br>
            <a:r>
              <a:rPr b="1" lang="en-US" sz="2400" spc="-1" strike="noStrike">
                <a:solidFill>
                  <a:srgbClr val="ffff00"/>
                </a:solidFill>
                <a:latin typeface="Arial"/>
              </a:rPr>
              <a:t>Limited English Proficiency in Hartford, CT MSA</a:t>
            </a:r>
            <a:endParaRPr b="1" lang="en-US" sz="2400" spc="-1" strike="noStrike">
              <a:solidFill>
                <a:srgbClr val="ffff00"/>
              </a:solidFill>
              <a:latin typeface="Arial"/>
            </a:endParaRPr>
          </a:p>
        </p:txBody>
      </p:sp>
      <p:sp>
        <p:nvSpPr>
          <p:cNvPr id="3" name="PlaceHolder 2"/>
          <p:cNvSpPr>
            <a:spLocks noGrp="1"/>
          </p:cNvSpPr>
          <p:nvPr>
            <p:ph type="sldNum" idx="1"/>
          </p:nvPr>
        </p:nvSpPr>
        <p:spPr/>
        <p:txBody>
          <a:bodyPr/>
          <a:p>
            <a:fld id="{90EC3B77-770C-4BD6-9B68-8DC8CAFDC4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graphicFrame>
        <p:nvGraphicFramePr>
          <p:cNvPr id="96" name=""/>
          <p:cNvGraphicFramePr/>
          <p:nvPr/>
        </p:nvGraphicFramePr>
        <p:xfrm>
          <a:off x="457200" y="1600200"/>
          <a:ext cx="8229600" cy="4525920"/>
        </p:xfrm>
        <a:graphic>
          <a:graphicData uri="http://schemas.openxmlformats.org/presentationml/2006/ole">
            <p:oleObj r:id="rId1" spid="">
              <p:embed/>
              <p:pic>
                <p:nvPicPr>
                  <p:cNvPr id="97" name="" descr=""/>
                  <p:cNvPicPr/>
                  <p:nvPr/>
                </p:nvPicPr>
                <p:blipFill>
                  <a:blip r:embed="rId2"/>
                  <a:stretch/>
                </p:blipFill>
                <p:spPr>
                  <a:xfrm>
                    <a:off x="457200" y="1600200"/>
                    <a:ext cx="8229600" cy="4525920"/>
                  </a:xfrm>
                  <a:prstGeom prst="rect">
                    <a:avLst/>
                  </a:prstGeom>
                  <a:ln w="0">
                    <a:noFill/>
                  </a:ln>
                </p:spPr>
              </p:pic>
            </p:oleObj>
          </a:graphicData>
        </a:graphic>
      </p:graphicFrame>
      <p:sp>
        <p:nvSpPr>
          <p:cNvPr id="98" name=""/>
          <p:cNvSpPr/>
          <p:nvPr/>
        </p:nvSpPr>
        <p:spPr>
          <a:xfrm>
            <a:off x="457200" y="5867280"/>
            <a:ext cx="4648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  Census 200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SA=Metropolitan Statistical Area</a:t>
            </a:r>
            <a:endParaRPr b="0" lang="en-US" sz="1800" spc="-1" strike="noStrike">
              <a:solidFill>
                <a:srgbClr val="ffffff"/>
              </a:solidFill>
              <a:latin typeface="Times New Roman"/>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Value of Local Data</a:t>
            </a:r>
            <a:br>
              <a:rPr sz="3600"/>
            </a:br>
            <a:r>
              <a:rPr b="1" lang="en-US" sz="2400" spc="-1" strike="noStrike">
                <a:solidFill>
                  <a:srgbClr val="ffff00"/>
                </a:solidFill>
                <a:latin typeface="Arial"/>
              </a:rPr>
              <a:t>Limited English Proficiency </a:t>
            </a:r>
            <a:r>
              <a:rPr b="1" i="1" lang="en-US" sz="2400" spc="-1" strike="noStrike">
                <a:solidFill>
                  <a:srgbClr val="ffff00"/>
                </a:solidFill>
                <a:latin typeface="Arial"/>
              </a:rPr>
              <a:t>within</a:t>
            </a:r>
            <a:r>
              <a:rPr b="1" lang="en-US" sz="2400" spc="-1" strike="noStrike">
                <a:solidFill>
                  <a:srgbClr val="ffff00"/>
                </a:solidFill>
                <a:latin typeface="Arial"/>
              </a:rPr>
              <a:t> Hartford, CT MSA</a:t>
            </a:r>
            <a:br>
              <a:rPr sz="3600"/>
            </a:br>
            <a:endParaRPr b="1" lang="en-US" sz="2400" spc="-1" strike="noStrike">
              <a:solidFill>
                <a:srgbClr val="ffff00"/>
              </a:solidFill>
              <a:latin typeface="Arial"/>
            </a:endParaRPr>
          </a:p>
        </p:txBody>
      </p:sp>
      <p:sp>
        <p:nvSpPr>
          <p:cNvPr id="3" name="PlaceHolder 2"/>
          <p:cNvSpPr>
            <a:spLocks noGrp="1"/>
          </p:cNvSpPr>
          <p:nvPr>
            <p:ph type="sldNum" idx="1"/>
          </p:nvPr>
        </p:nvSpPr>
        <p:spPr/>
        <p:txBody>
          <a:bodyPr/>
          <a:p>
            <a:fld id="{06B0B9BC-41B1-4EFC-9FD3-0A526EB12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lusiveness of Local Data</a:t>
            </a:r>
            <a:endParaRPr b="1" lang="en-US" sz="4000" spc="-1" strike="noStrike">
              <a:solidFill>
                <a:srgbClr val="ffff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n’t you have . . . in the data book?</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ortance of multiple measures</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roxies</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trategic purpose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035A0813-593F-46BD-B4DC-04860714BD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87ff"/>
            </a:gs>
            <a:gs pos="100000">
              <a:srgbClr val="002fc4"/>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to Use the Data</a:t>
            </a:r>
            <a:endParaRPr b="1" lang="en-US" sz="4000" spc="-1" strike="noStrike">
              <a:solidFill>
                <a:srgbClr val="ffff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omparisons, as marker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ginning of the story, not the end</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the measurement trap</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the rest of the story directly from the community</a:t>
            </a: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C9C37F55-DE92-4C01-ACFA-66063517D69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49:17Z</dcterms:created>
  <dc:creator>Cheryl Bell</dc:creator>
  <dc:description/>
  <dc:language>en-US</dc:language>
  <cp:lastModifiedBy>McDaniel</cp:lastModifiedBy>
  <cp:lastPrinted>2003-04-04T15:02:34Z</cp:lastPrinted>
  <dcterms:modified xsi:type="dcterms:W3CDTF">2003-09-10T14:46:44Z</dcterms:modified>
  <cp:revision>13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5749</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