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1760" y="1779120"/>
            <a:ext cx="746748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761760" y="3994200"/>
            <a:ext cx="746748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1760" y="1779120"/>
            <a:ext cx="364392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88200" y="1779120"/>
            <a:ext cx="364392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61760" y="3994200"/>
            <a:ext cx="364392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88200" y="3994200"/>
            <a:ext cx="364392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1779120"/>
            <a:ext cx="240444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86800" y="1779120"/>
            <a:ext cx="240444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811840" y="1779120"/>
            <a:ext cx="240444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761760" y="3994200"/>
            <a:ext cx="240444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86800" y="3994200"/>
            <a:ext cx="240444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811840" y="3994200"/>
            <a:ext cx="240444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8150-894C-4B45-97B2-9E70FBBAB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761760" y="1779120"/>
            <a:ext cx="7467480" cy="42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2688-FA9B-4870-A16D-763AB0DB9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1760" y="1779120"/>
            <a:ext cx="7467480" cy="42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4053-EA7C-41AB-A8C3-44CAD3992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1760" y="1779120"/>
            <a:ext cx="3643920" cy="42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88200" y="1779120"/>
            <a:ext cx="3643920" cy="42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D541-ED3F-4D04-9518-3B997C1E4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4D2B-F8F6-4422-A961-C474F17C8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761760" y="45684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178C-FCA1-4451-A623-DBD729802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61760" y="1779120"/>
            <a:ext cx="364392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88200" y="1779120"/>
            <a:ext cx="3643920" cy="42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761760" y="3994200"/>
            <a:ext cx="364392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3095-7574-449E-9335-D560E2FC5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61760" y="1779120"/>
            <a:ext cx="7467480" cy="42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61760" y="1779120"/>
            <a:ext cx="3643920" cy="42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88200" y="1779120"/>
            <a:ext cx="364392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88200" y="3994200"/>
            <a:ext cx="364392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498A-A734-4075-B26F-CE5A7F811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1760" y="1779120"/>
            <a:ext cx="364392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88200" y="1779120"/>
            <a:ext cx="364392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761760" y="3994200"/>
            <a:ext cx="746748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3306-71A8-4BB2-B8FE-9EF62BB88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1760" y="1779120"/>
            <a:ext cx="746748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761760" y="3994200"/>
            <a:ext cx="746748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D8BF-7DD8-441D-949A-C59179777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1760" y="1779120"/>
            <a:ext cx="364392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88200" y="1779120"/>
            <a:ext cx="364392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761760" y="3994200"/>
            <a:ext cx="364392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88200" y="3994200"/>
            <a:ext cx="364392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76FC-6C55-4A77-A788-2C2C5FB00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1760" y="1779120"/>
            <a:ext cx="240444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86800" y="1779120"/>
            <a:ext cx="240444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811840" y="1779120"/>
            <a:ext cx="240444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761760" y="3994200"/>
            <a:ext cx="240444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86800" y="3994200"/>
            <a:ext cx="240444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5811840" y="3994200"/>
            <a:ext cx="240444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8CFC-BA3D-44AA-A772-232701961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1760" y="1779120"/>
            <a:ext cx="7467480" cy="42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1760" y="1779120"/>
            <a:ext cx="3643920" cy="42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88200" y="1779120"/>
            <a:ext cx="3643920" cy="42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761760" y="45684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1779120"/>
            <a:ext cx="364392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88200" y="1779120"/>
            <a:ext cx="3643920" cy="42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761760" y="3994200"/>
            <a:ext cx="364392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1760" y="1779120"/>
            <a:ext cx="3643920" cy="42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88200" y="1779120"/>
            <a:ext cx="364392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88200" y="3994200"/>
            <a:ext cx="364392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1779120"/>
            <a:ext cx="364392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88200" y="1779120"/>
            <a:ext cx="364392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1760" y="3994200"/>
            <a:ext cx="746748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761760" y="1779120"/>
            <a:ext cx="7467480" cy="42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79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6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17964-A82D-4580-85A5-9774C58B607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avitz@rti.org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160" y="837720"/>
            <a:ext cx="79246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xploring the Special Needs and Potential Role of Nursing Homes in Surge Capacit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914400" y="3733560"/>
            <a:ext cx="64771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ucy A. Savitz, Ph.D., M.B.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nior Health Research Analy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ality, Outcomes and Safety Research Progr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earch Triangle Institut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earch Triangle Park, NC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-mail </a:t>
            </a:r>
            <a:r>
              <a:rPr b="0" lang="en-US" sz="2000" spc="-1" strike="noStrike" u="sng">
                <a:solidFill>
                  <a:srgbClr val="86d1ec"/>
                </a:solidFill>
                <a:uFillTx/>
                <a:latin typeface="Arial"/>
                <a:hlinkClick r:id="rId1"/>
              </a:rPr>
              <a:t>savitz@rti.or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Opportunities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o Enhance Preparedn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46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nning and resource deci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rsing home administra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al needs and contribu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pdate disaster pl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rgeted training for staf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hy Consider Nursing Homes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1760" y="1779120"/>
            <a:ext cx="7467480" cy="42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vious focus has been on hospital and first responder prepared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derly population is particularly vulnerable in times of disast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lusion of nursing homes in preparedness planning is unkn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Key Issues to Study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n Nursing Hom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61760" y="1922400"/>
            <a:ext cx="7467480" cy="40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aster plan preparation and trai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al nee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ient flo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ural are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e regul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277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ow Can We Explore These Issues?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wo-stage, Exploratory Study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62120" y="1779120"/>
            <a:ext cx="3657600" cy="42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. Qualitative Case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ies in 6 St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cus grou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ents on survey to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-depth discus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view of docu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0" y="1779120"/>
            <a:ext cx="3657600" cy="42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I. Atla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rative facility and rural-urban continuum data for 50 St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ill down for 6 States, comparing data for relevant planning are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ase Study States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with RTI IDSRN Partner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tah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termountain Health Care (IH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alifornia, Oregon, Washington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rovidence Health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orth Carolina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UNC Health C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ennsylvania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UPMC Health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eliminary Finding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61760" y="1779120"/>
            <a:ext cx="7467480" cy="42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rsing Homes hav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5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ural disaster plans in pl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been included in preparedness plan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5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al need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5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tential to offer surge capacity exten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rcRect l="0" t="5930" r="0" b="0"/>
          <a:stretch/>
        </p:blipFill>
        <p:spPr>
          <a:xfrm>
            <a:off x="380880" y="685800"/>
            <a:ext cx="8534520" cy="59436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61760" y="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TLA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rcRect l="4553" t="4323" r="2928" b="2899"/>
          <a:stretch/>
        </p:blipFill>
        <p:spPr>
          <a:xfrm>
            <a:off x="685800" y="495360"/>
            <a:ext cx="79246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rcRect l="3670" t="2600" r="1834" b="3818"/>
          <a:stretch/>
        </p:blipFill>
        <p:spPr>
          <a:xfrm>
            <a:off x="609480" y="609480"/>
            <a:ext cx="8077320" cy="564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7T17:46:17Z</dcterms:created>
  <dc:creator>HSER</dc:creator>
  <dc:description/>
  <dc:language>en-US</dc:language>
  <cp:lastModifiedBy>Cheryl Bell</cp:lastModifiedBy>
  <dcterms:modified xsi:type="dcterms:W3CDTF">2005-05-13T17:34:02Z</dcterms:modified>
  <cp:revision>12</cp:revision>
  <dc:subject/>
  <dc:title>Exploring the Special Needs &amp; Potential Role of Nursing Homes in Surge Capacity for Bioterrorism and Other Public Health Emergenc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363627640</vt:r8>
  </property>
  <property fmtid="{D5CDD505-2E9C-101B-9397-08002B2CF9AE}" pid="3" name="_AuthorEmail">
    <vt:lpwstr>JRuhl@ahrq.gov</vt:lpwstr>
  </property>
  <property fmtid="{D5CDD505-2E9C-101B-9397-08002B2CF9AE}" pid="4" name="_AuthorEmailDisplayName">
    <vt:lpwstr>Ruhl, Jessica</vt:lpwstr>
  </property>
  <property fmtid="{D5CDD505-2E9C-101B-9397-08002B2CF9AE}" pid="5" name="_EmailSubject">
    <vt:lpwstr>ULP Web conference: Mass casualty care--overlooked community resources</vt:lpwstr>
  </property>
</Properties>
</file>