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74674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60" y="3994200"/>
            <a:ext cx="74674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8820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99420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88200" y="399420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86800" y="177912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11840" y="177912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1760" y="399420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86800" y="399420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11840" y="399420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A40A-07F1-4202-8E41-BDE22074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61760" y="1779120"/>
            <a:ext cx="7467480" cy="42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E499-B652-4559-B43A-6343875C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746748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2C31-6D6F-4C17-B909-E35C7D7A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364392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88200" y="1779120"/>
            <a:ext cx="364392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6D8-C317-417C-9EAE-1B6BA504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12E7-0DBE-4C91-AFE0-AAC3E0CF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47F7-7586-404E-B28D-214AA76A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88200" y="1779120"/>
            <a:ext cx="364392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61760" y="399420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EAA-F272-4313-9F8C-6A0D52E7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779120"/>
            <a:ext cx="7467480" cy="42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364392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8820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88200" y="399420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1D23-99B2-463F-85F2-7A0DD837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820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61760" y="3994200"/>
            <a:ext cx="74674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CC50-0D34-4452-AF03-9750D95C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74674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61760" y="3994200"/>
            <a:ext cx="74674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2B75-863E-4C0F-A03F-C38C1A91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8820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399420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88200" y="399420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1A61-32F4-4FD3-B1C4-F784DAE6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86800" y="177912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1840" y="177912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61760" y="399420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86800" y="399420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811840" y="399420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D249-AC94-4AFC-9337-13ABBC4C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746748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364392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88200" y="1779120"/>
            <a:ext cx="364392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88200" y="1779120"/>
            <a:ext cx="364392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1760" y="399420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364392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8820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88200" y="399420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8820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994200"/>
            <a:ext cx="74674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61760" y="1779120"/>
            <a:ext cx="746748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F93D-7D93-43D3-8445-14862DEB7A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avitz@rti.org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ploring the Special Needs and Potential Role of Nursing Homes in Surge Capa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cy A. Savitz, Ph.D., M.B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ior Health Research Analy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lity, Outcomes and Safety Research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arch Triangle Institu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arch Triangle Park, NC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-mail </a:t>
            </a: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savitz@rti.or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pportunitie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 Enhance Preparedn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 and resource dec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 home administ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needs and contrib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e disaster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ed training for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Consider Nursing Homes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746748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ious focus has been on hospital and first responder prepared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derly population is particularly vulnerable in times of disas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sion of nursing homes in preparedness planning is 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ey Issues to Study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 Nursing Hom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922400"/>
            <a:ext cx="746748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ster plan preparation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fl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ral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reg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Can We Explore These Issues?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wo-stage, Exploratory Stud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779120"/>
            <a:ext cx="365760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. Qualitative Cas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ies in 6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nts on survey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depth 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 of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0" y="1779120"/>
            <a:ext cx="365760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I. Atl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ative facility and rural-urban continuum data for 50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ll down for 6 States, comparing data for relevant planning 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se Study State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ith RTI IDSRN Part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tah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ermountain Health Care (IH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lifornia, Oregon, Washingt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vidence Health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rth Carolin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C Health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nnsylvani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PMC Health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liminary Finding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746748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 Homes ha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isaster plans in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been included in preparedness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nee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to offer surge capacity 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5930" r="0" b="0"/>
          <a:stretch/>
        </p:blipFill>
        <p:spPr>
          <a:xfrm>
            <a:off x="380880" y="685800"/>
            <a:ext cx="8534520" cy="59436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TLA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4553" t="4323" r="2928" b="2899"/>
          <a:stretch/>
        </p:blipFill>
        <p:spPr>
          <a:xfrm>
            <a:off x="685800" y="495360"/>
            <a:ext cx="7924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3670" t="2600" r="1834" b="3818"/>
          <a:stretch/>
        </p:blipFill>
        <p:spPr>
          <a:xfrm>
            <a:off x="609480" y="609480"/>
            <a:ext cx="8077320" cy="56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7:46:17Z</dcterms:created>
  <dc:creator>HSER</dc:creator>
  <dc:description/>
  <dc:language>en-US</dc:language>
  <cp:lastModifiedBy>Cheryl Bell</cp:lastModifiedBy>
  <dcterms:modified xsi:type="dcterms:W3CDTF">2005-05-13T17:34:02Z</dcterms:modified>
  <cp:revision>12</cp:revision>
  <dc:subject/>
  <dc:title>Exploring the Special Needs &amp; Potential Role of Nursing Homes in Surge Capacity for Bioterrorism and Other Public Health Emergenc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63627640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Web conference: Mass casualty care--overlooked community resources</vt:lpwstr>
  </property>
</Properties>
</file>