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1166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196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388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300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388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300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196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1166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196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1388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13000" y="175248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1388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13000" y="41166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1960" y="41166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75248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166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Primary Care Emergency Management Demonstration Project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bra E. Berg, M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l 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terrorism Hospital Preparedness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reau of Communicable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York City Department of Healt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Mental Hygie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Needs Assessment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, bomb threat, evacuation plans are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lan for a bioev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mary Care Center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Cs) have undefined and variable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reparation Plans for Primary Care Centers (PCC)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915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t management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zard vulnerability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preparedness t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top exerci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Intervention Implementation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ach’s weekly onsite visi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management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t management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communication plan to notify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ff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Lessons Learned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el discussion with Office of Emergency Management, Emergency Medical Services, NYC Medical Association, Dept. of Health (DO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top exercises (PCC and DOH, Dept. of Mental Health, Office of Emergency Manage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ahoma"/>
              </a:rPr>
              <a:t>Primary Care Center Roles </a:t>
            </a:r>
            <a:endParaRPr b="1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hu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health counseling, triage, refer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 for patients whose illnesses are non-event 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ahoma"/>
              </a:rPr>
              <a:t>Primary Care Center Role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(cont.)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age for event-related pati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ff/facility/equipment to area hospitals/PC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5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ff for Medical Reserve Cor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5:01:31Z</dcterms:created>
  <dc:creator>Katherine Sullivan</dc:creator>
  <dc:description/>
  <dc:language>en-US</dc:language>
  <cp:lastModifiedBy>Cheryl Bell</cp:lastModifiedBy>
  <dcterms:modified xsi:type="dcterms:W3CDTF">2005-05-13T17:19:33Z</dcterms:modified>
  <cp:revision>15</cp:revision>
  <dc:subject/>
  <dc:title>Primary Care Emergency Management Demonstration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0052140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erence: Mass casualty care--overlooked community resources</vt:lpwstr>
  </property>
</Properties>
</file>