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BA5B-5114-4C28-8325-D5806C3AC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1DA6-7EE1-4A9E-A0AE-D300F131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2AB6-6264-4D12-B419-260F22478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D364-A5A3-4A93-B964-69ACE6884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E192-1F4B-4F82-A89B-5A88E8F9A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6786-5B20-4DA9-B77E-A4184A74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CB96-D1F4-4FA7-B291-9EF8CFFC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EA4E-D39C-4D76-8A34-34685DE5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5A75-A43F-460E-AB17-202ED603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D847-46F7-4D53-B7DF-37B14A9C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E1E7-53B4-4E1B-96B2-E8896940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2B78-FB09-4BFF-8F8E-1DAED2F6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F8FA-B7ED-4751-9906-3437F07C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DAB0-3A8B-4C19-986E-E755CA11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ADF2-212F-4B4C-AC27-89FFEC4D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3DDF-CDEB-4461-9820-DB40625EB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0C33-D5BA-4690-8181-9DB1375B7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1600-A9C6-44B8-8838-8C51EBBB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68E3-4113-446A-86EC-29312FEC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C0EF-ACA3-430C-8E7B-3E98AD86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4F00-D98A-47ED-9A6C-72C4EB5A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DA9E-0EB0-49A4-875F-0B685E5C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BC0E-A40F-4764-A35A-BA1A957B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A90D-EA69-4C51-B9AE-9AB73D08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79AE-33A4-4AFB-B5E2-B064DF73B48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97C0-ACBF-4188-9C8A-33D00A37471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alliative Care Issu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43200" y="3809520"/>
            <a:ext cx="5943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Marianne Matzo, Ph.D., APRN, BC, FAAN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rofessor, Palliative Care Nursing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University of Oklahoma College of Nursing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21715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nical Process Issu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ymptom management, including sedation near death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pirituality/meaningfuln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amily and provider support – mental health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amily and provider grief and bereavemen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vent-driven protocols and clinical pathway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267080" y="2209680"/>
            <a:ext cx="4876920" cy="3922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057400" y="189000"/>
            <a:ext cx="5181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reparation For The Futur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Many of us discussed the need to evaluate what happened and learn how to be better prepared for the future.”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You’re expected to know how to do mass casualty…. You must train for the worst and hope for the best.”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0" y="2743200"/>
            <a:ext cx="3886200" cy="37339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440" y="7621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alliative care is care provided by an interdisciplinary tea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ocused on the relief of suffering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upport for the best possible quality of lif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800600" y="3714840"/>
            <a:ext cx="4267080" cy="2914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rot="21392400">
            <a:off x="2344320" y="1634760"/>
            <a:ext cx="5121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atastrophic Mass Casualty Palliative Car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alliative Care is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Evidence-based 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medical treatmen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Vigorous care of 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ain and symptoms throughout illnes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are that patients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an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19280" y="1905120"/>
            <a:ext cx="4443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alliative Care is not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bandonmen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same as hospi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Euthanasi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Hastening death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5335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480" y="6094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ood palliative care occurs wherever the patient i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community should be prepared about the principles of palliative care in a disaster situation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419720" y="3352680"/>
            <a:ext cx="449568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438280" y="3276720"/>
            <a:ext cx="4496040" cy="3289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295280" y="569880"/>
            <a:ext cx="66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6988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minimum goal: die pain and symptom free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ffective pain and symptom management is a basic minimum of service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48320" y="3505320"/>
            <a:ext cx="4190760" cy="31431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440" y="3808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dequate and aggressive palliative care services should be available to everyon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alliative care under circumstances of a mass casualty event is aggressive symptom management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715000" y="5334120"/>
            <a:ext cx="2057400" cy="10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34320" y="2209680"/>
            <a:ext cx="1828800" cy="1295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76920" y="2209680"/>
            <a:ext cx="1752480" cy="1295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5334120"/>
            <a:ext cx="2057400" cy="10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5257800"/>
            <a:ext cx="2057400" cy="10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905120"/>
            <a:ext cx="2514600" cy="10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762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atastrophic MCE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22096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Triage + 1</a:t>
            </a:r>
            <a:r>
              <a:rPr b="0" lang="en-US" sz="1800" spc="-1" strike="noStrike" baseline="30000">
                <a:solidFill>
                  <a:srgbClr val="ffcc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respons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9120" y="562464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The too wel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52680" y="5562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The optimal for treatment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5562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The too sick to surviv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06800">
            <a:off x="1273320" y="2973240"/>
            <a:ext cx="304560" cy="2216160"/>
          </a:xfrm>
          <a:prstGeom prst="downArrow">
            <a:avLst>
              <a:gd name="adj1" fmla="val 50000"/>
              <a:gd name="adj2" fmla="val 181915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20553000">
            <a:off x="2862000" y="2903040"/>
            <a:ext cx="304560" cy="2584440"/>
          </a:xfrm>
          <a:prstGeom prst="downArrow">
            <a:avLst>
              <a:gd name="adj1" fmla="val 50000"/>
              <a:gd name="adj2" fmla="val 212145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9091400">
            <a:off x="4682880" y="2222640"/>
            <a:ext cx="304560" cy="3649680"/>
          </a:xfrm>
          <a:prstGeom prst="downArrow">
            <a:avLst>
              <a:gd name="adj1" fmla="val 50000"/>
              <a:gd name="adj2" fmla="val 299586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293400">
            <a:off x="2209320" y="1371240"/>
            <a:ext cx="304920" cy="461880"/>
          </a:xfrm>
          <a:prstGeom prst="downArrow">
            <a:avLst>
              <a:gd name="adj1" fmla="val 50000"/>
              <a:gd name="adj2" fmla="val 37869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2362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Existing hospice and PC patient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685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evailing circumstanc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2286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Receiving disease modifying treatment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1219320"/>
            <a:ext cx="0" cy="533160"/>
          </a:xfrm>
          <a:prstGeom prst="line">
            <a:avLst/>
          </a:prstGeom>
          <a:ln w="76320">
            <a:solidFill>
              <a:srgbClr val="ffe103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7010280" y="3505320"/>
            <a:ext cx="609840" cy="1752480"/>
          </a:xfrm>
          <a:prstGeom prst="line">
            <a:avLst/>
          </a:prstGeom>
          <a:ln w="76320">
            <a:solidFill>
              <a:srgbClr val="ffe103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43600" y="3505320"/>
            <a:ext cx="457200" cy="1676160"/>
          </a:xfrm>
          <a:prstGeom prst="line">
            <a:avLst/>
          </a:prstGeom>
          <a:ln w="76320">
            <a:solidFill>
              <a:srgbClr val="ffe103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495680" y="3505320"/>
            <a:ext cx="1067040" cy="1752480"/>
          </a:xfrm>
          <a:prstGeom prst="line">
            <a:avLst/>
          </a:prstGeom>
          <a:ln w="76320">
            <a:solidFill>
              <a:srgbClr val="ffe103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828440" y="3505320"/>
            <a:ext cx="3048120" cy="1752480"/>
          </a:xfrm>
          <a:prstGeom prst="line">
            <a:avLst/>
          </a:prstGeom>
          <a:ln w="76320">
            <a:solidFill>
              <a:srgbClr val="ffe103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03" idx="0"/>
            <a:endCxn id="102" idx="0"/>
          </p:cNvCxnSpPr>
          <p:nvPr/>
        </p:nvCxnSpPr>
        <p:spPr>
          <a:xfrm flipH="1" rot="16200000">
            <a:off x="6799680" y="1161720"/>
            <a:ext cx="2520" cy="2096280"/>
          </a:xfrm>
          <a:prstGeom prst="bentConnector3">
            <a:avLst>
              <a:gd name="adj1" fmla="val -30000000"/>
            </a:avLst>
          </a:prstGeom>
          <a:ln w="76320">
            <a:solidFill>
              <a:srgbClr val="ffe103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43000" y="1676520"/>
            <a:ext cx="2057400" cy="1143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19810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he too sick to survive *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3581280"/>
            <a:ext cx="1981440" cy="533520"/>
          </a:xfrm>
          <a:prstGeom prst="rightArrow">
            <a:avLst>
              <a:gd name="adj1" fmla="val 50000"/>
              <a:gd name="adj2" fmla="val 92848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86200" y="3657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3581280"/>
            <a:ext cx="221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Other than active  treatment site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19810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Initially left in place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36576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Then: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4572000"/>
            <a:ext cx="8001000" cy="1726560"/>
          </a:xfrm>
          <a:prstGeom prst="rect">
            <a:avLst/>
          </a:prstGeom>
          <a:noFill/>
          <a:ln w="28440">
            <a:solidFill>
              <a:srgbClr val="ff8b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Those exposed who will die over the course of weeks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Already existing palliative care population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Vulnerable population who become palliative care due to scarcity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301320"/>
            <a:ext cx="79246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atastrophic MCE and Large Volume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nical Services After Triag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esources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ersonn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oordinat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uppli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267080" y="2133720"/>
            <a:ext cx="44960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5:55:59Z</dcterms:created>
  <dc:creator> Marianne Matzo</dc:creator>
  <dc:description/>
  <dc:language>en-US</dc:language>
  <cp:lastModifiedBy> Cheryl Lynn Bell</cp:lastModifiedBy>
  <dcterms:modified xsi:type="dcterms:W3CDTF">2006-11-23T02:12:13Z</dcterms:modified>
  <cp:revision>10</cp:revision>
  <dc:subject/>
  <dc:title>Slide 1</dc:title>
</cp:coreProperties>
</file>