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ACC-CD23-4A60-9BE5-8DCEED40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7EF-9FD5-486D-8F8D-4977B52B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C62-E437-468A-80A3-DBBD4916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CC-4782-4BC9-8B17-49BA1098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8C9C-CFA1-4192-9B61-17B67F2B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753-F241-483E-9000-F2DE6674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B03-A6D6-4272-9B19-91579B5E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3103-414F-44FF-8E50-2AFB479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94FA-9E98-4DF8-A334-40A99D4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C7E-5DED-4A7E-BCE0-60AC74F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8F1-D91C-48FF-9709-C1FF525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49B-416B-4F6E-BD6C-6158428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45B-15C4-4921-8D83-7219AFD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F763-C65F-4A98-93A5-904E08F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5F5-C83E-49CA-96EF-0C064C0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74A4-2B78-4568-84D6-ED7418D9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921C-6DCA-45A6-97F8-91FED451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5B8-66EF-44A8-8426-2813BA45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84C-EF4A-4475-B0AD-3BBA589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EB6-E1D7-4D13-9E74-029B8D81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3A8-8601-4327-B0B8-D59B419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990-E9AD-46B9-BC52-91CC0B7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8EE-5839-4E05-AA3E-2D32853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2F0-4100-42F0-B248-537744C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4AB6-6BA7-4470-8951-C051CDB1A7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6E1-9EB7-4A10-A216-DAAB9799EBE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lliative Care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arianne Matzo, Ph.D., APRN, BC, FAA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fessor, Palliative Care Nurs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University of Oklahoma College of Nurs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2171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nical Process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mptom management, including sedation near dea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pirituality/meaningfuln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mily and provider support – mental heal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mily and provider grief and berea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vent-driven protocols and clinical pathway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92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18900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eparation For The Fu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ny of us discussed the need to evaluate what happened and learn how to be better prepared for the future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’re expected to know how to do mass casualty…. You must train for the worst and hope for the be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886200" cy="3733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lliative care is care provided by an interdisciplinary te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cused on the relief of suffer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port for the best possible quality of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3714840"/>
            <a:ext cx="4267080" cy="291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1392400">
            <a:off x="2344320" y="1634760"/>
            <a:ext cx="51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atastrophic Mass Casualty Palliative Ca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lliative Care i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vidence-based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edical treat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igorous care of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in and symptoms throughout illn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re that patient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905120"/>
            <a:ext cx="444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lliative Care is no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bando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ame as hospi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uthan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stening deat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5335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od palliative care occurs wherever the patient 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mmunity should be prepared about the principles of palliative care in a disaster situation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496040" cy="328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569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69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minimum goal: die pain and symptom fre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ffective pain and symptom management is a basic minimum of servic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equate and aggressive palliative care services should be available to everyo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lliative care under circumstances of a mass casualty event is aggressive symptom manag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15000" y="533412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2209680"/>
            <a:ext cx="18288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209680"/>
            <a:ext cx="175248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533412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25780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tastrophic MCE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09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riage + 1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respons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120" y="56246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too wel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optimal for treat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too sick to surviv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06800">
            <a:off x="1273320" y="2973240"/>
            <a:ext cx="304560" cy="2216160"/>
          </a:xfrm>
          <a:prstGeom prst="downArrow">
            <a:avLst>
              <a:gd name="adj1" fmla="val 50000"/>
              <a:gd name="adj2" fmla="val 18191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553000">
            <a:off x="2862000" y="2903040"/>
            <a:ext cx="304560" cy="2584440"/>
          </a:xfrm>
          <a:prstGeom prst="downArrow">
            <a:avLst>
              <a:gd name="adj1" fmla="val 50000"/>
              <a:gd name="adj2" fmla="val 21214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091400">
            <a:off x="4682880" y="2222640"/>
            <a:ext cx="304560" cy="3649680"/>
          </a:xfrm>
          <a:prstGeom prst="downArrow">
            <a:avLst>
              <a:gd name="adj1" fmla="val 50000"/>
              <a:gd name="adj2" fmla="val 299586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93400">
            <a:off x="2209320" y="1371240"/>
            <a:ext cx="304920" cy="461880"/>
          </a:xfrm>
          <a:prstGeom prst="downArrow">
            <a:avLst>
              <a:gd name="adj1" fmla="val 50000"/>
              <a:gd name="adj2" fmla="val 3786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3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xisting hospice and PC patient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685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ailing circumstanc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ceiving disease modifying treat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219320"/>
            <a:ext cx="0" cy="53316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010280" y="3505320"/>
            <a:ext cx="60984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505320"/>
            <a:ext cx="457200" cy="167616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95680" y="3505320"/>
            <a:ext cx="106704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440" y="3505320"/>
            <a:ext cx="304812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3" idx="0"/>
            <a:endCxn id="102" idx="0"/>
          </p:cNvCxnSpPr>
          <p:nvPr/>
        </p:nvCxnSpPr>
        <p:spPr>
          <a:xfrm flipH="1" rot="16200000">
            <a:off x="6799680" y="1161720"/>
            <a:ext cx="2520" cy="2096280"/>
          </a:xfrm>
          <a:prstGeom prst="bentConnector3">
            <a:avLst>
              <a:gd name="adj1" fmla="val -30000000"/>
            </a:avLst>
          </a:prstGeom>
          <a:ln w="76320">
            <a:solidFill>
              <a:srgbClr val="ffe10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1676520"/>
            <a:ext cx="20574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he too sick to survive *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581280"/>
            <a:ext cx="1981440" cy="533520"/>
          </a:xfrm>
          <a:prstGeom prst="rightArrow">
            <a:avLst>
              <a:gd name="adj1" fmla="val 50000"/>
              <a:gd name="adj2" fmla="val 92848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581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Other than active  treatment site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nitially left in plac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657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572000"/>
            <a:ext cx="8001000" cy="1726560"/>
          </a:xfrm>
          <a:prstGeom prst="rect">
            <a:avLst/>
          </a:prstGeom>
          <a:noFill/>
          <a:ln w="28440">
            <a:solidFill>
              <a:srgbClr val="ff8b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ose exposed who will die over the course of week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lready existing palliative care populatio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Vulnerable population who become palliative care due to scarcit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tastrophic MCE and Large Volum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nical Services After Triag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ersonn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ordin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5:55:59Z</dcterms:created>
  <dc:creator> Marianne Matzo</dc:creator>
  <dc:description/>
  <dc:language>en-US</dc:language>
  <cp:lastModifiedBy> Cheryl Lynn Bell</cp:lastModifiedBy>
  <dcterms:modified xsi:type="dcterms:W3CDTF">2006-11-23T02:12:13Z</dcterms:modified>
  <cp:revision>10</cp:revision>
  <dc:subject/>
  <dc:title>Slide 1</dc:title>
</cp:coreProperties>
</file>