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429-362A-4D06-9BE8-682CF2C0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21E-252D-4538-9563-76D859E6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7DF-5130-444F-8D28-D4155BE0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53DC-C96D-40A1-9F8E-E7F19091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F67-F5D9-4480-993D-4E595F4C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8BA-C754-41D0-98A4-8E9A5C2A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CC39-B57A-407C-9382-A3A6AD3F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FB81-4591-4CCF-A6E9-F9F4A362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E2D-25C4-4758-8D80-528FAC56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5952-0E41-4535-8E4F-9182A1A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9E0E-8734-4345-8460-5E99B72F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22C-E81A-4A41-88EB-AE149D9B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2AB8-FE53-4846-A8C8-EAEC2A51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1A3B-95E3-48C6-9806-3FBCAD8F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5C6-A694-4120-8A23-DAD61DF1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2264-423E-4579-B4A2-52B9085A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5F14-EDB8-4B0B-BC65-A6621C4A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1D4-CE35-4569-BA4B-66F7B68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289-8480-4A9A-A222-D13B9123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539-1EA5-419C-BBF9-CBF9039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615-5F4B-4C5D-8F8D-736E2111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E0A-2213-4168-8BA0-2C731F71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E7C-E2A2-46D5-A4B0-2FACD2F4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C58-E981-4A7A-AE39-57FA232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341-4681-475D-963B-E7F5804805F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19960" y="270000"/>
            <a:ext cx="15264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AF78-4D47-4AF8-9E80-C7FB94FEF1B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7760" y="38098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John L. Hick, M.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Emergency Physicia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Hennepin County Medical C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Chair, Metropolitan Hospital Compac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ge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ign triage staff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view resources and dem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decision tools and clinical judgment to determine which patients will benefit mos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vise “bed czar” or other implementing staf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d Czar” or other designated staff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ransition of care support (as needed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havioral health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urity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ministrative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alliative care issu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754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whelming deman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Greatest goo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sources lack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 temporary s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ederal level may provide guidan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Operational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ementation is State/local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tate emergency health power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r liability prote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9648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ordinated Mass Casualty C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ffective incident management critic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lly integrat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duct action planning cyc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ticipate resource nee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ke timely requests and alloca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ordinated Mass Casualty Ca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creased system capacity (surge capacity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making process for resource alloc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hift from reactive to proactive strateg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ministrative vs. clinical chang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97720" y="228600"/>
            <a:ext cx="7934400" cy="6316920"/>
            <a:chOff x="297720" y="228600"/>
            <a:chExt cx="7934400" cy="6316920"/>
          </a:xfrm>
        </p:grpSpPr>
        <p:sp>
          <p:nvSpPr>
            <p:cNvPr id="103" name=""/>
            <p:cNvSpPr/>
            <p:nvPr/>
          </p:nvSpPr>
          <p:spPr>
            <a:xfrm>
              <a:off x="401040" y="62244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Usual patient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are provided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20720" y="622440"/>
              <a:ext cx="1211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Austere patient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are provided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99240" y="228600"/>
              <a:ext cx="7594920" cy="276480"/>
              <a:chOff x="399240" y="228600"/>
              <a:chExt cx="7594920" cy="276480"/>
            </a:xfrm>
          </p:grpSpPr>
          <p:sp>
            <p:nvSpPr>
              <p:cNvPr id="106" name=""/>
              <p:cNvSpPr/>
              <p:nvPr/>
            </p:nvSpPr>
            <p:spPr>
              <a:xfrm>
                <a:off x="399240" y="228600"/>
                <a:ext cx="3119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Incremental changes to standard of car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11520" y="362880"/>
                <a:ext cx="4382640" cy="0"/>
              </a:xfrm>
              <a:prstGeom prst="line">
                <a:avLst/>
              </a:prstGeom>
              <a:ln w="76320">
                <a:solidFill>
                  <a:srgbClr val="29292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97720" y="1199520"/>
              <a:ext cx="7934400" cy="5346000"/>
              <a:chOff x="297720" y="1199520"/>
              <a:chExt cx="7934400" cy="5346000"/>
            </a:xfrm>
          </p:grpSpPr>
          <p:sp>
            <p:nvSpPr>
              <p:cNvPr id="109" name=""/>
              <p:cNvSpPr/>
              <p:nvPr/>
            </p:nvSpPr>
            <p:spPr>
              <a:xfrm>
                <a:off x="402480" y="1825920"/>
                <a:ext cx="7826400" cy="613080"/>
              </a:xfrm>
              <a:prstGeom prst="rect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ff00">
                      <a:alpha val="75294"/>
                    </a:srgbClr>
                  </a:gs>
                </a:gsLst>
                <a:lin ang="13500000"/>
              </a:gra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r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Administrative Changes</a:t>
                </a: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linical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to usual care</a:t>
                </a:r>
                <a:r>
                  <a:rPr b="1" lang="en-US" sz="1200" spc="-1" strike="noStrike">
                    <a:solidFill>
                      <a:srgbClr val="292929"/>
                    </a:solidFill>
                    <a:latin typeface="Arial"/>
                  </a:rPr>
                  <a:t>	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o usual car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2480" y="2459160"/>
                <a:ext cx="1486440" cy="3620160"/>
                <a:chOff x="402480" y="2459160"/>
                <a:chExt cx="1486440" cy="3620160"/>
              </a:xfrm>
            </p:grpSpPr>
            <p:grpSp>
              <p:nvGrpSpPr>
                <p:cNvPr id="111" name=""/>
                <p:cNvGrpSpPr/>
                <p:nvPr/>
              </p:nvGrpSpPr>
              <p:grpSpPr>
                <a:xfrm>
                  <a:off x="402480" y="2774160"/>
                  <a:ext cx="1486440" cy="3305160"/>
                  <a:chOff x="402480" y="2774160"/>
                  <a:chExt cx="1486440" cy="330516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>
                    <a:off x="4024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Triage set up in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lobby area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024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Meals served by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nonclinical staff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024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Nurse educators pulled to clinical dutie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24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Disaster documentation forms used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8719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515680" y="2459160"/>
                <a:ext cx="1486440" cy="3620160"/>
                <a:chOff x="2515680" y="2459160"/>
                <a:chExt cx="1486440" cy="362016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2515680" y="2774160"/>
                  <a:ext cx="1486440" cy="3305160"/>
                  <a:chOff x="2515680" y="2774160"/>
                  <a:chExt cx="1486440" cy="330516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25156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 reduction in documentation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5156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 changes in nurse/patient ratio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25156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Use of non-healthcare workers to provide basic patient cares (bathing, assistance, feeding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25156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Cancel most/all outpatient appointments and  procedure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29851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4628880" y="2459160"/>
                <a:ext cx="1486440" cy="3620160"/>
                <a:chOff x="4628880" y="2459160"/>
                <a:chExt cx="1486440" cy="362016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4628880" y="2774160"/>
                  <a:ext cx="1486440" cy="3305160"/>
                  <a:chOff x="4628880" y="2774160"/>
                  <a:chExt cx="1486440" cy="33051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462888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Vital signs checked less regularly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62888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Deny care to those presenting to ED with minor symptom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62888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table ventilator patients managed on step-down bed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62888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Minimal lab and x-ray testing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0" name=""/>
                <p:cNvSpPr/>
                <p:nvPr/>
              </p:nvSpPr>
              <p:spPr>
                <a:xfrm>
                  <a:off x="509832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741720" y="2459160"/>
                <a:ext cx="1486440" cy="3620160"/>
                <a:chOff x="6741720" y="2459160"/>
                <a:chExt cx="1486440" cy="362016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6741720" y="2774160"/>
                  <a:ext cx="1486440" cy="3305160"/>
                  <a:chOff x="6741720" y="2774160"/>
                  <a:chExt cx="1486440" cy="330516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6741720" y="27741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Re-allocate ventilators due to shortage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741720" y="360936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Significantly raise threshold for admission (chest pain with normal ECG goes home, etc.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6741720" y="44442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Use of non-healthcare workers to provide basic patient cares (bathing, assistance, feeding)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41720" y="5279400"/>
                    <a:ext cx="1486440" cy="799920"/>
                  </a:xfrm>
                  <a:prstGeom prst="rect">
                    <a:avLst/>
                  </a:prstGeom>
                  <a:noFill/>
                  <a:ln w="12600">
                    <a:solidFill>
                      <a:srgbClr val="29292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 anchorCtr="1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Allocate limited 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292929"/>
                        </a:solidFill>
                        <a:latin typeface="Arial"/>
                      </a:rPr>
                      <a:t>antivirals to select patients</a:t>
                    </a:r>
                    <a:endParaRPr b="0" lang="en-US" sz="9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7" name=""/>
                <p:cNvSpPr/>
                <p:nvPr/>
              </p:nvSpPr>
              <p:spPr>
                <a:xfrm>
                  <a:off x="7211160" y="2459160"/>
                  <a:ext cx="547920" cy="315000"/>
                </a:xfrm>
                <a:prstGeom prst="upArrow">
                  <a:avLst>
                    <a:gd name="adj1" fmla="val 50000"/>
                    <a:gd name="adj2" fmla="val 50000"/>
                  </a:avLst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0800000"/>
                </a:gradFill>
                <a:ln w="9360">
                  <a:solidFill>
                    <a:srgbClr val="29292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398160" y="1199520"/>
                <a:ext cx="1753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Low impact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administration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72480" y="1199520"/>
                <a:ext cx="1259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High-impact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292929"/>
                    </a:solidFill>
                    <a:latin typeface="Arial"/>
                  </a:rPr>
                  <a:t>clinical change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97720" y="6269040"/>
                <a:ext cx="7852680" cy="276480"/>
                <a:chOff x="297720" y="6269040"/>
                <a:chExt cx="7852680" cy="2764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97720" y="6269040"/>
                  <a:ext cx="2911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292929"/>
                      </a:solidFill>
                      <a:latin typeface="Arial"/>
                    </a:rPr>
                    <a:t>Need increasingly exceeds resources</a:t>
                  </a:r>
                  <a:endParaRPr b="0" lang="en-US" sz="12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317760" y="6429960"/>
                  <a:ext cx="4832640" cy="0"/>
                </a:xfrm>
                <a:prstGeom prst="line">
                  <a:avLst/>
                </a:prstGeom>
                <a:ln w="76320">
                  <a:solidFill>
                    <a:srgbClr val="29292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1765800" y="1829160"/>
                <a:ext cx="5132880" cy="610200"/>
              </a:xfrm>
              <a:custGeom>
                <a:avLst/>
                <a:gdLst/>
                <a:ahLst/>
                <a:rect l="l" t="t" r="r" b="b"/>
                <a:pathLst>
                  <a:path w="3148" h="372">
                    <a:moveTo>
                      <a:pt x="0" y="372"/>
                    </a:moveTo>
                    <a:lnTo>
                      <a:pt x="3148" y="0"/>
                    </a:lnTo>
                  </a:path>
                </a:pathLst>
              </a:custGeom>
              <a:noFill/>
              <a:ln w="9360">
                <a:solidFill>
                  <a:srgbClr val="fedd9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te-level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cognize resource shortfal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 additional resources or facilitate transfer of patients/alternative care si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 supportive policy and decision too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de liability relief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nage the scarce resources in an equitable framework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an for administrative adaptations (roles and responsibilitie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timize surge capacity 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actice incident management and work with regional stakeholder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making process for scarce resource situation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rce Clinical Resou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cess for planning vs. process for respons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sponse concept of operation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S recognizes sit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linical care committe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riage pla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cision implement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nical Care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ultiple institutional stakeholders decide, based on resources and demand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dministrative decisions – primary, secondary, tertiary triag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thical basis – AMA principles,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cision tool(s) to be us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8:43:35Z</dcterms:created>
  <dc:creator>John Hick</dc:creator>
  <dc:description/>
  <dc:language>en-US</dc:language>
  <cp:lastModifiedBy> Cheryl Lynn Bell</cp:lastModifiedBy>
  <dcterms:modified xsi:type="dcterms:W3CDTF">2006-11-20T19:08:41Z</dcterms:modified>
  <cp:revision>12</cp:revision>
  <dc:subject/>
  <dc:title>Hospital Section Introduction</dc:title>
</cp:coreProperties>
</file>