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68A-B121-4E8F-8E70-5ACD4CC7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D02-9B6E-440C-9958-E344C073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FF1-ADF5-42C8-96B2-4A9A42A9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60F-938E-4B96-A53F-7B4DA22A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FDA8-EB48-4554-9B1C-B5C2C93E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1052-E587-4582-9857-3ADA90F1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5AB0-20AC-46C2-AC93-1ED6F5E7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D100-3298-4E01-B61D-5CBCE758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B4D1-5350-4339-A8C8-0763B299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3B5E-4FE9-4419-BA56-E8B5F8F4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6A2D-4433-4A6C-A119-0779A150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0D6-5411-44F6-94D3-06140197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1C55-B1E1-47A4-995E-73BFEB6B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E8D4-51BF-4183-B91B-CADEB769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0BFD-8853-432B-8D13-41694118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40D8-A3DC-412A-8833-C6F55D6E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6A3D-29B9-4826-B99A-0993C3A7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ADF-0CD4-492E-BC61-A41098A5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9BF-1F31-416A-A2EC-BF7CC302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958-50E1-4947-8D24-B8CD7541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434-EF30-4DBE-9BBE-26B6DD36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28A-208E-4B09-AD50-7EB92C74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865-CDB7-4A43-B24F-D266AAC1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C8E-621A-4BB5-87E4-0F75AC0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F553-00A5-4A1A-A9A9-333C2443B52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19960" y="270000"/>
            <a:ext cx="15264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0220-EF8F-4764-B37D-031F24B58F4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7760" y="38098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John L. Hick, M.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Emergency Physicia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Hennepin County Medical C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Chair, Metropolitan Hospital Compac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200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ge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ign triage staff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view resources and dem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decision tools and clinical judgment to determine which patients will benefit mos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vise “bed czar” or other implementing staff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ing 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d Czar” or other designated staff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ransition of care support (as neede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havioral health issu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urity issu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ministrative issu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lliative care issu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54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verwhelming deman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reatest goo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sources lack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 temporary s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ederal level may provide guidan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Operational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lementation is State/local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tate emergency health power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vider liability prote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9648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ordinated Mass Casualty Ca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ffective incident management critic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lly integrate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duct action planning cyc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ticipate resource nee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ke timely requests and alloca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ordinated Mass Casualty Ca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creased system capacity (surge capacity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cisionmaking process for resource alloc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hift from reactive to proactive strateg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dministrative vs. clinical chang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97720" y="228600"/>
            <a:ext cx="7934400" cy="6316920"/>
            <a:chOff x="297720" y="228600"/>
            <a:chExt cx="7934400" cy="6316920"/>
          </a:xfrm>
        </p:grpSpPr>
        <p:sp>
          <p:nvSpPr>
            <p:cNvPr id="103" name=""/>
            <p:cNvSpPr/>
            <p:nvPr/>
          </p:nvSpPr>
          <p:spPr>
            <a:xfrm>
              <a:off x="401040" y="622440"/>
              <a:ext cx="110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Usual patient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care provided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20720" y="622440"/>
              <a:ext cx="121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Austere patient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care provided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99240" y="228600"/>
              <a:ext cx="7594920" cy="276480"/>
              <a:chOff x="399240" y="228600"/>
              <a:chExt cx="7594920" cy="276480"/>
            </a:xfrm>
          </p:grpSpPr>
          <p:sp>
            <p:nvSpPr>
              <p:cNvPr id="106" name=""/>
              <p:cNvSpPr/>
              <p:nvPr/>
            </p:nvSpPr>
            <p:spPr>
              <a:xfrm>
                <a:off x="399240" y="228600"/>
                <a:ext cx="311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92929"/>
                    </a:solidFill>
                    <a:latin typeface="Arial"/>
                  </a:rPr>
                  <a:t>Incremental changes to standard of care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11520" y="362880"/>
                <a:ext cx="4382640" cy="0"/>
              </a:xfrm>
              <a:prstGeom prst="line">
                <a:avLst/>
              </a:prstGeom>
              <a:ln w="7632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97720" y="1199520"/>
              <a:ext cx="7934400" cy="5346000"/>
              <a:chOff x="297720" y="1199520"/>
              <a:chExt cx="7934400" cy="5346000"/>
            </a:xfrm>
          </p:grpSpPr>
          <p:sp>
            <p:nvSpPr>
              <p:cNvPr id="109" name=""/>
              <p:cNvSpPr/>
              <p:nvPr/>
            </p:nvSpPr>
            <p:spPr>
              <a:xfrm>
                <a:off x="402480" y="1825920"/>
                <a:ext cx="7826400" cy="6130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00">
                      <a:alpha val="75294"/>
                    </a:srgbClr>
                  </a:gs>
                </a:gsLst>
                <a:lin ang="13500000"/>
              </a:gra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r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92929"/>
                    </a:solidFill>
                    <a:latin typeface="Arial"/>
                  </a:rPr>
                  <a:t>Administrative Changes</a:t>
                </a:r>
                <a:r>
                  <a:rPr b="1" lang="en-US" sz="1200" spc="-1" strike="noStrike">
                    <a:solidFill>
                      <a:srgbClr val="292929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linical Changes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92929"/>
                    </a:solidFill>
                    <a:latin typeface="Arial"/>
                  </a:rPr>
                  <a:t>to usual care</a:t>
                </a:r>
                <a:r>
                  <a:rPr b="1" lang="en-US" sz="1200" spc="-1" strike="noStrike">
                    <a:solidFill>
                      <a:srgbClr val="292929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o usual care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402480" y="2459160"/>
                <a:ext cx="1486440" cy="3620160"/>
                <a:chOff x="402480" y="2459160"/>
                <a:chExt cx="1486440" cy="362016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402480" y="2774160"/>
                  <a:ext cx="1486440" cy="3305160"/>
                  <a:chOff x="402480" y="2774160"/>
                  <a:chExt cx="1486440" cy="330516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402480" y="27741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Triage set up in 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lobby area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02480" y="36093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Meals served by 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nonclinical staff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02480" y="44442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Nurse educators pulled to clinical duties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02480" y="52794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Disaster documentation forms used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871920" y="2459160"/>
                  <a:ext cx="547920" cy="315000"/>
                </a:xfrm>
                <a:prstGeom prst="upArrow">
                  <a:avLst>
                    <a:gd name="adj1" fmla="val 50000"/>
                    <a:gd name="adj2" fmla="val 50000"/>
                  </a:avLst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10800000"/>
                </a:gra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515680" y="2459160"/>
                <a:ext cx="1486440" cy="3620160"/>
                <a:chOff x="2515680" y="2459160"/>
                <a:chExt cx="1486440" cy="362016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2515680" y="2774160"/>
                  <a:ext cx="1486440" cy="3305160"/>
                  <a:chOff x="2515680" y="2774160"/>
                  <a:chExt cx="1486440" cy="330516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2515680" y="27741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Significant reduction in documentation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515680" y="36093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Significant changes in nurse/patient ratios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515680" y="44442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Use of non-healthcare workers to provide basic patient cares (bathing, assistance, feeding)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515680" y="52794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Cancel most/all outpatient appointments and  procedures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2985120" y="2459160"/>
                  <a:ext cx="547920" cy="315000"/>
                </a:xfrm>
                <a:prstGeom prst="upArrow">
                  <a:avLst>
                    <a:gd name="adj1" fmla="val 50000"/>
                    <a:gd name="adj2" fmla="val 50000"/>
                  </a:avLst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10800000"/>
                </a:gra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628880" y="2459160"/>
                <a:ext cx="1486440" cy="3620160"/>
                <a:chOff x="4628880" y="2459160"/>
                <a:chExt cx="1486440" cy="3620160"/>
              </a:xfrm>
            </p:grpSpPr>
            <p:grpSp>
              <p:nvGrpSpPr>
                <p:cNvPr id="125" name=""/>
                <p:cNvGrpSpPr/>
                <p:nvPr/>
              </p:nvGrpSpPr>
              <p:grpSpPr>
                <a:xfrm>
                  <a:off x="4628880" y="2774160"/>
                  <a:ext cx="1486440" cy="3305160"/>
                  <a:chOff x="4628880" y="2774160"/>
                  <a:chExt cx="1486440" cy="330516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4628880" y="27741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Vital signs checked less regularly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628880" y="36093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Deny care to those presenting to ED with minor symptoms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628880" y="44442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Stable ventilator patients managed on step-down beds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4628880" y="52794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Minimal lab and x-ray testing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>
                  <a:off x="5098320" y="2459160"/>
                  <a:ext cx="547920" cy="315000"/>
                </a:xfrm>
                <a:prstGeom prst="upArrow">
                  <a:avLst>
                    <a:gd name="adj1" fmla="val 50000"/>
                    <a:gd name="adj2" fmla="val 50000"/>
                  </a:avLst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10800000"/>
                </a:gra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741720" y="2459160"/>
                <a:ext cx="1486440" cy="3620160"/>
                <a:chOff x="6741720" y="2459160"/>
                <a:chExt cx="1486440" cy="362016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6741720" y="2774160"/>
                  <a:ext cx="1486440" cy="3305160"/>
                  <a:chOff x="6741720" y="2774160"/>
                  <a:chExt cx="1486440" cy="33051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6741720" y="27741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Re-allocate ventilators due to shortage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6741720" y="36093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Significantly raise threshold for admission (chest pain with normal ECG goes home, etc.)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6741720" y="44442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Use of non-healthcare workers to provide basic patient cares (bathing, assistance, feeding)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741720" y="52794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Allocate limited 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antivirals to select patients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" name=""/>
                <p:cNvSpPr/>
                <p:nvPr/>
              </p:nvSpPr>
              <p:spPr>
                <a:xfrm>
                  <a:off x="7211160" y="2459160"/>
                  <a:ext cx="547920" cy="315000"/>
                </a:xfrm>
                <a:prstGeom prst="upArrow">
                  <a:avLst>
                    <a:gd name="adj1" fmla="val 50000"/>
                    <a:gd name="adj2" fmla="val 50000"/>
                  </a:avLst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10800000"/>
                </a:gra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398160" y="1199520"/>
                <a:ext cx="1753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92929"/>
                    </a:solidFill>
                    <a:latin typeface="Arial"/>
                  </a:rPr>
                  <a:t>Low impact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92929"/>
                    </a:solidFill>
                    <a:latin typeface="Arial"/>
                  </a:rPr>
                  <a:t>administration changes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72480" y="1199520"/>
                <a:ext cx="1259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92929"/>
                    </a:solidFill>
                    <a:latin typeface="Arial"/>
                  </a:rPr>
                  <a:t>High-impact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92929"/>
                    </a:solidFill>
                    <a:latin typeface="Arial"/>
                  </a:rPr>
                  <a:t>clinical changes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97720" y="6269040"/>
                <a:ext cx="7852680" cy="276480"/>
                <a:chOff x="297720" y="6269040"/>
                <a:chExt cx="7852680" cy="2764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97720" y="6269040"/>
                  <a:ext cx="2911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92929"/>
                      </a:solidFill>
                      <a:latin typeface="Arial"/>
                    </a:rPr>
                    <a:t>Need increasingly exceeds resources</a:t>
                  </a:r>
                  <a:endParaRPr b="0" lang="en-US" sz="12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317760" y="6429960"/>
                  <a:ext cx="4832640" cy="0"/>
                </a:xfrm>
                <a:prstGeom prst="line">
                  <a:avLst/>
                </a:prstGeom>
                <a:ln w="76320">
                  <a:solidFill>
                    <a:srgbClr val="29292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1765800" y="1829160"/>
                <a:ext cx="5132880" cy="610200"/>
              </a:xfrm>
              <a:custGeom>
                <a:avLst/>
                <a:gdLst/>
                <a:ahLst/>
                <a:rect l="l" t="t" r="r" b="b"/>
                <a:pathLst>
                  <a:path w="3148" h="372">
                    <a:moveTo>
                      <a:pt x="0" y="372"/>
                    </a:moveTo>
                    <a:lnTo>
                      <a:pt x="3148" y="0"/>
                    </a:lnTo>
                  </a:path>
                </a:pathLst>
              </a:custGeom>
              <a:noFill/>
              <a:ln w="9360">
                <a:solidFill>
                  <a:srgbClr val="fedd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-level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cognize resource shortfal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 additional resources or facilitate transfer of patients/alternative care s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vide supportive policy and decision too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vide liability relief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 the scarce resources in an equitable framework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an for administrative adaptations (roles and responsibilities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timize surge capacity plan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actice incident management and work with regional stakehol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cisionmaking process for scarce resource situa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rce Clinical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cess for planning vs. process for respon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sponse concept of operation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S recognizes situ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nical care committe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riage pl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cision implement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Care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ultiple institutional stakeholders decide, based on resources and demand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ministrative decisions – primary, secondary, tertiary tria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thical basis – AMA principles,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cision tool(s) to be use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18:43:35Z</dcterms:created>
  <dc:creator>John Hick</dc:creator>
  <dc:description/>
  <dc:language>en-US</dc:language>
  <cp:lastModifiedBy> Cheryl Lynn Bell</cp:lastModifiedBy>
  <dcterms:modified xsi:type="dcterms:W3CDTF">2006-11-20T19:08:41Z</dcterms:modified>
  <cp:revision>12</cp:revision>
  <dc:subject/>
  <dc:title>Hospital Section Introduction</dc:title>
</cp:coreProperties>
</file>