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58A-A088-40A4-A0F8-E568C3CE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E22-8E01-4F98-8FC4-2DA4D9E9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65DF-C3D9-49A1-965A-5EE1A41C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951-7D21-4CA9-91A7-9A33A25E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DD9F-01ED-40AA-82BB-D5B2F5BF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5B9D-E0A2-4028-854B-3CD7F374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9921-D7F6-4739-8408-908EB678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D1C4-B3DE-415B-AF18-30FD24D5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BB30-6519-4972-B337-FB56DBE2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A5F3-2EFC-4A89-9F03-FA8A5E9F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EC62-2B25-4185-8B31-969D9CD7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6CA-A785-476D-A2A5-DCBA351B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1FB3-726A-47E1-A7CA-CA942260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E906-44CB-46A5-B714-6D0DFBE9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918D-711B-474C-9ED5-FE66F909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5BF7-9AC2-4D81-BD3E-D4E9916A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75C4-0AAC-423B-9071-B831CA181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1CA-7822-4E90-998A-AFBD2E46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CC2-B494-45DD-A229-7008C788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B80-A40D-4B44-963C-B03C349A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9A7B-DF19-4C33-A2E3-2AE0A243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36E-1032-4E03-9A6E-2B2FA845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D25-F684-4C1D-8DD4-80557E75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867-6AC6-477D-B8A2-331C5F9C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D6D4-3E18-4AF3-88D8-6ED3EFF0C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A090-2DBF-4F11-BD9B-9F346A170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e7ff"/>
                </a:solidFill>
                <a:latin typeface="Arial"/>
              </a:rPr>
              <a:t>Prehospital Care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6520" y="3886200"/>
            <a:ext cx="541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ward Gabriel, M.P.A., AEMT-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Crisis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t Disney Corp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1746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PREHOSPITAL CARE</a:t>
            </a:r>
            <a:br>
              <a:rPr sz="4000"/>
            </a:br>
            <a:r>
              <a:rPr b="1" lang="en-US" sz="3200" spc="-1" strike="noStrike" u="sng">
                <a:solidFill>
                  <a:srgbClr val="b7e7ff"/>
                </a:solidFill>
                <a:uFillTx/>
                <a:latin typeface="Arial"/>
              </a:rPr>
              <a:t>The Main Issue For Planner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81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 the event of a Catastrophic MCE, the emergency medical services (EMS) systems will be called on to provide first-responder rescue, assessment, care, and transportation and access to the emergency medical health care syst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bulk of EMS in this country is provided through a complex system of highly variable organizational stru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COMMENDATIONS: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MS PLANN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3276720"/>
            <a:ext cx="83818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nd availability of EMS perso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le of dispatch and Public Safety Answering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905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 and implement strategies to maximize to the extent possib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COMMENDATIONS: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MS PLANN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613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tual aid agreements or interstate compact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licensure and indemnification matters regarding respon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memoranda of understandings (MOUs) among public, volunteer, and private ambulanc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 response to potential M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COMMENDATIONS: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MS PLANNE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natural opportunities to exercise disaster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trategies to identify large numbers of young children who may be separated from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trategies to identify and respond to 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lnerable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COMMENDATIONS: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EMS PLANNERS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partnerships with Federal, State, and local stakeholders to clarify roles, resources, and responses to potential M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communication and coordination strategies and backup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rcise, evaluate, modify, and refine MCE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FORGING PARTNERSHIPS 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AT ALL LEVEL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ergency management is really about building relationships, whether you are in the public or private sector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in building those relationships, it is important to remember not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el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al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0T23:36:05Z</dcterms:created>
  <dc:creator>Eddie</dc:creator>
  <dc:description/>
  <dc:language>en-US</dc:language>
  <cp:lastModifiedBy> Cheryl Lynn Bell</cp:lastModifiedBy>
  <dcterms:modified xsi:type="dcterms:W3CDTF">2006-11-21T16:53:55Z</dcterms:modified>
  <cp:revision>11</cp:revision>
  <dc:subject/>
  <dc:title>Bioterrorism and Other Public Health Emergencies Tools and Models for Planning and Preparedness Providing Mass Medical Care with Scarce Resources: A Community Planning Guide  prehospital care</dc:title>
</cp:coreProperties>
</file>