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AF9-AD8F-4BBB-A986-5D6DA0FF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8B6-F9EF-410A-85E9-CB3B78AE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5E9-0180-45EE-9F53-3DAD3563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1B5-8540-4F78-A4D1-F9DF89B7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7FA9-8DD2-47EE-A96D-288C117F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E313-62EB-4C93-A39C-A75E3D69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70D-6F7B-44DC-8559-F57C09B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AAE-F553-43FE-85BC-86C4AFAA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4BF1-7335-40DA-862C-C70921E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4A6-3672-46BD-8D8A-39DA8C9B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DD92-ECF4-4E91-96F0-267358D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C0C-3778-4F65-B797-9F7DD639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B89B-2041-47DD-B68E-7A22A34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8364-F108-47DF-9A92-87DBEDE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915B-2438-4AC6-93C9-205FE0E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738-D6E5-4357-9641-1955D87D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602-0E8E-496D-A92C-6265AD7A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FD3-F4F1-4208-8415-2BE0D6E6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082-8A19-4B05-B3A2-3AA50B3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0CE-4E32-499F-A2BF-7F430BC3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F4D-278A-454E-B53E-290D12BD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CAC-212F-4CF1-9F25-FC11B631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1B8-22A6-4EAA-8740-1C6E352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45D-A687-407A-8385-226F8BE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EC5-3AEE-42E0-AD94-609C0B631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D777-DF60-43B2-9EB4-FC2A9D071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Prehospital Care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ward Gabriel, M.P.A., AEMT-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Crisis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t Disney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74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PREHOSPITAL CARE</a:t>
            </a:r>
            <a:br>
              <a:rPr sz="4000"/>
            </a:br>
            <a:r>
              <a:rPr b="1" lang="en-US" sz="3200" spc="-1" strike="noStrike" u="sng">
                <a:solidFill>
                  <a:srgbClr val="b7e7ff"/>
                </a:solidFill>
                <a:uFillTx/>
                <a:latin typeface="Arial"/>
              </a:rPr>
              <a:t>The Main Issue For Planne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the event of a Catastrophic MCE, the emergency medical services (EMS) systems will be called on to provide first-responder rescue, assessment, care, and transportation and access to the emergency medical health care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ulk of EMS in this country is provided through a complex system of highly variable organizational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3276720"/>
            <a:ext cx="83818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d availability of EMS pers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f dispatch and Public Safety Answering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90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and implement strategies to maximize to the extent possib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613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ual aid agreements or interstate compact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licensure and indemnification matters regarding respo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memoranda of understandings (MOUs) among public, volunteer, and private ambulanc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response to potential M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natural opportunities to exercise disaster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trategies to identify large numbers of young children who may be separated from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trategies to identify and respond to 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erabl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partnerships with Federal, State, and local stakeholders to clarify roles, resources, and responses to potential M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communication and coordination strategies and backup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e, evaluate, modify, and refine MCE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ORGING PARTNERSHIPS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 ALL LEVEL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ergency management is really about building relationships, whether you are in the public or private sector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in building those relationships, it is important to remember not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el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23:36:05Z</dcterms:created>
  <dc:creator>Eddie</dc:creator>
  <dc:description/>
  <dc:language>en-US</dc:language>
  <cp:lastModifiedBy> Cheryl Lynn Bell</cp:lastModifiedBy>
  <dcterms:modified xsi:type="dcterms:W3CDTF">2006-11-21T16:53:55Z</dcterms:modified>
  <cp:revision>11</cp:revision>
  <dc:subject/>
  <dc:title>Bioterrorism and Other Public Health Emergencies Tools and Models for Planning and Preparedness Providing Mass Medical Care with Scarce Resources: A Community Planning Guide  prehospital care</dc:title>
</cp:coreProperties>
</file>