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comments/comment6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Stephen Gilberg" initials="SG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<Relationship Id="rId14" Type="http://schemas.openxmlformats.org/officeDocument/2006/relationships/commentAuthors" Target="commentAuthors.xml"/>
</Relationships>
</file>

<file path=ppt/comments/comment6.xml><?xml version="1.0" encoding="utf-8"?>
<p:cmLst xmlns:p="http://schemas.openxmlformats.org/presentationml/2006/main">
  <p:cm authorId="0" dt="2006-11-22T14:49:10.984000000" idx="1">
    <p:pos x="5301" y="3037"/>
    <p:text>Unsure of this.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9B39-A7D0-48E8-821B-0A1C44C79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714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7302-2BF6-468D-A902-079BF9214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714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714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2000-8E2D-4F27-9CC2-1510FE16D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714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714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714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A309-D89E-432D-9F90-60E1D0659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A4983-6B38-432D-8A64-B0B9AEEF1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E62BE-60C4-47A0-B08D-9CE19EE88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0A381-4469-44DE-8D0B-0C5A025D0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3B4DC-52E5-430F-A55A-358F318C3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F969B-8577-423B-A0CC-2FF491CB9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E0AB5-F687-4560-89D8-37733E8C5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714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491C6-9AE0-439B-82DA-7B9651054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DE65-0D57-4F1F-B762-65298180A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714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53D37-2B31-487A-A3C1-5308E8BA6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714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99BF3-AFFE-4B17-B9A2-5C48FBE5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714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7D960-7422-462F-8989-A13F9584F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4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714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BA2CA-795A-4CEF-8865-E00ABE487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714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714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714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F2EC3-6223-4FA9-AF8C-673CFF9F3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AF9D-3EC7-4D31-BF85-5646D411B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8F7A-0D81-46E8-9BC2-05CB54ED7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66C8-E144-4530-A6AA-8CCD9B5C0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EC82-DA02-48B5-806A-9FD4B6CAA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714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80F0-5311-4BB4-9AC4-93BE5D81F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714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5C05-A6F1-4DE0-BEE7-72E36809B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714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B06F-C1B1-4EE5-9C0E-AC0F1A65F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3BDFD-BC5F-4289-8CF1-AD672D1AFCB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84EE7-9269-444A-B3DD-1717A8D07F6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Alternative Care Sites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124080" y="3886200"/>
            <a:ext cx="51055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tephen V. Cantrill, M.D., FACE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ssociate Direct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partment of Emergency Medicin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nver Health Medical Cen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38080" y="3352680"/>
            <a:ext cx="184176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904760"/>
            <a:ext cx="7696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7848720" y="0"/>
          <a:ext cx="1295280" cy="38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48720" y="0"/>
                    <a:ext cx="129528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lternative Care Sit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8116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Concept of an Alternative 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Care Site: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ntraditional location for the provision of health ca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de range of potential levels of car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ditional inpatient car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ronic car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lliative car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me ca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116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Potential Uses of an ACS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mary triage of victi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ffloaded hospital ward pati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mary victim ca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rsing home replac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mbulatory chronic care/shel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arantin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lliative ca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ccine/drug distribution cen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tential Alternative Care Sit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ildings of opportun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vantage of preexisting infrastructure suppo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vention centers, hotels, schools, same-day surgery centers, shuttered hospitals, et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rtable or temporary shelt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lexible but may be cost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tes best identified in adv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078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actors in Selecting an AC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sic environmental suppo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VAC, plumbing, lighting, sanitary facilities, et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equate spa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tient care, family areas, pharmacy, food prep, mortuary, et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se in establishing secur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cess: patients/supplies/E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563868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ite Selection Tool:    www.ahrq.gov/downloads/pub/biotertools/alttool.x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8116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ome Issues and Decision Point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77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wnership” and command and control of the si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cision to open an alternative care si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pplies/equipment/staff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cumentation of ca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munic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ules/policies for oper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it strateg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erci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Katrina/Rita: ACS Issu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portance of regional plann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portance of secur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vantages of manpower proxim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gregating special needs popul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ganized facility layou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portance of incident command syst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Katrina/Rita: ACS Issu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need for “House Rules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portance of public health iss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fe f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ean wa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trine resour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nitation suppl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1T11:54:38Z</dcterms:created>
  <dc:creator>SV Cantrill, MD</dc:creator>
  <dc:description/>
  <dc:language>en-US</dc:language>
  <cp:lastModifiedBy> Cheryl Lynn Bell</cp:lastModifiedBy>
  <dcterms:modified xsi:type="dcterms:W3CDTF">2006-11-23T01:55:15Z</dcterms:modified>
  <cp:revision>10</cp:revision>
  <dc:subject/>
  <dc:title>Web Conference November 29, 2006</dc:title>
</cp:coreProperties>
</file>