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Stephen Gilberg" initials="SG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<Relationship Id="rId14" Type="http://schemas.openxmlformats.org/officeDocument/2006/relationships/commentAuthors" Target="commentAuthors.xml"/>
</Relationships>
</file>

<file path=ppt/comments/comment6.xml><?xml version="1.0" encoding="utf-8"?>
<p:cmLst xmlns:p="http://schemas.openxmlformats.org/presentationml/2006/main">
  <p:cm authorId="0" dt="2006-11-22T14:49:10.984000000" idx="1">
    <p:pos x="5301" y="3037"/>
    <p:text>Unsure of this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8828-D4E3-4199-933B-3E79C755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714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037-692D-49F1-A1AE-382E0C3D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714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714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622-C18F-4500-9C29-F9FD5FC5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714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714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714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9826-3592-40A6-B61F-DA1396F6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08B0-0B99-4FF8-9D11-2EA20469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EE54-97D6-4C58-9F30-D9695612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A015-51AA-4B43-B17B-6FBFA86C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1DCD-384E-4D0E-A167-C9DEBA38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2A21-A355-4831-95D2-B2AE0440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EAE6-F4BD-42F4-87E0-1087936F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714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FF56-DA80-47BF-A99F-1331C346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5228-7D45-40FA-A34D-A1528FF7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714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1683-42A1-4DD1-939F-233320F5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714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35DB-596E-4125-B521-B5ADA152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714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58AD-4521-4FDF-871E-DE4737C5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4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714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0D4E-423E-46DF-9C48-67ECCCDB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714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714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714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C048-7C29-40D0-89A2-FE2206BEB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A9D5-3155-48C1-9362-79B8DC52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2FC5-EA44-4A48-9115-E653A9A1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9902-AEA3-40D5-8380-A3E91B41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9B19-1705-4019-86E7-BB40F60D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714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7751-2BF0-4415-9999-9FD50A5E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714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465F-23D1-4D73-A484-A47321DA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714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B1F-8D6F-4C3F-A017-47A508FB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A1C1-8724-43D5-B4B7-DE8E4E906A2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7AFC-D628-4F4E-A386-1316FAE16C9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Alternative Care Site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124080" y="3886200"/>
            <a:ext cx="5105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ephen V. Cantrill, M.D., FACE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ociate Direc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artment of Emergency Medic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nver Health Medical Cen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18417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7696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848720" y="0"/>
          <a:ext cx="129528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0"/>
                    <a:ext cx="12952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lternative Care Sit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oncept of an Alternative 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are Site: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traditional location for the provision of health 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de range of potential levels of c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al inpatient c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ronic c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lliative c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e c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tential Uses of an AC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mary triage of victi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loaded hospital ward pati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mary victim 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rsing home replac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bulatory chronic care/shel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ranti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lliative 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ccine/drug distribution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Alternative Care Sit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ings of opport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antage of preexisting infrastructure sup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vention centers, hotels, schools, same-day surgery centers, shuttered hospitals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rtable or temporary shel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exible but may be cost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tes best identified in adv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7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ctors in Selecting an AC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sic environmental 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VAC, plumbing, lighting, sanitary facilities, e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equate spa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ient care, family areas, pharmacy, food prep, mortuary, et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e in establishing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ess: patients/supplies/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638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 Selection Tool:    www.ahrq.gov/downloads/pub/biotertools/alttool.x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11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ome Issues and Decision Poi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wnership” and command and control of the s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sion to open an alternative care s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lies/equipment/staff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cumentation of c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les/policies for ope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it strate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Katrina/Rita: ACS Issu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rtance of regional plan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rtance of secu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antages of manpower proxim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gregating special needs popu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ed facility lay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rtance of incident command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Katrina/Rita: ACS Issu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eed for “House Rul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rtance of public health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fe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n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trine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nitation suppl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1:54:38Z</dcterms:created>
  <dc:creator>SV Cantrill, MD</dc:creator>
  <dc:description/>
  <dc:language>en-US</dc:language>
  <cp:lastModifiedBy> Cheryl Lynn Bell</cp:lastModifiedBy>
  <dcterms:modified xsi:type="dcterms:W3CDTF">2006-11-23T01:55:15Z</dcterms:modified>
  <cp:revision>10</cp:revision>
  <dc:subject/>
  <dc:title>Web Conference November 29, 2006</dc:title>
</cp:coreProperties>
</file>