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Lead Governor of HPP, I invite you to take a closer loo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WGA, and in particular my own State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oming, where we have pioneered Smartcar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ince 199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gether, let’s identify the markets and roles where w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forge a win-win partnership that woul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ng efficiencies to government and benefits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ivate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e and ‘kick our tires’ and see what we are made o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still time to climb aboard Health Passport.  We will have an independent evaluation available for review next sum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are considering how best to share the technology and the HPP system with other states and agenc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ers are benefiting too as payment for WIC food benefits are handled entirely electronically rather than using the old paper vouch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mu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nal and Child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al Pregnancy Outcom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S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.  Results are for the following goals (next sli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.  As an enabler in participation, government must empower the citizen for  economic and social reasons so they can make better lives for themsel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PPCARD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ybrid car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to function not only as interactive storag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(chip), but also compatible with mag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pe Medicaid service authorization 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step in claims process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approx $3.80 per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et Back-up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tored in HOST during pilot 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opulate card if lost/stol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n system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king it as open as possible; workin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Navy and GSA to achieve fully ope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 points 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partnership f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#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2960" y="4190760"/>
            <a:ext cx="5030640" cy="42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gacy systems are existing, separate ‘smokestack’ programs where there is little or no sharing of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P c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through application program interfaces allows read/write with legacy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 Women, Infants, and Child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 Medica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 Head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P Turnke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 Application to support stand-alone dat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s such as private medical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 Maternal and Child 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m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 Immu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card protected by client selecting own PIN numb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personal identification number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providers’ read/write authorization based on ‘need 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’; physician, nurse, secretary, authoriz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d through provider card; takes client an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r cards present to read/wr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BT - Electronic Benefits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SDT - Early and periodic screening, diagnosis and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add client providers as acceptance g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iatr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-Gy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Do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t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ometr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574-5055-43BC-AEF7-AF229071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3F9-1DA1-48BF-88F5-591D8179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A63-A868-416A-BA42-2D150DD6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38E-DB0E-40A2-BAB8-1E12E0B6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0FAE-CFBA-4A09-8079-1E413CD6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7AE9-A2A0-42FF-AD80-17344DA1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9C21-81CD-4A45-B79F-85A80ED1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7A1D-5D4E-4864-94A5-FAF3F8CA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FBEE-7C48-48EE-8FE3-3D322A7D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151D-02C6-4124-80D9-A2E66E57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7820-5DB7-412C-81A9-4514BD40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701-390E-4C52-B3D3-F9C860AF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6D60-AC0B-4DF4-8CDD-06709776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4136-22A5-4462-A47A-4A7FFCF5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196C-3379-4674-A936-57556521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5A05-30FE-487D-9F7B-F589A6FF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5ABF-0A05-4F89-8A18-D2A78B65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0C8-776E-430F-B7D8-5B669CEE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FC3-983D-4360-BB34-442A51E0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EE3-03C4-4246-921A-AFE204F0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E6F-D8C3-4C79-9134-03EBC748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909-1A16-437C-89A2-CD91F6FF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E5C-C8DF-4B46-92B9-B8444450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A77-48A4-4377-98D1-B620E9F7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AA04-EBD1-4B82-A4B6-D8A2E4756B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A590-8EB3-45BD-A4FC-3D405F184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Health Passport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br>
              <a:rPr sz="2400"/>
            </a:b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presented to</a:t>
            </a:r>
            <a:br>
              <a:rPr sz="4800"/>
            </a:b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AHRQ Informatics Teleconferen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6" name="WGALOGO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7522920" cy="2144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124080" y="28195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y 26, 200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5638680"/>
            <a:ext cx="3886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. Terry Williams, MP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-mail twilli@state.wy.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lephone 307-777-6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ject Sponso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HS: PHS, MCH, &amp; Head St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Immunization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DA - Food &amp; Nutr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Library of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SA -  Technical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large pharmaceutical compan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ue Cross/Blue Shield North Dako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781680" y="1752480"/>
          <a:ext cx="211932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752480"/>
                    <a:ext cx="211932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ey Findings of the Demonstration by Urban Institut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Providers liked the concept, clients were positive about the c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Privacy/Security was not a problem for cli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lients felt empowered in using the card and managing their child’s health d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Is Benefiting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hers and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e access is the engagement of parents so they are a partner in the delivery of health care for their childr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rry Williams, Health Passport Manager, W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most communities, providers function in almost total isolation-- they have little opportunity to share ideas, learn new skills or provide support and guidance to one anoth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tarting Points, Meeting the Needs of Our Youngest Childre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the Carnegie Foun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ealth Passport Demonstr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stern regional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ilot sites:  Cheyenne, WY; Reno, NV; Bismarck, 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unch:  Bismarck &amp; Cheyenne -- June 1999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o -- June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,000 moms and k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7 local partner 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Stores:  WY &amp; 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vate medical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KIDSTOON" descr=""/>
          <p:cNvPicPr/>
          <p:nvPr/>
        </p:nvPicPr>
        <p:blipFill>
          <a:blip r:embed="rId1"/>
          <a:srcRect l="0" t="32357" r="0" b="0"/>
          <a:stretch/>
        </p:blipFill>
        <p:spPr>
          <a:xfrm>
            <a:off x="4495680" y="4495680"/>
            <a:ext cx="5210280" cy="1373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Challenge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the End Result, not th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owerment, not government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ining accep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HPP transparent to users,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 personal priv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FMLYWALK" descr=""/>
          <p:cNvPicPr/>
          <p:nvPr/>
        </p:nvPicPr>
        <p:blipFill>
          <a:blip r:embed="rId1"/>
          <a:stretch/>
        </p:blipFill>
        <p:spPr>
          <a:xfrm>
            <a:off x="6661080" y="0"/>
            <a:ext cx="2482920" cy="2532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ase I Car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390840" cy="217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5105520" y="1905120"/>
          <a:ext cx="2857320" cy="2019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1905120"/>
                    <a:ext cx="28573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143000" y="3962520"/>
            <a:ext cx="7238880" cy="26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One card per family memb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ulti-application hybrid architectur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(mag stripe for backward integrat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8 k microprocess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nternet back-up from host using dat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ncryption via networ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gacy Integr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4038480"/>
            <a:ext cx="1143000" cy="91440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5486400"/>
            <a:ext cx="1981080" cy="914400"/>
          </a:xfrm>
          <a:prstGeom prst="rect">
            <a:avLst/>
          </a:prstGeom>
          <a:solidFill>
            <a:srgbClr val="33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mu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2743200"/>
            <a:ext cx="1143000" cy="9144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PP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86400"/>
            <a:ext cx="11430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2743200"/>
            <a:ext cx="1143000" cy="9144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400" y="1893960"/>
            <a:ext cx="8556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HPP Card captures data from each legacy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has the ability to send new information to the legacy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4114800"/>
            <a:ext cx="1447560" cy="914400"/>
          </a:xfrm>
          <a:prstGeom prst="rect">
            <a:avLst/>
          </a:prstGeom>
          <a:solidFill>
            <a:srgbClr val="fdc0e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4038480"/>
            <a:ext cx="1143000" cy="91440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921120" y="4924440"/>
            <a:ext cx="311040" cy="590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90840" y="4572000"/>
            <a:ext cx="844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48040" y="3695760"/>
            <a:ext cx="387360" cy="311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384520" y="3695760"/>
            <a:ext cx="438120" cy="311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48240" y="4572000"/>
            <a:ext cx="844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48240" y="4991040"/>
            <a:ext cx="311040" cy="463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n the Card:  Programs with Statu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grams with Detailed  Inform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IC &amp; EB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utrition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mmun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caid EPSD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eadSt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ternal and Child Heal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ublic Health Nurs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ivate Provider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heyenne Children’s Clin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-Center One: Family Doctor’s Clin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91120" y="17521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grams with Status Onl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od Stamps, commodity food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ral Health (Dent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hildren’s Special Health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ell Baby Clin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using or Fuel Ass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FDC/Power/TAN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od Pan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chool Lunch &amp; Breakf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mily Planning (Reproductive Healt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cking System (Childr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xtension, EFNEP, FN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esumptive Eligibility for Pregnant Wo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th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n the Card:  Medical Resul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2895120"/>
            <a:ext cx="42670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Height and weigh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Hemoglobin/Hematocrit test result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mmuniza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egnancy Status and Due Da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Grav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ar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DC Breast Feeding Inform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95680" y="18284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lient Exam Data:  Coded Results, Source Code, Date Stam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Hea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lood Press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Lung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bdom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ee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Hear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xtremiti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No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hroa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600200"/>
            <a:ext cx="37339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l results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last updat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2T14:23:06Z</dcterms:created>
  <dc:creator>Siemens Business Comm</dc:creator>
  <dc:description/>
  <dc:language>en-US</dc:language>
  <cp:lastModifiedBy>Ellen Stein</cp:lastModifiedBy>
  <cp:lastPrinted>2001-07-23T20:40:31Z</cp:lastPrinted>
  <dcterms:modified xsi:type="dcterms:W3CDTF">2001-07-23T20:41:27Z</dcterms:modified>
  <cp:revision>63</cp:revision>
  <dc:subject/>
  <dc:title>Health Passport Project</dc:title>
</cp:coreProperties>
</file>