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Lead Governor of HPP, I invite you to take a closer loo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GA, and in particular my own State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oming, where we have pioneered Smartca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ince 199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gether, let’s identify the markets and roles where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forge a win-win partnership that wou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ng efficiencies to government and benefit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vate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 and ‘kick our tires’ and see what we are made o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still time to climb aboard Health Passport.  We will have an independent evaluation available for review next sum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onsidering how best to share the technology and the HPP system with other states and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ers are benefiting too as payment for WIC food benefits are handled entirely electronically rather than using the old paper vouch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mu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and Child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al Pregnancy Outcom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S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 Results are for the following goals (next sli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 As an enabler in participation, government must empower the citizen for  economic and social reasons so they can make better lives for themsel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PPCARD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ybrid car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to function not only as interactive storag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(chip), but also compatible with mag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pe Medicaid service authorization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step in claims proce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approx $3.80 per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 Back-up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tored in HOST during pilot t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pulate card if lost/sto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 system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king it as open as possible; workin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Navy and GSA to achieve fully op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 points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partnership f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#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2960" y="4190760"/>
            <a:ext cx="5030640" cy="42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acy systems are existing, separate ‘smokestack’ programs where there is little or no sharing of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P c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hrough application program interfaces allows read/write with legacy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Women, Infants, and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Medic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Head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PP Turn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Application to support stand-alone da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s such as private medic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Maternal and Child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- Immu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card protected by client selecting own PIN numb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ersonal identification numb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providers’ read/write authorization based on ‘need 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’; physician, nurse, secretary, authoriz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d through provider card; takes client a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r cards present to read/wr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T - Electronic Benefit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SDT - Early and periodic screening, diagnosis an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add client providers as acceptance g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atr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-G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o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omet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098-ADD2-4251-8EC0-DEDC9C32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7ED-1B56-4E18-8C15-981597FE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2BC-FF9B-4D0E-A2F3-C0CE95A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372-82D3-4C64-BA3A-0CF2764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1F3B-A769-445A-B264-92B7A45D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72C-2E76-49B8-A9C7-7A79082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7973-6C0F-49EE-A4C3-2CD4861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3052-9FDA-4F8C-AB01-71B1D25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F33B-81B0-49B4-BC7D-B350CD2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F2B-3427-430B-BFC2-CA26CD8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451-DDBD-4E08-A392-6C42AD2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1F7-BE6D-46B8-AFC4-A273736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884F-DE8D-4456-8A5E-3D62ABC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ABB4-AFDC-4EC8-863B-99A99BE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EB5-BA2E-4485-B62E-E04E5371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3D9E-40D7-450F-A47A-C338543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EA1-99C7-4B10-AD41-44F99365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A93-30DF-4617-95C7-FC3070A0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F20-D9EE-45CD-929F-EEA6CE1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D38-94D0-4592-A312-2F45B136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79B-9064-48EF-9262-A4056DA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ED7-F7FC-4B7D-8DE8-68364EE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681-45CE-4F3D-A7B2-D64EF67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B94-0341-4AF7-817D-B1B9C257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CB29-96B5-4881-B0A5-7FA5EDDE1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082D-FCF7-4C3C-8F29-D84847F62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bcbcb"/>
                </a:solidFill>
                <a:latin typeface="Times New Roman"/>
              </a:rPr>
              <a:t>Health Passport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br>
              <a:rPr sz="2400"/>
            </a:b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presented to</a:t>
            </a:r>
            <a:br>
              <a:rPr sz="48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AHRQ Informatics Teleconfere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6" name="WGALOGO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7522920" cy="2144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24080" y="28195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y 26, 200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5638680"/>
            <a:ext cx="3886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. Terry Williams, M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-mail twilli@state.wy.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elephone 307-777-6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Sponso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HS: PHS, MCH, &amp; Head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Immunization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DA - Food &amp; 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Library of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SA -  Techn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large pharmaceutical compan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ue Cross/Blue Shield North Dak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781680" y="1752480"/>
          <a:ext cx="211932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752480"/>
                    <a:ext cx="211932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 Findings of the Demonstration by Urban Instit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oviders liked the concept, clients were positive about the c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Privacy/Security was not a problem for cl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lients felt empowered in using the card and managing their child’s health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Is Benefiting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hers and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e access is the engagement of parents so they are a partner in the delivery of health care for their childr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ry Williams, Health Passport Manager, W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ost communities, providers function in almost total isolation-- they have little opportunity to share ideas, learn new skills or provide support and guidance to one anoth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tarting Points, Meeting the Needs of Our Youngest Childr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the Carnegie Foun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alth Passport Demonst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stern regional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lot sites:  Cheyenne, WY; Reno, NV; Bismarck, 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unch:  Bismarck &amp; Cheyenne -- June 1999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no -- Jun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,000 moms and k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7 local partner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Stores:  WY &amp; 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vate medical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KIDSTOON" descr=""/>
          <p:cNvPicPr/>
          <p:nvPr/>
        </p:nvPicPr>
        <p:blipFill>
          <a:blip r:embed="rId1"/>
          <a:srcRect l="0" t="32357" r="0" b="0"/>
          <a:stretch/>
        </p:blipFill>
        <p:spPr>
          <a:xfrm>
            <a:off x="4495680" y="4495680"/>
            <a:ext cx="5210280" cy="1373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halleng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the End Result, not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owerment, not government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ining accep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HPP transparent to users,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personal priv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FMLYWALK" descr=""/>
          <p:cNvPicPr/>
          <p:nvPr/>
        </p:nvPicPr>
        <p:blipFill>
          <a:blip r:embed="rId1"/>
          <a:stretch/>
        </p:blipFill>
        <p:spPr>
          <a:xfrm>
            <a:off x="6661080" y="0"/>
            <a:ext cx="248292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ase I Ca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390840" cy="21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105520" y="1905120"/>
          <a:ext cx="2857320" cy="201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905120"/>
                    <a:ext cx="28573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143000" y="3962520"/>
            <a:ext cx="723888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ne card per family memb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application hybrid architectur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mag stripe for backward integra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 k microprocess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ternet back-up from host using dat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cryption via netwo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gacy Integr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038480"/>
            <a:ext cx="1143000" cy="914400"/>
          </a:xfrm>
          <a:prstGeom prst="rect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486400"/>
            <a:ext cx="1981080" cy="914400"/>
          </a:xfrm>
          <a:prstGeom prst="rect">
            <a:avLst/>
          </a:prstGeom>
          <a:solidFill>
            <a:srgbClr val="33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u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743200"/>
            <a:ext cx="1143000" cy="914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P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86400"/>
            <a:ext cx="114300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2743200"/>
            <a:ext cx="1143000" cy="914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400" y="1893960"/>
            <a:ext cx="8556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HPP Card captures data from each legac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has the ability to send new information to the legacy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114800"/>
            <a:ext cx="1447560" cy="914400"/>
          </a:xfrm>
          <a:prstGeom prst="rect">
            <a:avLst/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038480"/>
            <a:ext cx="1143000" cy="91440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1120" y="4924440"/>
            <a:ext cx="311040" cy="590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0840" y="457200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48040" y="3695760"/>
            <a:ext cx="387360" cy="311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384520" y="3695760"/>
            <a:ext cx="438120" cy="311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8240" y="4572000"/>
            <a:ext cx="84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48240" y="4991040"/>
            <a:ext cx="311040" cy="463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 the Card:  Programs with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grams with Detailed 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C &amp; EB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utrition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mu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caid EPS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ad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ternal and Child 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ublic Health Nurs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ivate Provide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eyenne Children’s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-Center One: Family Doctor’s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1120" y="17521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grams with Status Onl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od Stamps, commodity food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ral Health (Dent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ildren’s Special Health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ell Baby Cli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using or Fuel As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FDC/Power/TAN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od Pan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chool Lunch &amp; Brea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mily Planning (Reproductive Healt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cking System (Childr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xtension, EFNEP, F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esumptive Eligibility for Pregnant Wo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 the Card:  Medical Resul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89512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ight and weigh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moglobin/Hematocrit test result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mmuniz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egnancy Status and Due D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rav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DC Breast Feeding Inform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5680" y="18284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lient Exam Data:  Coded Results, Source Code, Date Sta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e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tremit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3733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results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last upd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4:23:06Z</dcterms:created>
  <dc:creator>Siemens Business Comm</dc:creator>
  <dc:description/>
  <dc:language>en-US</dc:language>
  <cp:lastModifiedBy>Ellen Stein</cp:lastModifiedBy>
  <cp:lastPrinted>2001-07-23T20:40:31Z</cp:lastPrinted>
  <dcterms:modified xsi:type="dcterms:W3CDTF">2001-07-23T20:41:27Z</dcterms:modified>
  <cp:revision>63</cp:revision>
  <dc:subject/>
  <dc:title>Health Passport Project</dc:title>
</cp:coreProperties>
</file>