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E89-C283-4A78-B439-EA9FC105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EB5-3381-44BC-B991-E39D2171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3AF-DC84-47A7-8D49-F668A49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2514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664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912-5C9B-4AA8-A92C-1377D461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DA1-E8D2-4804-BC79-03C6F09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4AD-40BE-41A1-8205-9B0D3DA4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977-A963-4841-9E62-0F777420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C02-EAB4-4CED-A61F-D7E33470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10B-9C68-46F3-A9C3-EBD790D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025-9E36-4287-98CC-C85070AB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664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1D9-9178-4FF8-9DFB-025A764F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2514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664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727-E433-44C5-BFCF-4A3FC75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2001 California HealthCare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70F9-F230-49B6-A2E4-C86716B35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Agency for Health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Research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User Liais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c18b0"/>
                </a:solidFill>
                <a:latin typeface="Comic Sans MS"/>
              </a:rPr>
              <a:t>July 26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200400" cy="180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4600" y="610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41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ra Shewry, Executiv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Managed Risk Medical Insurance Board (MRM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hewry@mrmib.ca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81280" y="5477040"/>
          <a:ext cx="1905120" cy="11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477040"/>
                    <a:ext cx="1905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Challenge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gnatu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ern about frau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y Families Premium Pay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mium must be mailed, does not always get sent; manual match up with the electronic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faxed documentation to electronic submission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ing documentation sent after the application has been problematic.  Expensive (!) solution underway.  Would remove barrier if documentation reduced or self-cert permit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- States may need intermediary to help design and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Next Step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parents to automated application in conjunction with S-CHIP 1115 Wa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 Healthy Families Premium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based Training for C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out statewide to C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ly bring on the Counti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erfaces will need to be built between SPE and the 58 counties to allow for electronic transmission of data and supporting docu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Electronic Signature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esign" descr=""/>
          <p:cNvPicPr/>
          <p:nvPr/>
        </p:nvPicPr>
        <p:blipFill>
          <a:blip r:embed="rId3"/>
          <a:stretch/>
        </p:blipFill>
        <p:spPr>
          <a:xfrm>
            <a:off x="2514600" y="1628640"/>
            <a:ext cx="53341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Faxing Documenta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fax" descr=""/>
          <p:cNvPicPr/>
          <p:nvPr/>
        </p:nvPicPr>
        <p:blipFill>
          <a:blip r:embed="rId3"/>
          <a:stretch/>
        </p:blipFill>
        <p:spPr>
          <a:xfrm>
            <a:off x="2438280" y="1554120"/>
            <a:ext cx="54104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Logi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logina.asp" descr=""/>
          <p:cNvPicPr/>
          <p:nvPr/>
        </p:nvPicPr>
        <p:blipFill>
          <a:blip r:embed="rId3"/>
          <a:stretch/>
        </p:blipFill>
        <p:spPr>
          <a:xfrm>
            <a:off x="1906560" y="1219320"/>
            <a:ext cx="58658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Provider Selec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rovider" descr=""/>
          <p:cNvPicPr/>
          <p:nvPr/>
        </p:nvPicPr>
        <p:blipFill>
          <a:blip r:embed="rId3"/>
          <a:stretch/>
        </p:blipFill>
        <p:spPr>
          <a:xfrm>
            <a:off x="2209680" y="1496880"/>
            <a:ext cx="54864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Map/Directions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directions" descr=""/>
          <p:cNvPicPr/>
          <p:nvPr/>
        </p:nvPicPr>
        <p:blipFill>
          <a:blip r:embed="rId3"/>
          <a:stretch/>
        </p:blipFill>
        <p:spPr>
          <a:xfrm>
            <a:off x="2286000" y="1554120"/>
            <a:ext cx="5486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Error Checking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errora" descr=""/>
          <p:cNvPicPr/>
          <p:nvPr/>
        </p:nvPicPr>
        <p:blipFill>
          <a:blip r:embed="rId3"/>
          <a:stretch/>
        </p:blipFill>
        <p:spPr>
          <a:xfrm>
            <a:off x="2057400" y="1523880"/>
            <a:ext cx="5715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Real-Time Determina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calc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563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Real-Time Determination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calc_1" descr=""/>
          <p:cNvPicPr/>
          <p:nvPr/>
        </p:nvPicPr>
        <p:blipFill>
          <a:blip r:embed="rId3"/>
          <a:stretch/>
        </p:blipFill>
        <p:spPr>
          <a:xfrm>
            <a:off x="2666880" y="1600200"/>
            <a:ext cx="500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Medicaid and State Children’s Health Insurance Program (S-CHIP)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number of children without health insurance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-Cal (MC) for Children and Healthy Families (HF) programs are jointly mark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complete a mail-in application that serves both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pplications are sent to the State’s Single Point of Entry for income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18b0"/>
                </a:solidFill>
                <a:latin typeface="Comic Sans MS"/>
              </a:rPr>
              <a:t>Printable Application Summary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1430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172200"/>
            <a:ext cx="7619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lth-e-App (www.healtheapp.or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934320" y="700200"/>
          <a:ext cx="1463400" cy="2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00200"/>
                    <a:ext cx="1463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summ1" descr=""/>
          <p:cNvPicPr/>
          <p:nvPr/>
        </p:nvPicPr>
        <p:blipFill>
          <a:blip r:embed="rId3"/>
          <a:stretch/>
        </p:blipFill>
        <p:spPr>
          <a:xfrm>
            <a:off x="1730520" y="1600200"/>
            <a:ext cx="634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Application Process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nts apply on their own or with assistance from Certified Application Assistants (CA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As are paid $50 for each application resulting in an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DF (printable) version of the application is available on the MRMIB Web site; it is mailed to the single point of entry (S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Single Point of Entry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 utilizes an automated business logic to screen applications for Healthy Families (S-CHIP) and Medi-Cal (Medica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screens for family composition and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y Families applications electronically forwarded to the Healthy Families enrollment contr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-Cal applications mailed to the appropriate county for processing (58 coun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18b0"/>
                </a:solidFill>
                <a:latin typeface="Comic Sans MS"/>
              </a:rPr>
              <a:t>Health-e-App</a:t>
            </a:r>
            <a:endParaRPr b="1" lang="en-US" sz="32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-e-App is a Web-based, paperless appl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, supporting documentation and signatures are transmitted to appropriate entities through electronic interfaces or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CAAs in clinics, schools, and community-based organizations to help families apply for HF and M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As use notebook computers w/ wireless Internet connectivity to conduct enrollment in community - - even in app’s hom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Comic Sans MS"/>
              </a:rPr>
              <a:t>Data Flow</a:t>
            </a:r>
            <a:endParaRPr b="1" lang="en-US" sz="24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809880" y="5638680"/>
          <a:ext cx="15242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638680"/>
                    <a:ext cx="15242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85800" y="3200400"/>
            <a:ext cx="1523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CAA/</a:t>
            </a:r>
            <a:br>
              <a:rPr sz="1800"/>
            </a:b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A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5812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3200400"/>
            <a:ext cx="1523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4448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Single Point of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5640" y="3886200"/>
            <a:ext cx="10666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1752480"/>
            <a:ext cx="16761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4648320"/>
            <a:ext cx="1752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2666880"/>
            <a:ext cx="8380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029200" y="2895480"/>
            <a:ext cx="838080" cy="457200"/>
          </a:xfrm>
          <a:prstGeom prst="line">
            <a:avLst/>
          </a:prstGeom>
          <a:ln w="936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14800"/>
            <a:ext cx="7621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34080" y="4384800"/>
            <a:ext cx="76176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905120"/>
            <a:ext cx="1371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Healthy Fami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imes New Roman"/>
              </a:rPr>
              <a:t>(S-C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80060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Medi-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(58 coun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573800">
            <a:off x="4716720" y="261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794600">
            <a:off x="5119920" y="3117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81600">
            <a:off x="5028480" y="4038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782600">
            <a:off x="4723560" y="46479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Real Time” Feature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eligibility deter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taneous error checking to improve data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selection of health plans an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computing of income/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ic signat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on of an application summary for applic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tr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Development &amp; Testing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 Partnership between State and California HealthCare Found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HCF contracted with Deloitte to develop, and worked with MRMIB and DHS to design &amp; 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effort took 2 years and cost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Pilot Test completed in Februa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tnership with HHS and state agencies; 6 sites in San Diego County.  School, clinic, WIC, church.  Pilot sites still using HeA today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Business Case Analysis conducted by Lewin Grou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o measure HeA performance and quantify efficiencies and user impress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18b0"/>
                </a:solidFill>
                <a:latin typeface="Comic Sans MS"/>
              </a:rPr>
              <a:t>Business Case Analysis</a:t>
            </a:r>
            <a:endParaRPr b="1" lang="en-US" sz="2800" spc="-1" strike="noStrike">
              <a:solidFill>
                <a:srgbClr val="6c18b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Application errors were reduced by nearly 40 perc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e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time between application submission and eligibility determination decre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21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nety percent of applicants would rather apply online using Health-e-App and 95% of CAAs preferred using Health-e-Ap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s liked confirmation that their application was received and the immediate “official” decision, even if prelim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s took to Health-e-App quickly, even those with little or no compute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1155600" y="0"/>
            <a:ext cx="10299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3581280" y="5638680"/>
          <a:ext cx="132408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5638680"/>
                    <a:ext cx="132408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20:20:14Z</dcterms:created>
  <dc:creator>Sam Karp</dc:creator>
  <dc:description/>
  <dc:language>en-US</dc:language>
  <cp:lastModifiedBy>Ellen Stein</cp:lastModifiedBy>
  <cp:lastPrinted>2001-07-23T19:28:10Z</cp:lastPrinted>
  <dcterms:modified xsi:type="dcterms:W3CDTF">2001-07-23T20:30:03Z</dcterms:modified>
  <cp:revision>45</cp:revision>
  <dc:subject/>
  <dc:title>PowerPoint Presentation</dc:title>
</cp:coreProperties>
</file>