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84B-B0BF-47E3-A76E-1C59AED3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0B8-E3C1-4AE0-834D-C90FE69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BA4-A83E-4172-89E5-37DD48F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EC1-40DA-4434-AB52-1B43794F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103-6087-4E02-B965-54584867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080-69C4-49E2-86C6-DED4F474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EDB-BF1B-45B8-B224-DE502FA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AA9-E18D-4098-996C-5F1B31B2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070-0A81-43A4-8AB7-E7A81AB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A3F-B5B0-4A9A-A155-3F5960CB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988-418A-420E-9CF5-C1E4EE9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0D0-1C6E-46FC-87B6-8762D41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9450-452A-470E-914A-2CA60582B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dical Infor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Medical informatics is the application of computer technology to all fields of medicine - medical care, medical teaching, and medical research.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ris F. Collen, 197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Medical informatics is the scientific field that deals with the storage, retrieval, and optimal use of biomedical information, data, and knowledge for problem solving and decision making.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S. Blois and Edward H. Shortliffe, 199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 Centered Ca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d decision 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Technolog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data capture and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 automated medication dispen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patient decis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simulation for education and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rri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technology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nence-based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ity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flow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factor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dical Infor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all aspects of understanding and promoting the effective organization, analysis, management, and use of information in health ca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merican Medical Informatics Association webs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nd optimize use of health care information to improve decision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s of Medical Informatics Too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ktop and laptop compu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ndheld wireless devices       (e.g., PDA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s of Medical Informatics Ap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medical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order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remi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ized exper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ma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mag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order entry systems can reduce medication err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rug prescri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rug d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-drug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tes et al. JAMA. 1998;  Bates et al. J Am Med Inform Assoc. 1999;  Teich et al. Arch Intern Med.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ffective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reminders can improve compliance with recommended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revent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appropriate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other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nt et al. JAMA. 1998;  Shea et al. J Am Med Inform Assoc. 1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of Ca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decision support can improve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venous thromboem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biotics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eux et al. JAMA. 2000;  Teich et al. Arch Intern Med. 2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ns et al. N Engl J Med.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 medical records with decision support can reduce co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medical errors and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ing equally effective but less costly alternativ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the use of inappropriate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the ordering of redundant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ich et al. Arch Intern Med. 2000;  Bates et al. JAMA. 1998;  Glaser et al. Proc Healthcare Information and Management Systems Society Annual Conf. 1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comes vs Process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tudies have evaluated process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tudies have demonstrated improvements in process measures using decision suppor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studies have assessed patient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7:58:57Z</dcterms:created>
  <dc:creator>AHRQ</dc:creator>
  <dc:description/>
  <dc:language>en-US</dc:language>
  <cp:lastModifiedBy>Ellen Stein</cp:lastModifiedBy>
  <cp:lastPrinted>2001-07-20T21:02:59Z</cp:lastPrinted>
  <dcterms:modified xsi:type="dcterms:W3CDTF">2001-07-20T21:05:55Z</dcterms:modified>
  <cp:revision>52</cp:revision>
  <dc:subject/>
  <dc:title>Medical Informatics</dc:title>
</cp:coreProperties>
</file>