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744-4068-4507-BB93-38E3BA2E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444-AB9F-4BC3-9A24-DBCFA778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744-0A06-4320-87FC-EC22F862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163-6D32-48C9-BA31-BC2169EA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1C1-C2E2-4DA1-8D96-6CB3CB44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006-08DF-49DC-A2F3-700A5593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6C5-B952-4F54-8D45-5EEB4185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79F-F653-4038-854D-C3A613F8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0B9-BF3C-4A8D-B444-423243EB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240-524B-42A1-A6D6-5B369AED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729-EA5C-4FD6-A18A-7B64D021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B64-79EA-42E9-84D3-7AEFBF0E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89BC-88A5-4017-BA4D-0EAABA7DD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dical Infor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Medical informatics is the application of computer technology to all fields of medicine - medical care, medical teaching, and medical research.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ris F. Collen, 197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Medical informatics is the scientific field that deals with the storage, retrieval, and optimal use of biomedical information, data, and knowledge for problem solving and decision making."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.S. Blois and Edward H. Shortliffe, 199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tient Centered Ca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orm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red decision m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Technolog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data capture and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 automated medication dispen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patient decisio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simulation for education and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rri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technology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nence-based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stanc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ity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flow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factor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dical Infor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all aspects of understanding and promoting the effective organization, analysis, management, and use of information in health ca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merican Medical Informatics Association webs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nd optimize use of health care information to improve decision 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s of Medical Informatics Too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ktop and laptop compu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ndheld wireless devices       (e.g., PDA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s of Medical Informatics Ap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medical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order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remi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ized exper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ma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imag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ce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order entry systems can reduce medication err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drug prescri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drug d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-drug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tes et al. JAMA. 1998;  Bates et al. J Am Med Inform Assoc. 1999;  Teich et al. Arch Intern Med.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ffective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reminders can improve compliance with recommended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revent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use of appropriate med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use of other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nt et al. JAMA. 1998;  Shea et al. J Am Med Inform Assoc. 19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ality of Ca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decision support can improve qu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venous thromboem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antibiotics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eux et al. JAMA. 2000;  Teich et al. Arch Intern Med. 2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ns et al. N Engl J Med.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s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ic medical records with decision support can reduce co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medical errors and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ing equally effective but less costly alternative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the use of inappropriate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ng the ordering of redundant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ich et al. Arch Intern Med. 2000;  Bates et al. JAMA. 1998;  Glaser et al. Proc Healthcare Information and Management Systems Society Annual Conf. 19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utcomes vs Process Meas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studies have evaluated process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tudies have demonstrated improvements in process measures using decision suppor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studies have assessed patient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7:58:57Z</dcterms:created>
  <dc:creator>AHRQ</dc:creator>
  <dc:description/>
  <dc:language>en-US</dc:language>
  <cp:lastModifiedBy>Ellen Stein</cp:lastModifiedBy>
  <cp:lastPrinted>2001-07-20T21:02:59Z</cp:lastPrinted>
  <dcterms:modified xsi:type="dcterms:W3CDTF">2001-07-20T21:05:55Z</dcterms:modified>
  <cp:revision>52</cp:revision>
  <dc:subject/>
  <dc:title>Medical Informatics</dc:title>
</cp:coreProperties>
</file>