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7B2-FA63-4BB5-984F-D35B43B6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90B-0962-4409-96C3-FB83FA86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5D7-CB33-4836-A9E8-1EFB458B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38D-4BA3-41D0-8557-567174A3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493-E68A-400F-82AD-C0F9DF24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348-DF96-4643-8798-3E71B818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872-8B02-497C-8D86-973F499D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9A8-163A-43A5-A53C-60EC695F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7CA-46CA-49D2-93C3-A9C4AC48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02F-B57A-4A84-A644-21B2B719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2FA-6E46-4B57-8E94-5A3BA491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CE3-66F3-4C1D-B037-2723123D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8602-8E57-44FD-8E83-0E02A8B6F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676520"/>
            <a:ext cx="8610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es identified business problem/opportunit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orms to state policies and standard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hievable at reasonable cost within acceptable levels of risk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gned with it plans at state, agency, and department level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planning is thorough and ensures reasonable probabilit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of project succe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cquisition plan minimizes the procuremen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049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ate Policy Conc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066680"/>
            <a:ext cx="5257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15:24:49Z</dcterms:created>
  <dc:creator>Mike Kassis</dc:creator>
  <dc:description/>
  <dc:language>en-US</dc:language>
  <cp:lastModifiedBy>Ellen Stein</cp:lastModifiedBy>
  <cp:lastPrinted>2001-07-20T15:39:45Z</cp:lastPrinted>
  <dcterms:modified xsi:type="dcterms:W3CDTF">2001-07-20T19:37:13Z</dcterms:modified>
  <cp:revision>3</cp:revision>
  <dc:subject/>
  <dc:title>No Slide Title</dc:title>
</cp:coreProperties>
</file>