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D87-A2CB-42D5-B8FD-ED03337C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EC6-5DCF-443A-B427-0B70F8CF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ED0-060C-4FF4-8FF9-C1767E7D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695-2130-4B6C-A226-755793F4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BB9-1F96-4146-9F9B-5B33B18F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B57-F8B8-4B7A-84FD-1768741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B6F-2DF0-47FB-9715-3190E2FC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B10-C0A5-4BB5-8318-AF108880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047-3976-4D6D-BFFC-77C17235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53D-285A-42C7-A0A1-7DF5CCC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E0D-5F4E-400D-9024-5A54D1D4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3F4-31C8-4FF6-9AF7-A85A4F0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DA64-3BC0-49F4-A2C7-07CF07428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8610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es identified business problem/opportuni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orms to state policies and standard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hievable at reasonable cost within acceptable levels of ris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gned with it plans at state, agency, and department level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planning is thorough and ensures reasonable probabili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of project succe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cquisition plan minimizes the procuremen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e Policy Conc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066680"/>
            <a:ext cx="5257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15:24:49Z</dcterms:created>
  <dc:creator>Mike Kassis</dc:creator>
  <dc:description/>
  <dc:language>en-US</dc:language>
  <cp:lastModifiedBy>Ellen Stein</cp:lastModifiedBy>
  <cp:lastPrinted>2001-07-20T15:39:45Z</cp:lastPrinted>
  <dcterms:modified xsi:type="dcterms:W3CDTF">2001-07-20T19:37:13Z</dcterms:modified>
  <cp:revision>3</cp:revision>
  <dc:subject/>
  <dc:title>No Slide Title</dc:title>
</cp:coreProperties>
</file>