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007C-933C-4FA8-AC31-4157A15ED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 need to choose what kind of information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har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-hospital death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harge stat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charges -- or the national b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just simple number of dischar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s, say we want information on in-hospital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're given the option of looking at statistics by certain patie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pays for the hospital stay (including the uninsu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 (based on the median income for the patient's ZIP c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we want to look at all patients, so we don't click 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're given the option of looking at specific types of hos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we want to compare ownership types and teaching status, so we click th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about that quickly, you get your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w you can see that for-profit, nonteaching hospitals have the highest death rates (8.7%) compared with a little over 6% in not-for-profit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-360" y="4343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UPnet is the only website that provides easy access to national, regional, and state-level statistics -- and it provides more detailed information than ever before available on-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HCUPnet, if you wanted this kind of inform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have to buy the dat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y statistical software (often over $1000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how to use the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still not be sure you are doing it right and getting the right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ith HCUPnet, the information is right there at your fingert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call HCUPnet the "great equalizer" -- information that formerly required a fair amount of statistical expertise is now available on-line to anyone who can use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use most websites, you should be able to use HCUP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despite this open access, HCUPnet still protects patient confidentiality.  The actual patient data don't actually reside on the server 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HCUPnet uses aggregated statistics -- It's based on the concept of data ware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 a side benefit of this feature is that it really speeds up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uld take 45 seconds or a minute, if you were running the data "live" takes a few seconds with HCUP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UPnet is an on-line step-by-step query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provides access to basic descriptive statistics about hospital care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can use HCUPnet free of charge -- it's available through AHRQ's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UPnet has been available for about 2 years -- it started off as a simple query system with just one data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sponse to user comments and requests, we've gone through several major enhanc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ctively solicit user comments -- provide an email  link right on the 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066680" y="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04560" y="35812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UPnet is being used in a lot of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versity professor is using HCUPnet to teach his students how to think about research -- how to frame research questions to get what they want out of a data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poke with a woman whose child is severely brain damaged because of high levels of bilirubin after birth.  She is now spearheading a national campaign to start screening all infants routinely for bilirubin -- she called our Agency to get some statistics on how many babies this might affect -- I showed her how to get the information she wanted right out of HCUP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ime you want information on hospital stays in the U.S. -- it's likely that HCUPnet can help you or at least get you sta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HCUPnet to look at questions lik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What are the most costly conditions treated in U.S. hospitals? -- HCUPnet will rank order these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Let's say you have some information from your own state that you'd like to compare to some benchmarks -- HCUPnet can give you national or regional averag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Can also let you compare your state to another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UPnet is completely voluntary -- 10 states in the HCUP partnership have agreed to put their data on HCUPnet -- but you might find a state that is a reasonable compari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CUPnet lets you look at specific types of hospitals and specific types of patients -- I think an example would illustrate this b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HCUPnet home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base selection page gives you an overview of all the databases available in HCUP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tables -- provides you the kind of information we used to provide in hardcopy publications -- most frequently asked-for types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tatistics -- allows you to access data from our Nationwide Inpatient Sample, or NIS -- a sample of 7 million discharge records, weighted to give you national est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 stays for children only -- gives you access to a special database recently created for looking at children's hospitalizations -- the only database of its kind -- it contains nearly 2 million hospital stays for children, again weighted to give you national est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-- gives you trend information from 1993 - 1997 from the 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statistics -- gives you detailed statistics from 10 states who have agreed to participate.  For other states with comparable websites, we've provided links directly to their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let's go through one simple query using na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thing you're asked to do is to decide whether you want information on all hospital stays, or whether you want info on diagnoses or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we're going to choose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you're asked if you want to rank order those procedures or if you want to choose specific ones -- we're going to choose a specific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say we want information on heart valve procedures -- so we choose procedures on the cardiovascu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we choose heart valve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8D8-B538-4AE1-94CA-8FED1017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C32-0033-4F40-B88B-C4D28E0F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D85-ED8C-42AC-8682-C14A2AA1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BBC-BACA-4288-80FF-B9EF5701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CF6-99C1-46EA-A074-153CA194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E3D-D69E-4C73-B1C6-0F42FB74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2D8-342E-4437-835D-415EA316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587-3580-42F2-9411-0B45B529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FB6-6AAF-47FD-B62B-15AB96C7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CFA-AB25-4D21-AFFF-15DE01DC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164-7FE3-401C-AD60-B73480D9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86A-3423-4209-96DE-FF38C83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0D56-5A96-4AB0-86C7-B0A708176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CUPne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Access to Hospital Statistics On-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e Elixhauser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6172200"/>
            <a:ext cx="533520" cy="333360"/>
          </a:xfrm>
          <a:prstGeom prst="leftArrow">
            <a:avLst>
              <a:gd name="adj1" fmla="val 50000"/>
              <a:gd name="adj2" fmla="val 400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o access HCUPne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hcpr.gov/data/hcup/hcupnet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up@ahrq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HCUP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, regional, and state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geted to the non-resear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s patient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HCUP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line, step-by-step quer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 to statistics about hospital care in the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-friendly and free to al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ular updates and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is HCUPnet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most costly condi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national/regional aver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es my state comp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outcomes for specific types of hospitals? Pati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16:08:02Z</dcterms:created>
  <dc:creator>Anne Elixhauser</dc:creator>
  <dc:description/>
  <dc:language>en-US</dc:language>
  <cp:lastModifiedBy>Ellen Stein</cp:lastModifiedBy>
  <cp:lastPrinted>2001-07-23T18:40:49Z</cp:lastPrinted>
  <dcterms:modified xsi:type="dcterms:W3CDTF">2001-07-24T12:06:48Z</dcterms:modified>
  <cp:revision>4</cp:revision>
  <dc:subject/>
  <dc:title>HCUPnet</dc:title>
</cp:coreProperties>
</file>