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783756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7000" y="3544560"/>
            <a:ext cx="783756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0316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7000" y="354456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03160" y="354456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37320" y="127008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87280" y="127008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7000" y="354456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37320" y="354456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87280" y="354456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7000" y="1270080"/>
            <a:ext cx="7837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783756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382464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03160" y="1270080"/>
            <a:ext cx="382464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253800"/>
            <a:ext cx="91440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03160" y="1270080"/>
            <a:ext cx="382464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7000" y="354456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382464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0316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03160" y="354456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0316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7000" y="3544560"/>
            <a:ext cx="783756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270080"/>
            <a:ext cx="783756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81000"/>
          </a:bodyPr>
          <a:p>
            <a:pPr indent="0">
              <a:spcBef>
                <a:spcPts val="3251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41000" indent="-176400">
              <a:spcBef>
                <a:spcPts val="3251"/>
              </a:spcBef>
              <a:buClr>
                <a:srgbClr val="fafd00"/>
              </a:buClr>
              <a:buFont typeface="Symbol" charset="2"/>
              <a:buChar char="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82000" indent="-176040">
              <a:spcBef>
                <a:spcPts val="3251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21560" indent="-176040">
              <a:spcBef>
                <a:spcPts val="32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762920" indent="-176040">
              <a:spcBef>
                <a:spcPts val="3251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762920" indent="-176040">
              <a:spcBef>
                <a:spcPts val="3251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762920" indent="-176040">
              <a:spcBef>
                <a:spcPts val="3251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4600" y="6640560"/>
            <a:ext cx="120384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4120" bIns="24120" anchor="t">
            <a:spAutoFit/>
          </a:bodyPr>
          <a:p>
            <a:pPr algn="r">
              <a:lnSpc>
                <a:spcPct val="104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800" spc="-1" strike="noStrike">
                <a:solidFill>
                  <a:srgbClr val="00b7a5"/>
                </a:solidFill>
                <a:latin typeface="Arial"/>
              </a:rPr>
              <a:t>A3102-</a:t>
            </a:r>
            <a:fld id="{74BD574D-0E18-44A8-95F0-291D79E374DF}" type="slidenum">
              <a:rPr b="1" lang="en-US" sz="800" spc="-1" strike="noStrike">
                <a:solidFill>
                  <a:srgbClr val="00b7a5"/>
                </a:solidFill>
                <a:latin typeface="Arial"/>
              </a:rPr>
              <a:t>&lt;number&gt;</a:t>
            </a:fld>
            <a:r>
              <a:rPr b="1" lang="en-US" sz="800" spc="-1" strike="noStrike">
                <a:solidFill>
                  <a:srgbClr val="00b7a5"/>
                </a:solidFill>
                <a:latin typeface="Arial"/>
              </a:rPr>
              <a:t>  5/0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8440" y="1153800"/>
            <a:ext cx="7604280" cy="4156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 anchorCtr="1">
            <a:noAutofit/>
          </a:bodyPr>
          <a:p>
            <a:pPr indent="0" algn="ctr">
              <a:spcBef>
                <a:spcPts val="4876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900" spc="-1" strike="noStrike">
                <a:solidFill>
                  <a:srgbClr val="fafd00"/>
                </a:solidFill>
                <a:latin typeface="Arial"/>
              </a:rPr>
              <a:t>Evaluation of English and Spanish </a:t>
            </a:r>
            <a:br>
              <a:rPr sz="3900"/>
            </a:br>
            <a:r>
              <a:rPr b="1" i="1" lang="en-US" sz="3900" spc="-1" strike="noStrike">
                <a:solidFill>
                  <a:srgbClr val="fafd00"/>
                </a:solidFill>
                <a:latin typeface="Arial"/>
              </a:rPr>
              <a:t>Health Information</a:t>
            </a:r>
            <a:br>
              <a:rPr sz="3900"/>
            </a:br>
            <a:r>
              <a:rPr b="1" i="1" lang="en-US" sz="3900" spc="-1" strike="noStrike">
                <a:solidFill>
                  <a:srgbClr val="fafd00"/>
                </a:solidFill>
                <a:latin typeface="Arial"/>
              </a:rPr>
              <a:t>on the Internet</a:t>
            </a:r>
            <a:br>
              <a:rPr sz="3900"/>
            </a:br>
            <a:br>
              <a:rPr sz="39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Gretchen Berland, M.D.</a:t>
            </a:r>
            <a:br>
              <a:rPr sz="3200"/>
            </a:b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The RAND Corporation </a:t>
            </a:r>
            <a:endParaRPr b="1" i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492440" y="5081760"/>
            <a:ext cx="178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Finding and Evaluating Health Information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on Web Sites</a:t>
            </a:r>
            <a:br>
              <a:rPr sz="3200"/>
            </a:b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3680" y="1294920"/>
            <a:ext cx="8587080" cy="507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0">
              <a:spcBef>
                <a:spcPts val="3251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wo searchers visited each selected Web site looking for information related to the consumer-oriented ques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ults from the searches were saved and assembled into notebook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veloped a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tandardized rating form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for each of the four medical condi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cruited 34 physicians to rate information for both coverage and accura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spcBef>
                <a:spcPts val="2500"/>
              </a:spcBef>
              <a:buNone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spcBef>
                <a:spcPts val="3251"/>
              </a:spcBef>
              <a:buNone/>
              <a:tabLst>
                <a:tab algn="l" pos="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273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xamples of Rating Coverage: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Breast Cancer Screening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5320" y="1182600"/>
            <a:ext cx="852156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1000"/>
          </a:bodyPr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o covera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13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 mention of mammograph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inimal covera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13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ntions mammography as a way to identify breast cancer ear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2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es not mention who, how often, or wh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2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es not discuss pros and cons of mammograph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ore than minimal covera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13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ntions who, how often, or wh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2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scusses pros and cons of mammograph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verage of 4 Conditions on English Site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6360" y="1263600"/>
          <a:ext cx="853596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63600"/>
                    <a:ext cx="85359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verage of 4 Conditions on Spanish Site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7800" y="1263600"/>
          <a:ext cx="8453520" cy="519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263600"/>
                    <a:ext cx="845352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2044800"/>
            <a:ext cx="872496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are consumers likely to find when they search online?  How easy is it to find relevant information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comprehensive and accurate is the information on selected e-health Web site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the level of literacy required to understand the information provided by these site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760" y="4927680"/>
            <a:ext cx="8508960" cy="119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2600" y="2052720"/>
            <a:ext cx="80452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nducted a Three-Part Study to Evaluate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nglish and Spanish Health Information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on the Internet  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67284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Approach to Measuring Reading Levels 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3200" y="186696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sed widely accepted readability formul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asured grade levels as a function of sentence and word complexity in a sample of 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plied formulas to randomly selected passages of text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6172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Health Information Not Accessible to Many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1425600" y="1511280"/>
          <a:ext cx="7469280" cy="49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5600" y="1511280"/>
                    <a:ext cx="7469280" cy="49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43320" y="1166760"/>
            <a:ext cx="3188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nglish Language Sit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10560" y="1166760"/>
            <a:ext cx="326160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panish Language Sit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776680" y="1539720"/>
            <a:ext cx="7468920" cy="4957920"/>
            <a:chOff x="2776680" y="1539720"/>
            <a:chExt cx="7468920" cy="4957920"/>
          </a:xfrm>
        </p:grpSpPr>
        <p:graphicFrame>
          <p:nvGraphicFramePr>
            <p:cNvPr id="143" name=""/>
            <p:cNvGraphicFramePr/>
            <p:nvPr/>
          </p:nvGraphicFramePr>
          <p:xfrm>
            <a:off x="2776680" y="1539720"/>
            <a:ext cx="7468920" cy="495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76680" y="1539720"/>
                      <a:ext cx="7468920" cy="49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 flipV="1">
              <a:off x="6527880" y="3344400"/>
              <a:ext cx="787320" cy="65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640" y="1523880"/>
            <a:ext cx="841356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lvl="1" marL="528120" indent="-21096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oice of search engine matt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8120" indent="-21096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verall coverage varies by language and conditio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8120" indent="-21096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panish-language availability and quality are low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8120" indent="-21096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n if one finds information, not everyone can read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235560" y="3265560"/>
            <a:ext cx="939960" cy="1130400"/>
          </a:xfrm>
          <a:custGeom>
            <a:avLst/>
            <a:gdLst>
              <a:gd name="textAreaLeft" fmla="*/ 146880 w 939960"/>
              <a:gd name="textAreaRight" fmla="*/ 822600 w 93996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471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Next Step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55920" y="2909880"/>
            <a:ext cx="2210040" cy="182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0211600">
            <a:off x="939960" y="2831760"/>
            <a:ext cx="1066680" cy="4572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046600">
            <a:off x="952560" y="1828800"/>
            <a:ext cx="1066680" cy="4572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0211600">
            <a:off x="927000" y="5460480"/>
            <a:ext cx="1067040" cy="45720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46600">
            <a:off x="952560" y="4470480"/>
            <a:ext cx="1066680" cy="4572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332240" y="3138480"/>
            <a:ext cx="2057400" cy="1536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rot="20211600">
            <a:off x="3176640" y="4254120"/>
            <a:ext cx="1066680" cy="4572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046600">
            <a:off x="3230640" y="3097080"/>
            <a:ext cx="1066680" cy="4572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15120" y="2949480"/>
            <a:ext cx="1797120" cy="17971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36600" y="1523880"/>
          <a:ext cx="904680" cy="91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6600" y="1523880"/>
                    <a:ext cx="9046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6600" y="2832120"/>
          <a:ext cx="904680" cy="91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600" y="2832120"/>
                    <a:ext cx="9046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36600" y="4089240"/>
          <a:ext cx="904680" cy="91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6600" y="4089240"/>
                    <a:ext cx="9046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36600" y="5384880"/>
          <a:ext cx="904680" cy="91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6600" y="5384880"/>
                    <a:ext cx="9046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968480" y="4013280"/>
            <a:ext cx="1549440" cy="236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2359080" y="4095720"/>
            <a:ext cx="858960" cy="2208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272360" y="3344760"/>
            <a:ext cx="173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68480" y="1206360"/>
            <a:ext cx="1549440" cy="2362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1981080" y="1355760"/>
            <a:ext cx="15271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Limitations of Web Site Evaluation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920" y="1434960"/>
            <a:ext cx="783720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views based on content found between October-November 2000; content may have changed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views based on the materials that were found by searchers in 90 minutes; materials not found in this time were not evaluat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0760" y="2070000"/>
            <a:ext cx="600876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2600" y="7632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Number of Persons Seeking Health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Information on the Internet Has Nearly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Doubled in the Last 3 Year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17880" y="2076480"/>
            <a:ext cx="123120" cy="3497400"/>
            <a:chOff x="2117880" y="2076480"/>
            <a:chExt cx="123120" cy="3497400"/>
          </a:xfrm>
        </p:grpSpPr>
        <p:sp>
          <p:nvSpPr>
            <p:cNvPr id="44" name=""/>
            <p:cNvSpPr/>
            <p:nvPr/>
          </p:nvSpPr>
          <p:spPr>
            <a:xfrm>
              <a:off x="2117880" y="5572080"/>
              <a:ext cx="123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17880" y="5175360"/>
              <a:ext cx="123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17880" y="4794480"/>
              <a:ext cx="123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17880" y="4397400"/>
              <a:ext cx="123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17880" y="4014720"/>
              <a:ext cx="123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17880" y="3633840"/>
              <a:ext cx="123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7880" y="3237120"/>
              <a:ext cx="123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17880" y="2855880"/>
              <a:ext cx="123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17880" y="2459160"/>
              <a:ext cx="123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17880" y="2076480"/>
              <a:ext cx="123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 flipV="1">
            <a:off x="4105440" y="5851080"/>
            <a:ext cx="1440" cy="7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103800" y="5851080"/>
            <a:ext cx="1800" cy="7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4200" y="2138400"/>
            <a:ext cx="4014720" cy="1709640"/>
          </a:xfrm>
          <a:custGeom>
            <a:avLst/>
            <a:gdLst/>
            <a:ahLst/>
            <a:rect l="l" t="t" r="r" b="b"/>
            <a:pathLst>
              <a:path w="2529" h="1077">
                <a:moveTo>
                  <a:pt x="0" y="1077"/>
                </a:moveTo>
                <a:lnTo>
                  <a:pt x="1270" y="711"/>
                </a:lnTo>
                <a:lnTo>
                  <a:pt x="2529" y="0"/>
                </a:lnTo>
              </a:path>
            </a:pathLst>
          </a:custGeom>
          <a:noFill/>
          <a:ln w="572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3801960"/>
            <a:ext cx="122040" cy="122400"/>
          </a:xfrm>
          <a:prstGeom prst="ellipse">
            <a:avLst/>
          </a:prstGeom>
          <a:solidFill>
            <a:srgbClr val="fafd00"/>
          </a:solidFill>
          <a:ln w="22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64120" y="3220920"/>
            <a:ext cx="122400" cy="122400"/>
          </a:xfrm>
          <a:prstGeom prst="ellipse">
            <a:avLst/>
          </a:prstGeom>
          <a:solidFill>
            <a:srgbClr val="fafd00"/>
          </a:solidFill>
          <a:ln w="22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62840" y="2092320"/>
            <a:ext cx="122040" cy="122400"/>
          </a:xfrm>
          <a:prstGeom prst="ellipse">
            <a:avLst/>
          </a:prstGeom>
          <a:solidFill>
            <a:srgbClr val="fafd00"/>
          </a:solidFill>
          <a:ln w="22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8880" y="39211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68240" y="31510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68400" y="2022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88480" y="58230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34400" y="5440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34400" y="50436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34400" y="4662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34400" y="42656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34400" y="38847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34400" y="35020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4400" y="31050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34400" y="27241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34400" y="23274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81760" y="194616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54200" y="602784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ly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24120" y="6027840"/>
            <a:ext cx="123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71640" y="602784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ch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1200" y="3733920"/>
            <a:ext cx="14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0760" y="2070000"/>
            <a:ext cx="6019920" cy="3886200"/>
          </a:xfrm>
          <a:custGeom>
            <a:avLst/>
            <a:gdLst/>
            <a:ahLst/>
            <a:rect l="l" t="t" r="r" b="b"/>
            <a:pathLst>
              <a:path w="3792" h="2448">
                <a:moveTo>
                  <a:pt x="0" y="0"/>
                </a:moveTo>
                <a:lnTo>
                  <a:pt x="0" y="2448"/>
                </a:lnTo>
                <a:lnTo>
                  <a:pt x="3792" y="2448"/>
                </a:ln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123400" y="5851080"/>
            <a:ext cx="1440" cy="7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Health Information on the Internet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280" y="1273320"/>
            <a:ext cx="852156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lnSpc>
                <a:spcPct val="90000"/>
              </a:lnSpc>
              <a:spcBef>
                <a:spcPts val="2200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h expect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-217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Symbol" charset="2"/>
              <a:buChar char=""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s will have ready access to accurate health inform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-217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Symbol" charset="2"/>
              <a:buChar char=""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ess will motivate consumers to participate more actively in their ca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lnSpc>
                <a:spcPct val="90000"/>
              </a:lnSpc>
              <a:spcBef>
                <a:spcPts val="2200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gnificant concer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-217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Symbol" charset="2"/>
              <a:buChar char=""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ation may be incomplete, inaccurate and mislead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lnSpc>
                <a:spcPct val="90000"/>
              </a:lnSpc>
              <a:spcBef>
                <a:spcPts val="2200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t little is known about the accessibility, quality and reading level of that inform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2600" y="1976400"/>
            <a:ext cx="8045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040" y="275760"/>
            <a:ext cx="8545680" cy="2475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nducted a Three-Part Study to Evaluate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nglish and Spanish Health Information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on the Internet  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920" y="2184480"/>
            <a:ext cx="885168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are consumers likely to find when they search for specific health topics online?  How easy is it to find relevant information?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comprehensive, accurate and current is the information on selected e-health Web site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the level of literacy required to understand the information provided by these site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Overview of Approach for Studying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Search Engine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2960" y="1641240"/>
            <a:ext cx="8771040" cy="335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88000"/>
          </a:bodyPr>
          <a:p>
            <a:pPr lvl="1" marL="479160" indent="-191520">
              <a:lnSpc>
                <a:spcPct val="90000"/>
              </a:lnSpc>
              <a:spcBef>
                <a:spcPts val="2200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ditions studied: breast cancer, childhood asthma, depression, obe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9160" indent="-191520">
              <a:lnSpc>
                <a:spcPct val="90000"/>
              </a:lnSpc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lected search engin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8320" indent="-19116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Symbol" charset="2"/>
              <a:buChar char=""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 English-languag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8320" indent="-19116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Symbol" charset="2"/>
              <a:buChar char=""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 Spanish-languag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9160" indent="-191520">
              <a:lnSpc>
                <a:spcPct val="90000"/>
              </a:lnSpc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ducted standardized searches using simple search ter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9160" indent="-191520">
              <a:lnSpc>
                <a:spcPct val="90000"/>
              </a:lnSpc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tegorized the results of these search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4596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Few Searches Lead to Relevant Information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8840" y="3597120"/>
            <a:ext cx="1749240" cy="85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9760" rIns="59760" tIns="29880" bIns="298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ered 4 simpl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arch term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2160" y="3917880"/>
            <a:ext cx="1220760" cy="30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lin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6880" y="3276720"/>
            <a:ext cx="1008000" cy="54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lev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28960" y="4805280"/>
            <a:ext cx="1073160" cy="54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relev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4057560"/>
            <a:ext cx="417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9760" rIns="59760" tIns="-29880" bIns="-29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2800" y="4264200"/>
            <a:ext cx="517320" cy="52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308400" y="3579480"/>
            <a:ext cx="517320" cy="31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92320" y="3495600"/>
            <a:ext cx="5828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4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5120" y="4408560"/>
            <a:ext cx="581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862520" y="1235160"/>
            <a:ext cx="3970440" cy="3854160"/>
            <a:chOff x="4862520" y="1235160"/>
            <a:chExt cx="3970440" cy="3854160"/>
          </a:xfrm>
        </p:grpSpPr>
        <p:sp>
          <p:nvSpPr>
            <p:cNvPr id="98" name=""/>
            <p:cNvSpPr/>
            <p:nvPr/>
          </p:nvSpPr>
          <p:spPr>
            <a:xfrm>
              <a:off x="7120080" y="2967120"/>
              <a:ext cx="5839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1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3151080"/>
              <a:ext cx="1062000" cy="79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lec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evan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k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12040" y="2208240"/>
              <a:ext cx="931680" cy="54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24640" y="4299120"/>
              <a:ext cx="933480" cy="79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81760" y="1235160"/>
              <a:ext cx="1009800" cy="79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61240" y="3149640"/>
              <a:ext cx="1071720" cy="79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rrelev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62520" y="3567240"/>
              <a:ext cx="38592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354720" y="2768400"/>
              <a:ext cx="160560" cy="36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40320" y="3936960"/>
              <a:ext cx="17316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97520" y="2781360"/>
              <a:ext cx="582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4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11840" y="4219560"/>
              <a:ext cx="582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6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442280" y="2006280"/>
              <a:ext cx="3394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2280" y="2770200"/>
              <a:ext cx="311040" cy="36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51760" y="1787400"/>
              <a:ext cx="582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9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67840" y="1850760"/>
            <a:ext cx="8642520" cy="380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are consumers likely to find when they search online?  How easy is it to find relevant information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w comprehensive, accurate and current is the information on selected e-health Web sites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is the level of literacy required to understand the information provided by these sites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0">
              <a:spcBef>
                <a:spcPts val="3574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040" y="2782800"/>
            <a:ext cx="8348760" cy="104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-113040" y="42840"/>
            <a:ext cx="9256680" cy="1727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nducted a Three-Part Study to Evaluate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nglish and Spanish Health Information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on the Internet  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2600" y="1976400"/>
            <a:ext cx="8045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698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Approach Used to Evaluate Web Site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5240" y="1789200"/>
            <a:ext cx="852156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vened panels of patient advocates and clinical experts for each condi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ed 5-7 key “need-to-know” topics and “consumer-oriented” ques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ed standardized answers to questions based on literature review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0">
              <a:spcBef>
                <a:spcPts val="2599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7000" y="1312920"/>
            <a:ext cx="852156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6000"/>
          </a:bodyPr>
          <a:p>
            <a:pPr marL="438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 have a lump in my breast.  What should be done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 check this?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ew breast lumps should be brought to the attention of a physician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mmography and ultrasound are useful in evaluating lump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negative mammogram does not eliminate the need for further evaluation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persistent, non-fluid filled breast mass felt by a physician should be biopsied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287360"/>
            <a:ext cx="8140680" cy="84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84240"/>
            <a:ext cx="9144000" cy="210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xample of Consumer-Oriented Question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and Standardized Answer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7T16:19:15Z</dcterms:created>
  <dc:creator>Sandy Petitjean</dc:creator>
  <dc:description/>
  <dc:language>en-US</dc:language>
  <cp:lastModifiedBy>Christian Weaver</cp:lastModifiedBy>
  <cp:lastPrinted>2001-01-22T02:24:30Z</cp:lastPrinted>
  <dcterms:modified xsi:type="dcterms:W3CDTF">2001-07-27T22:19:12Z</dcterms:modified>
  <cp:revision>178</cp:revision>
  <dc:subject/>
  <dc:title>COLOR GUIDE</dc:title>
</cp:coreProperties>
</file>