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D328-D9CF-480F-9E95-EF9902CA6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A82B-AFE6-4CC5-8829-6320F4CEF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1840" y="69048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apping strategic goals/plan to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212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44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12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9012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776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212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4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212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4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212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9012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776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212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44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248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6248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ate of Maine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Long-term Care Refor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99840" y="33523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esented by Mollie Baldwi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ureau of Elder and Adult Servi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July 26, 200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5334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tal Expenditures: $284,715,15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5334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tal Expenditures: $309,655,67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Long-term Care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State and Medicaid Spending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752480"/>
          <a:ext cx="4572000" cy="33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457200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495680" y="1752480"/>
          <a:ext cx="4648320" cy="3353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752480"/>
                    <a:ext cx="464832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ONSUMER BENEFIT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Consumers find single entry point simplifies application proces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Consumers receive eligibility decision on the spot &amp; home and community based options at time of assessment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Improved consumer interaction with nurse assessors freed up from paper burden 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Assessment outcome data transmitted electronically to improve access and expedite services care getting started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Financial resources have been diverted to home care program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History</a:t>
            </a: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udgetary crisis forces Legislature and policy makers to examine state’s long-term care syste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partment must commit savings toward state budge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edical &amp; financial eligibility took up to 90 day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sumers and Advocates Wa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ong term care choices/op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elp in navigating complex eligibility system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ewer barriers in eligibility process and accessing servic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LONG-TERM CARE REFOR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Governor’s initiative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improve access to information about long-term care option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Free assessment available to give consumers LTC advic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improve home and community based car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better allocate resources across care setting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improve consumer’s understanding of their option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reduce reliance on costly institutional car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BLUEPRINT for REFOR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niversal preadmission screening regardless of funding sour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egislatively mandated pre-admission screening for nursing home placemen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creening must include recommended community based care plan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ngle entry point for eligibility determin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ase of access for consum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ces collaboration between agencies &amp; provider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Systems Challenge</a:t>
            </a: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o quickly determine medical and financial eligibility for long-term care services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o communicate between different parts of system and link information to work efficiently and effectively for the consum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tate bureau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gencies, provid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sumers, families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evelopment of Technology Solut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evelop user friendly, expandable and portable system with the following feature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alculate eligibility based on medical &amp; financial information provided to assessor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Portable- may be moved to a different agent who serves as single entry poin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Track referrals, assessments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Interfaces with medical &amp; financial legacy information systems via daily feed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aily feeds with statewide home care coordination agenc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Assessors use untethered laptop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inancial Information Tab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8" name="fineligMB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5656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ATA BENEFIT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Linked data across care settings improves policy decisions and resource allocations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Data shows system serving people in different settings with same characteristics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Data allows development of acuity based reimbursement systems as mandated by the Legislature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velopment of quality indicators for home care programs now underwa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ATE BENEFITS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Maine’s LTC system has changed and grown rapidly between 1995 and 2000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total persons served has increased from 19,803 to 26,767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52%</a:t>
            </a: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 of consumer receive home care in FY 2000 compared to 32% in 1995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Significant new funding appropriated for home care &amp; residential alternatives 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spending for home and community care, </a:t>
            </a:r>
            <a:r>
              <a:rPr b="0" i="1" lang="en-US" sz="2700" spc="-1" strike="noStrike">
                <a:solidFill>
                  <a:srgbClr val="000066"/>
                </a:solidFill>
                <a:latin typeface="Times New Roman"/>
              </a:rPr>
              <a:t>up </a:t>
            </a: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from 16% to 35% 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Responsiveness, accountability for providers delivering services to consumer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8:54:11Z</dcterms:created>
  <dc:creator>Mollie Baldwin</dc:creator>
  <dc:description/>
  <dc:language>en-US</dc:language>
  <cp:lastModifiedBy>Ellen Stein</cp:lastModifiedBy>
  <cp:lastPrinted>2001-07-18T20:01:37Z</cp:lastPrinted>
  <dcterms:modified xsi:type="dcterms:W3CDTF">2001-07-23T18:45:28Z</dcterms:modified>
  <cp:revision>19</cp:revision>
  <dc:subject/>
  <dc:title>LONG TERM CARE REFORM</dc:title>
</cp:coreProperties>
</file>