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5E6-4797-4050-9D00-1E28AF04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9FA-F23D-4AC3-9E4E-F18ACDB2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4D0-8C33-4603-9979-8B337ED0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A00-29DE-45BA-A71B-77A96311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A44-1FC6-4B1E-9044-2F3515EB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F02-9A4F-477B-A125-A6F318FE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DAB-E556-4372-AE6A-510D10C9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DEF-2AA0-4FAD-850E-F684937E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2BB-1B29-4408-A2D4-2A18F862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669-2CAB-45C0-B8D6-A09BD781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B90-B881-4093-A53B-B4CF9ADD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E06-0353-4A93-A0B3-28C51687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5E99-CE1A-4520-84A8-8E350E73E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-assisted Informatics Tele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te Bailey, M.P.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ok at the S.C. Provider Compariso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ugust 1, 200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CORS09" descr=""/>
          <p:cNvPicPr/>
          <p:nvPr/>
        </p:nvPicPr>
        <p:blipFill>
          <a:blip r:embed="rId1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SCORS10" descr=""/>
          <p:cNvPicPr/>
          <p:nvPr/>
        </p:nvPicPr>
        <p:blipFill>
          <a:blip r:embed="rId2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SCORS11" descr=""/>
          <p:cNvPicPr/>
          <p:nvPr/>
        </p:nvPicPr>
        <p:blipFill>
          <a:blip r:embed="rId1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SCORS12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CORS13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SCORS14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ORS01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CORS02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CORS03" descr=""/>
          <p:cNvPicPr/>
          <p:nvPr/>
        </p:nvPicPr>
        <p:blipFill>
          <a:blip r:embed="rId1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CORS04" descr=""/>
          <p:cNvPicPr/>
          <p:nvPr/>
        </p:nvPicPr>
        <p:blipFill>
          <a:blip r:embed="rId1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CORS05" descr=""/>
          <p:cNvPicPr/>
          <p:nvPr/>
        </p:nvPicPr>
        <p:blipFill>
          <a:blip r:embed="rId1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CORS06" descr=""/>
          <p:cNvPicPr/>
          <p:nvPr/>
        </p:nvPicPr>
        <p:blipFill>
          <a:blip r:embed="rId1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CORS07" descr=""/>
          <p:cNvPicPr/>
          <p:nvPr/>
        </p:nvPicPr>
        <p:blipFill>
          <a:blip r:embed="rId1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CORS08" descr=""/>
          <p:cNvPicPr/>
          <p:nvPr/>
        </p:nvPicPr>
        <p:blipFill>
          <a:blip r:embed="rId1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8:49:34Z</dcterms:created>
  <dc:creator>Ellen Stein</dc:creator>
  <dc:description/>
  <dc:language>en-US</dc:language>
  <cp:lastModifiedBy>Ellen Stein</cp:lastModifiedBy>
  <cp:lastPrinted>2001-07-20T19:33:51Z</cp:lastPrinted>
  <dcterms:modified xsi:type="dcterms:W3CDTF">2001-07-20T19:37:23Z</dcterms:modified>
  <cp:revision>2</cp:revision>
  <dc:subject/>
  <dc:title>August 1, 2001</dc:title>
</cp:coreProperties>
</file>