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049-B060-4F44-810C-E694D9E9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AED-3A59-4115-8147-EF619DE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16C-C20C-472E-BC96-A7372A5E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8BF-44B5-4DC9-9D5B-F89561FC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A1C7-D4A5-4C7F-B562-266B6E91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FA0-1023-467E-9890-A3C4C51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A9AF-DFB5-4BD7-9448-B9F7E8C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DAFF-A87D-4E31-82A9-4498C99C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1995-27C5-4BED-ADF9-7BD43199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1E5-67CA-4AC5-B278-33A1A28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27A7-3FB8-41F5-8F88-EFF7E9C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03D-46CA-47C0-82F6-D24E33B8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EECA-9498-41F5-B7AB-A6694E7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07DD-F5B8-4079-B657-1FC5C2C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772D-1FB3-44A2-8D99-BF0CF7B5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975E-4530-4BB4-939E-63203D7C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E31-EFDB-4696-82D1-272ABF0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C65-631D-4047-8C47-70B5A8D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9B8-F9AD-4B4E-9794-1FDB851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3CD-E2E9-4C3D-A2D2-19553D5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781-26B5-4F4E-B74D-1D5552E4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4C5-CEC5-4DDB-9DC9-CEB856C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A13-4DC5-47C5-9C7D-1EB0E31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BCB-AD40-4B50-B768-D2496C7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5A4F-BBAF-4068-AD0D-2A3283F53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060-096F-490E-94C7-312BEBD0C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18584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cs And The New Healthcare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862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Technology Will Provide the Platform for Quality Improvement in Healthcare for the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80400" y="499572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uce Bag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653080"/>
            <a:ext cx="21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ly 25,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R Functional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-office mess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cription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 result rep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al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-bill/co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R Functional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ice visit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ing note (visit agen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tal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 inte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r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ry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’s 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tated, voice recognition, pick lists, key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nus EMR Fun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 sheets and grap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lts and imaging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 photograp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Role of The Internet in the Future Practice of Medic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 access to providers: email to your primary care phys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s using the Internet to learn about their own symptoms o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s accessing the latest evidenced based information related to diagnosis an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based EMRs and data wareh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going patient education and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The EMR To Document Performance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al data base allows data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ease registries already in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specif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s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 test of compe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uto0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0352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ossing The Chasm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itute of Medicine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24382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 should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600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ossing The Quality Chas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ck Of Bir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NGB0910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OM’s Ten Princip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continuous 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ized to patients needs and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resides wit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ing knowledge with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decisions should be evidence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OM’s Ten Princip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e system should be 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lth system should be trans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should anticipate patien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should not waste resources or patient’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on to ensure exchange of information and coordination of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cs in Medicine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gration of Computer Technology and Support Into Every Aspect of the Art, Science and Business of Medicin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imary Care Business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dom has business plan or future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ntribution to capital reser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margin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a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motivation to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s try to provide management while maintaining full clinical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oes the New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Environment Look Lik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cons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conn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actices known by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ients will become informed purcha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, quality and accountability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 Simply Will Not Be Able To Provide High Quality Cost Effective Care Without Information Technology Support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Technology Support for Clinicians Should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system consistency and 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re precision in medication prescribing and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escribing meds for allergic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rt clinicians to potential drug inte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ly transfer Rx information to pharm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appropriate patient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riers To Acceptance of Redesign Ide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physicians are currently overwhel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takes new or reallocation of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rather than short return on investment (RO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 will require significant “culture change” within the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information technology (IT) support often not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rriers to Acceptance of Information Tech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organization and systems thinking in the current practice of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of reduced productivity in a narrow margin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pparent financial incentive to 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cial barriers- no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ectronic Medical Records (EMR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o office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errors and mis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population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e protocols and remi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just in tim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decision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the potential to test compet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actice Management Soft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ing and bi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management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laims sub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63880" y="6432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0:25:18Z</dcterms:created>
  <dc:creator>Bruce Bagley</dc:creator>
  <dc:description/>
  <dc:language>en-US</dc:language>
  <cp:lastModifiedBy>Ellen Stein</cp:lastModifiedBy>
  <cp:lastPrinted>2001-07-20T17:24:39Z</cp:lastPrinted>
  <dcterms:modified xsi:type="dcterms:W3CDTF">2001-07-20T17:25:08Z</dcterms:modified>
  <cp:revision>13</cp:revision>
  <dc:subject/>
  <dc:title>PowerPoint Presentation</dc:title>
</cp:coreProperties>
</file>