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423C-F04B-43DE-93B9-2E63D7C25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6F35-7466-458C-8586-38479E8F9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2BBB-64B3-463D-AC37-94E409E71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57A6-73D6-405F-9CC4-BA27CF962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682F0-CC5D-4B07-8951-9DC5FBFD4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18D4E-B014-48A6-8427-E1F3F97A7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D1C03-93AC-45EE-A228-95C1EA54D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2894D-9392-4B62-9176-8CC402187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0C617-7A1F-4B1A-A770-A2BD536EC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F233D-397D-4EEE-B1B9-9FF2CE29D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F43C3-8D20-46FA-A143-4435D2CE4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E963-5B1A-43B3-A63B-AF540893B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32517-EC1C-477D-BDEC-2DC3EB1AA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0173C-A1FD-4D5B-AF19-72EB41AA0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446A8-6F30-4B09-8CBD-3CE986A1E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89578-0613-43F3-B9F6-CBF1D1E32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B2D22-23C8-42EE-BF34-B6206F6D1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0265-59B6-4645-B6D7-BD5D85ABD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BBDA-E87E-4B21-B8CB-838F7F8E0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1D20-29E3-47D9-85D1-9B8E4B973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614F-F3C4-471E-B7D6-828675E9B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0EDC-F721-42EC-AA58-026276C1C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7F0F-ECBC-4673-8061-F4571B7A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E7CD-69DD-4919-9B50-4C9D01B2C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B7E6B-ED85-4242-B5AF-5B8AD49F01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4B271-8C58-4BB0-9883-98EA665C19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185840"/>
            <a:ext cx="64771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formatics And The New Healthcare Syste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295280" y="286236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ormation Technology Will Provide the Platform for Quality Improvement in Healthcare for the 2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entu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380400" y="4995720"/>
            <a:ext cx="24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uce Bagl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29000" y="5653080"/>
            <a:ext cx="210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uly 25, 200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MR Functionaliti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a-office messag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scription wri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der en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b result repor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erral gene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er-bill/co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MR Functionaliti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ffice visit en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ursing note (visit agend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tal sig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dication l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rug intera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rg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mulary compli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ysician’s no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ctated, voice recognition, pick lists, keybo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onus EMR Funct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ogra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ow sheets and graph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ults and imaging repor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tient photograph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 Role of The Internet in the Future Practice of Medic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tient access to providers: email to your primary care physici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tients using the Internet to learn about their own symptoms or dise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ysicians accessing the latest evidenced based information related to diagnosis and treat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unity based EMRs and data warehous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going patient education and monito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Using The EMR To Document Performance Measur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ational data base allows data extr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ease registries already in the sys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ysician specific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tcomes meas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nical resear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ue test of compet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auto0" descr=""/>
          <p:cNvPicPr/>
          <p:nvPr/>
        </p:nvPicPr>
        <p:blipFill>
          <a:blip r:embed="rId1"/>
          <a:stretch/>
        </p:blipFill>
        <p:spPr>
          <a:xfrm>
            <a:off x="2971800" y="1447920"/>
            <a:ext cx="3503520" cy="52578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rossing The Chasm”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stitute of Medicine Repor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666880" y="2438280"/>
            <a:ext cx="4724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are should b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f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ffec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tient-cente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me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ffici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quit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76520" y="16002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rossing The Quality Chasm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ck Of Bird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4" name="NGB09102" descr=""/>
          <p:cNvPicPr/>
          <p:nvPr/>
        </p:nvPicPr>
        <p:blipFill>
          <a:blip r:embed="rId1"/>
          <a:stretch/>
        </p:blipFill>
        <p:spPr>
          <a:xfrm>
            <a:off x="1600200" y="167652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OM’s Ten Princip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sed on continuous relationshi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stomized to patients needs and val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ol resides with the pati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aring knowledge with the pati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nical decisions should be evidence ba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OM’s Ten Princip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are system should be saf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health system should be transpar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ystem should anticipate patient nee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ystem should not waste resources or patient’s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operation to ensure exchange of information and coordination of c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6553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formatics in Medicine”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920" y="2971800"/>
            <a:ext cx="62481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egration of Computer Technology and Support Into Every Aspect of the Art, Science and Business of Medicin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imary Care Business Mode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ldom has business plan or future strate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contribution to capital reser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rrow margin busi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isk ave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ttle motivation to chan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ysicians try to provide management while maintaining full clinical respon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at Does the New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Environment Look Like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st conscio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stomer driv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b connec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ormation ri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st practices known by 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tients will become informed purchas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fety, quality and accountability expec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e Simply Will Not Be Able To Provide High Quality Cost Effective Care Without Information Technology Support!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formation Technology Support for Clinicians Should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rove system consistency and reli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ure precision in medication prescribing and distrib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void prescribing meds for allergic pati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ert clinicians to potential drug intera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iably transfer Rx information to pharma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 appropriate patient edu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arriers To Acceptance of Redesign Idea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physicians are currently overwhelm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nge takes new or reallocation of resou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ng rather than short return on investment (ROI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ften will require significant “culture change” within the organ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quires information technology (IT) support often not avail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arriers to Acceptance of Information Technolog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ck of organization and systems thinking in the current practice of medic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ar of reduced productivity in a narrow margin busi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apparent financial incentive to chan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ancial barriers- no capit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lectronic Medical Records (EMR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d to office effici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duce errors and miscommun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ow population manag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utomate protocols and remind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ffer just in time edu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decision sup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ve the potential to test compet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actice Management Softwar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ounting and bill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hedul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actice management repor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ctronic claims submi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2063880" y="64324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5T20:25:18Z</dcterms:created>
  <dc:creator>Bruce Bagley</dc:creator>
  <dc:description/>
  <dc:language>en-US</dc:language>
  <cp:lastModifiedBy>Ellen Stein</cp:lastModifiedBy>
  <cp:lastPrinted>2001-07-20T17:24:39Z</cp:lastPrinted>
  <dcterms:modified xsi:type="dcterms:W3CDTF">2001-07-20T17:25:08Z</dcterms:modified>
  <cp:revision>13</cp:revision>
  <dc:subject/>
  <dc:title>PowerPoint Presentation</dc:title>
</cp:coreProperties>
</file>