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6080" y="415440"/>
            <a:ext cx="772164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415440"/>
            <a:ext cx="772164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520" y="6248520"/>
            <a:ext cx="254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bin Wein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bin Wein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352680" y="152280"/>
            <a:ext cx="2437560" cy="1218600"/>
            <a:chOff x="3352680" y="152280"/>
            <a:chExt cx="2437560" cy="1218600"/>
          </a:xfrm>
        </p:grpSpPr>
        <p:grpSp>
          <p:nvGrpSpPr>
            <p:cNvPr id="42" name=""/>
            <p:cNvGrpSpPr/>
            <p:nvPr/>
          </p:nvGrpSpPr>
          <p:grpSpPr>
            <a:xfrm>
              <a:off x="3367080" y="171360"/>
              <a:ext cx="2423160" cy="1199520"/>
              <a:chOff x="3367080" y="171360"/>
              <a:chExt cx="2423160" cy="1199520"/>
            </a:xfrm>
          </p:grpSpPr>
          <p:sp>
            <p:nvSpPr>
              <p:cNvPr id="43" name=""/>
              <p:cNvSpPr/>
              <p:nvPr/>
            </p:nvSpPr>
            <p:spPr>
              <a:xfrm>
                <a:off x="3599280" y="171360"/>
                <a:ext cx="1921320" cy="885240"/>
              </a:xfrm>
              <a:custGeom>
                <a:avLst/>
                <a:gdLst/>
                <a:ahLst/>
                <a:rect l="l" t="t" r="r" b="b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058640" y="783720"/>
                <a:ext cx="572760" cy="53604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41600" y="636120"/>
                <a:ext cx="667080" cy="68364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616920" y="821160"/>
                <a:ext cx="239400" cy="478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560040" y="906480"/>
                <a:ext cx="247680" cy="6696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367080" y="1222920"/>
                <a:ext cx="265320" cy="10368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618080" y="783720"/>
                <a:ext cx="535680" cy="54072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93160" y="1093680"/>
                <a:ext cx="397080" cy="27720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131800" y="746640"/>
                <a:ext cx="610200" cy="60768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3585600" y="152280"/>
              <a:ext cx="1920960" cy="88524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352680" y="617040"/>
              <a:ext cx="2423520" cy="734400"/>
              <a:chOff x="3352680" y="617040"/>
              <a:chExt cx="2423520" cy="734400"/>
            </a:xfrm>
          </p:grpSpPr>
          <p:sp>
            <p:nvSpPr>
              <p:cNvPr id="54" name=""/>
              <p:cNvSpPr/>
              <p:nvPr/>
            </p:nvSpPr>
            <p:spPr>
              <a:xfrm>
                <a:off x="4044960" y="765360"/>
                <a:ext cx="572400" cy="53496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91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6120" y="617040"/>
                <a:ext cx="667080" cy="683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91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602160" y="801720"/>
                <a:ext cx="239400" cy="4824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91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546720" y="887040"/>
                <a:ext cx="246960" cy="6768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1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352680" y="1203480"/>
                <a:ext cx="265320" cy="10404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91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03320" y="765360"/>
                <a:ext cx="535320" cy="54000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91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379120" y="1074240"/>
                <a:ext cx="397080" cy="27720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91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18480" y="729000"/>
                <a:ext cx="609120" cy="60552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91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96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04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41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972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9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9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obin%20Weinick" descr=""/>
          <p:cNvPicPr/>
          <p:nvPr/>
        </p:nvPicPr>
        <p:blipFill>
          <a:blip r:embed="rId1"/>
          <a:srcRect l="0" t="0" r="0" b="23273"/>
          <a:stretch/>
        </p:blipFill>
        <p:spPr>
          <a:xfrm>
            <a:off x="533520" y="3276720"/>
            <a:ext cx="2616120" cy="2895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mergency Department Overcrowding and Ambulance Di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429000" y="3809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bin M. Weinick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, Intramural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Primary Care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1295280"/>
          <a:ext cx="75769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75769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505320" y="2743200"/>
            <a:ext cx="0" cy="6858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Many Hospital Beds?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992-2000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5943600"/>
            <a:ext cx="94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American Hospital Association, Hospital Stat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2438280"/>
            <a:ext cx="56390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2438280"/>
            <a:ext cx="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1905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%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352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,5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39625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,1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14360"/>
            <a:ext cx="838188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2743200"/>
            <a:ext cx="0" cy="12193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2743200"/>
            <a:ext cx="365760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2666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%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600" y="114480"/>
            <a:ext cx="77216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Are Hospitals Staffed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9480" y="1752480"/>
          <a:ext cx="799308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9930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04920" y="58672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 Health Resources and Services Administration, “Projected Supply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and, and Shortages of Registered Nurses:  2000-2020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9191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%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438280"/>
            <a:ext cx="487656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24680" y="2400480"/>
            <a:ext cx="0" cy="194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9800" y="1143000"/>
            <a:ext cx="240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number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RN gradu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90720"/>
            <a:ext cx="838188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133720" y="550800"/>
            <a:ext cx="4876560" cy="4097520"/>
            <a:chOff x="2133720" y="550800"/>
            <a:chExt cx="4876560" cy="4097520"/>
          </a:xfrm>
        </p:grpSpPr>
        <p:sp>
          <p:nvSpPr>
            <p:cNvPr id="168" name=""/>
            <p:cNvSpPr/>
            <p:nvPr/>
          </p:nvSpPr>
          <p:spPr>
            <a:xfrm>
              <a:off x="2190600" y="550800"/>
              <a:ext cx="4819680" cy="4097520"/>
            </a:xfrm>
            <a:custGeom>
              <a:avLst/>
              <a:gdLst/>
              <a:ahLst/>
              <a:rect l="l" t="t" r="r" b="b"/>
              <a:pathLst>
                <a:path w="4744" h="4032">
                  <a:moveTo>
                    <a:pt x="2269" y="4032"/>
                  </a:moveTo>
                  <a:lnTo>
                    <a:pt x="4744" y="2459"/>
                  </a:lnTo>
                  <a:lnTo>
                    <a:pt x="2540" y="0"/>
                  </a:lnTo>
                  <a:lnTo>
                    <a:pt x="0" y="1814"/>
                  </a:lnTo>
                  <a:lnTo>
                    <a:pt x="2269" y="4032"/>
                  </a:lnTo>
                  <a:close/>
                </a:path>
              </a:pathLst>
            </a:custGeom>
            <a:solidFill>
              <a:srgbClr val="baad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3720" y="990720"/>
              <a:ext cx="4864320" cy="3396240"/>
            </a:xfrm>
            <a:custGeom>
              <a:avLst/>
              <a:gdLst/>
              <a:ahLst/>
              <a:rect l="l" t="t" r="r" b="b"/>
              <a:pathLst>
                <a:path w="4788" h="3342">
                  <a:moveTo>
                    <a:pt x="4371" y="570"/>
                  </a:moveTo>
                  <a:lnTo>
                    <a:pt x="4299" y="550"/>
                  </a:lnTo>
                  <a:lnTo>
                    <a:pt x="4224" y="532"/>
                  </a:lnTo>
                  <a:lnTo>
                    <a:pt x="4151" y="513"/>
                  </a:lnTo>
                  <a:lnTo>
                    <a:pt x="4076" y="495"/>
                  </a:lnTo>
                  <a:lnTo>
                    <a:pt x="4003" y="477"/>
                  </a:lnTo>
                  <a:lnTo>
                    <a:pt x="3928" y="459"/>
                  </a:lnTo>
                  <a:lnTo>
                    <a:pt x="3853" y="441"/>
                  </a:lnTo>
                  <a:lnTo>
                    <a:pt x="3778" y="422"/>
                  </a:lnTo>
                  <a:lnTo>
                    <a:pt x="3703" y="406"/>
                  </a:lnTo>
                  <a:lnTo>
                    <a:pt x="3628" y="390"/>
                  </a:lnTo>
                  <a:lnTo>
                    <a:pt x="3553" y="374"/>
                  </a:lnTo>
                  <a:lnTo>
                    <a:pt x="3475" y="358"/>
                  </a:lnTo>
                  <a:lnTo>
                    <a:pt x="3400" y="341"/>
                  </a:lnTo>
                  <a:lnTo>
                    <a:pt x="3323" y="325"/>
                  </a:lnTo>
                  <a:lnTo>
                    <a:pt x="3245" y="309"/>
                  </a:lnTo>
                  <a:lnTo>
                    <a:pt x="3168" y="295"/>
                  </a:lnTo>
                  <a:lnTo>
                    <a:pt x="3085" y="279"/>
                  </a:lnTo>
                  <a:lnTo>
                    <a:pt x="3005" y="265"/>
                  </a:lnTo>
                  <a:lnTo>
                    <a:pt x="2923" y="248"/>
                  </a:lnTo>
                  <a:lnTo>
                    <a:pt x="2841" y="234"/>
                  </a:lnTo>
                  <a:lnTo>
                    <a:pt x="2758" y="220"/>
                  </a:lnTo>
                  <a:lnTo>
                    <a:pt x="2676" y="206"/>
                  </a:lnTo>
                  <a:lnTo>
                    <a:pt x="2591" y="194"/>
                  </a:lnTo>
                  <a:lnTo>
                    <a:pt x="2509" y="180"/>
                  </a:lnTo>
                  <a:lnTo>
                    <a:pt x="2424" y="168"/>
                  </a:lnTo>
                  <a:lnTo>
                    <a:pt x="2342" y="155"/>
                  </a:lnTo>
                  <a:lnTo>
                    <a:pt x="2257" y="143"/>
                  </a:lnTo>
                  <a:lnTo>
                    <a:pt x="2172" y="133"/>
                  </a:lnTo>
                  <a:lnTo>
                    <a:pt x="2088" y="121"/>
                  </a:lnTo>
                  <a:lnTo>
                    <a:pt x="2003" y="111"/>
                  </a:lnTo>
                  <a:lnTo>
                    <a:pt x="1916" y="101"/>
                  </a:lnTo>
                  <a:lnTo>
                    <a:pt x="1831" y="91"/>
                  </a:lnTo>
                  <a:lnTo>
                    <a:pt x="1741" y="81"/>
                  </a:lnTo>
                  <a:lnTo>
                    <a:pt x="1649" y="73"/>
                  </a:lnTo>
                  <a:lnTo>
                    <a:pt x="1557" y="62"/>
                  </a:lnTo>
                  <a:lnTo>
                    <a:pt x="1468" y="54"/>
                  </a:lnTo>
                  <a:lnTo>
                    <a:pt x="1376" y="48"/>
                  </a:lnTo>
                  <a:lnTo>
                    <a:pt x="1284" y="40"/>
                  </a:lnTo>
                  <a:lnTo>
                    <a:pt x="1192" y="34"/>
                  </a:lnTo>
                  <a:lnTo>
                    <a:pt x="1097" y="28"/>
                  </a:lnTo>
                  <a:lnTo>
                    <a:pt x="1005" y="22"/>
                  </a:lnTo>
                  <a:lnTo>
                    <a:pt x="911" y="18"/>
                  </a:lnTo>
                  <a:lnTo>
                    <a:pt x="819" y="14"/>
                  </a:lnTo>
                  <a:lnTo>
                    <a:pt x="724" y="10"/>
                  </a:lnTo>
                  <a:lnTo>
                    <a:pt x="630" y="6"/>
                  </a:lnTo>
                  <a:lnTo>
                    <a:pt x="535" y="4"/>
                  </a:lnTo>
                  <a:lnTo>
                    <a:pt x="441" y="2"/>
                  </a:lnTo>
                  <a:lnTo>
                    <a:pt x="346" y="0"/>
                  </a:lnTo>
                  <a:lnTo>
                    <a:pt x="295" y="0"/>
                  </a:lnTo>
                  <a:lnTo>
                    <a:pt x="252" y="0"/>
                  </a:lnTo>
                  <a:lnTo>
                    <a:pt x="211" y="2"/>
                  </a:lnTo>
                  <a:lnTo>
                    <a:pt x="174" y="2"/>
                  </a:lnTo>
                  <a:lnTo>
                    <a:pt x="136" y="4"/>
                  </a:lnTo>
                  <a:lnTo>
                    <a:pt x="94" y="6"/>
                  </a:lnTo>
                  <a:lnTo>
                    <a:pt x="51" y="6"/>
                  </a:lnTo>
                  <a:lnTo>
                    <a:pt x="0" y="8"/>
                  </a:lnTo>
                  <a:lnTo>
                    <a:pt x="1407" y="3342"/>
                  </a:lnTo>
                  <a:lnTo>
                    <a:pt x="1412" y="3340"/>
                  </a:lnTo>
                  <a:lnTo>
                    <a:pt x="1431" y="3332"/>
                  </a:lnTo>
                  <a:lnTo>
                    <a:pt x="1460" y="3318"/>
                  </a:lnTo>
                  <a:lnTo>
                    <a:pt x="1502" y="3300"/>
                  </a:lnTo>
                  <a:lnTo>
                    <a:pt x="1552" y="3280"/>
                  </a:lnTo>
                  <a:lnTo>
                    <a:pt x="1615" y="3253"/>
                  </a:lnTo>
                  <a:lnTo>
                    <a:pt x="1690" y="3227"/>
                  </a:lnTo>
                  <a:lnTo>
                    <a:pt x="1773" y="3197"/>
                  </a:lnTo>
                  <a:lnTo>
                    <a:pt x="1867" y="3164"/>
                  </a:lnTo>
                  <a:lnTo>
                    <a:pt x="1971" y="3130"/>
                  </a:lnTo>
                  <a:lnTo>
                    <a:pt x="2085" y="3096"/>
                  </a:lnTo>
                  <a:lnTo>
                    <a:pt x="2209" y="3061"/>
                  </a:lnTo>
                  <a:lnTo>
                    <a:pt x="2339" y="3027"/>
                  </a:lnTo>
                  <a:lnTo>
                    <a:pt x="2482" y="2992"/>
                  </a:lnTo>
                  <a:lnTo>
                    <a:pt x="2632" y="2960"/>
                  </a:lnTo>
                  <a:lnTo>
                    <a:pt x="2790" y="2928"/>
                  </a:lnTo>
                  <a:lnTo>
                    <a:pt x="2858" y="2916"/>
                  </a:lnTo>
                  <a:lnTo>
                    <a:pt x="2926" y="2903"/>
                  </a:lnTo>
                  <a:lnTo>
                    <a:pt x="2991" y="2895"/>
                  </a:lnTo>
                  <a:lnTo>
                    <a:pt x="3056" y="2887"/>
                  </a:lnTo>
                  <a:lnTo>
                    <a:pt x="3119" y="2879"/>
                  </a:lnTo>
                  <a:lnTo>
                    <a:pt x="3182" y="2875"/>
                  </a:lnTo>
                  <a:lnTo>
                    <a:pt x="3245" y="2871"/>
                  </a:lnTo>
                  <a:lnTo>
                    <a:pt x="3306" y="2867"/>
                  </a:lnTo>
                  <a:lnTo>
                    <a:pt x="3369" y="2865"/>
                  </a:lnTo>
                  <a:lnTo>
                    <a:pt x="3432" y="2865"/>
                  </a:lnTo>
                  <a:lnTo>
                    <a:pt x="3492" y="2865"/>
                  </a:lnTo>
                  <a:lnTo>
                    <a:pt x="3555" y="2865"/>
                  </a:lnTo>
                  <a:lnTo>
                    <a:pt x="3621" y="2867"/>
                  </a:lnTo>
                  <a:lnTo>
                    <a:pt x="3686" y="2871"/>
                  </a:lnTo>
                  <a:lnTo>
                    <a:pt x="3751" y="2875"/>
                  </a:lnTo>
                  <a:lnTo>
                    <a:pt x="3819" y="2879"/>
                  </a:lnTo>
                  <a:lnTo>
                    <a:pt x="4788" y="683"/>
                  </a:lnTo>
                  <a:lnTo>
                    <a:pt x="4771" y="679"/>
                  </a:lnTo>
                  <a:lnTo>
                    <a:pt x="4749" y="673"/>
                  </a:lnTo>
                  <a:lnTo>
                    <a:pt x="4725" y="665"/>
                  </a:lnTo>
                  <a:lnTo>
                    <a:pt x="4698" y="659"/>
                  </a:lnTo>
                  <a:lnTo>
                    <a:pt x="4672" y="651"/>
                  </a:lnTo>
                  <a:lnTo>
                    <a:pt x="4643" y="643"/>
                  </a:lnTo>
                  <a:lnTo>
                    <a:pt x="4611" y="635"/>
                  </a:lnTo>
                  <a:lnTo>
                    <a:pt x="4580" y="627"/>
                  </a:lnTo>
                  <a:lnTo>
                    <a:pt x="4551" y="618"/>
                  </a:lnTo>
                  <a:lnTo>
                    <a:pt x="4519" y="610"/>
                  </a:lnTo>
                  <a:lnTo>
                    <a:pt x="4490" y="602"/>
                  </a:lnTo>
                  <a:lnTo>
                    <a:pt x="4461" y="594"/>
                  </a:lnTo>
                  <a:lnTo>
                    <a:pt x="4437" y="588"/>
                  </a:lnTo>
                  <a:lnTo>
                    <a:pt x="4413" y="580"/>
                  </a:lnTo>
                  <a:lnTo>
                    <a:pt x="4391" y="574"/>
                  </a:lnTo>
                  <a:lnTo>
                    <a:pt x="4371" y="570"/>
                  </a:lnTo>
                  <a:close/>
                </a:path>
              </a:pathLst>
            </a:custGeom>
            <a:solidFill>
              <a:srgbClr val="efed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79840" y="3303000"/>
              <a:ext cx="1800" cy="57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9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01200" y="2675880"/>
              <a:ext cx="190080" cy="34560"/>
            </a:xfrm>
            <a:prstGeom prst="rect">
              <a:avLst/>
            </a:prstGeom>
            <a:solidFill>
              <a:srgbClr val="ccc9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62520" y="2675880"/>
              <a:ext cx="186840" cy="34560"/>
            </a:xfrm>
            <a:prstGeom prst="rect">
              <a:avLst/>
            </a:prstGeom>
            <a:solidFill>
              <a:srgbClr val="ccc9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31640" y="1694880"/>
              <a:ext cx="186840" cy="35640"/>
            </a:xfrm>
            <a:prstGeom prst="rect">
              <a:avLst/>
            </a:prstGeom>
            <a:solidFill>
              <a:srgbClr val="ccc9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93320" y="1541520"/>
              <a:ext cx="3627000" cy="1840320"/>
            </a:xfrm>
            <a:custGeom>
              <a:avLst/>
              <a:gdLst/>
              <a:ahLst/>
              <a:rect l="l" t="t" r="r" b="b"/>
              <a:pathLst>
                <a:path w="3570" h="1811">
                  <a:moveTo>
                    <a:pt x="2735" y="1191"/>
                  </a:moveTo>
                  <a:lnTo>
                    <a:pt x="2735" y="1144"/>
                  </a:lnTo>
                  <a:lnTo>
                    <a:pt x="2739" y="1144"/>
                  </a:lnTo>
                  <a:lnTo>
                    <a:pt x="2739" y="1059"/>
                  </a:lnTo>
                  <a:lnTo>
                    <a:pt x="2507" y="1059"/>
                  </a:lnTo>
                  <a:lnTo>
                    <a:pt x="2507" y="216"/>
                  </a:lnTo>
                  <a:lnTo>
                    <a:pt x="1708" y="216"/>
                  </a:lnTo>
                  <a:lnTo>
                    <a:pt x="1708" y="0"/>
                  </a:lnTo>
                  <a:lnTo>
                    <a:pt x="1376" y="0"/>
                  </a:lnTo>
                  <a:lnTo>
                    <a:pt x="1376" y="216"/>
                  </a:lnTo>
                  <a:lnTo>
                    <a:pt x="792" y="216"/>
                  </a:lnTo>
                  <a:lnTo>
                    <a:pt x="797" y="1025"/>
                  </a:lnTo>
                  <a:lnTo>
                    <a:pt x="194" y="1025"/>
                  </a:lnTo>
                  <a:lnTo>
                    <a:pt x="194" y="1249"/>
                  </a:lnTo>
                  <a:lnTo>
                    <a:pt x="0" y="1249"/>
                  </a:lnTo>
                  <a:lnTo>
                    <a:pt x="226" y="1781"/>
                  </a:lnTo>
                  <a:lnTo>
                    <a:pt x="2277" y="1781"/>
                  </a:lnTo>
                  <a:lnTo>
                    <a:pt x="2277" y="1739"/>
                  </a:lnTo>
                  <a:lnTo>
                    <a:pt x="2313" y="1735"/>
                  </a:lnTo>
                  <a:lnTo>
                    <a:pt x="2313" y="1737"/>
                  </a:lnTo>
                  <a:lnTo>
                    <a:pt x="2492" y="1737"/>
                  </a:lnTo>
                  <a:lnTo>
                    <a:pt x="2492" y="1735"/>
                  </a:lnTo>
                  <a:lnTo>
                    <a:pt x="2597" y="1735"/>
                  </a:lnTo>
                  <a:lnTo>
                    <a:pt x="2597" y="1745"/>
                  </a:lnTo>
                  <a:lnTo>
                    <a:pt x="2647" y="1745"/>
                  </a:lnTo>
                  <a:lnTo>
                    <a:pt x="2647" y="1735"/>
                  </a:lnTo>
                  <a:lnTo>
                    <a:pt x="2766" y="1739"/>
                  </a:lnTo>
                  <a:lnTo>
                    <a:pt x="2766" y="1811"/>
                  </a:lnTo>
                  <a:lnTo>
                    <a:pt x="3301" y="1811"/>
                  </a:lnTo>
                  <a:lnTo>
                    <a:pt x="3333" y="1739"/>
                  </a:lnTo>
                  <a:lnTo>
                    <a:pt x="3335" y="1733"/>
                  </a:lnTo>
                  <a:lnTo>
                    <a:pt x="3510" y="1338"/>
                  </a:lnTo>
                  <a:lnTo>
                    <a:pt x="3510" y="1338"/>
                  </a:lnTo>
                  <a:lnTo>
                    <a:pt x="3570" y="1201"/>
                  </a:lnTo>
                  <a:lnTo>
                    <a:pt x="3570" y="1201"/>
                  </a:lnTo>
                  <a:lnTo>
                    <a:pt x="2735" y="1191"/>
                  </a:lnTo>
                  <a:close/>
                </a:path>
              </a:pathLst>
            </a:custGeom>
            <a:solidFill>
              <a:srgbClr val="ccc9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00720" y="3580200"/>
              <a:ext cx="747720" cy="48600"/>
            </a:xfrm>
            <a:custGeom>
              <a:avLst/>
              <a:gdLst/>
              <a:ahLst/>
              <a:rect l="l" t="t" r="r" b="b"/>
              <a:pathLst>
                <a:path w="736" h="48">
                  <a:moveTo>
                    <a:pt x="0" y="48"/>
                  </a:moveTo>
                  <a:lnTo>
                    <a:pt x="729" y="38"/>
                  </a:lnTo>
                  <a:lnTo>
                    <a:pt x="736" y="20"/>
                  </a:lnTo>
                  <a:lnTo>
                    <a:pt x="46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ccc9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66560" y="3452040"/>
              <a:ext cx="1586880" cy="45360"/>
            </a:xfrm>
            <a:custGeom>
              <a:avLst/>
              <a:gdLst/>
              <a:ahLst/>
              <a:rect l="l" t="t" r="r" b="b"/>
              <a:pathLst>
                <a:path w="1562" h="45">
                  <a:moveTo>
                    <a:pt x="0" y="0"/>
                  </a:moveTo>
                  <a:lnTo>
                    <a:pt x="17" y="45"/>
                  </a:lnTo>
                  <a:lnTo>
                    <a:pt x="156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9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62520" y="2675880"/>
              <a:ext cx="186840" cy="34560"/>
            </a:xfrm>
            <a:prstGeom prst="rect">
              <a:avLst/>
            </a:prstGeom>
            <a:solidFill>
              <a:srgbClr val="ccc9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1640" y="1694880"/>
              <a:ext cx="186840" cy="35640"/>
            </a:xfrm>
            <a:prstGeom prst="rect">
              <a:avLst/>
            </a:prstGeom>
            <a:solidFill>
              <a:srgbClr val="ccc9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01200" y="2675880"/>
              <a:ext cx="190080" cy="34560"/>
            </a:xfrm>
            <a:prstGeom prst="rect">
              <a:avLst/>
            </a:prstGeom>
            <a:solidFill>
              <a:srgbClr val="ccc9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18400" y="3367800"/>
              <a:ext cx="2491920" cy="258840"/>
            </a:xfrm>
            <a:custGeom>
              <a:avLst/>
              <a:gdLst/>
              <a:ahLst/>
              <a:rect l="l" t="t" r="r" b="b"/>
              <a:pathLst>
                <a:path w="2453" h="255">
                  <a:moveTo>
                    <a:pt x="1620" y="243"/>
                  </a:moveTo>
                  <a:lnTo>
                    <a:pt x="1625" y="229"/>
                  </a:lnTo>
                  <a:lnTo>
                    <a:pt x="1635" y="215"/>
                  </a:lnTo>
                  <a:lnTo>
                    <a:pt x="1644" y="202"/>
                  </a:lnTo>
                  <a:lnTo>
                    <a:pt x="1654" y="192"/>
                  </a:lnTo>
                  <a:lnTo>
                    <a:pt x="1669" y="182"/>
                  </a:lnTo>
                  <a:lnTo>
                    <a:pt x="1683" y="174"/>
                  </a:lnTo>
                  <a:lnTo>
                    <a:pt x="1700" y="168"/>
                  </a:lnTo>
                  <a:lnTo>
                    <a:pt x="1717" y="164"/>
                  </a:lnTo>
                  <a:lnTo>
                    <a:pt x="1732" y="162"/>
                  </a:lnTo>
                  <a:lnTo>
                    <a:pt x="1744" y="162"/>
                  </a:lnTo>
                  <a:lnTo>
                    <a:pt x="1758" y="162"/>
                  </a:lnTo>
                  <a:lnTo>
                    <a:pt x="1770" y="164"/>
                  </a:lnTo>
                  <a:lnTo>
                    <a:pt x="1782" y="166"/>
                  </a:lnTo>
                  <a:lnTo>
                    <a:pt x="1795" y="170"/>
                  </a:lnTo>
                  <a:lnTo>
                    <a:pt x="1807" y="176"/>
                  </a:lnTo>
                  <a:lnTo>
                    <a:pt x="1819" y="182"/>
                  </a:lnTo>
                  <a:lnTo>
                    <a:pt x="1826" y="176"/>
                  </a:lnTo>
                  <a:lnTo>
                    <a:pt x="1836" y="170"/>
                  </a:lnTo>
                  <a:lnTo>
                    <a:pt x="1845" y="166"/>
                  </a:lnTo>
                  <a:lnTo>
                    <a:pt x="1855" y="160"/>
                  </a:lnTo>
                  <a:lnTo>
                    <a:pt x="1865" y="156"/>
                  </a:lnTo>
                  <a:lnTo>
                    <a:pt x="1877" y="152"/>
                  </a:lnTo>
                  <a:lnTo>
                    <a:pt x="1887" y="150"/>
                  </a:lnTo>
                  <a:lnTo>
                    <a:pt x="1899" y="148"/>
                  </a:lnTo>
                  <a:lnTo>
                    <a:pt x="1916" y="146"/>
                  </a:lnTo>
                  <a:lnTo>
                    <a:pt x="1933" y="144"/>
                  </a:lnTo>
                  <a:lnTo>
                    <a:pt x="1950" y="144"/>
                  </a:lnTo>
                  <a:lnTo>
                    <a:pt x="1967" y="146"/>
                  </a:lnTo>
                  <a:lnTo>
                    <a:pt x="1974" y="130"/>
                  </a:lnTo>
                  <a:lnTo>
                    <a:pt x="1983" y="116"/>
                  </a:lnTo>
                  <a:lnTo>
                    <a:pt x="1996" y="101"/>
                  </a:lnTo>
                  <a:lnTo>
                    <a:pt x="2010" y="89"/>
                  </a:lnTo>
                  <a:lnTo>
                    <a:pt x="2025" y="79"/>
                  </a:lnTo>
                  <a:lnTo>
                    <a:pt x="2042" y="71"/>
                  </a:lnTo>
                  <a:lnTo>
                    <a:pt x="2061" y="63"/>
                  </a:lnTo>
                  <a:lnTo>
                    <a:pt x="2080" y="59"/>
                  </a:lnTo>
                  <a:lnTo>
                    <a:pt x="2105" y="57"/>
                  </a:lnTo>
                  <a:lnTo>
                    <a:pt x="2126" y="57"/>
                  </a:lnTo>
                  <a:lnTo>
                    <a:pt x="2148" y="61"/>
                  </a:lnTo>
                  <a:lnTo>
                    <a:pt x="2170" y="67"/>
                  </a:lnTo>
                  <a:lnTo>
                    <a:pt x="2189" y="75"/>
                  </a:lnTo>
                  <a:lnTo>
                    <a:pt x="2209" y="85"/>
                  </a:lnTo>
                  <a:lnTo>
                    <a:pt x="2223" y="99"/>
                  </a:lnTo>
                  <a:lnTo>
                    <a:pt x="2238" y="113"/>
                  </a:lnTo>
                  <a:lnTo>
                    <a:pt x="2245" y="109"/>
                  </a:lnTo>
                  <a:lnTo>
                    <a:pt x="2255" y="105"/>
                  </a:lnTo>
                  <a:lnTo>
                    <a:pt x="2264" y="103"/>
                  </a:lnTo>
                  <a:lnTo>
                    <a:pt x="2274" y="101"/>
                  </a:lnTo>
                  <a:lnTo>
                    <a:pt x="2303" y="99"/>
                  </a:lnTo>
                  <a:lnTo>
                    <a:pt x="2332" y="101"/>
                  </a:lnTo>
                  <a:lnTo>
                    <a:pt x="2359" y="107"/>
                  </a:lnTo>
                  <a:lnTo>
                    <a:pt x="2383" y="118"/>
                  </a:lnTo>
                  <a:lnTo>
                    <a:pt x="2405" y="132"/>
                  </a:lnTo>
                  <a:lnTo>
                    <a:pt x="2424" y="148"/>
                  </a:lnTo>
                  <a:lnTo>
                    <a:pt x="2441" y="168"/>
                  </a:lnTo>
                  <a:lnTo>
                    <a:pt x="2451" y="190"/>
                  </a:lnTo>
                  <a:lnTo>
                    <a:pt x="2453" y="178"/>
                  </a:lnTo>
                  <a:lnTo>
                    <a:pt x="2453" y="166"/>
                  </a:lnTo>
                  <a:lnTo>
                    <a:pt x="2451" y="154"/>
                  </a:lnTo>
                  <a:lnTo>
                    <a:pt x="2448" y="140"/>
                  </a:lnTo>
                  <a:lnTo>
                    <a:pt x="2439" y="116"/>
                  </a:lnTo>
                  <a:lnTo>
                    <a:pt x="2424" y="95"/>
                  </a:lnTo>
                  <a:lnTo>
                    <a:pt x="2407" y="77"/>
                  </a:lnTo>
                  <a:lnTo>
                    <a:pt x="2383" y="61"/>
                  </a:lnTo>
                  <a:lnTo>
                    <a:pt x="2359" y="51"/>
                  </a:lnTo>
                  <a:lnTo>
                    <a:pt x="2330" y="43"/>
                  </a:lnTo>
                  <a:lnTo>
                    <a:pt x="2301" y="41"/>
                  </a:lnTo>
                  <a:lnTo>
                    <a:pt x="2272" y="45"/>
                  </a:lnTo>
                  <a:lnTo>
                    <a:pt x="2262" y="47"/>
                  </a:lnTo>
                  <a:lnTo>
                    <a:pt x="2252" y="49"/>
                  </a:lnTo>
                  <a:lnTo>
                    <a:pt x="2243" y="53"/>
                  </a:lnTo>
                  <a:lnTo>
                    <a:pt x="2233" y="55"/>
                  </a:lnTo>
                  <a:lnTo>
                    <a:pt x="2221" y="41"/>
                  </a:lnTo>
                  <a:lnTo>
                    <a:pt x="2204" y="29"/>
                  </a:lnTo>
                  <a:lnTo>
                    <a:pt x="2187" y="16"/>
                  </a:lnTo>
                  <a:lnTo>
                    <a:pt x="2168" y="8"/>
                  </a:lnTo>
                  <a:lnTo>
                    <a:pt x="2146" y="2"/>
                  </a:lnTo>
                  <a:lnTo>
                    <a:pt x="2124" y="0"/>
                  </a:lnTo>
                  <a:lnTo>
                    <a:pt x="2100" y="0"/>
                  </a:lnTo>
                  <a:lnTo>
                    <a:pt x="2078" y="2"/>
                  </a:lnTo>
                  <a:lnTo>
                    <a:pt x="2056" y="6"/>
                  </a:lnTo>
                  <a:lnTo>
                    <a:pt x="2037" y="14"/>
                  </a:lnTo>
                  <a:lnTo>
                    <a:pt x="2020" y="22"/>
                  </a:lnTo>
                  <a:lnTo>
                    <a:pt x="2005" y="33"/>
                  </a:lnTo>
                  <a:lnTo>
                    <a:pt x="1991" y="45"/>
                  </a:lnTo>
                  <a:lnTo>
                    <a:pt x="1981" y="59"/>
                  </a:lnTo>
                  <a:lnTo>
                    <a:pt x="1971" y="73"/>
                  </a:lnTo>
                  <a:lnTo>
                    <a:pt x="1964" y="89"/>
                  </a:lnTo>
                  <a:lnTo>
                    <a:pt x="1947" y="87"/>
                  </a:lnTo>
                  <a:lnTo>
                    <a:pt x="1930" y="87"/>
                  </a:lnTo>
                  <a:lnTo>
                    <a:pt x="1913" y="89"/>
                  </a:lnTo>
                  <a:lnTo>
                    <a:pt x="1896" y="91"/>
                  </a:lnTo>
                  <a:lnTo>
                    <a:pt x="1884" y="93"/>
                  </a:lnTo>
                  <a:lnTo>
                    <a:pt x="1874" y="95"/>
                  </a:lnTo>
                  <a:lnTo>
                    <a:pt x="1862" y="99"/>
                  </a:lnTo>
                  <a:lnTo>
                    <a:pt x="1853" y="103"/>
                  </a:lnTo>
                  <a:lnTo>
                    <a:pt x="1843" y="109"/>
                  </a:lnTo>
                  <a:lnTo>
                    <a:pt x="1833" y="113"/>
                  </a:lnTo>
                  <a:lnTo>
                    <a:pt x="1824" y="120"/>
                  </a:lnTo>
                  <a:lnTo>
                    <a:pt x="1814" y="126"/>
                  </a:lnTo>
                  <a:lnTo>
                    <a:pt x="1804" y="120"/>
                  </a:lnTo>
                  <a:lnTo>
                    <a:pt x="1792" y="113"/>
                  </a:lnTo>
                  <a:lnTo>
                    <a:pt x="1780" y="109"/>
                  </a:lnTo>
                  <a:lnTo>
                    <a:pt x="1768" y="107"/>
                  </a:lnTo>
                  <a:lnTo>
                    <a:pt x="1756" y="105"/>
                  </a:lnTo>
                  <a:lnTo>
                    <a:pt x="1741" y="105"/>
                  </a:lnTo>
                  <a:lnTo>
                    <a:pt x="1729" y="105"/>
                  </a:lnTo>
                  <a:lnTo>
                    <a:pt x="1715" y="107"/>
                  </a:lnTo>
                  <a:lnTo>
                    <a:pt x="1693" y="113"/>
                  </a:lnTo>
                  <a:lnTo>
                    <a:pt x="1676" y="120"/>
                  </a:lnTo>
                  <a:lnTo>
                    <a:pt x="1659" y="130"/>
                  </a:lnTo>
                  <a:lnTo>
                    <a:pt x="1644" y="142"/>
                  </a:lnTo>
                  <a:lnTo>
                    <a:pt x="1632" y="156"/>
                  </a:lnTo>
                  <a:lnTo>
                    <a:pt x="1623" y="172"/>
                  </a:lnTo>
                  <a:lnTo>
                    <a:pt x="1618" y="188"/>
                  </a:lnTo>
                  <a:lnTo>
                    <a:pt x="1615" y="207"/>
                  </a:lnTo>
                  <a:lnTo>
                    <a:pt x="0" y="207"/>
                  </a:lnTo>
                  <a:lnTo>
                    <a:pt x="22" y="255"/>
                  </a:lnTo>
                  <a:lnTo>
                    <a:pt x="1620" y="255"/>
                  </a:lnTo>
                  <a:lnTo>
                    <a:pt x="1620" y="243"/>
                  </a:lnTo>
                  <a:close/>
                </a:path>
              </a:pathLst>
            </a:custGeom>
            <a:solidFill>
              <a:srgbClr val="ccc9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240" y="1771200"/>
              <a:ext cx="4212360" cy="1499760"/>
            </a:xfrm>
            <a:custGeom>
              <a:avLst/>
              <a:gdLst/>
              <a:ahLst/>
              <a:rect l="l" t="t" r="r" b="b"/>
              <a:pathLst>
                <a:path w="4146" h="1476">
                  <a:moveTo>
                    <a:pt x="0" y="1476"/>
                  </a:moveTo>
                  <a:lnTo>
                    <a:pt x="0" y="1021"/>
                  </a:lnTo>
                  <a:lnTo>
                    <a:pt x="494" y="1021"/>
                  </a:lnTo>
                  <a:lnTo>
                    <a:pt x="494" y="795"/>
                  </a:lnTo>
                  <a:lnTo>
                    <a:pt x="1110" y="795"/>
                  </a:lnTo>
                  <a:lnTo>
                    <a:pt x="1110" y="0"/>
                  </a:lnTo>
                  <a:lnTo>
                    <a:pt x="2735" y="0"/>
                  </a:lnTo>
                  <a:lnTo>
                    <a:pt x="2735" y="823"/>
                  </a:lnTo>
                  <a:lnTo>
                    <a:pt x="3016" y="823"/>
                  </a:lnTo>
                  <a:lnTo>
                    <a:pt x="3016" y="936"/>
                  </a:lnTo>
                  <a:lnTo>
                    <a:pt x="3686" y="936"/>
                  </a:lnTo>
                  <a:lnTo>
                    <a:pt x="3686" y="1011"/>
                  </a:lnTo>
                  <a:lnTo>
                    <a:pt x="4146" y="1011"/>
                  </a:lnTo>
                  <a:lnTo>
                    <a:pt x="4146" y="1468"/>
                  </a:lnTo>
                  <a:lnTo>
                    <a:pt x="0" y="1476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18400" y="2864880"/>
              <a:ext cx="998640" cy="398160"/>
            </a:xfrm>
            <a:prstGeom prst="rect">
              <a:avLst/>
            </a:prstGeom>
            <a:solidFill>
              <a:srgbClr val="c4c4c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03800" y="1789200"/>
              <a:ext cx="89280" cy="914400"/>
            </a:xfrm>
            <a:prstGeom prst="rect">
              <a:avLst/>
            </a:prstGeom>
            <a:solidFill>
              <a:srgbClr val="dbdb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81000" y="1781280"/>
              <a:ext cx="1550160" cy="98280"/>
            </a:xfrm>
            <a:prstGeom prst="rect">
              <a:avLst/>
            </a:prstGeom>
            <a:solidFill>
              <a:srgbClr val="dbdb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90120" y="2814840"/>
              <a:ext cx="2947320" cy="63720"/>
            </a:xfrm>
            <a:prstGeom prst="rect">
              <a:avLst/>
            </a:prstGeom>
            <a:solidFill>
              <a:srgbClr val="a5a5a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0280" y="2993760"/>
              <a:ext cx="213120" cy="275400"/>
            </a:xfrm>
            <a:custGeom>
              <a:avLst/>
              <a:gdLst/>
              <a:ahLst/>
              <a:rect l="l" t="t" r="r" b="b"/>
              <a:pathLst>
                <a:path w="210" h="271">
                  <a:moveTo>
                    <a:pt x="210" y="97"/>
                  </a:moveTo>
                  <a:lnTo>
                    <a:pt x="210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210" y="97"/>
                  </a:lnTo>
                  <a:close/>
                </a:path>
              </a:pathLst>
            </a:custGeom>
            <a:solidFill>
              <a:srgbClr val="dbdb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2000" y="2823120"/>
              <a:ext cx="1238400" cy="113760"/>
            </a:xfrm>
            <a:prstGeom prst="rect">
              <a:avLst/>
            </a:prstGeom>
            <a:solidFill>
              <a:srgbClr val="dbdb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35680" y="3037680"/>
              <a:ext cx="905040" cy="225360"/>
            </a:xfrm>
            <a:custGeom>
              <a:avLst/>
              <a:gdLst/>
              <a:ahLst/>
              <a:rect l="l" t="t" r="r" b="b"/>
              <a:pathLst>
                <a:path w="891" h="222">
                  <a:moveTo>
                    <a:pt x="741" y="222"/>
                  </a:moveTo>
                  <a:lnTo>
                    <a:pt x="891" y="0"/>
                  </a:lnTo>
                  <a:lnTo>
                    <a:pt x="0" y="0"/>
                  </a:lnTo>
                  <a:lnTo>
                    <a:pt x="0" y="222"/>
                  </a:lnTo>
                  <a:lnTo>
                    <a:pt x="741" y="222"/>
                  </a:lnTo>
                  <a:close/>
                </a:path>
              </a:pathLst>
            </a:custGeom>
            <a:solidFill>
              <a:srgbClr val="afafa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17120" y="2659320"/>
              <a:ext cx="365760" cy="54720"/>
            </a:xfrm>
            <a:prstGeom prst="rect">
              <a:avLst/>
            </a:prstGeom>
            <a:solidFill>
              <a:srgbClr val="dbdbd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21040" y="203040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62960" y="203040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01640" y="203040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40320" y="2030400"/>
              <a:ext cx="12492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76120" y="203040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6960" y="203040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21040" y="185976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62960" y="185976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01640" y="185976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40320" y="1859760"/>
              <a:ext cx="12492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76120" y="185976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6960" y="185976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21040" y="220932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62960" y="220932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1640" y="220932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40320" y="2209320"/>
              <a:ext cx="12492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76120" y="220932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16960" y="220932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21040" y="238824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62960" y="238824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01640" y="238824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40320" y="2388240"/>
              <a:ext cx="12492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76120" y="238824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16960" y="238824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76120" y="256680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16960" y="2566800"/>
              <a:ext cx="127800" cy="1065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6160" y="2659320"/>
              <a:ext cx="390960" cy="486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63720" y="2659320"/>
              <a:ext cx="388800" cy="486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21640" y="2659320"/>
              <a:ext cx="388080" cy="486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97560" y="3051720"/>
              <a:ext cx="91440" cy="1188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7400" y="3051720"/>
              <a:ext cx="91080" cy="1188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55200" y="3008160"/>
              <a:ext cx="181800" cy="2588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96080" y="2772360"/>
              <a:ext cx="4593240" cy="519120"/>
            </a:xfrm>
            <a:custGeom>
              <a:avLst/>
              <a:gdLst/>
              <a:ahLst/>
              <a:rect l="l" t="t" r="r" b="b"/>
              <a:pathLst>
                <a:path w="4521" h="511">
                  <a:moveTo>
                    <a:pt x="0" y="0"/>
                  </a:moveTo>
                  <a:lnTo>
                    <a:pt x="63" y="63"/>
                  </a:lnTo>
                  <a:lnTo>
                    <a:pt x="179" y="63"/>
                  </a:lnTo>
                  <a:lnTo>
                    <a:pt x="179" y="497"/>
                  </a:lnTo>
                  <a:lnTo>
                    <a:pt x="230" y="497"/>
                  </a:lnTo>
                  <a:lnTo>
                    <a:pt x="230" y="63"/>
                  </a:lnTo>
                  <a:lnTo>
                    <a:pt x="872" y="63"/>
                  </a:lnTo>
                  <a:lnTo>
                    <a:pt x="872" y="497"/>
                  </a:lnTo>
                  <a:lnTo>
                    <a:pt x="923" y="497"/>
                  </a:lnTo>
                  <a:lnTo>
                    <a:pt x="923" y="238"/>
                  </a:lnTo>
                  <a:lnTo>
                    <a:pt x="1882" y="238"/>
                  </a:lnTo>
                  <a:lnTo>
                    <a:pt x="1882" y="236"/>
                  </a:lnTo>
                  <a:lnTo>
                    <a:pt x="1886" y="236"/>
                  </a:lnTo>
                  <a:lnTo>
                    <a:pt x="1882" y="232"/>
                  </a:lnTo>
                  <a:lnTo>
                    <a:pt x="1882" y="224"/>
                  </a:lnTo>
                  <a:lnTo>
                    <a:pt x="1867" y="224"/>
                  </a:lnTo>
                  <a:lnTo>
                    <a:pt x="1763" y="162"/>
                  </a:lnTo>
                  <a:lnTo>
                    <a:pt x="923" y="162"/>
                  </a:lnTo>
                  <a:lnTo>
                    <a:pt x="923" y="63"/>
                  </a:lnTo>
                  <a:lnTo>
                    <a:pt x="2664" y="63"/>
                  </a:lnTo>
                  <a:lnTo>
                    <a:pt x="2664" y="511"/>
                  </a:lnTo>
                  <a:lnTo>
                    <a:pt x="2690" y="511"/>
                  </a:lnTo>
                  <a:lnTo>
                    <a:pt x="2690" y="63"/>
                  </a:lnTo>
                  <a:lnTo>
                    <a:pt x="3097" y="63"/>
                  </a:lnTo>
                  <a:lnTo>
                    <a:pt x="3097" y="497"/>
                  </a:lnTo>
                  <a:lnTo>
                    <a:pt x="3148" y="497"/>
                  </a:lnTo>
                  <a:lnTo>
                    <a:pt x="3148" y="240"/>
                  </a:lnTo>
                  <a:lnTo>
                    <a:pt x="3330" y="240"/>
                  </a:lnTo>
                  <a:lnTo>
                    <a:pt x="3330" y="487"/>
                  </a:lnTo>
                  <a:lnTo>
                    <a:pt x="3376" y="487"/>
                  </a:lnTo>
                  <a:lnTo>
                    <a:pt x="3376" y="240"/>
                  </a:lnTo>
                  <a:lnTo>
                    <a:pt x="3448" y="240"/>
                  </a:lnTo>
                  <a:lnTo>
                    <a:pt x="3448" y="208"/>
                  </a:lnTo>
                  <a:lnTo>
                    <a:pt x="3386" y="208"/>
                  </a:lnTo>
                  <a:lnTo>
                    <a:pt x="3279" y="119"/>
                  </a:lnTo>
                  <a:lnTo>
                    <a:pt x="3148" y="119"/>
                  </a:lnTo>
                  <a:lnTo>
                    <a:pt x="3148" y="63"/>
                  </a:lnTo>
                  <a:lnTo>
                    <a:pt x="3698" y="63"/>
                  </a:lnTo>
                  <a:lnTo>
                    <a:pt x="3698" y="497"/>
                  </a:lnTo>
                  <a:lnTo>
                    <a:pt x="3749" y="497"/>
                  </a:lnTo>
                  <a:lnTo>
                    <a:pt x="3749" y="63"/>
                  </a:lnTo>
                  <a:lnTo>
                    <a:pt x="3882" y="63"/>
                  </a:lnTo>
                  <a:lnTo>
                    <a:pt x="3882" y="501"/>
                  </a:lnTo>
                  <a:lnTo>
                    <a:pt x="3933" y="501"/>
                  </a:lnTo>
                  <a:lnTo>
                    <a:pt x="3933" y="63"/>
                  </a:lnTo>
                  <a:lnTo>
                    <a:pt x="4335" y="63"/>
                  </a:lnTo>
                  <a:lnTo>
                    <a:pt x="4335" y="505"/>
                  </a:lnTo>
                  <a:lnTo>
                    <a:pt x="4383" y="505"/>
                  </a:lnTo>
                  <a:lnTo>
                    <a:pt x="4383" y="63"/>
                  </a:lnTo>
                  <a:lnTo>
                    <a:pt x="4461" y="63"/>
                  </a:lnTo>
                  <a:lnTo>
                    <a:pt x="45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86440" y="3041640"/>
              <a:ext cx="2731680" cy="271440"/>
            </a:xfrm>
            <a:custGeom>
              <a:avLst/>
              <a:gdLst/>
              <a:ahLst/>
              <a:rect l="l" t="t" r="r" b="b"/>
              <a:pathLst>
                <a:path w="2689" h="267">
                  <a:moveTo>
                    <a:pt x="2502" y="224"/>
                  </a:moveTo>
                  <a:lnTo>
                    <a:pt x="2502" y="0"/>
                  </a:lnTo>
                  <a:lnTo>
                    <a:pt x="2323" y="0"/>
                  </a:lnTo>
                  <a:lnTo>
                    <a:pt x="2323" y="224"/>
                  </a:lnTo>
                  <a:lnTo>
                    <a:pt x="2265" y="224"/>
                  </a:lnTo>
                  <a:lnTo>
                    <a:pt x="2265" y="0"/>
                  </a:lnTo>
                  <a:lnTo>
                    <a:pt x="2088" y="0"/>
                  </a:lnTo>
                  <a:lnTo>
                    <a:pt x="2088" y="224"/>
                  </a:lnTo>
                  <a:lnTo>
                    <a:pt x="2032" y="224"/>
                  </a:lnTo>
                  <a:lnTo>
                    <a:pt x="2032" y="0"/>
                  </a:lnTo>
                  <a:lnTo>
                    <a:pt x="1853" y="0"/>
                  </a:lnTo>
                  <a:lnTo>
                    <a:pt x="1853" y="224"/>
                  </a:lnTo>
                  <a:lnTo>
                    <a:pt x="1512" y="224"/>
                  </a:lnTo>
                  <a:lnTo>
                    <a:pt x="1512" y="4"/>
                  </a:lnTo>
                  <a:lnTo>
                    <a:pt x="1456" y="4"/>
                  </a:lnTo>
                  <a:lnTo>
                    <a:pt x="1456" y="224"/>
                  </a:lnTo>
                  <a:lnTo>
                    <a:pt x="1141" y="224"/>
                  </a:lnTo>
                  <a:lnTo>
                    <a:pt x="1141" y="4"/>
                  </a:lnTo>
                  <a:lnTo>
                    <a:pt x="1085" y="4"/>
                  </a:lnTo>
                  <a:lnTo>
                    <a:pt x="1085" y="224"/>
                  </a:lnTo>
                  <a:lnTo>
                    <a:pt x="681" y="224"/>
                  </a:lnTo>
                  <a:lnTo>
                    <a:pt x="681" y="2"/>
                  </a:lnTo>
                  <a:lnTo>
                    <a:pt x="405" y="2"/>
                  </a:lnTo>
                  <a:lnTo>
                    <a:pt x="405" y="224"/>
                  </a:lnTo>
                  <a:lnTo>
                    <a:pt x="0" y="224"/>
                  </a:lnTo>
                  <a:lnTo>
                    <a:pt x="0" y="267"/>
                  </a:lnTo>
                  <a:lnTo>
                    <a:pt x="2689" y="267"/>
                  </a:lnTo>
                  <a:lnTo>
                    <a:pt x="2689" y="224"/>
                  </a:lnTo>
                  <a:lnTo>
                    <a:pt x="2502" y="22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02040" y="1503720"/>
              <a:ext cx="3454200" cy="1268280"/>
            </a:xfrm>
            <a:custGeom>
              <a:avLst/>
              <a:gdLst/>
              <a:ahLst/>
              <a:rect l="l" t="t" r="r" b="b"/>
              <a:pathLst>
                <a:path w="3400" h="1248">
                  <a:moveTo>
                    <a:pt x="3400" y="1201"/>
                  </a:moveTo>
                  <a:lnTo>
                    <a:pt x="1635" y="1179"/>
                  </a:lnTo>
                  <a:lnTo>
                    <a:pt x="1635" y="1023"/>
                  </a:lnTo>
                  <a:lnTo>
                    <a:pt x="693" y="1023"/>
                  </a:lnTo>
                  <a:lnTo>
                    <a:pt x="693" y="291"/>
                  </a:lnTo>
                  <a:lnTo>
                    <a:pt x="2223" y="291"/>
                  </a:lnTo>
                  <a:lnTo>
                    <a:pt x="2223" y="1143"/>
                  </a:lnTo>
                  <a:lnTo>
                    <a:pt x="2545" y="1143"/>
                  </a:lnTo>
                  <a:lnTo>
                    <a:pt x="2545" y="1058"/>
                  </a:lnTo>
                  <a:lnTo>
                    <a:pt x="2313" y="1058"/>
                  </a:lnTo>
                  <a:lnTo>
                    <a:pt x="2313" y="217"/>
                  </a:lnTo>
                  <a:lnTo>
                    <a:pt x="1516" y="217"/>
                  </a:lnTo>
                  <a:lnTo>
                    <a:pt x="1516" y="0"/>
                  </a:lnTo>
                  <a:lnTo>
                    <a:pt x="1182" y="0"/>
                  </a:lnTo>
                  <a:lnTo>
                    <a:pt x="1182" y="217"/>
                  </a:lnTo>
                  <a:lnTo>
                    <a:pt x="598" y="217"/>
                  </a:lnTo>
                  <a:lnTo>
                    <a:pt x="603" y="1023"/>
                  </a:lnTo>
                  <a:lnTo>
                    <a:pt x="0" y="1023"/>
                  </a:lnTo>
                  <a:lnTo>
                    <a:pt x="0" y="1248"/>
                  </a:lnTo>
                  <a:lnTo>
                    <a:pt x="68" y="1248"/>
                  </a:lnTo>
                  <a:lnTo>
                    <a:pt x="68" y="1080"/>
                  </a:lnTo>
                  <a:lnTo>
                    <a:pt x="1596" y="1080"/>
                  </a:lnTo>
                  <a:lnTo>
                    <a:pt x="1596" y="1220"/>
                  </a:lnTo>
                  <a:lnTo>
                    <a:pt x="3400" y="12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12520" y="3540600"/>
              <a:ext cx="1176120" cy="49680"/>
            </a:xfrm>
            <a:custGeom>
              <a:avLst/>
              <a:gdLst/>
              <a:ahLst/>
              <a:rect l="l" t="t" r="r" b="b"/>
              <a:pathLst>
                <a:path w="1158" h="49">
                  <a:moveTo>
                    <a:pt x="44" y="0"/>
                  </a:moveTo>
                  <a:lnTo>
                    <a:pt x="0" y="49"/>
                  </a:lnTo>
                  <a:lnTo>
                    <a:pt x="1158" y="3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76040" y="3413520"/>
              <a:ext cx="1789200" cy="48600"/>
            </a:xfrm>
            <a:custGeom>
              <a:avLst/>
              <a:gdLst/>
              <a:ahLst/>
              <a:rect l="l" t="t" r="r" b="b"/>
              <a:pathLst>
                <a:path w="1761" h="48">
                  <a:moveTo>
                    <a:pt x="46" y="0"/>
                  </a:moveTo>
                  <a:lnTo>
                    <a:pt x="0" y="48"/>
                  </a:lnTo>
                  <a:lnTo>
                    <a:pt x="1761" y="2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84360" y="1559880"/>
              <a:ext cx="176400" cy="182880"/>
            </a:xfrm>
            <a:custGeom>
              <a:avLst/>
              <a:gdLst/>
              <a:ahLst/>
              <a:rect l="l" t="t" r="r" b="b"/>
              <a:pathLst>
                <a:path w="174" h="180">
                  <a:moveTo>
                    <a:pt x="43" y="180"/>
                  </a:moveTo>
                  <a:lnTo>
                    <a:pt x="0" y="18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3" y="69"/>
                  </a:lnTo>
                  <a:lnTo>
                    <a:pt x="130" y="69"/>
                  </a:lnTo>
                  <a:lnTo>
                    <a:pt x="130" y="0"/>
                  </a:lnTo>
                  <a:lnTo>
                    <a:pt x="174" y="0"/>
                  </a:lnTo>
                  <a:lnTo>
                    <a:pt x="174" y="180"/>
                  </a:lnTo>
                  <a:lnTo>
                    <a:pt x="130" y="180"/>
                  </a:lnTo>
                  <a:lnTo>
                    <a:pt x="130" y="99"/>
                  </a:lnTo>
                  <a:lnTo>
                    <a:pt x="43" y="99"/>
                  </a:lnTo>
                  <a:lnTo>
                    <a:pt x="43" y="18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74320" y="2635920"/>
              <a:ext cx="186840" cy="374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42000" y="1656360"/>
              <a:ext cx="186840" cy="363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13000" y="2635920"/>
              <a:ext cx="188640" cy="374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11520" y="3538440"/>
              <a:ext cx="2064240" cy="49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8440" y="2887200"/>
              <a:ext cx="656280" cy="140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5280" y="3269160"/>
              <a:ext cx="1202760" cy="741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68920" y="3328920"/>
              <a:ext cx="853560" cy="249120"/>
            </a:xfrm>
            <a:custGeom>
              <a:avLst/>
              <a:gdLst/>
              <a:ahLst/>
              <a:rect l="l" t="t" r="r" b="b"/>
              <a:pathLst>
                <a:path w="840" h="245">
                  <a:moveTo>
                    <a:pt x="104" y="164"/>
                  </a:moveTo>
                  <a:lnTo>
                    <a:pt x="118" y="162"/>
                  </a:lnTo>
                  <a:lnTo>
                    <a:pt x="131" y="162"/>
                  </a:lnTo>
                  <a:lnTo>
                    <a:pt x="145" y="162"/>
                  </a:lnTo>
                  <a:lnTo>
                    <a:pt x="157" y="164"/>
                  </a:lnTo>
                  <a:lnTo>
                    <a:pt x="169" y="168"/>
                  </a:lnTo>
                  <a:lnTo>
                    <a:pt x="181" y="172"/>
                  </a:lnTo>
                  <a:lnTo>
                    <a:pt x="193" y="176"/>
                  </a:lnTo>
                  <a:lnTo>
                    <a:pt x="206" y="182"/>
                  </a:lnTo>
                  <a:lnTo>
                    <a:pt x="213" y="176"/>
                  </a:lnTo>
                  <a:lnTo>
                    <a:pt x="223" y="170"/>
                  </a:lnTo>
                  <a:lnTo>
                    <a:pt x="232" y="166"/>
                  </a:lnTo>
                  <a:lnTo>
                    <a:pt x="242" y="162"/>
                  </a:lnTo>
                  <a:lnTo>
                    <a:pt x="252" y="158"/>
                  </a:lnTo>
                  <a:lnTo>
                    <a:pt x="264" y="154"/>
                  </a:lnTo>
                  <a:lnTo>
                    <a:pt x="273" y="149"/>
                  </a:lnTo>
                  <a:lnTo>
                    <a:pt x="286" y="147"/>
                  </a:lnTo>
                  <a:lnTo>
                    <a:pt x="302" y="145"/>
                  </a:lnTo>
                  <a:lnTo>
                    <a:pt x="319" y="143"/>
                  </a:lnTo>
                  <a:lnTo>
                    <a:pt x="336" y="145"/>
                  </a:lnTo>
                  <a:lnTo>
                    <a:pt x="353" y="147"/>
                  </a:lnTo>
                  <a:lnTo>
                    <a:pt x="361" y="131"/>
                  </a:lnTo>
                  <a:lnTo>
                    <a:pt x="370" y="117"/>
                  </a:lnTo>
                  <a:lnTo>
                    <a:pt x="380" y="103"/>
                  </a:lnTo>
                  <a:lnTo>
                    <a:pt x="394" y="91"/>
                  </a:lnTo>
                  <a:lnTo>
                    <a:pt x="411" y="81"/>
                  </a:lnTo>
                  <a:lnTo>
                    <a:pt x="428" y="71"/>
                  </a:lnTo>
                  <a:lnTo>
                    <a:pt x="448" y="63"/>
                  </a:lnTo>
                  <a:lnTo>
                    <a:pt x="467" y="58"/>
                  </a:lnTo>
                  <a:lnTo>
                    <a:pt x="489" y="56"/>
                  </a:lnTo>
                  <a:lnTo>
                    <a:pt x="513" y="56"/>
                  </a:lnTo>
                  <a:lnTo>
                    <a:pt x="535" y="60"/>
                  </a:lnTo>
                  <a:lnTo>
                    <a:pt x="557" y="67"/>
                  </a:lnTo>
                  <a:lnTo>
                    <a:pt x="576" y="75"/>
                  </a:lnTo>
                  <a:lnTo>
                    <a:pt x="593" y="85"/>
                  </a:lnTo>
                  <a:lnTo>
                    <a:pt x="610" y="99"/>
                  </a:lnTo>
                  <a:lnTo>
                    <a:pt x="622" y="113"/>
                  </a:lnTo>
                  <a:lnTo>
                    <a:pt x="632" y="109"/>
                  </a:lnTo>
                  <a:lnTo>
                    <a:pt x="642" y="107"/>
                  </a:lnTo>
                  <a:lnTo>
                    <a:pt x="651" y="103"/>
                  </a:lnTo>
                  <a:lnTo>
                    <a:pt x="661" y="101"/>
                  </a:lnTo>
                  <a:lnTo>
                    <a:pt x="690" y="99"/>
                  </a:lnTo>
                  <a:lnTo>
                    <a:pt x="719" y="101"/>
                  </a:lnTo>
                  <a:lnTo>
                    <a:pt x="746" y="107"/>
                  </a:lnTo>
                  <a:lnTo>
                    <a:pt x="770" y="117"/>
                  </a:lnTo>
                  <a:lnTo>
                    <a:pt x="792" y="131"/>
                  </a:lnTo>
                  <a:lnTo>
                    <a:pt x="811" y="147"/>
                  </a:lnTo>
                  <a:lnTo>
                    <a:pt x="828" y="170"/>
                  </a:lnTo>
                  <a:lnTo>
                    <a:pt x="838" y="192"/>
                  </a:lnTo>
                  <a:lnTo>
                    <a:pt x="840" y="180"/>
                  </a:lnTo>
                  <a:lnTo>
                    <a:pt x="840" y="166"/>
                  </a:lnTo>
                  <a:lnTo>
                    <a:pt x="838" y="154"/>
                  </a:lnTo>
                  <a:lnTo>
                    <a:pt x="835" y="141"/>
                  </a:lnTo>
                  <a:lnTo>
                    <a:pt x="826" y="117"/>
                  </a:lnTo>
                  <a:lnTo>
                    <a:pt x="811" y="95"/>
                  </a:lnTo>
                  <a:lnTo>
                    <a:pt x="794" y="77"/>
                  </a:lnTo>
                  <a:lnTo>
                    <a:pt x="770" y="63"/>
                  </a:lnTo>
                  <a:lnTo>
                    <a:pt x="746" y="50"/>
                  </a:lnTo>
                  <a:lnTo>
                    <a:pt x="717" y="44"/>
                  </a:lnTo>
                  <a:lnTo>
                    <a:pt x="688" y="42"/>
                  </a:lnTo>
                  <a:lnTo>
                    <a:pt x="658" y="44"/>
                  </a:lnTo>
                  <a:lnTo>
                    <a:pt x="649" y="46"/>
                  </a:lnTo>
                  <a:lnTo>
                    <a:pt x="639" y="48"/>
                  </a:lnTo>
                  <a:lnTo>
                    <a:pt x="629" y="52"/>
                  </a:lnTo>
                  <a:lnTo>
                    <a:pt x="620" y="56"/>
                  </a:lnTo>
                  <a:lnTo>
                    <a:pt x="605" y="42"/>
                  </a:lnTo>
                  <a:lnTo>
                    <a:pt x="591" y="28"/>
                  </a:lnTo>
                  <a:lnTo>
                    <a:pt x="571" y="18"/>
                  </a:lnTo>
                  <a:lnTo>
                    <a:pt x="552" y="10"/>
                  </a:lnTo>
                  <a:lnTo>
                    <a:pt x="530" y="4"/>
                  </a:lnTo>
                  <a:lnTo>
                    <a:pt x="508" y="0"/>
                  </a:lnTo>
                  <a:lnTo>
                    <a:pt x="487" y="0"/>
                  </a:lnTo>
                  <a:lnTo>
                    <a:pt x="462" y="2"/>
                  </a:lnTo>
                  <a:lnTo>
                    <a:pt x="443" y="6"/>
                  </a:lnTo>
                  <a:lnTo>
                    <a:pt x="424" y="14"/>
                  </a:lnTo>
                  <a:lnTo>
                    <a:pt x="407" y="24"/>
                  </a:lnTo>
                  <a:lnTo>
                    <a:pt x="392" y="34"/>
                  </a:lnTo>
                  <a:lnTo>
                    <a:pt x="378" y="46"/>
                  </a:lnTo>
                  <a:lnTo>
                    <a:pt x="365" y="60"/>
                  </a:lnTo>
                  <a:lnTo>
                    <a:pt x="358" y="75"/>
                  </a:lnTo>
                  <a:lnTo>
                    <a:pt x="351" y="91"/>
                  </a:lnTo>
                  <a:lnTo>
                    <a:pt x="334" y="89"/>
                  </a:lnTo>
                  <a:lnTo>
                    <a:pt x="317" y="87"/>
                  </a:lnTo>
                  <a:lnTo>
                    <a:pt x="298" y="89"/>
                  </a:lnTo>
                  <a:lnTo>
                    <a:pt x="281" y="91"/>
                  </a:lnTo>
                  <a:lnTo>
                    <a:pt x="271" y="93"/>
                  </a:lnTo>
                  <a:lnTo>
                    <a:pt x="259" y="97"/>
                  </a:lnTo>
                  <a:lnTo>
                    <a:pt x="249" y="101"/>
                  </a:lnTo>
                  <a:lnTo>
                    <a:pt x="237" y="105"/>
                  </a:lnTo>
                  <a:lnTo>
                    <a:pt x="227" y="109"/>
                  </a:lnTo>
                  <a:lnTo>
                    <a:pt x="218" y="113"/>
                  </a:lnTo>
                  <a:lnTo>
                    <a:pt x="210" y="119"/>
                  </a:lnTo>
                  <a:lnTo>
                    <a:pt x="201" y="125"/>
                  </a:lnTo>
                  <a:lnTo>
                    <a:pt x="191" y="119"/>
                  </a:lnTo>
                  <a:lnTo>
                    <a:pt x="179" y="115"/>
                  </a:lnTo>
                  <a:lnTo>
                    <a:pt x="167" y="111"/>
                  </a:lnTo>
                  <a:lnTo>
                    <a:pt x="155" y="107"/>
                  </a:lnTo>
                  <a:lnTo>
                    <a:pt x="143" y="105"/>
                  </a:lnTo>
                  <a:lnTo>
                    <a:pt x="128" y="105"/>
                  </a:lnTo>
                  <a:lnTo>
                    <a:pt x="116" y="105"/>
                  </a:lnTo>
                  <a:lnTo>
                    <a:pt x="101" y="107"/>
                  </a:lnTo>
                  <a:lnTo>
                    <a:pt x="77" y="113"/>
                  </a:lnTo>
                  <a:lnTo>
                    <a:pt x="55" y="123"/>
                  </a:lnTo>
                  <a:lnTo>
                    <a:pt x="36" y="137"/>
                  </a:lnTo>
                  <a:lnTo>
                    <a:pt x="19" y="154"/>
                  </a:lnTo>
                  <a:lnTo>
                    <a:pt x="9" y="172"/>
                  </a:lnTo>
                  <a:lnTo>
                    <a:pt x="2" y="192"/>
                  </a:lnTo>
                  <a:lnTo>
                    <a:pt x="0" y="212"/>
                  </a:lnTo>
                  <a:lnTo>
                    <a:pt x="2" y="234"/>
                  </a:lnTo>
                  <a:lnTo>
                    <a:pt x="5" y="236"/>
                  </a:lnTo>
                  <a:lnTo>
                    <a:pt x="5" y="238"/>
                  </a:lnTo>
                  <a:lnTo>
                    <a:pt x="7" y="242"/>
                  </a:lnTo>
                  <a:lnTo>
                    <a:pt x="7" y="245"/>
                  </a:lnTo>
                  <a:lnTo>
                    <a:pt x="12" y="230"/>
                  </a:lnTo>
                  <a:lnTo>
                    <a:pt x="22" y="216"/>
                  </a:lnTo>
                  <a:lnTo>
                    <a:pt x="31" y="204"/>
                  </a:lnTo>
                  <a:lnTo>
                    <a:pt x="41" y="194"/>
                  </a:lnTo>
                  <a:lnTo>
                    <a:pt x="55" y="184"/>
                  </a:lnTo>
                  <a:lnTo>
                    <a:pt x="70" y="176"/>
                  </a:lnTo>
                  <a:lnTo>
                    <a:pt x="87" y="168"/>
                  </a:lnTo>
                  <a:lnTo>
                    <a:pt x="104" y="16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79800" y="3135960"/>
              <a:ext cx="41400" cy="363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46040" y="3135960"/>
              <a:ext cx="44640" cy="363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15160" y="3135960"/>
              <a:ext cx="44640" cy="363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34280" y="3072240"/>
              <a:ext cx="34560" cy="18468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mergency Medical Treatment and Active Labor Act of 1986 (EMTAL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320" y="3030480"/>
            <a:ext cx="937260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me is the place where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you have to go ther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 have to take you in.”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obert Fr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eath of the Hired Man,19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76880" y="26780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ED Overcrowding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57840" indent="-357840">
              <a:lnSpc>
                <a:spcPct val="95000"/>
              </a:lnSpc>
              <a:spcBef>
                <a:spcPts val="18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emergency services outstrips available resour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5000"/>
              </a:lnSpc>
              <a:spcBef>
                <a:spcPts val="18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atients than staff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ds,  long wait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5000"/>
              </a:lnSpc>
              <a:spcBef>
                <a:spcPts val="18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typically treated and monitored in hall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5000"/>
              </a:lnSpc>
              <a:spcBef>
                <a:spcPts val="18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s ability to triag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838188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asuring Overcrowd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established way to 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is developing a set of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from arrival to physician 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atients being bo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arding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on ambulance di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mbulance Di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d to ambulance traf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ymptom, not the primary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ambulance cycle/respons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irst-tim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ced overr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by number of hours on di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571680"/>
            <a:ext cx="77216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ercent of Hospitals “At” or “Over” Capa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 The Lewin Group Analysis of AHA ED and Hospit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acity Survey, 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3040" y="1549440"/>
          <a:ext cx="797580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549440"/>
                    <a:ext cx="797580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33520" y="6095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 The Lewin Group Analysis of AHA ED and Hospit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acity Survey, 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581800"/>
            <a:ext cx="746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571680"/>
            <a:ext cx="77216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ercent of Hospitals “At” or “Over” Capa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0958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 The Lewin Group Analysis of AHA ED and Hospit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acity Survey, 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523880"/>
          <a:ext cx="797544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797544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066680" y="5581800"/>
            <a:ext cx="746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18288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579132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d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5791320"/>
            <a:ext cx="3733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00200" y="556236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34120" y="556236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579132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5943600"/>
            <a:ext cx="1904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u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248520" y="556236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8077320" y="556236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415440"/>
            <a:ext cx="77216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ime on Di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7400" y="1671480"/>
          <a:ext cx="792504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671480"/>
                    <a:ext cx="792504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Factors Leading to Overcrowding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10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reased dem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duced supp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ffing shor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Many ED Visits?  1992-2000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6141960"/>
            <a:ext cx="94489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National Center for Health Statistics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Hospital Ambulatory Medical Care Survey, 1992-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87640" y="1295280"/>
            <a:ext cx="8283240" cy="4664160"/>
            <a:chOff x="287640" y="1295280"/>
            <a:chExt cx="8283240" cy="4664160"/>
          </a:xfrm>
        </p:grpSpPr>
        <p:graphicFrame>
          <p:nvGraphicFramePr>
            <p:cNvPr id="137" name=""/>
            <p:cNvGraphicFramePr/>
            <p:nvPr/>
          </p:nvGraphicFramePr>
          <p:xfrm>
            <a:off x="533520" y="1828800"/>
            <a:ext cx="8037360" cy="413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828800"/>
                      <a:ext cx="8037360" cy="413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 flipV="1">
              <a:off x="5105520" y="2743200"/>
              <a:ext cx="0" cy="1295280"/>
            </a:xfrm>
            <a:prstGeom prst="line">
              <a:avLst/>
            </a:prstGeom>
            <a:ln w="76320">
              <a:solidFill>
                <a:srgbClr val="da070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086440" y="2742840"/>
              <a:ext cx="2609640" cy="19080"/>
            </a:xfrm>
            <a:prstGeom prst="line">
              <a:avLst/>
            </a:prstGeom>
            <a:ln w="76320">
              <a:solidFill>
                <a:srgbClr val="da07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7800" y="22860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% 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7640" y="1295280"/>
              <a:ext cx="224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umber of visit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in thousand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0" y="1143000"/>
            <a:ext cx="838188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16:19:08Z</dcterms:created>
  <dc:creator>RWeinick</dc:creator>
  <dc:description/>
  <dc:language>en-US</dc:language>
  <cp:lastModifiedBy>Network Administrator</cp:lastModifiedBy>
  <cp:lastPrinted>2002-11-12T17:56:07Z</cp:lastPrinted>
  <dcterms:modified xsi:type="dcterms:W3CDTF">2003-01-07T16:00:51Z</dcterms:modified>
  <cp:revision>333</cp:revision>
  <dc:subject/>
  <dc:title>Emergency Department Utilization and Overcrow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1830813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orkshop: Hospitals</vt:lpwstr>
  </property>
  <property fmtid="{D5CDD505-2E9C-101B-9397-08002B2CF9AE}" pid="6" name="_PreviousAdHocReviewCycleID">
    <vt:r8>-840793664</vt:r8>
  </property>
</Properties>
</file>