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FE4EE-45AC-48F9-986D-820AD438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AB4B3-138D-4F76-ABEF-8B1F2E7F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62A03-7B3C-4446-B34F-9FCB5560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933B6-92E9-4330-9EBD-2CB3EEC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06177-AA22-4197-A1EE-F9BE4ACA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5404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4C7C-8821-4B3D-9B55-4CB312AC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E365D-A0FC-4FE1-A7B9-3E32764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8DC37-BABD-4383-90D3-8B2FEE1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4C6F8-E3E9-4B54-AED3-62CDF346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F1BF8-841B-48CC-A4D8-318A3F0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911A1-12D9-4F60-AA3E-AA93D14A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208D3-B415-4122-8ED1-E5F52543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404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404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0"/>
            <a:ext cx="8567640" cy="626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2200" y="6400800"/>
            <a:ext cx="254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rad Prenn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480"/>
            <a:ext cx="8567640" cy="6267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73040" y="3159000"/>
            <a:ext cx="8669520" cy="85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88FA-A681-4F65-93B1-2AC8EC294DBD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mergency Department Overcrowding and Ambulance Diver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1760" y="3580920"/>
            <a:ext cx="4917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d Prenney, M.S., M.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uty Dir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reau of Health Quality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achusetts Department of Public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renney" descr=""/>
          <p:cNvPicPr/>
          <p:nvPr/>
        </p:nvPicPr>
        <p:blipFill>
          <a:blip r:embed="rId2"/>
          <a:srcRect l="5703" t="0" r="5824" b="35398"/>
          <a:stretch/>
        </p:blipFill>
        <p:spPr>
          <a:xfrm>
            <a:off x="5562720" y="3352680"/>
            <a:ext cx="23619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nal Hospital Operation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s that impede a hospital’s ability to move patients efficiently through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  Variability in scheduling OR/beds for elective and emergency surg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  Variability in admission and discharge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5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 Variability between discharge and next admission to a 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ufficient coordination and communication between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880" y="49525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2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While increasing use of the ED, especially for non-urgent needs, causes significant problems in patient flow, staff burn-out, and ED operations, we do not think that it is those who seek care for non-urgent issues who are responsible for the recent crisis of ambulance diversions. It is really the acutely ill patient who is waiting in the ED for a hospital bed who creates the bottleneck that leads to overcrowding, diversions, and essentially a breakdown in the entire system.”</a:t>
            </a:r>
            <a:br>
              <a:rPr sz="2600"/>
            </a:br>
            <a:br>
              <a:rPr sz="2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nt Asplin, M.D., M.P.H., Director of Research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artment of Emergency Medicine, Regions Hospital, St. Paul, Minnesot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urrent Initiatives To Address Ambulance Diversion and ED Overcrowd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arterly meetings of Ambulance Diversion Task For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ion of patient flow study and dissemination of simulation model to hospit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ment of disaster/gridlock pla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inued Promotion of Best Pract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PH Gridlock Preparednes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turation/Gridlock Disaster Response Pl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523880"/>
            <a:ext cx="8327520" cy="4937040"/>
            <a:chOff x="457200" y="1523880"/>
            <a:chExt cx="8327520" cy="4937040"/>
          </a:xfrm>
        </p:grpSpPr>
        <p:sp>
          <p:nvSpPr>
            <p:cNvPr id="115" name=""/>
            <p:cNvSpPr/>
            <p:nvPr/>
          </p:nvSpPr>
          <p:spPr>
            <a:xfrm>
              <a:off x="6950880" y="5410080"/>
              <a:ext cx="1833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51480" y="5410080"/>
              <a:ext cx="1499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46320" y="5410080"/>
              <a:ext cx="1504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840" y="5410080"/>
              <a:ext cx="2229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0160" y="5410080"/>
              <a:ext cx="1246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P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7560" y="5943600"/>
              <a:ext cx="183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8520" y="5943600"/>
              <a:ext cx="1499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3360" y="5943600"/>
              <a:ext cx="15051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3880" y="5943600"/>
              <a:ext cx="2229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5943600"/>
              <a:ext cx="1246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Hospital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50880" y="4800600"/>
              <a:ext cx="1833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51480" y="4800600"/>
              <a:ext cx="14994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6320" y="4800600"/>
              <a:ext cx="1504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6840" y="4800600"/>
              <a:ext cx="2229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160" y="4800600"/>
              <a:ext cx="1246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MS Reg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9440" y="2095560"/>
              <a:ext cx="183384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ultiple contiguous regions/geographies in gridlock and situation deteriorating despite implementation of Stage II interven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DPH Commissioner determines implementation based on risk to public safety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50040" y="2095560"/>
              <a:ext cx="149940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tage I conditions persist or worsen or expand geographically despite stage I interventions, a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he EMS Regional Director believes public safety remains jeopardiz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5240" y="2095560"/>
              <a:ext cx="1504800" cy="26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ultiple contiguous hospitals are saturated, on diversion or requesting at same time, an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The EMS Regional Director believes public safety is in jeopard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5760" y="2095560"/>
              <a:ext cx="2229480" cy="34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720" y="2095560"/>
              <a:ext cx="1246680" cy="34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ction Ste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9440" y="1523880"/>
              <a:ext cx="18338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50040" y="1523880"/>
              <a:ext cx="14994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45240" y="1523880"/>
              <a:ext cx="1504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tag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5760" y="1523880"/>
              <a:ext cx="222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aseline Activi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720" y="1523880"/>
              <a:ext cx="12466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720" y="1523880"/>
              <a:ext cx="83142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720" y="2095560"/>
              <a:ext cx="8314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160" y="480060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0160" y="541008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0160" y="6400800"/>
              <a:ext cx="8314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720" y="1523880"/>
              <a:ext cx="0" cy="4881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576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52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00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9440" y="1523880"/>
              <a:ext cx="0" cy="488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781480" y="1523880"/>
              <a:ext cx="1080" cy="48769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0160" y="5943600"/>
              <a:ext cx="83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1960" y="609120"/>
            <a:ext cx="678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luenza and Pneumonia* Hospital Admissions from Sept 1999 – Sept 200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9720" y="1701720"/>
          <a:ext cx="7020000" cy="40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1701720"/>
                    <a:ext cx="702000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14800" y="60310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CD-9-CM 480-4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Massachusetts Acute Care 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Hospital Discharges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FFY 2000</a:t>
            </a:r>
            <a:br>
              <a:rPr sz="3000"/>
            </a:b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752480"/>
            <a:ext cx="782784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R Charg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 ER Char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umber o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umber 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yer Typ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charges (%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charges (%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re/Medicare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3,171      (58)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,031      (2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,390         (13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8,383       (2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/Medicaid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,065         (10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,944          (1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e Cross/Blue Cros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,481           (7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,957          (15)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d Car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 Pay/Free Care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,423           (4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,545            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the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,566           (8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,786          (1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2,096       (100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4,646      (10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2280" y="22824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atement of the Probl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42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bulances are diverted away from the closest appropriate hospital because that hospital can not provide timely 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on results in a delay in definitive 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on is a public health problem that has worsened over the last several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ed problem is the “boarding” of patients in the ED for extended periods of time while waiting for an inpatient b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762120" y="3276720"/>
          <a:ext cx="7619760" cy="267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761976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692280" y="1905120"/>
            <a:ext cx="7774920" cy="809640"/>
            <a:chOff x="692280" y="1905120"/>
            <a:chExt cx="7774920" cy="809640"/>
          </a:xfrm>
        </p:grpSpPr>
        <p:graphicFrame>
          <p:nvGraphicFramePr>
            <p:cNvPr id="91" name=""/>
            <p:cNvGraphicFramePr/>
            <p:nvPr/>
          </p:nvGraphicFramePr>
          <p:xfrm>
            <a:off x="7757280" y="1905120"/>
            <a:ext cx="709920" cy="8096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757280" y="1905120"/>
                      <a:ext cx="70992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692280" y="1905120"/>
            <a:ext cx="7075080" cy="80964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2280" y="1905120"/>
                      <a:ext cx="70750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404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on IV Hospital Diversion Hours 2000-200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404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lected Highlights of Massachusetts Initiatives to Address Ambulance Diversio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01720"/>
            <a:ext cx="8001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y 19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rst meeting of Ambulance Diversion Task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ember 199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ance of Best Practice Guidelines to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ember 2000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ance of Recommended Measures to Hospitals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bruary 200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PH Diversion Survey of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ne 2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ation of Issue Brief/Brandeis Fo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bruary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ersion Uniform Rules/Definitions Distributed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tober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ster/Gridlock Plan Developed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mber 200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etion of Hospital Patient Flow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cus of Initiatives to Address Ambulance Diversion and ED Overcrowdin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ing guidance to hospital and pre-hospital provi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of the probl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ing the factors contributing to the proble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version Measures within the Hospital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(12/2000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0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written diversion policies within hospital disaster pl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-track non-emergency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 all licensed beds during peak demand perio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admissions plans for periods of ED overcrowding th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 priority to emergency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surgeries in a way to maximize bed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w for rescheduling of elective surgeries to care for higher acuity pati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4040" y="685440"/>
            <a:ext cx="782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iform Definitions/Rules Governing Ambulance Diversion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finitions for boarder, ED saturation, diver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noring diversion requ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ceptions to diver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mediate life-threatening situation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ient preference/ insistence/ refus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en contiguous hospitals request divers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lective diverting of ambulanc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and Facto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4040" y="14475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in volume of patients presenting to the ED (hospital closures, demographics — aging population, decreased access and/or satisfaction with community-based ca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in acu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diagnostic and treatment capability in the 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sonal variation in communicable disea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.e. fl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404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pply Side Facto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staffed inpatient beds (financial constraints faced by hospitals, conversion to other uses, no longer staffing for the pea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age of staff (especially nursing, difficulty recruiting and retainin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pital closures (Massachusetts has lost about 1/3 of its hospitals over the last 20 year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5:13Z</dcterms:created>
  <dc:creator>TAlexander</dc:creator>
  <dc:description/>
  <dc:language>en-US</dc:language>
  <cp:lastModifiedBy>Network Administrator</cp:lastModifiedBy>
  <cp:lastPrinted>2002-11-20T15:03:36Z</cp:lastPrinted>
  <dcterms:modified xsi:type="dcterms:W3CDTF">2003-01-07T16:27:50Z</dcterms:modified>
  <cp:revision>33</cp:revision>
  <dc:subject/>
  <dc:title>Demand Factor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745852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