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ftr" idx="1"/>
          </p:nvPr>
        </p:nvSpPr>
        <p:spPr>
          <a:xfrm>
            <a:off x="5943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ry Ko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6E53-5A93-45C1-8451-CA1A92456450}" type="datetime">
              <a:rPr b="1" lang="en-US" sz="3200" spc="-1" strike="noStrike">
                <a:solidFill>
                  <a:srgbClr val="333300"/>
                </a:solidFill>
                <a:latin typeface="Arial"/>
              </a:rPr>
              <a:t>07/29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rgency Department Overcrowding and Ambulance Di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809520" y="403812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ry L. Kopp, BSN, RN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Nurse Manager for Emergency Service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cottsdale Healthcare Shea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0" name="kopp" descr=""/>
          <p:cNvPicPr/>
          <p:nvPr/>
        </p:nvPicPr>
        <p:blipFill>
          <a:blip r:embed="rId1"/>
          <a:srcRect l="8141" t="3694" r="14824" b="6229"/>
          <a:stretch/>
        </p:blipFill>
        <p:spPr>
          <a:xfrm>
            <a:off x="1787400" y="3733920"/>
            <a:ext cx="1843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 of a Communit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storical-- the need to understand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ommunity Concer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version had a “negative connotation”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Understanding that diversion was not just a hospital probl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rizona Emergency Medical Services (AEMS) Assigned a Diversion Task Forc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vide timely transport of patien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liver quality care to our commun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termine when hospitals reached satur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 Diversion Guidel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te the purpo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etermines Standard of C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dentify the goa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sistent definitions of terminolog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stablish categor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D/Trauma Satur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Facility Internal Disast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termine facility/pre-hospital responsibilit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uthorizing/Monitoring of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*Prompted national search for computerized technology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rized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utomated Internet Syst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artnership between Arizona Healthcare Hospital Association and Phoenix Fi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gram needed to includ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ssignment of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ow many hospitals are on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larifying operational issu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racking of diversion hours by facil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tegration of the EMSyste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al time diversion statu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ancellation of Pre-hospital Divers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ommunity need to access emergency ca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ystem overload- sector 2/3 capac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ic Cancellation of Di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Quantifiable Dat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termine a saturation percentag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termine whom dispatch would place on automatic cancellation of divers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evelopment of the AEMS Facility Diversion Workshee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ist factors of why emergency departments go on divers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ssign number to quantify fac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Hospital Comes Up On Diver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ographic sector assignments for Central Arizon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derstanding guidelines of 2/3 system overloa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% calculated by each hospita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hich facility stays on diversion, for how long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otation of all facilities until all facilities have returned to norma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eed for individual hospital strategies for satur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n-line Cap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tinue to Develop Quality Repor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search Suppor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te Wide Implementa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ioterrorism Surveillan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twork Administrator</cp:lastModifiedBy>
  <cp:lastPrinted>2002-11-06T16:55:45Z</cp:lastPrinted>
  <dcterms:modified xsi:type="dcterms:W3CDTF">2003-01-07T16:05:2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8087012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orkshop: Hospitals</vt:lpwstr>
  </property>
</Properties>
</file>