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ftr" idx="1"/>
          </p:nvPr>
        </p:nvSpPr>
        <p:spPr>
          <a:xfrm>
            <a:off x="5943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ry K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55A8-56F7-44DE-8D3D-30EA6F793DCB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30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Department Overcrowding and Ambulance Di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809520" y="40381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ry L. Kopp, BSN, RN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Nurse Manager for Emergency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cottsdale Healthcare Shea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kopp" descr=""/>
          <p:cNvPicPr/>
          <p:nvPr/>
        </p:nvPicPr>
        <p:blipFill>
          <a:blip r:embed="rId1"/>
          <a:srcRect l="8141" t="3694" r="14824" b="6229"/>
          <a:stretch/>
        </p:blipFill>
        <p:spPr>
          <a:xfrm>
            <a:off x="1787400" y="3733920"/>
            <a:ext cx="18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of a Communit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storical-- the need to understand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unity Concer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version had a “negative connotation”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derstanding that diversion was not just a hospital probl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rizona Emergency Medical Services (AEMS) Assigned a Diversion Task For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vide timely transport of patien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liver quality care to our commun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termine when hospitals reached satur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 Diversion Guidel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te th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termines Standard of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 the go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sistent definitions of terminolog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stablish categor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D/Trauma Satur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cility Internal Disast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facility/pre-hospital responsibil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thorizing/Monitoring of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*Prompted national search for computerized technology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ized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tomated Internet Syst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tnership between Arizona Healthcare Hospital Association and Phoenix Fi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am needed to includ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ignment of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w many hospitals are on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larifying operational iss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racking of diversion hours by facil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tegration of the EMSyst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al time diversion statu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ancellation of Pre-hospital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unity need to access emergency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stem overload- sector 2/3 capac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ic Cancellation of Di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antifiable Dat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a saturation percenta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whom dispatch would place on automatic cancellation of divers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ment of the AEMS Facility Diversion Workshee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ist factors of why emergency departments go on divers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ssign number to quantify fac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Hospital Comes Up On Diver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ographic sector assignments for Central Arizon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rstanding guidelines of 2/3 system overloa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% calculated by each hospit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ich facility stays on diversion, for how lo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otation of all facilities until all facilities have returned to norm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for individual hospital strategies for satur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n-line Cap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inue to Develop Quality Repor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earch Suppor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te Wide Implement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ioterrorism Surveilla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twork Administrator</cp:lastModifiedBy>
  <cp:lastPrinted>2002-11-06T16:55:45Z</cp:lastPrinted>
  <dcterms:modified xsi:type="dcterms:W3CDTF">2003-01-07T16:05:2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087012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