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312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1143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1143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312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312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312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7796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7796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796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5280" y="35312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7796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23280" y="1143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0920" y="1143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5280" y="35312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23280" y="35312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0920" y="35312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312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143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312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52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9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9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a55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240"/>
            <a:ext cx="990720" cy="911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0120" y="64008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Bent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a55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40"/>
            <a:ext cx="990720" cy="911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96080" y="5894280"/>
            <a:ext cx="1257480" cy="747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ig Picture: Hospitals in a Volatile Healthcare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69920" indent="0">
              <a:spcBef>
                <a:spcPts val="700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mes Bentley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nior Vice President for Strategic Policy Plann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merican Hospital Associ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Washington, D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Bentley%20photo" descr=""/>
          <p:cNvPicPr/>
          <p:nvPr/>
        </p:nvPicPr>
        <p:blipFill>
          <a:blip r:embed="rId1"/>
          <a:srcRect l="33590" t="30363" r="21292" b="39289"/>
          <a:stretch/>
        </p:blipFill>
        <p:spPr>
          <a:xfrm>
            <a:off x="5472000" y="281952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ing Hospital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stopping the system:  24x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reasing intensive c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reasing emergency c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rrorism preparednes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ral hospitals:  providing the continuum of c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y’s Major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ancial stabi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for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ory mand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ty and error redu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essional liabi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 Financial 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3 operating at a loss on total bottom 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3 operating at a loss on patient care but achieving minor margin on non-operating inco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3 achieving a margin on patient care and total bottom 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market results are a big unknown for 200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81080" y="1143000"/>
            <a:ext cx="5791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cancy Rates for Selected Hospital Personnel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00080" y="1752480"/>
          <a:ext cx="8143920" cy="44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752480"/>
                    <a:ext cx="8143920" cy="44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s face severe workforce shortage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5943600"/>
            <a:ext cx="565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The Healthcare Workforce Shortage and Its Implications for America’s Hospitals, First Consulting Group, Fall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bor shortage will reach crisis proportions unless action is tak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5080" y="1066680"/>
            <a:ext cx="773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cast of Total RN FTEs vs. Requir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1-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00200" y="1346400"/>
            <a:ext cx="7177320" cy="4924440"/>
            <a:chOff x="1600200" y="1346400"/>
            <a:chExt cx="7177320" cy="4924440"/>
          </a:xfrm>
        </p:grpSpPr>
        <p:grpSp>
          <p:nvGrpSpPr>
            <p:cNvPr id="99" name=""/>
            <p:cNvGrpSpPr/>
            <p:nvPr/>
          </p:nvGrpSpPr>
          <p:grpSpPr>
            <a:xfrm>
              <a:off x="2639880" y="2987640"/>
              <a:ext cx="5776920" cy="1597680"/>
              <a:chOff x="2639880" y="2987640"/>
              <a:chExt cx="5776920" cy="15976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2639880" y="4053960"/>
                <a:ext cx="5438880" cy="531360"/>
                <a:chOff x="2639880" y="4053960"/>
                <a:chExt cx="5438880" cy="53136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2639880" y="4053960"/>
                  <a:ext cx="5438880" cy="531360"/>
                  <a:chOff x="2639880" y="4053960"/>
                  <a:chExt cx="5438880" cy="531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V="1">
                    <a:off x="3593880" y="4208400"/>
                    <a:ext cx="246240" cy="55440"/>
                  </a:xfrm>
                  <a:prstGeom prst="line">
                    <a:avLst/>
                  </a:prstGeom>
                  <a:ln w="176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2639880" y="4053960"/>
                    <a:ext cx="5438880" cy="531360"/>
                    <a:chOff x="2639880" y="4053960"/>
                    <a:chExt cx="5438880" cy="531360"/>
                  </a:xfrm>
                </p:grpSpPr>
                <p:grpSp>
                  <p:nvGrpSpPr>
                    <p:cNvPr id="104" name=""/>
                    <p:cNvGrpSpPr/>
                    <p:nvPr/>
                  </p:nvGrpSpPr>
                  <p:grpSpPr>
                    <a:xfrm>
                      <a:off x="2639880" y="4248000"/>
                      <a:ext cx="5438880" cy="337320"/>
                      <a:chOff x="2639880" y="4248000"/>
                      <a:chExt cx="5438880" cy="337320"/>
                    </a:xfrm>
                  </p:grpSpPr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6935760" y="4248000"/>
                        <a:ext cx="114300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Caxton Bk BT"/>
                          </a:rPr>
                          <a:t>Supply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 flipV="1">
                        <a:off x="2639880" y="4438080"/>
                        <a:ext cx="236520" cy="57240"/>
                      </a:xfrm>
                      <a:prstGeom prst="line">
                        <a:avLst/>
                      </a:prstGeom>
                      <a:ln w="176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 flipV="1">
                        <a:off x="2876400" y="4383000"/>
                        <a:ext cx="244440" cy="55440"/>
                      </a:xfrm>
                      <a:prstGeom prst="line">
                        <a:avLst/>
                      </a:prstGeom>
                      <a:ln w="176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 flipV="1">
                        <a:off x="3120840" y="4308120"/>
                        <a:ext cx="309600" cy="74880"/>
                      </a:xfrm>
                      <a:prstGeom prst="line">
                        <a:avLst/>
                      </a:prstGeom>
                      <a:ln w="176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 flipV="1">
                        <a:off x="3357360" y="4260240"/>
                        <a:ext cx="236520" cy="65160"/>
                      </a:xfrm>
                      <a:prstGeom prst="line">
                        <a:avLst/>
                      </a:prstGeom>
                      <a:ln w="176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0" name=""/>
                    <p:cNvSpPr/>
                    <p:nvPr/>
                  </p:nvSpPr>
                  <p:spPr>
                    <a:xfrm flipV="1">
                      <a:off x="3840120" y="4167000"/>
                      <a:ext cx="234720" cy="38160"/>
                    </a:xfrm>
                    <a:prstGeom prst="line">
                      <a:avLst/>
                    </a:prstGeom>
                    <a:ln w="176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flipV="1">
                      <a:off x="4074840" y="4138200"/>
                      <a:ext cx="236520" cy="28440"/>
                    </a:xfrm>
                    <a:prstGeom prst="line">
                      <a:avLst/>
                    </a:prstGeom>
                    <a:ln w="176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 flipV="1">
                      <a:off x="4311360" y="4120560"/>
                      <a:ext cx="246240" cy="17640"/>
                    </a:xfrm>
                    <a:prstGeom prst="line">
                      <a:avLst/>
                    </a:prstGeom>
                    <a:ln w="176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 flipV="1">
                      <a:off x="4557600" y="4092120"/>
                      <a:ext cx="236520" cy="28440"/>
                    </a:xfrm>
                    <a:prstGeom prst="line">
                      <a:avLst/>
                    </a:prstGeom>
                    <a:ln w="176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 flipV="1">
                      <a:off x="4794120" y="4073040"/>
                      <a:ext cx="235080" cy="19080"/>
                    </a:xfrm>
                    <a:prstGeom prst="line">
                      <a:avLst/>
                    </a:prstGeom>
                    <a:ln w="176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 flipV="1">
                      <a:off x="5029200" y="4053960"/>
                      <a:ext cx="245880" cy="19080"/>
                    </a:xfrm>
                    <a:prstGeom prst="line">
                      <a:avLst/>
                    </a:prstGeom>
                    <a:ln w="176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5275080" y="4054320"/>
                      <a:ext cx="236520" cy="1440"/>
                    </a:xfrm>
                    <a:prstGeom prst="line">
                      <a:avLst/>
                    </a:prstGeom>
                    <a:ln w="176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5511600" y="4054320"/>
                      <a:ext cx="236520" cy="19080"/>
                    </a:xfrm>
                    <a:prstGeom prst="line">
                      <a:avLst/>
                    </a:prstGeom>
                    <a:ln w="176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5748120" y="4073400"/>
                      <a:ext cx="244440" cy="19080"/>
                    </a:xfrm>
                    <a:prstGeom prst="line">
                      <a:avLst/>
                    </a:prstGeom>
                    <a:ln w="176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5992560" y="4092480"/>
                      <a:ext cx="236520" cy="9360"/>
                    </a:xfrm>
                    <a:prstGeom prst="line">
                      <a:avLst/>
                    </a:prstGeom>
                    <a:ln w="176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229080" y="4101840"/>
                      <a:ext cx="236520" cy="19080"/>
                    </a:xfrm>
                    <a:prstGeom prst="line">
                      <a:avLst/>
                    </a:prstGeom>
                    <a:ln w="176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465600" y="4120920"/>
                      <a:ext cx="244440" cy="17640"/>
                    </a:xfrm>
                    <a:prstGeom prst="line">
                      <a:avLst/>
                    </a:prstGeom>
                    <a:ln w="176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2" name=""/>
                <p:cNvSpPr/>
                <p:nvPr/>
              </p:nvSpPr>
              <p:spPr>
                <a:xfrm>
                  <a:off x="6710040" y="4141800"/>
                  <a:ext cx="236880" cy="18720"/>
                </a:xfrm>
                <a:prstGeom prst="line">
                  <a:avLst/>
                </a:prstGeom>
                <a:ln w="176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946920" y="4160520"/>
                  <a:ext cx="236520" cy="38160"/>
                </a:xfrm>
                <a:prstGeom prst="line">
                  <a:avLst/>
                </a:prstGeom>
                <a:ln w="176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183440" y="4198680"/>
                  <a:ext cx="245880" cy="28800"/>
                </a:xfrm>
                <a:prstGeom prst="line">
                  <a:avLst/>
                </a:prstGeom>
                <a:ln w="176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6630840" y="2987640"/>
                <a:ext cx="17859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hortag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f 800,000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urses by 20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668680" y="2149560"/>
              <a:ext cx="4905360" cy="2085120"/>
              <a:chOff x="2668680" y="2149560"/>
              <a:chExt cx="4905360" cy="2085120"/>
            </a:xfrm>
          </p:grpSpPr>
          <p:sp>
            <p:nvSpPr>
              <p:cNvPr id="127" name=""/>
              <p:cNvSpPr/>
              <p:nvPr/>
            </p:nvSpPr>
            <p:spPr>
              <a:xfrm>
                <a:off x="6278760" y="214956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66ff"/>
                    </a:solidFill>
                    <a:latin typeface="Caxton Bk BT"/>
                  </a:rPr>
                  <a:t>Dem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2668680" y="4160160"/>
                <a:ext cx="236520" cy="745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905200" y="4086000"/>
                <a:ext cx="244440" cy="741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154320" y="4011480"/>
                <a:ext cx="231840" cy="727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386160" y="3934800"/>
                <a:ext cx="236520" cy="759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3622680" y="3851280"/>
                <a:ext cx="246240" cy="835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3868920" y="3766680"/>
                <a:ext cx="234720" cy="838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103640" y="3682440"/>
                <a:ext cx="236520" cy="838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340160" y="3598200"/>
                <a:ext cx="246240" cy="838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586400" y="3514680"/>
                <a:ext cx="236520" cy="835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4822920" y="3419280"/>
                <a:ext cx="235080" cy="950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5058000" y="3334680"/>
                <a:ext cx="245880" cy="838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5303880" y="3222360"/>
                <a:ext cx="236520" cy="1123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540400" y="3119040"/>
                <a:ext cx="236520" cy="10260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776920" y="3016080"/>
                <a:ext cx="244440" cy="10296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21360" y="2904840"/>
                <a:ext cx="236520" cy="1108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6257880" y="2792160"/>
                <a:ext cx="236520" cy="1123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6494400" y="2679480"/>
                <a:ext cx="244440" cy="1123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6738840" y="2557440"/>
                <a:ext cx="236880" cy="12168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6975720" y="2444760"/>
                <a:ext cx="236520" cy="11232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7212240" y="2322000"/>
                <a:ext cx="245880" cy="12204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600200" y="1768320"/>
              <a:ext cx="6221520" cy="4502520"/>
              <a:chOff x="1600200" y="1768320"/>
              <a:chExt cx="6221520" cy="4502520"/>
            </a:xfrm>
          </p:grpSpPr>
          <p:sp>
            <p:nvSpPr>
              <p:cNvPr id="149" name=""/>
              <p:cNvSpPr/>
              <p:nvPr/>
            </p:nvSpPr>
            <p:spPr>
              <a:xfrm>
                <a:off x="2171880" y="5629320"/>
                <a:ext cx="48384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ource:  Bureau of Health Professions, National Center for Health Workforce Analysis, Projected Supply, Demand, and Shortages of Registered Nurses:  2000-2020, released July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1600200" y="1768320"/>
                <a:ext cx="6221520" cy="3708720"/>
                <a:chOff x="1600200" y="1768320"/>
                <a:chExt cx="6221520" cy="3708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559240" y="5163840"/>
                  <a:ext cx="52606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3040200" y="5163840"/>
                  <a:ext cx="14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3276720" y="5163840"/>
                  <a:ext cx="14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513240" y="5163840"/>
                  <a:ext cx="14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3757680" y="5163840"/>
                  <a:ext cx="14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3994200" y="5163840"/>
                  <a:ext cx="14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4230720" y="5163840"/>
                  <a:ext cx="14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4475160" y="5163840"/>
                  <a:ext cx="180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4711680" y="5163840"/>
                  <a:ext cx="180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4948200" y="5163840"/>
                  <a:ext cx="180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5194440" y="5163840"/>
                  <a:ext cx="14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5429160" y="5163840"/>
                  <a:ext cx="180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5665680" y="5163840"/>
                  <a:ext cx="180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5902560" y="5163840"/>
                  <a:ext cx="14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6148440" y="5163840"/>
                  <a:ext cx="14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6383520" y="5163840"/>
                  <a:ext cx="14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6620040" y="5163840"/>
                  <a:ext cx="14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6865920" y="5163840"/>
                  <a:ext cx="180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7102440" y="5163840"/>
                  <a:ext cx="180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7338960" y="5163840"/>
                  <a:ext cx="180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7583400" y="5163840"/>
                  <a:ext cx="180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7819920" y="5163840"/>
                  <a:ext cx="180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510640" y="52941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709080" y="52941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899600" y="52941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99840" y="52941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00080" y="5294160"/>
                  <a:ext cx="342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1600200" y="1768320"/>
                  <a:ext cx="1195560" cy="3494160"/>
                  <a:chOff x="1600200" y="1768320"/>
                  <a:chExt cx="1195560" cy="34941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559240" y="1852200"/>
                    <a:ext cx="1440" cy="331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513160" y="5163840"/>
                    <a:ext cx="46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2513160" y="4694040"/>
                    <a:ext cx="46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2513160" y="4215960"/>
                    <a:ext cx="4608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513160" y="3747600"/>
                    <a:ext cx="4608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513160" y="3268440"/>
                    <a:ext cx="46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513160" y="2800080"/>
                    <a:ext cx="46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513160" y="2322360"/>
                    <a:ext cx="46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513160" y="1852200"/>
                    <a:ext cx="4608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V="1">
                    <a:off x="2559240" y="5163840"/>
                    <a:ext cx="1440" cy="4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V="1">
                    <a:off x="2793960" y="5163840"/>
                    <a:ext cx="1800" cy="4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073960" y="5079600"/>
                    <a:ext cx="384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,5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073960" y="4609800"/>
                    <a:ext cx="384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,7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73960" y="4132080"/>
                    <a:ext cx="384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,9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073960" y="3663720"/>
                    <a:ext cx="384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2,1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073960" y="3184200"/>
                    <a:ext cx="384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2,3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073960" y="2715840"/>
                    <a:ext cx="384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2,5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073960" y="2238120"/>
                    <a:ext cx="384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2,7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073960" y="1768320"/>
                    <a:ext cx="384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2,9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6200000">
                    <a:off x="958320" y="3305160"/>
                    <a:ext cx="14666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</a:rPr>
                      <a:t>FTEs (in thousands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9" name=""/>
            <p:cNvSpPr/>
            <p:nvPr/>
          </p:nvSpPr>
          <p:spPr>
            <a:xfrm rot="2038800">
              <a:off x="7225200" y="1752480"/>
              <a:ext cx="157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W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kyrocketing professional liability premiu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1143000"/>
            <a:ext cx="6705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cent of Hospitals with a 10% or Greater Increase In Professional Liability Premi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0-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95280" y="1752480"/>
          <a:ext cx="694224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94224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579840" y="541008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 Change in Premi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5943600"/>
            <a:ext cx="55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 AHA/ASHRM Survey of Hospital Experience with Professional Liability Insura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science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knowledge b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verage/financing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r ro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ography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ing, diversity of socie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ism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expect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force supply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-term short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ty organization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etal decision-making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-b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che” provider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rofit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ates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volume hospit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n’t make the utilization underlying current payment approach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uncompensated care hospit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date for care not matched by mandate for paymen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debt load hospit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nancial inflexibilit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gies for Hospi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ain hands-on care as a core purpo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 24x7x365 ca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lect distinctive local characterist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institution as programs, not facilit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 on consum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information service strateg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own workfor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” for capit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ourage innovative leadershi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3:19:17Z</dcterms:created>
  <dc:creator>AHA</dc:creator>
  <dc:description/>
  <dc:language>en-US</dc:language>
  <cp:lastModifiedBy>Network Administrator</cp:lastModifiedBy>
  <cp:lastPrinted>2002-11-05T18:04:07Z</cp:lastPrinted>
  <dcterms:modified xsi:type="dcterms:W3CDTF">2003-01-07T15:52:23Z</dcterms:modified>
  <cp:revision>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7967771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orkshop: Hospitals</vt:lpwstr>
  </property>
</Properties>
</file>