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72A-36CD-42AD-9386-9D5FAC94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B86-20EE-400C-A8C9-B2B85F53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F53-6D20-4314-85C9-0DEDB754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46A-C39E-45CB-B8D3-4455A3DF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3D2-11E8-4264-8EF4-5E92B3DE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B2C1-B093-4382-B368-73EB1D32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BAB-E91A-48CA-BC4E-BB696DBD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F84-33EE-44E0-A93D-FC051FBB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183-8CC9-4ADE-9C02-DBCDB59E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89E-DCCE-4E8F-8651-197533F5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9F3-F9F5-4101-AD2D-753BEF75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FE7-6246-4C23-B82A-681ACA2F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242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b675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Gloria Bazz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f9fef8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242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b675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BB45-6713-4F04-A09F-31E4D5583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The Big Picture: A Look at Hospitals in a Volatile Healthcare Environment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504960" y="3809880"/>
            <a:ext cx="5257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60000"/>
              </a:lnSpc>
              <a:spcBef>
                <a:spcPts val="195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loria J. Bazzoli, Ph.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fessor of Health Admin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0">
              <a:lnSpc>
                <a:spcPct val="4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rginia Commonwealth 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VCUEmblemC" descr=""/>
          <p:cNvPicPr/>
          <p:nvPr/>
        </p:nvPicPr>
        <p:blipFill>
          <a:blip r:embed="rId1"/>
          <a:stretch/>
        </p:blipFill>
        <p:spPr>
          <a:xfrm>
            <a:off x="8001000" y="57913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Bazzoli%20photo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1887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Trends in Total Margins of DSH and Non-DSH Hospitals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42960" y="2289240"/>
          <a:ext cx="8213760" cy="36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289240"/>
                    <a:ext cx="821376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208160" y="605628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MedPAC Report to Congress, March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6750"/>
                </a:solidFill>
                <a:latin typeface="Arial"/>
              </a:rPr>
              <a:t>The Balance Sheet: UC Costs and Subsidies (billions of $)</a:t>
            </a:r>
            <a:endParaRPr b="0" lang="en-US" sz="36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UC cos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 hospitals:  . . . . . . . . . . . . . . . . . . . . . . . . $18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UC subsidi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 hospit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re DSH . . . . . . . . . . . . . . . . . . $ 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re IME . . . . . . . . . . . . . . . . . . . $ 4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id DS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ss: . . . . . . . . . .$15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: . . . . . . . . . .  ~$ 8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to hospitals: . .  ~60% . . . . . .$ 5.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UC subsidies:  . . . . . . . . . . . . . . . . . . . . . .   $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c5900"/>
                </a:solidFill>
                <a:latin typeface="Arial"/>
              </a:rPr>
              <a:t>DIFFERENCE . . . . . . . . . . .  $ 4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60199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s: Melnick et al., 2000 and Coughlin et al.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b6750"/>
                </a:solidFill>
                <a:latin typeface="Arial"/>
              </a:rPr>
              <a:t>Evidence of Declining Voluntary Charity Care</a:t>
            </a: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cial pressures of urban hospitals leading to reduction in their charity care pro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ian involvement in charity care also appears to be on the dec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ingly, indigent care is concentrated in a small group of hospitals and physic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ther these trends will accelerate or diminish in the future is un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Needed Research:</a:t>
            </a:r>
            <a:br>
              <a:rPr sz="4000"/>
            </a:b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Financial Pressures and Hospital Operations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need to know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s of financial performance on hospital investments in technology and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s of financial performance on quality of patient care and health outc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spital turnaround strategies and their effect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ommunities managed and coped with hospital clo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Needed Research:</a:t>
            </a:r>
            <a:br>
              <a:rPr sz="4000"/>
            </a:b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Hospital Safety Net and Financial Pressures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safety net providers been affected in term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indigent patient volu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ability to maintain physical plant, high cost technology, services and staff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timately, the care received by the indig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State budget crises a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edicaid/SCHIP benefits and eligi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payments and ultimately, provider willingness to participate in State progra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4b6750"/>
                </a:solidFill>
                <a:latin typeface="Arial"/>
              </a:rPr>
              <a:t>Data to Assess Hospital Trends: National Sources</a:t>
            </a: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HA Annual Surv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MS Medicare cost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HRQ National Inpatient Sample (N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data and reports of investment banking fi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Hospital Indicator Survey (commissioned by CMS and MedPAC, conducted by AH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4b6750"/>
                </a:solidFill>
                <a:latin typeface="Arial"/>
              </a:rPr>
              <a:t>Data to Assess Hospital Trends: State Sources</a:t>
            </a: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HCUP initia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Inpatient Discharge (SID) datab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Ambulatory Surgery Database (SASD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spital financial reports filed due to disclosure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spital community benefit reports filed due to disclosure requiremen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Hospital Closures and Mergers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2057400"/>
          <a:ext cx="7162560" cy="33210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523880"/>
                <a:gridCol w="1387440"/>
                <a:gridCol w="1127160"/>
              </a:tblGrid>
              <a:tr h="89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            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g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        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 – 8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9 – 9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 – 9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 – 9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 – 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1062000" y="5486400"/>
            <a:ext cx="69562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n all US registered hospi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AHA Annual Survey, Public Use File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Industry Financial Performance &amp; Closure/Merger Trends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828800"/>
          <a:ext cx="828828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828828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838080" y="5638680"/>
            <a:ext cx="72565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AHA Annual Survey, Public Use File documentation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PAC reports to Congress, 1999 &amp; 20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6750"/>
                </a:solidFill>
                <a:latin typeface="Arial"/>
              </a:rPr>
              <a:t>Organizational Change: Distressed and Non-Distressed Community Hospitals</a:t>
            </a:r>
            <a:endParaRPr b="0" lang="en-US" sz="3600" spc="-1" strike="noStrike">
              <a:solidFill>
                <a:srgbClr val="4b675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2133720"/>
          <a:ext cx="8534520" cy="3657600"/>
        </p:xfrm>
        <a:graphic>
          <a:graphicData uri="http://schemas.openxmlformats.org/drawingml/2006/table">
            <a:tbl>
              <a:tblPr/>
              <a:tblGrid>
                <a:gridCol w="2328840"/>
                <a:gridCol w="1252440"/>
                <a:gridCol w="1731960"/>
                <a:gridCol w="1468440"/>
                <a:gridCol w="17528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-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essed  Not Distres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-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essed       Not Distres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 throu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i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685800" y="57913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Bazzoli and Andes, H&amp;HSA, 1995; analysis replicated for 1994-98 peri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Financial Pressures and Hospital Operations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confronted with financial pressures, hospit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staffing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intensity of service (especially for patients whose payers reduce reimburse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less charity care &amp; limit public health/specialty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k new revenue 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e higher costs of ca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Changes in Hospital Credit Ratings: Last Decade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1847880"/>
            <a:ext cx="68580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Hospital Mergers and Financial Performance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increase in number of mergers in the mid-1990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 to growing market pres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re to develop regional health delivery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suggests merger cost savings ex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in $ am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 of one-time administrative streaml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common in small hospit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ise of savings from clinical consolidation went unfulfil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Hospital Mergers and Financial Performance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suggests mergers increase hospital prices/profi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pecially for high market share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pecially in markets with low managed care penetration &amp; limited hospital com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suggests hospitals gaining leverage vis-à-vis health pla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d care backlash has reduced payer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evidence of provider-insurer “show-down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Special Pressures on Hospital Safety Net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fety net hospitals faced same pressures as other hospitals in 1990s and 2000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l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and growing number of unin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usion about Medicaid eligibility under Welfare Re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tions or limited growth in indigent care subsi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id managed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margins of DSH hospitals have decl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8:35:05Z</dcterms:created>
  <dc:creator>Gloria Bazzoli</dc:creator>
  <dc:description/>
  <dc:language>en-US</dc:language>
  <cp:lastModifiedBy>Network Administrator</cp:lastModifiedBy>
  <dcterms:modified xsi:type="dcterms:W3CDTF">2003-01-07T15:56:03Z</dcterms:modified>
  <cp:revision>19</cp:revision>
  <dc:subject/>
  <dc:title>The Big Picture: A Look at Hospitals in a Volatile Healthcare Environ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90580893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Workshop: Hospitals</vt:lpwstr>
  </property>
</Properties>
</file>