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743200" y="624852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uart Altm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ec"/>
            </a:gs>
            <a:gs pos="100000">
              <a:srgbClr val="0000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ec"/>
            </a:gs>
            <a:gs pos="100000">
              <a:srgbClr val="0000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Big Picture: A Look at Hospitals in a Volatile Healthcare Environ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3809520"/>
            <a:ext cx="495288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art H. Altman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ikin Professor of National Health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lorence Heller Graduate School for Social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deis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altman%20picture" descr=""/>
          <p:cNvPicPr/>
          <p:nvPr/>
        </p:nvPicPr>
        <p:blipFill>
          <a:blip r:embed="rId1"/>
          <a:stretch/>
        </p:blipFill>
        <p:spPr>
          <a:xfrm>
            <a:off x="6219720" y="3886200"/>
            <a:ext cx="173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Growing Demand for Emergency Room Visits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And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The Addition of New Hospital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86960" y="304920"/>
            <a:ext cx="8139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Emergency Department Visits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1990-200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69960" y="1968480"/>
          <a:ext cx="839772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968480"/>
                    <a:ext cx="839772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249440" y="626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dvisory Board – “We Need More Hospitals”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3520" y="2133720"/>
          <a:ext cx="8610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610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0" y="1905120"/>
            <a:ext cx="8915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2819520"/>
            <a:ext cx="3581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e1d2"/>
                </a:solidFill>
                <a:latin typeface="Arial"/>
              </a:rPr>
              <a:t>Additional Hospitals In 20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79840" y="3219480"/>
            <a:ext cx="1843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914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Different As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Hospital Margins Not Keeping Up With Spending Growth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pending Growth Now Dominated by Hospital Servi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76520"/>
          <a:ext cx="8066160" cy="41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06616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5943600"/>
            <a:ext cx="82296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lliman USA Health Cost Index, in Strunk, Gabel and Ginsburg, 2001,Center for Studying Health System Change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2193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rcentage of Yearly Medical Spending Incr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Total Hospital Margin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Beginning To Trend Dow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27120" y="1473120"/>
          <a:ext cx="773100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1473120"/>
                    <a:ext cx="773100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52280" y="6019920"/>
            <a:ext cx="8991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ources: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-2000 Moody’s all rating medians,  2001 AHA national hospital indicators surve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30480" y="2438280"/>
            <a:ext cx="1217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* Estim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And It’s Not Just The Stock Market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1828800"/>
          <a:ext cx="853416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5341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Financial Conditions of Hospitals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In Some States Not Doing Well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981080"/>
          <a:ext cx="76388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76388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295280" y="1981080"/>
            <a:ext cx="647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Hospital Operating Margins 200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9880" y="5410080"/>
            <a:ext cx="840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04640" indent="-404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Demand For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-455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inpatient uti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-455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d growth in outpatient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-455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ED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lerating Cost of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, Inadequate Payment Rates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-455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-455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sured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-4557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spitals Face The Following Dilemm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Look At Increasing Labor Costs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12840" y="1969920"/>
          <a:ext cx="8599320" cy="43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969920"/>
                    <a:ext cx="859932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500960" y="62596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stim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We Count on Higher Payments From Private Payers In Future To Bail Out Lower Payments From Government and Increased Number of Uninsured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ybe---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9384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Monotype Sorts" charset="2"/>
              <a:buChar char="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ess Pressure From Managed Care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ut---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9384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Monotype Sorts" charset="2"/>
              <a:buChar char="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at About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366920" indent="-33984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Monotype Sorts" charset="2"/>
              <a:buChar char="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rowth of Specialty Hospitals, and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366920" indent="-33984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Monotype Sorts" charset="2"/>
              <a:buChar char="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w Non-Hospital Delivery Systems     that Focus on Well Paying Patient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9384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Monotype Sorts" charset="2"/>
              <a:buChar char=""/>
              <a:tabLst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creased Patient Cost Sharing Could Reduce Us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22:38:53Z</dcterms:created>
  <dc:creator>saltman</dc:creator>
  <dc:description/>
  <dc:language>en-US</dc:language>
  <cp:lastModifiedBy>Chris Weaver</cp:lastModifiedBy>
  <dcterms:modified xsi:type="dcterms:W3CDTF">2002-11-13T22:42:1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26502059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orkshop: Hospitals</vt:lpwstr>
  </property>
</Properties>
</file>