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27432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James Ada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13716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mergency Department Overcrowding and Ambulance Divers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487656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69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G. Adams, M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essor and Ch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mergency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thwestern University/Northwestern Memorial 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adams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18288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16597" t="31250" r="29333" b="28124"/>
          <a:stretch/>
        </p:blipFill>
        <p:spPr>
          <a:xfrm>
            <a:off x="152280" y="914400"/>
            <a:ext cx="8763120" cy="4937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19520" y="3886200"/>
            <a:ext cx="685800" cy="380880"/>
          </a:xfrm>
          <a:prstGeom prst="line">
            <a:avLst/>
          </a:prstGeom>
          <a:ln w="93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20040" y="3581280"/>
            <a:ext cx="1622520" cy="459720"/>
          </a:xfrm>
          <a:prstGeom prst="rect">
            <a:avLst/>
          </a:prstGeom>
          <a:solidFill>
            <a:srgbClr val="a5e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Ad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952880"/>
            <a:ext cx="1219320" cy="381240"/>
          </a:xfrm>
          <a:prstGeom prst="ellipse">
            <a:avLst/>
          </a:prstGeom>
          <a:noFill/>
          <a:ln w="5724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657240" y="1752120"/>
            <a:ext cx="609480" cy="1143000"/>
          </a:xfrm>
          <a:prstGeom prst="line">
            <a:avLst/>
          </a:prstGeom>
          <a:ln w="93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5280" y="2666880"/>
            <a:ext cx="2207520" cy="459720"/>
          </a:xfrm>
          <a:prstGeom prst="rect">
            <a:avLst/>
          </a:prstGeom>
          <a:solidFill>
            <a:srgbClr val="a5e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Total Regis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580920" y="2209680"/>
            <a:ext cx="228600" cy="1067040"/>
          </a:xfrm>
          <a:prstGeom prst="line">
            <a:avLst/>
          </a:prstGeom>
          <a:ln w="93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79480" y="3276720"/>
            <a:ext cx="1834200" cy="459720"/>
          </a:xfrm>
          <a:prstGeom prst="rect">
            <a:avLst/>
          </a:prstGeom>
          <a:solidFill>
            <a:srgbClr val="a5e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Total Tr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 can predict problems tomorrow by projecting, 24 hours in advance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ed ED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ed dis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s/direct ad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hospital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would we want to predict problem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can predict problems that will occur tomorrow, we can respond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fail to adequately respond, at least we c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that we are optimally managing the system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 out ways to manage better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that there is simply no capacit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ce we predict a problem, then wha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y medical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y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y managers and key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y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e work to be do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, rad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ment, rides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can we begin this proces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spital system must work together as a wh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mands of the ED, including bottlenecks, must be moni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level, ESI T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time process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monitor the hospital 24 hours in advance of problems, we also must monitor the ED on a real-time basis in order to identify unanticipated problems, bottlenecks, and su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9567" t="28457" r="33395" b="46375"/>
          <a:stretch/>
        </p:blipFill>
        <p:spPr>
          <a:xfrm>
            <a:off x="228600" y="1828800"/>
            <a:ext cx="8763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8:02:27Z</dcterms:created>
  <dc:creator>Jonathan A. Handler, MD, FACEP</dc:creator>
  <dc:description/>
  <dc:language>en-US</dc:language>
  <cp:lastModifiedBy>Samantha Vargas</cp:lastModifiedBy>
  <cp:lastPrinted>2002-11-05T17:58:39Z</cp:lastPrinted>
  <dcterms:modified xsi:type="dcterms:W3CDTF">2003-06-26T18:58:37Z</dcterms:modified>
  <cp:revision>143</cp:revision>
  <dc:subject/>
  <dc:title>ED Informatics: The Promise and the Re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66763778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pdated Adams' materials (Hospitals 11/02)</vt:lpwstr>
  </property>
  <property fmtid="{D5CDD505-2E9C-101B-9397-08002B2CF9AE}" pid="6" name="_PreviousAdHocReviewCycleID">
    <vt:r8>518960414</vt:r8>
  </property>
</Properties>
</file>