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E437F8-C124-4575-AABD-614AD8CF7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neeweiss intro sli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pri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aving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Columbi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P in B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rma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dit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effec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ing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rativ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84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0680" y="645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DSC_0008" descr=""/>
          <p:cNvPicPr/>
          <p:nvPr/>
        </p:nvPicPr>
        <p:blipFill>
          <a:blip r:embed="rId1"/>
          <a:srcRect l="12687" t="8202" r="28598" b="35032"/>
          <a:stretch/>
        </p:blipFill>
        <p:spPr>
          <a:xfrm>
            <a:off x="3809880" y="3886200"/>
            <a:ext cx="182880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60020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bastian Schneeweiss, M.D., Sc.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structor in Medicine and Epidem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rector for Policy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vision of Pharmacoepidemiology and Pharmacoecono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righam and Women’s Hospital and Harvard Medical Sch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08000"/>
            <a:ext cx="8381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Designing Pharmacy Benefits to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Improve Quality and Contain Cost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 price changes in high-priced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E inhibitors related to R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0920" y="1677960"/>
          <a:ext cx="6116760" cy="46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677960"/>
                    <a:ext cx="611676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 health care saving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23960" y="1663560"/>
          <a:ext cx="5919840" cy="47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1663560"/>
                    <a:ext cx="5919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 Drug Pric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 British Columbia (BC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657600"/>
            <a:ext cx="533520" cy="21337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590920"/>
            <a:ext cx="533520" cy="1066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1905120"/>
            <a:ext cx="53352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365760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429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ference pr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73392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66688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35360" y="46054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id by drug benefits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60840" y="276084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ut-of-pocket con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2590920"/>
            <a:ext cx="152640" cy="3200400"/>
          </a:xfrm>
          <a:custGeom>
            <a:avLst/>
            <a:gdLst>
              <a:gd name="textAreaLeft" fmla="*/ 0 w 152640"/>
              <a:gd name="textAreaRight" fmla="*/ 55080 w 1526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71"/>
                </a:lnTo>
                <a:cubicBezTo>
                  <a:pt x="10800" y="10071"/>
                  <a:pt x="16200" y="10971"/>
                  <a:pt x="21600" y="10971"/>
                </a:cubicBezTo>
                <a:cubicBezTo>
                  <a:pt x="16200" y="10971"/>
                  <a:pt x="10800" y="11871"/>
                  <a:pt x="10800" y="1277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38862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tal drug pr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4200" y="4029120"/>
            <a:ext cx="2847960" cy="18745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pricing policy but a reimbursement poli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 Pricing in BC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of reference pricing (RP) for ACE inhibitors and calcium channel blockers on January 1, 199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 RP policy affects all elderly persons (65 years or old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pricing came with exemptions for frail elderly patients that were generously approved by Pharma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armacy savings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 prevalent ACEI us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25640" y="1603440"/>
          <a:ext cx="6838920" cy="48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603440"/>
                    <a:ext cx="683892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383080" y="3638520"/>
            <a:ext cx="2065320" cy="738360"/>
          </a:xfrm>
          <a:prstGeom prst="wedgeRectCallout">
            <a:avLst>
              <a:gd name="adj1" fmla="val -56074"/>
              <a:gd name="adj2" fmla="val -15043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e"/>
                </a:solidFill>
                <a:latin typeface="Arial"/>
              </a:rPr>
              <a:t>12 month saving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e"/>
                </a:solidFill>
                <a:latin typeface="Arial"/>
              </a:rPr>
              <a:t>$6,7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4680" y="5913360"/>
            <a:ext cx="31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J Can Med Assoc,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xpenditures for additional visits in prevalent ACEI us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0560" y="507960"/>
          <a:ext cx="746748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507960"/>
                    <a:ext cx="746748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2590920" y="5029200"/>
            <a:ext cx="5029200" cy="489600"/>
            <a:chOff x="2590920" y="5029200"/>
            <a:chExt cx="5029200" cy="489600"/>
          </a:xfrm>
        </p:grpSpPr>
        <p:sp>
          <p:nvSpPr>
            <p:cNvPr id="108" name=""/>
            <p:cNvSpPr/>
            <p:nvPr/>
          </p:nvSpPr>
          <p:spPr>
            <a:xfrm>
              <a:off x="2590920" y="5029200"/>
              <a:ext cx="5029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90920" y="5181480"/>
              <a:ext cx="2133720" cy="3373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aseline lev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854600" y="3859200"/>
            <a:ext cx="2568600" cy="627120"/>
          </a:xfrm>
          <a:prstGeom prst="wedgeRectCallout">
            <a:avLst>
              <a:gd name="adj1" fmla="val -42583"/>
              <a:gd name="adj2" fmla="val 132787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expendit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visits: $7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9520" y="6019920"/>
            <a:ext cx="28144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N Engl J Med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J Clin Epi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82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duced time between visits in patients who switched ACE inhibito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2057400"/>
          <a:ext cx="9144000" cy="37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914400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5676840" y="59850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J Am Geriatr Assoc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 effect on other health servi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oncluded in earlier work that there is no increase in the incidence of hospital admissions or emergency room hospitaliz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effect on admissions to long-term care fac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effect on mort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6324480"/>
            <a:ext cx="2814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N Engl J Med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armacy savings in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cident ACEI us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54160" y="1568520"/>
          <a:ext cx="7329600" cy="48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568520"/>
                    <a:ext cx="73296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961240" y="5680080"/>
            <a:ext cx="2814480" cy="662040"/>
          </a:xfrm>
          <a:prstGeom prst="wedgeRectCallout">
            <a:avLst>
              <a:gd name="adj1" fmla="val -55921"/>
              <a:gd name="adj2" fmla="val -145685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month savings: $2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 month savings: $800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dministrative costs for prior authorization of RP drug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66880" y="2076480"/>
          <a:ext cx="10037520" cy="44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2076480"/>
                    <a:ext cx="1003752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4995720" y="5410080"/>
            <a:ext cx="35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neeweiss et al. Health Economics, submit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AHRQ</cp:lastModifiedBy>
  <cp:lastPrinted>2002-09-16T19:38:54Z</cp:lastPrinted>
  <dcterms:modified xsi:type="dcterms:W3CDTF">2003-06-27T17:58:08Z</dcterms:modified>
  <cp:revision>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8265258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: high costs and HC</vt:lpwstr>
  </property>
  <property fmtid="{D5CDD505-2E9C-101B-9397-08002B2CF9AE}" pid="6" name="_PreviousAdHocReviewCycleID">
    <vt:r8>-2112559722</vt:r8>
  </property>
</Properties>
</file>