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embeddings/oleObject1.xlsx" ContentType="application/vnd.openxmlformats-officedocument.spreadsheetml.shee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0" y="0"/>
            <a:ext cx="69840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ldImg"/>
          </p:nvPr>
        </p:nvSpPr>
        <p:spPr>
          <a:xfrm>
            <a:off x="1174320" y="698400"/>
            <a:ext cx="4635720" cy="3476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249960" y="8883000"/>
            <a:ext cx="933480" cy="3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5360" bIns="45360" anchor="ctr">
            <a:sp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7D3B4CD4-18C9-49B3-A20B-A7AFCAA4520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74680" y="69840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hneeweiss intro slide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74680" y="69840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price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74680" y="69840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saving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74680" y="69840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itish Columbia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74680" y="69840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P in BC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74680" y="69840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armacy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74680" y="69840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nditure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74680" y="69840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d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74680" y="69840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effect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74680" y="69840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ving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74680" y="69840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ministrative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74840" y="1676520"/>
            <a:ext cx="81943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4840" y="3826080"/>
            <a:ext cx="81943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74840" y="1676520"/>
            <a:ext cx="3998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3520" y="1676520"/>
            <a:ext cx="3998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74840" y="3826080"/>
            <a:ext cx="3998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3520" y="3826080"/>
            <a:ext cx="3998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74840" y="1676520"/>
            <a:ext cx="2638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45760" y="1676520"/>
            <a:ext cx="2638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16320" y="1676520"/>
            <a:ext cx="2638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840" y="3826080"/>
            <a:ext cx="2638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45760" y="3826080"/>
            <a:ext cx="2638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16320" y="3826080"/>
            <a:ext cx="2638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474840" y="1676520"/>
            <a:ext cx="81943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74840" y="1676520"/>
            <a:ext cx="81943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4840" y="1676520"/>
            <a:ext cx="39985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3520" y="1676520"/>
            <a:ext cx="39985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406080" y="285480"/>
            <a:ext cx="772164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74840" y="1676520"/>
            <a:ext cx="3998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3520" y="1676520"/>
            <a:ext cx="39985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74840" y="3826080"/>
            <a:ext cx="3998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74840" y="1676520"/>
            <a:ext cx="81943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74840" y="1676520"/>
            <a:ext cx="39985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3520" y="1676520"/>
            <a:ext cx="3998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673520" y="3826080"/>
            <a:ext cx="3998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74840" y="1676520"/>
            <a:ext cx="3998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520" y="1676520"/>
            <a:ext cx="3998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74840" y="3826080"/>
            <a:ext cx="81943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74840" y="1676520"/>
            <a:ext cx="81943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840" y="3826080"/>
            <a:ext cx="81943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74840" y="1676520"/>
            <a:ext cx="3998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76520"/>
            <a:ext cx="3998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4840" y="3826080"/>
            <a:ext cx="3998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4673520" y="3826080"/>
            <a:ext cx="3998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74840" y="1676520"/>
            <a:ext cx="2638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245760" y="1676520"/>
            <a:ext cx="2638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16320" y="1676520"/>
            <a:ext cx="2638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74840" y="3826080"/>
            <a:ext cx="2638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3245760" y="3826080"/>
            <a:ext cx="2638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6016320" y="3826080"/>
            <a:ext cx="2638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74840" y="1676520"/>
            <a:ext cx="81943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74840" y="1676520"/>
            <a:ext cx="39985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3520" y="1676520"/>
            <a:ext cx="39985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06080" y="285480"/>
            <a:ext cx="772164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74840" y="1676520"/>
            <a:ext cx="3998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3520" y="1676520"/>
            <a:ext cx="39985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74840" y="3826080"/>
            <a:ext cx="3998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74840" y="1676520"/>
            <a:ext cx="39985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3520" y="1676520"/>
            <a:ext cx="3998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3520" y="3826080"/>
            <a:ext cx="3998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74840" y="1676520"/>
            <a:ext cx="3998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3520" y="1676520"/>
            <a:ext cx="3998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4840" y="3826080"/>
            <a:ext cx="81943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e"/>
            </a:gs>
            <a:gs pos="100000">
              <a:srgbClr val="0076e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74840" y="1676520"/>
            <a:ext cx="81943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spcBef>
                <a:spcPts val="7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spcBef>
                <a:spcPts val="79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560">
              <a:spcBef>
                <a:spcPts val="7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782720" indent="-228600">
              <a:spcBef>
                <a:spcPts val="799"/>
              </a:spcBef>
              <a:buClr>
                <a:srgbClr val="ff00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1258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1258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1258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e"/>
            </a:gs>
            <a:gs pos="100000">
              <a:srgbClr val="0076e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77880" y="1905120"/>
            <a:ext cx="778824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e"/>
            </a:gs>
            <a:gs pos="100000">
              <a:srgbClr val="0076e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847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730680" y="645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1" name="DSC_0008" descr=""/>
          <p:cNvPicPr/>
          <p:nvPr/>
        </p:nvPicPr>
        <p:blipFill>
          <a:blip r:embed="rId1"/>
          <a:srcRect l="12687" t="8202" r="28598" b="35032"/>
          <a:stretch/>
        </p:blipFill>
        <p:spPr>
          <a:xfrm>
            <a:off x="3809880" y="3886200"/>
            <a:ext cx="1828800" cy="242892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0" y="1600200"/>
            <a:ext cx="9144000" cy="21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Sebastian Schneeweiss, M.D., Sc.D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Instructor in Medicine and Epidemiolog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Director for Policy Stud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Division of Pharmacoepidemiology and Pharmacoeconomic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Brigham and Women’s Hospital and Harvard Medical Schoo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57200" y="108000"/>
            <a:ext cx="838188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00"/>
                </a:solidFill>
                <a:latin typeface="Arial"/>
              </a:rPr>
              <a:t>Designing Pharmacy Benefits to 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00"/>
                </a:solidFill>
                <a:latin typeface="Arial"/>
              </a:rPr>
              <a:t>Improve Quality and Contain Costs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e"/>
            </a:gs>
            <a:gs pos="100000">
              <a:srgbClr val="0076e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No price changes in high-priced 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ACE inhibitors related to RP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1150920" y="1677960"/>
          <a:ext cx="6116760" cy="4619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50920" y="1677960"/>
                    <a:ext cx="6116760" cy="461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e"/>
            </a:gs>
            <a:gs pos="100000">
              <a:srgbClr val="0076e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Net health care saving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1623960" y="1663560"/>
          <a:ext cx="5919840" cy="4703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23960" y="1663560"/>
                    <a:ext cx="5919840" cy="470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e"/>
            </a:gs>
            <a:gs pos="100000">
              <a:srgbClr val="0076e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Reference Drug Pricing 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in British Columbia (BC)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581280" y="3657600"/>
            <a:ext cx="533520" cy="2133720"/>
          </a:xfrm>
          <a:prstGeom prst="rect">
            <a:avLst/>
          </a:prstGeom>
          <a:solidFill>
            <a:srgbClr val="00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581280" y="2590920"/>
            <a:ext cx="533520" cy="1066680"/>
          </a:xfrm>
          <a:prstGeom prst="rect">
            <a:avLst/>
          </a:prstGeom>
          <a:solidFill>
            <a:srgbClr val="fafd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581280" y="1905120"/>
            <a:ext cx="533520" cy="6858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895480" y="3657600"/>
            <a:ext cx="45720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33520" y="3429000"/>
            <a:ext cx="243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Reference pri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343400" y="3733920"/>
            <a:ext cx="228600" cy="2057400"/>
          </a:xfrm>
          <a:custGeom>
            <a:avLst/>
            <a:gdLst>
              <a:gd name="textAreaLeft" fmla="*/ 0 w 228600"/>
              <a:gd name="textAreaRight" fmla="*/ 82440 w 22860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43400" y="2666880"/>
            <a:ext cx="228600" cy="914400"/>
          </a:xfrm>
          <a:custGeom>
            <a:avLst/>
            <a:gdLst>
              <a:gd name="textAreaLeft" fmla="*/ 0 w 228600"/>
              <a:gd name="textAreaRight" fmla="*/ 8244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635360" y="4605480"/>
            <a:ext cx="2438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Paid by drug benefits progra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560840" y="2760840"/>
            <a:ext cx="220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Out-of-pocket contribu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781680" y="2590920"/>
            <a:ext cx="152640" cy="3200400"/>
          </a:xfrm>
          <a:custGeom>
            <a:avLst/>
            <a:gdLst>
              <a:gd name="textAreaLeft" fmla="*/ 0 w 152640"/>
              <a:gd name="textAreaRight" fmla="*/ 55080 w 152640"/>
              <a:gd name="textAreaTop" fmla="*/ 83160 h 3200400"/>
              <a:gd name="textAreaBottom" fmla="*/ 3117240 h 3200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171"/>
                </a:lnTo>
                <a:cubicBezTo>
                  <a:pt x="10800" y="10071"/>
                  <a:pt x="16200" y="10971"/>
                  <a:pt x="21600" y="10971"/>
                </a:cubicBezTo>
                <a:cubicBezTo>
                  <a:pt x="16200" y="10971"/>
                  <a:pt x="10800" y="11871"/>
                  <a:pt x="10800" y="12771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238880" y="3886200"/>
            <a:ext cx="1600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Total drug pri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84200" y="4029120"/>
            <a:ext cx="2847960" cy="1874520"/>
          </a:xfrm>
          <a:prstGeom prst="rect">
            <a:avLst/>
          </a:prstGeom>
          <a:solidFill>
            <a:srgbClr val="ffff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P is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no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 pricing policy but a reimbursement polic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e"/>
            </a:gs>
            <a:gs pos="100000">
              <a:srgbClr val="0076e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857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Reference Pricing in BC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74840" y="1676520"/>
            <a:ext cx="81943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roduction of reference pricing (RP) for ACE inhibitors and calcium channel blockers on January 1, 1997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new RP policy affects all elderly persons (65 years or older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ference pricing came with exemptions for frail elderly patients that were generously approved by Pharmacar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e"/>
            </a:gs>
            <a:gs pos="100000">
              <a:srgbClr val="0076e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Pharmacy savings 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in prevalent ACEI user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1025640" y="1603440"/>
          <a:ext cx="6838920" cy="4813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25640" y="1603440"/>
                    <a:ext cx="6838920" cy="481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"/>
          <p:cNvSpPr/>
          <p:nvPr/>
        </p:nvSpPr>
        <p:spPr>
          <a:xfrm>
            <a:off x="5383080" y="3638520"/>
            <a:ext cx="2065320" cy="738360"/>
          </a:xfrm>
          <a:prstGeom prst="wedgeRectCallout">
            <a:avLst>
              <a:gd name="adj1" fmla="val -56074"/>
              <a:gd name="adj2" fmla="val -150430"/>
            </a:avLst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e"/>
                </a:solidFill>
                <a:latin typeface="Arial"/>
              </a:rPr>
              <a:t>12 month savings: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e"/>
                </a:solidFill>
                <a:latin typeface="Arial"/>
              </a:rPr>
              <a:t>$6,700,0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4680" y="5913360"/>
            <a:ext cx="31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chneeweiss et al. J Can Med Assoc, 200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e"/>
            </a:gs>
            <a:gs pos="100000">
              <a:srgbClr val="0076e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Expenditures for additional visits in prevalent ACEI user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1060560" y="507960"/>
          <a:ext cx="7467480" cy="5823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0560" y="507960"/>
                    <a:ext cx="7467480" cy="582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7" name=""/>
          <p:cNvGrpSpPr/>
          <p:nvPr/>
        </p:nvGrpSpPr>
        <p:grpSpPr>
          <a:xfrm>
            <a:off x="2590920" y="5029200"/>
            <a:ext cx="5029200" cy="489600"/>
            <a:chOff x="2590920" y="5029200"/>
            <a:chExt cx="5029200" cy="489600"/>
          </a:xfrm>
        </p:grpSpPr>
        <p:sp>
          <p:nvSpPr>
            <p:cNvPr id="108" name=""/>
            <p:cNvSpPr/>
            <p:nvPr/>
          </p:nvSpPr>
          <p:spPr>
            <a:xfrm>
              <a:off x="2590920" y="5029200"/>
              <a:ext cx="5029200" cy="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590920" y="5181480"/>
              <a:ext cx="2133720" cy="33732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Baseline level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0" name=""/>
          <p:cNvSpPr/>
          <p:nvPr/>
        </p:nvSpPr>
        <p:spPr>
          <a:xfrm>
            <a:off x="4854600" y="3859200"/>
            <a:ext cx="2568600" cy="627120"/>
          </a:xfrm>
          <a:prstGeom prst="wedgeRectCallout">
            <a:avLst>
              <a:gd name="adj1" fmla="val -42583"/>
              <a:gd name="adj2" fmla="val 132787"/>
            </a:avLst>
          </a:prstGeom>
          <a:solidFill>
            <a:srgbClr val="fafd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ditional expenditur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 visits: $700,0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329520" y="6019920"/>
            <a:ext cx="281448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chneeweiss et al. N Engl J Med 200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chneeweiss et al. J Clin Epi 200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e"/>
            </a:gs>
            <a:gs pos="100000">
              <a:srgbClr val="0076e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821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Reduced time between visits in patients who switched ACE inhibitors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228600" y="2057400"/>
          <a:ext cx="9144000" cy="3794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057400"/>
                    <a:ext cx="9144000" cy="379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"/>
          <p:cNvSpPr/>
          <p:nvPr/>
        </p:nvSpPr>
        <p:spPr>
          <a:xfrm>
            <a:off x="5676840" y="5985000"/>
            <a:ext cx="331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chneeweiss et al. J Am Geriatr Assoc 200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e"/>
            </a:gs>
            <a:gs pos="100000">
              <a:srgbClr val="0076e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39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No effect on other health service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74840" y="1676520"/>
            <a:ext cx="81943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concluded in earlier work that there is no increase in the incidence of hospital admissions or emergency room hospitalizat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 effect on admissions to long-term care faciliti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 effect on mortalit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95880" y="6324480"/>
            <a:ext cx="281484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chneeweiss et al. N Engl J Med 200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e"/>
            </a:gs>
            <a:gs pos="100000">
              <a:srgbClr val="0076e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Pharmacy savings in 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incident ACEI user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1154160" y="1568520"/>
          <a:ext cx="7329600" cy="4843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54160" y="1568520"/>
                    <a:ext cx="7329600" cy="484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"/>
          <p:cNvSpPr/>
          <p:nvPr/>
        </p:nvSpPr>
        <p:spPr>
          <a:xfrm>
            <a:off x="5961240" y="5680080"/>
            <a:ext cx="2814480" cy="662040"/>
          </a:xfrm>
          <a:prstGeom prst="wedgeRectCallout">
            <a:avLst>
              <a:gd name="adj1" fmla="val -55921"/>
              <a:gd name="adj2" fmla="val -145685"/>
            </a:avLst>
          </a:prstGeom>
          <a:solidFill>
            <a:srgbClr val="fafd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2 month savings: $200,0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4 month savings: $800,0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e"/>
            </a:gs>
            <a:gs pos="100000">
              <a:srgbClr val="0076e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Administrative costs for prior authorization of RP drug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866880" y="2076480"/>
          <a:ext cx="10037520" cy="4486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6880" y="2076480"/>
                    <a:ext cx="10037520" cy="448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"/>
          <p:cNvSpPr/>
          <p:nvPr/>
        </p:nvSpPr>
        <p:spPr>
          <a:xfrm>
            <a:off x="4995720" y="5410080"/>
            <a:ext cx="350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chneeweiss et al. Health Economics, submitt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4T17:15:37Z</dcterms:created>
  <dc:creator>Carolyn Clancy</dc:creator>
  <dc:description/>
  <dc:language>en-US</dc:language>
  <cp:lastModifiedBy>AHRQ</cp:lastModifiedBy>
  <cp:lastPrinted>2002-09-16T19:38:54Z</cp:lastPrinted>
  <dcterms:modified xsi:type="dcterms:W3CDTF">2003-06-27T17:58:08Z</dcterms:modified>
  <cp:revision>67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998265258</vt:r8>
  </property>
  <property fmtid="{D5CDD505-2E9C-101B-9397-08002B2CF9AE}" pid="3" name="_AuthorEmail">
    <vt:lpwstr>JBokow@ahrq.gov</vt:lpwstr>
  </property>
  <property fmtid="{D5CDD505-2E9C-101B-9397-08002B2CF9AE}" pid="4" name="_AuthorEmailDisplayName">
    <vt:lpwstr>Bokow, Jerry</vt:lpwstr>
  </property>
  <property fmtid="{D5CDD505-2E9C-101B-9397-08002B2CF9AE}" pid="5" name="_EmailSubject">
    <vt:lpwstr>ULP teleconference: high costs and HC</vt:lpwstr>
  </property>
  <property fmtid="{D5CDD505-2E9C-101B-9397-08002B2CF9AE}" pid="6" name="_PreviousAdHocReviewCycleID">
    <vt:r8>-2112559722</vt:r8>
  </property>
</Properties>
</file>