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ldImg"/>
          </p:nvPr>
        </p:nvSpPr>
        <p:spPr>
          <a:xfrm>
            <a:off x="1174320" y="698400"/>
            <a:ext cx="4635720" cy="347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249960" y="8883000"/>
            <a:ext cx="9334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3A97FDB-7A1A-47D3-8458-097898CE43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ta intro slid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info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e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class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xibilit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chas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on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4576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632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84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4576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632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06080" y="285480"/>
            <a:ext cx="772164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4576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1632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484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4576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1632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06080" y="285480"/>
            <a:ext cx="772164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-22860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7880" y="1905120"/>
            <a:ext cx="77882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spcBef>
                <a:spcPts val="4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ohpr.state.or.us/" TargetMode="External"/><Relationship Id="rId2" Type="http://schemas.openxmlformats.org/officeDocument/2006/relationships/hyperlink" Target="mailto:rxhelp@state.or.us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882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REGON’S APPROACH TO PRESCRIPTION DRUG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066320" y="320040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hn Santa, M.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ministr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ice of Oregon Health Policy and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172200" y="3276720"/>
            <a:ext cx="1515960" cy="20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ore Information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rds of process at </a:t>
            </a:r>
            <a:r>
              <a:rPr b="0" lang="en-US" sz="32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www.ohpr.state.or.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orts at oregonrx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ail comments/questions to </a:t>
            </a:r>
            <a:r>
              <a:rPr b="0" lang="en-US" sz="3200" spc="-1" strike="noStrike" u="sng">
                <a:solidFill>
                  <a:srgbClr val="fafd00"/>
                </a:solidFill>
                <a:uFillTx/>
                <a:latin typeface="Arial"/>
                <a:hlinkClick r:id="rId2"/>
              </a:rPr>
              <a:t>rxhelp@state.or.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officials call John Santa at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503) 378-2422 x40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rincipl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 on health not health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gotiate for va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resent the po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ist on a functional marketpl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reating a Functional Marke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 on specific cla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credible, public, evidence-based review of comparative effectiveness within the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chase with the evidence in m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e the evi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ssion/Discip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0" y="0"/>
          <a:ext cx="9144000" cy="65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320040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Months-1/00 to 6/0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6668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$/M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304920"/>
            <a:ext cx="2361960" cy="947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Dollar Market Sh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First Four Clas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12000" cy="437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PPIs/heartbur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—”no significant demonstrable differences among them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Long-acting opioi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—”insufficient evidence to draw any conclusions about the comparative effectivenes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Statins/cholesterol lower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”evidence supports the ability of lovastatin, pravastatin and simvastatin to improve coronary heart disease clinical outcomes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 NSAI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—”no evidence to demonstrate a significant difference in efficacy among COX-2 inhibitors, COX-2 preferential NSAIDs, and non-selective NSAIDs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PI: Proton Pump Inhibitor                NSAID: non-steroidal anti-inflammatory drug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ndividual Flexibility-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merging Continuum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ian driven exception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driven prior author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or tiered copay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ideline driven prior authorization (hopefully evidence-bas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urchasing Strategy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y your game not theirs—evidence vs. marketing, price vs. rebates, remove/expose conflict of inte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llenge the industry to compete/discl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llenge physicians to do “the right th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incentives to patients and doctors that promote compet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ck, bob and we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ther Opt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ferred Pharmacie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ered copayments for optional popul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borative purcha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ase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85480"/>
            <a:ext cx="7594560" cy="85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ext Steps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356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s collaborate on evidence-based reviews—reduce costs, speed the process, updates, share find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ourage the use of AHRQ Evidence-based Practice Centers, Cochrane Collaborative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e the evi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4T17:15:37Z</dcterms:created>
  <dc:creator>Carolyn Clancy</dc:creator>
  <dc:description/>
  <dc:language>en-US</dc:language>
  <cp:lastModifiedBy>AHRQ</cp:lastModifiedBy>
  <cp:lastPrinted>2002-09-16T19:38:54Z</cp:lastPrinted>
  <dcterms:modified xsi:type="dcterms:W3CDTF">2003-06-30T14:10:53Z</dcterms:modified>
  <cp:revision>6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288232738</vt:r8>
  </property>
  <property fmtid="{D5CDD505-2E9C-101B-9397-08002B2CF9AE}" pid="3" name="_AuthorEmail">
    <vt:lpwstr>JBokow@ahrq.gov</vt:lpwstr>
  </property>
  <property fmtid="{D5CDD505-2E9C-101B-9397-08002B2CF9AE}" pid="4" name="_AuthorEmailDisplayName">
    <vt:lpwstr>Bokow, Jerry</vt:lpwstr>
  </property>
  <property fmtid="{D5CDD505-2E9C-101B-9397-08002B2CF9AE}" pid="5" name="_EmailSubject">
    <vt:lpwstr>ULP teleconference: high costs and HC</vt:lpwstr>
  </property>
  <property fmtid="{D5CDD505-2E9C-101B-9397-08002B2CF9AE}" pid="6" name="_PreviousAdHocReviewCycleID">
    <vt:r8>-947309907</vt:r8>
  </property>
</Properties>
</file>