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124A3D-1768-4975-86F9-211884DF1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ta intro sli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inf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clas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i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hpr.state.or.us/" TargetMode="External"/><Relationship Id="rId2" Type="http://schemas.openxmlformats.org/officeDocument/2006/relationships/hyperlink" Target="mailto:rxhelp@state.or.u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EGON’S APPROACH TO PRESCRIPTION DRUG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66320" y="320040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Santa,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of Oregon Health Policy an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515960" cy="20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ore Informat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of process at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ohpr.state.or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s at oregonrx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comments/questions to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rxhelp@state.or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officials call John Santa a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03) 378-2422 x4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health not heal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otiate for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 th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ist on a functional market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reating a Functional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specific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redible, public, evidence-based review of comparative effectivenes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 with the evidence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the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ssion/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20040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onths-1/00 to 6/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66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$/M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04920"/>
            <a:ext cx="236196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ollar Market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rst Four Clas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12000" cy="43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PPIs/heartb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no significant demonstrable differences among the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Long-acting opio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insufficient evidence to draw any conclusions about the comparative effectivenes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Statins/cholesterol low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”evidence supports the ability of lovastatin, pravastatin and simvastatin to improve coronary heart disease clinical outcom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NSA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”no evidence to demonstrate a significant difference in efficacy among COX-2 inhibitors, COX-2 preferential NSAIDs, and non-selective NSAID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I: Proton Pump Inhibitor                NSAID: non-steroidal anti-inflammatory dru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dividual Flexibility-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erging Continu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driven excep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driven prior autho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or tiered co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line driven prior authorization (hopefully evidence-bas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chasing Strateg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your game not theirs—evidence vs. marketing, price vs. rebates, remove/expose conflict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 industry to compete/dis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physicians to do “the right t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ncentives to patients and doctors that promote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k, bob and we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Op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red Pharmac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ed copayments for optional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purch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85480"/>
            <a:ext cx="759456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xt Step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35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collaborate on evidence-based reviews—reduce costs, speed the process, updates, share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he use of AHRQ Evidence-based Practice Centers, Cochrane Collaborative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the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AHRQ</cp:lastModifiedBy>
  <cp:lastPrinted>2002-09-16T19:38:54Z</cp:lastPrinted>
  <dcterms:modified xsi:type="dcterms:W3CDTF">2003-06-30T14:10:53Z</dcterms:modified>
  <cp:revision>6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8232738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: high costs and HC</vt:lpwstr>
  </property>
  <property fmtid="{D5CDD505-2E9C-101B-9397-08002B2CF9AE}" pid="6" name="_PreviousAdHocReviewCycleID">
    <vt:r8>-947309907</vt:r8>
  </property>
</Properties>
</file>