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18CAA2-3CF6-4210-BB59-6A25C599D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utsky intr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1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2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3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Web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701640"/>
            <a:ext cx="462924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-practi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-block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-be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Mgm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uideline.gov/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Guidelines:  Building Blocks for Effective Chronic Illness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n Slutsky, P.A., M.S.P.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National Guideline Clearing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Director, US Preventive Services Task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86200" y="4495680"/>
          <a:ext cx="722952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495680"/>
                    <a:ext cx="722952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670880" cy="100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Summ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5011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ronic illness care should be based on the best available evid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op, look, and listen” and make sure that you know what you are using: who developed it, how good is the information, and is it curr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guideline.gov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 provides access to evidence-based guidelin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654400">
            <a:off x="5867280" y="2971800"/>
            <a:ext cx="2252880" cy="7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ding the Evide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8,000 completed references are added to MEDLINE each week (over 400,000 added per ye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for any one person to eval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ertainty results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s in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and over utilization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tting Evidence into Practi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ay take as long as 17 years for original research to be put into routine clinical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urce: Balas EA, Boren SA. Managing Clinical Knowledge for Health Care Improvement. Yearbook of Medical Informatics. Schattauer, 2000: 65-7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cumented Variation in Treatment of Congestive Heart Fail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680" y="1600200"/>
          <a:ext cx="897732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600200"/>
                    <a:ext cx="89773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2120" y="6172200"/>
            <a:ext cx="556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ective Clinical Pract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March/April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1400" y="1600200"/>
            <a:ext cx="320976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9 hospitals in 5 sta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77 patients with CH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76708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nder-use of Beta-bloc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4840" y="1447920"/>
            <a:ext cx="8194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pite strong evidence that use of beta-blockers following acute myocardial infarction (AMI) decreases morbidity and mortality, they are substantially under used in the elderl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ta-blocker prophylaxis after AMI is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one of the most scientifically substantiated, cost-effective medical services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heir use decreases cardio-vascular mortality and reinfarctions, and increases survival by 20% to 40%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Under use leads to excess 2-year mortality and re-hospitalization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for cardiovascular diseas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16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JAMA January 8, 1997; 277: 115-1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nder-use of Beta-blockers (cont’d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nly 21% of eligible New Jersey Medicare beneficiaries received beta-blocker therapy following their heart attack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lcium channel blockers were used almost 3 times as often despite a lack of evidence that they decreased mortality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Patients on beta-blockers were re-hospitalized 22% less often and their mortality rate was 43% lower than non-recipien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ients receiving calcium channel blockers instead of beta-blockers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doubled their risk of dea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A January 8, 1997; 277: 115-12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 of Quality o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ronic Health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7451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2% of elderly adults received a flu shot in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% of hospitalized elderly discharged on an anti-depressant were on a dose below recommende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9% of diabetic adults had dilated eye exam in past 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Aft>
                <a:spcPts val="87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3% of patients who should have received coronary angiography received it within 3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200" y="617220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 M.A. Schuster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lbank Q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998; 76:517-56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ronic Care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ng to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tient at the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432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uidelines Can Impro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Deci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guidelines based on critical appraisal o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evidence (evidence-based guidelines) clarify whic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s are of proven benefit and document quality o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dat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 clinicians to interventions unsupporte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ood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nforce the importance and methods of critic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ai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attention to ineffective, dangerous, and wastefu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M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999;318:527-530 ( 20 February 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10-10T00:45:15Z</cp:lastPrinted>
  <dcterms:modified xsi:type="dcterms:W3CDTF">2003-06-30T14:15:35Z</dcterms:modified>
  <cp:revision>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5088644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-1840693189</vt:r8>
  </property>
</Properties>
</file>