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9B3AC3-3DEF-4B26-94AF-62982E222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all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-Progr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Lif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/Sev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vil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orbiti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escos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entiv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Cos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-lea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276360"/>
            <a:ext cx="57913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John Miall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isk Manag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ty of Asheville, NC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60680" y="2708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990720"/>
            <a:ext cx="7315200" cy="1434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sheville Diabe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ease Managemen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1905120" cy="2476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9200" y="380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ck Leave Usage By Time In Program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4840" y="1676520"/>
          <a:ext cx="819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676520"/>
                    <a:ext cx="819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00160" y="34758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ck leave d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645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OF LIF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914400"/>
          <a:ext cx="85341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962520" y="58672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f4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Baselin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c84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4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84f3"/>
                </a:solidFill>
                <a:latin typeface="Times New Roman"/>
              </a:rPr>
              <a:t>At 14 Months into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6248520"/>
            <a:ext cx="22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F-36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equency/Severity Matr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468520"/>
            <a:ext cx="335268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2468520"/>
            <a:ext cx="335304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094280"/>
            <a:ext cx="335268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94280"/>
            <a:ext cx="335304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866960"/>
            <a:ext cx="67057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rity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856800" y="3485880"/>
            <a:ext cx="38480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03184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71680" y="27046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0292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Asheville Proje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85840"/>
            <a:ext cx="845820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betes-Related Comorbid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–4 times greater risk of heart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0–65% have hyperten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–4 times greater risk of strok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0–70% have some degree of nervou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tem dam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ding cause of adult blind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ding cause of ESRD* (40% new cas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50% lower limb amput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24852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End-Stage Renal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8204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betes-Related Indirect Co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1888920"/>
            <a:ext cx="866916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.3 sick-leave days annu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.7 sick-leave days for employees without diabe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$47 billion in productivity forgone due to disability, absence, and premature mort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Incentives and Care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1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election /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education — Mission + St. Joseph’s Diabetes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patients to pharmac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en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000" indent="-31284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M* co-pay wa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000" indent="-31284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without co-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000" indent="-31284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cose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ve word in pharmaceutical care is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 (Madge testimon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24480"/>
            <a:ext cx="36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Pharmacy Benefit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7080" y="1371600"/>
            <a:ext cx="4762440" cy="35733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They Do 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760" y="5105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making better food choice. Blood gluc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improved. 2 x 1.5c cm wound RLE. Refer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hysician for evaluation and therap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719120" y="2125800"/>
            <a:ext cx="100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b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1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Outcome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vg. Glycosylated Hemoglobi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2680" y="1828800"/>
          <a:ext cx="8453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828800"/>
                    <a:ext cx="845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67088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ity of Asheville Medical Co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143000"/>
          <a:ext cx="9696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9696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rot="16200000">
            <a:off x="-168840" y="307476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verage annual aggregate medical cla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2440" y="60609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including prescription drugs for diabe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ty of Asheville Diabetes                      Sick-Leave Us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600200"/>
          <a:ext cx="76960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960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rot="16200000">
            <a:off x="-123840" y="2866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ck leave d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10-10T00:45:15Z</cp:lastPrinted>
  <dcterms:modified xsi:type="dcterms:W3CDTF">2003-06-27T17:56:45Z</dcterms:modified>
  <cp:revision>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40144614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1018635808</vt:r8>
  </property>
</Properties>
</file>