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BB2FAA-6541-4D2F-8AFE-3464B92FE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all intro slid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-Progr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Lif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/Seve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vil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orbiti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betescos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entiv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sylat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Cos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-lea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276360"/>
            <a:ext cx="57913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John Miall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isk Manager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ity of Asheville, NC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60680" y="27082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990720"/>
            <a:ext cx="7315200" cy="1434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sheville Diabe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sease Managemen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410080" y="2819520"/>
            <a:ext cx="1905120" cy="2476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59200" y="380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ck Leave Usage By Time In Program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74840" y="1676520"/>
          <a:ext cx="8192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1676520"/>
                    <a:ext cx="819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 rot="16200000">
            <a:off x="-200160" y="347580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ck leave d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6453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ALITY OF LIF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914400"/>
          <a:ext cx="85341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962520" y="58672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cf4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cf4ea"/>
                </a:solidFill>
                <a:latin typeface="Times New Roman"/>
              </a:rPr>
              <a:t>Baselin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c84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84f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c84f3"/>
                </a:solidFill>
                <a:latin typeface="Times New Roman"/>
              </a:rPr>
              <a:t>At 14 Months into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6248520"/>
            <a:ext cx="22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SF-36 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requency/Severity Matrix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468520"/>
            <a:ext cx="3352680" cy="16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rmAutofit/>
          </a:bodyPr>
          <a:p>
            <a:pPr marL="343080" indent="-117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5395"/>
                </a:solidFill>
                <a:latin typeface="Arial"/>
              </a:rPr>
              <a:t>High Frequency</a:t>
            </a:r>
            <a:br>
              <a:rPr sz="2800"/>
            </a:br>
            <a:r>
              <a:rPr b="1" lang="en-US" sz="2800" spc="-1" strike="noStrike">
                <a:solidFill>
                  <a:srgbClr val="285395"/>
                </a:solidFill>
                <a:latin typeface="Arial"/>
              </a:rPr>
              <a:t>Low Seve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2468520"/>
            <a:ext cx="3353040" cy="16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rmAutofit/>
          </a:bodyPr>
          <a:p>
            <a:pPr marL="343080" indent="-117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5395"/>
                </a:solidFill>
                <a:latin typeface="Arial"/>
              </a:rPr>
              <a:t>High Frequency</a:t>
            </a:r>
            <a:br>
              <a:rPr sz="2800"/>
            </a:br>
            <a:r>
              <a:rPr b="1" lang="en-US" sz="2800" spc="-1" strike="noStrike">
                <a:solidFill>
                  <a:srgbClr val="285395"/>
                </a:solidFill>
                <a:latin typeface="Arial"/>
              </a:rPr>
              <a:t>High Seve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094280"/>
            <a:ext cx="3352680" cy="16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rmAutofit/>
          </a:bodyPr>
          <a:p>
            <a:pPr marL="343080" indent="-117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5395"/>
                </a:solidFill>
                <a:latin typeface="Arial"/>
              </a:rPr>
              <a:t>Low Frequency</a:t>
            </a:r>
            <a:br>
              <a:rPr sz="2800"/>
            </a:br>
            <a:r>
              <a:rPr b="1" lang="en-US" sz="2800" spc="-1" strike="noStrike">
                <a:solidFill>
                  <a:srgbClr val="285395"/>
                </a:solidFill>
                <a:latin typeface="Arial"/>
              </a:rPr>
              <a:t>Low Seve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094280"/>
            <a:ext cx="3353040" cy="16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rmAutofit/>
          </a:bodyPr>
          <a:p>
            <a:pPr marL="343080" indent="-117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5395"/>
                </a:solidFill>
                <a:latin typeface="Arial"/>
              </a:rPr>
              <a:t>Low Frequency</a:t>
            </a:r>
            <a:br>
              <a:rPr sz="2800"/>
            </a:br>
            <a:r>
              <a:rPr b="1" lang="en-US" sz="2800" spc="-1" strike="noStrike">
                <a:solidFill>
                  <a:srgbClr val="285395"/>
                </a:solidFill>
                <a:latin typeface="Arial"/>
              </a:rPr>
              <a:t>High Seve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1866960"/>
            <a:ext cx="67057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marL="343080" indent="-117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rity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856800" y="3485880"/>
            <a:ext cx="38480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marL="343080" indent="-117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031840"/>
            <a:ext cx="2286000" cy="304920"/>
          </a:xfrm>
          <a:prstGeom prst="rightArrow">
            <a:avLst>
              <a:gd name="adj1" fmla="val 50000"/>
              <a:gd name="adj2" fmla="val 187426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571680" y="27046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502920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Asheville Projec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85840"/>
            <a:ext cx="845820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abetes-Related Comorbidi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–4 times greater risk of heart dise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0–65% have hyperten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–4 times greater risk of strok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0–70% have some degree of nervou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ystem dam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ding cause of adult blindn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ding cause of ESRD* (40% new cas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&gt;50% lower limb amput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24852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End-Stage Renal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82040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abetes-Related Indirect Cos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1888920"/>
            <a:ext cx="8669160" cy="39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.3 sick-leave days annual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.7 sick-leave days for employees without diabe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$47 billion in productivity forgone due to disability, absence, and premature morta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Incentives and Care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1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selection /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education — Mission + St. Joseph’s Diabetes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ing patients to pharmac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enti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000" indent="-31284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M* co-pay wa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000" indent="-31284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s without co-p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000" indent="-312840">
              <a:lnSpc>
                <a:spcPct val="85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ucose 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erative word in pharmaceutical care is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 (Madge testimon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324480"/>
            <a:ext cx="368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Pharmacy Benefit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97080" y="1371600"/>
            <a:ext cx="4762440" cy="357336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They Do 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6760" y="51055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making better food choice. Blood gluc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 improved. 2 x 1.5c cm wound RLE. Refer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hysician for evaluation and therap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719120" y="2125800"/>
            <a:ext cx="100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b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1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nical Outcomes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vg. Glycosylated Hemoglobi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2680" y="1828800"/>
          <a:ext cx="84535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828800"/>
                    <a:ext cx="84535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7670880" cy="100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ity of Asheville Medical Cos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1143000"/>
          <a:ext cx="96962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9696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 rot="16200000">
            <a:off x="-168840" y="307476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verage annual aggregate medical clai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2440" y="606096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including prescription drugs for diabe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ty of Asheville Diabetes                      Sick-Leave Usa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90720" y="1600200"/>
          <a:ext cx="769608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6960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 rot="16200000">
            <a:off x="-123840" y="2866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ck leave d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7:15:37Z</dcterms:created>
  <dc:creator>Carolyn Clancy</dc:creator>
  <dc:description/>
  <dc:language>en-US</dc:language>
  <cp:lastModifiedBy>AHRQ</cp:lastModifiedBy>
  <cp:lastPrinted>2002-10-10T00:45:15Z</cp:lastPrinted>
  <dcterms:modified xsi:type="dcterms:W3CDTF">2003-06-27T17:56:45Z</dcterms:modified>
  <cp:revision>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40144614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: high costs and HC</vt:lpwstr>
  </property>
  <property fmtid="{D5CDD505-2E9C-101B-9397-08002B2CF9AE}" pid="6" name="_PreviousAdHocReviewCycleID">
    <vt:r8>1018635808</vt:r8>
  </property>
</Properties>
</file>