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660A33-C46F-4D73-82A2-E21405CAD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p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mgm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y2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i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5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23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5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5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7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23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5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7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66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66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39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51000">
              <a:spcBef>
                <a:spcPts val="700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05000" indent="-382680">
              <a:spcBef>
                <a:spcPts val="700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09640" indent="-228600">
              <a:spcBef>
                <a:spcPts val="700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152388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1960" y="159984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7920" algn="ctr">
              <a:spcBef>
                <a:spcPts val="601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9440" algn="ctr">
              <a:spcBef>
                <a:spcPts val="601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0066"/>
              </a:buClr>
              <a:buFont typeface="SPC Markers/Bullets" charset="2"/>
              <a:buChar char="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SPC Markers/Bulle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lth Care Cost Drivers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Policy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enneth E. Thorpe, Ph.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W. Woodruff Professor and 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ealth Policy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s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ry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10,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90512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144520" cy="302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90920" y="3808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uses of and Potential Solutio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High Cost of Health Care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Market an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ive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Matters (Medicaid + State Employe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aceutical negot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/ Provider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e of Need (C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-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Initiative and Error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(computerized physician order en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ptions for Controlling Cos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ays, benefi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aceutical benefit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utho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and Lifestyle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the Delivery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and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tructural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ing the Consumption of Healthc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 Premium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ost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al and Lifestyl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naging Pharmaceutical Spending: Managing the Components of Growt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981080"/>
            <a:ext cx="16002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ce Incr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0 – 3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81080"/>
            <a:ext cx="25909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creased Number of Prescrip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30 – 4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1981080"/>
            <a:ext cx="24386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anging Mix of Dru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5 – 33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3276720"/>
            <a:ext cx="16002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e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276720"/>
            <a:ext cx="2590920" cy="1617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-to-Consumer (D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ing Inciden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ron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276720"/>
            <a:ext cx="25146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ch of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sing Number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 Molecular 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9320" y="213372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x Tr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5 – 2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6000" y="35053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952880"/>
            <a:ext cx="2057400" cy="103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eti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n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ice Nego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4952880"/>
            <a:ext cx="3886200" cy="1160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tter Formulary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ering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datory Generic Substit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360" y="5257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8600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9568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23888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2096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4648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934320" y="4343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havioral and Lifestyle Interventions: Can They Work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!  But again, design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, stress, weight, blood pressure, high ris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Design 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participation among high risk individuals (use financial incentives in plan desig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s: Range from zero to a return on investment (ROI) of 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Delivery of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and Disea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D, CHF, Coronary Artery Disease, Diabetes, Asth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, Behavioral Health, Cancer,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D= Chronic Obstructive Pulmonary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F= Congestive Heart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 and Disease Management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it Work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aluations: What’s Possi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est designed programs could save 10 to 30% for specific group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: Congestive heart failure (fluid in lungs) sends typical patient to hospital 2-3 times per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ff0066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vention?  NEED IT AT HOM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t to teach patient abou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of medication comp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we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40000"/>
              <a:buFont typeface="Marlett" charset="2"/>
              <a:buChar char="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ck in with patient remotely or in 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the Delivery of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286000"/>
            <a:ext cx="792504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812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dictive Mod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ition 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7160" y="3429000"/>
            <a:ext cx="207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rse on de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 remi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1480" y="2819520"/>
            <a:ext cx="313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nsive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ucose 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lse 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e direction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ian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quires community 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ome) and physician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523880" y="23619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91120" y="23623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162920" y="2362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640" y="17524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1717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ing Medicaid Spend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39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covered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utilization (commercial disease management mod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 provider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e enroll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 drug costs (through negotiations over price, “lock-in” disease management savings with drug compan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66040" y="628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09T16:41:59Z</cp:lastPrinted>
  <dcterms:modified xsi:type="dcterms:W3CDTF">2003-06-26T15:40:42Z</dcterms:modified>
  <cp:revision>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113189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35854989</vt:r8>
  </property>
</Properties>
</file>