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74320" y="69840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49960" y="888300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59F4A01-A3A7-4405-875B-087F4D376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n intro slid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on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p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rm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ver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mgmn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very2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i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239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66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23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66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51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7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23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51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7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239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066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66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23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239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66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066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66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239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239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66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3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066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51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7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23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51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7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66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66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23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66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66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66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239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39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51000">
              <a:spcBef>
                <a:spcPts val="700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05000" indent="-382680">
              <a:spcBef>
                <a:spcPts val="700"/>
              </a:spcBef>
              <a:buClr>
                <a:srgbClr val="ff0066"/>
              </a:buClr>
              <a:buSzPct val="4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09640" indent="-228600">
              <a:spcBef>
                <a:spcPts val="700"/>
              </a:spcBef>
              <a:buClr>
                <a:srgbClr val="ff0066"/>
              </a:buClr>
              <a:buFont typeface="SPC Markers/Bullet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66"/>
              </a:buClr>
              <a:buFont typeface="SPC Markers/Bullet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SPC Markers/Bullet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SPC Markers/Bullet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1523880"/>
            <a:ext cx="8610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361960" y="1599840"/>
            <a:ext cx="65530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7920" algn="ctr">
              <a:spcBef>
                <a:spcPts val="601"/>
              </a:spcBef>
              <a:buClr>
                <a:srgbClr val="ff0066"/>
              </a:buClr>
              <a:buSzPct val="40000"/>
              <a:buFont typeface="Marlett" charset="2"/>
              <a:buChar char="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9440" algn="ctr">
              <a:spcBef>
                <a:spcPts val="601"/>
              </a:spcBef>
              <a:buClr>
                <a:srgbClr val="ff0066"/>
              </a:buClr>
              <a:buFont typeface="SPC Markers/Bullets" charset="2"/>
              <a:buChar char="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601"/>
              </a:spcBef>
              <a:buClr>
                <a:srgbClr val="ff0066"/>
              </a:buClr>
              <a:buFont typeface="SPC Markers/Bullets" charset="2"/>
              <a:buChar char="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SPC Markers/Bullet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SPC Markers/Bullet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533520" y="2057040"/>
            <a:ext cx="5943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alth Care Cost Drivers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Policy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enneth E. Thorpe, Ph.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bert W. Woodruff Professor and Ch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artment of Health Policy an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llins School of Public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ory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tober 10, 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905120" cy="1009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477120" y="3200400"/>
            <a:ext cx="2144520" cy="3029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90920" y="38088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uses of and Potential Solution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High Cost of Health Care</a:t>
            </a: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naging the Market and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livery Syste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ze Matters (Medicaid + State Employe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rmaceutical negot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 / Provider cont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tificate of Need (C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e-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Safety Initiative and Error Re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entions (computerized physician order ent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66040" y="6286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ptions for Controlling Cos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ing 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ays, benefit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rmaceutical benefit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40000"/>
              <a:buFont typeface="Marlett" charset="2"/>
              <a:buChar char="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author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al and Lifestyle Inter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ing the Delivery of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ease and Care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er Structural Re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naging the Consumption of Healthcar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efi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loyer Premium Contrib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Cost Sha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 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er Re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-Driven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al and Lifestyle Inter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naging Pharmaceutical Spending: Managing the Components of Growth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1981080"/>
            <a:ext cx="160020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ice Increa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20 – 35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1981080"/>
            <a:ext cx="25909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creased Number of Prescription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30 – 40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1981080"/>
            <a:ext cx="24386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anging Mix of Dru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25 – 33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3276720"/>
            <a:ext cx="160020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en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conom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en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3276720"/>
            <a:ext cx="2590920" cy="1617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rect-to-Consumer (DT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vertis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sing Incidence 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ronic Dis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3276720"/>
            <a:ext cx="2514600" cy="1069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ch of Sci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sing Number 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w Molecular Ent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9320" y="2133720"/>
            <a:ext cx="12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x Tr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15 – 25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6000" y="350532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4952880"/>
            <a:ext cx="2057400" cy="103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peti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in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ice Negot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4952880"/>
            <a:ext cx="3886200" cy="1160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tter Formulary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iering 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ndatory Generic Substit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6360" y="52578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286000" y="28951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495680" y="28951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238880" y="28951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209680" y="4191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572000" y="4648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934320" y="43430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66040" y="6286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ehavioral and Lifestyle Interventions: Can They Work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S!  But again, design ma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s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ing, stress, weight, blood pressure, high risk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Design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isk assess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gh participation among high risk individuals (use financial incentives in plan desig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vings: Range from zero to a return on investment (ROI) of 6: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2590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66040" y="6286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naging the Delivery of Healthca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 and Diseas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D, CHF, Coronary Artery Disease, Diabetes, Asth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ension, Behavioral Health, Cancer, Pain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PD= Chronic Obstructive Pulmonary Dis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F= Congestive Heart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re and Disease Management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oes it Work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valuations: What’s Possibl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est designed programs could save 10 to 30% for specific group pati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x: Congestive heart failure (fluid in lungs) sends typical patient to hospital 2-3 times per ye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rvention?  NEED IT AT HOME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SzPct val="40000"/>
              <a:buFont typeface="Marlett" charset="2"/>
              <a:buChar char="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t to teach patient about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SzPct val="40000"/>
              <a:buFont typeface="Marlett" charset="2"/>
              <a:buChar char="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ce of medication compli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SzPct val="40000"/>
              <a:buFont typeface="Marlett" charset="2"/>
              <a:buChar char="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SzPct val="40000"/>
              <a:buFont typeface="Marlett" charset="2"/>
              <a:buChar char="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itoring we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SzPct val="40000"/>
              <a:buFont typeface="Marlett" charset="2"/>
              <a:buChar char="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ck in with patient remotely or in per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naging the Delivery of Healthca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2286000"/>
            <a:ext cx="792504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3048120"/>
            <a:ext cx="245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dictive Mode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lth R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ess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dition Edu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97160" y="3429000"/>
            <a:ext cx="207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urse on dem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e remin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li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1480" y="2819520"/>
            <a:ext cx="3135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nsive Monito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lood Press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lucose Lev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l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lse O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e direction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hysician commun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quires community ba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home) and physician c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523880" y="23619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191120" y="23623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162920" y="2362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1640" y="17524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67640" y="1717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66040" y="6286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naging Medicaid Spend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 covered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utilization (commercial disease management modu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 provider pay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ze enroll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 drug costs (through negotiations over price, “lock-in” disease management savings with drug compan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66040" y="6286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4T17:15:37Z</dcterms:created>
  <dc:creator>Carolyn Clancy</dc:creator>
  <dc:description/>
  <dc:language>en-US</dc:language>
  <cp:lastModifiedBy>AHRQ</cp:lastModifiedBy>
  <cp:lastPrinted>2002-10-09T16:41:59Z</cp:lastPrinted>
  <dcterms:modified xsi:type="dcterms:W3CDTF">2003-06-26T15:40:42Z</dcterms:modified>
  <cp:revision>6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81131894</vt:r8>
  </property>
  <property fmtid="{D5CDD505-2E9C-101B-9397-08002B2CF9AE}" pid="3" name="_AuthorEmail">
    <vt:lpwstr>JBokow@ahrq.gov</vt:lpwstr>
  </property>
  <property fmtid="{D5CDD505-2E9C-101B-9397-08002B2CF9AE}" pid="4" name="_AuthorEmailDisplayName">
    <vt:lpwstr>Bokow, Jerry</vt:lpwstr>
  </property>
  <property fmtid="{D5CDD505-2E9C-101B-9397-08002B2CF9AE}" pid="5" name="_EmailSubject">
    <vt:lpwstr>ULP teleconference: high costs and HC</vt:lpwstr>
  </property>
  <property fmtid="{D5CDD505-2E9C-101B-9397-08002B2CF9AE}" pid="6" name="_PreviousAdHocReviewCycleID">
    <vt:r8>35854989</vt:r8>
  </property>
</Properties>
</file>